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BAEB-8F84-40E1-A080-F38F58ECE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218E-C51E-4375-8C67-6ACA8B023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A89-FE25-474B-9904-1E9207B2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EB9-5483-4703-9F9B-2C52695C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6F3-6553-4894-8459-15ADF9A5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1B4-629B-4CFE-B825-A375FD01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016-A29E-4D58-96DE-41CEEF44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1BC-5CEF-4539-859C-B4CCB10D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678-BAEC-4E9F-9828-29368545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3E2-9DDC-4169-92CD-206A268F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48C-5653-40ED-B5BA-C6BFAFFA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CF0-69A8-442D-90F0-50C2B486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05F-BA71-402A-9CD2-3EB6EC9C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376-ABAA-42EB-9536-49CECB9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90F1-2127-4546-BC6B-1FF9400F5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«Тела, вещества, частицы.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БОУ СОШ №5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Кушулинская Наталь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ёдо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3"/>
          <p:cNvSpPr/>
          <p:nvPr/>
        </p:nvSpPr>
        <p:spPr>
          <a:xfrm>
            <a:off x="2702160" y="260280"/>
            <a:ext cx="4419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немножко отдохн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нем, глубоко вздох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по лесу гуля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риродой наблю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рх на солнце посмотр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х лучики согр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деса у нас на св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 карликам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том все дружно встал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анами мы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бочки лета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ми мах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но хлоп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ами топа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мы погу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множечко уст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1753200" y="500040"/>
            <a:ext cx="580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4214880" cy="419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500720" cy="42148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929880" y="4929120"/>
            <a:ext cx="25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ПЕЛ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931720" y="4929120"/>
            <a:ext cx="159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02 - Пение птиц.mp3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Лучшие звуки природы - Лесной ручей [192].mp3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6"/>
          <p:cNvSpPr/>
          <p:nvPr/>
        </p:nvSpPr>
        <p:spPr>
          <a:xfrm>
            <a:off x="1774440" y="214200"/>
            <a:ext cx="608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В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. 14-15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№ 1, 4,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928880" y="25002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3214800" y="2500200"/>
            <a:ext cx="1322280" cy="121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714920" y="2500200"/>
            <a:ext cx="1400040" cy="1203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6215040" y="2500200"/>
            <a:ext cx="1355760" cy="1214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5"/>
          <p:cNvSpPr/>
          <p:nvPr/>
        </p:nvSpPr>
        <p:spPr>
          <a:xfrm>
            <a:off x="4218840" y="1571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4218840" y="1571760"/>
            <a:ext cx="519120" cy="8251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857160" y="2357280"/>
            <a:ext cx="2500560" cy="1861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во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5857200" y="2357280"/>
            <a:ext cx="2460600" cy="1861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5"/>
          <a:stretch/>
        </p:blipFill>
        <p:spPr>
          <a:xfrm>
            <a:off x="285840" y="0"/>
            <a:ext cx="14288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4"/>
          <p:cNvSpPr/>
          <p:nvPr/>
        </p:nvSpPr>
        <p:spPr>
          <a:xfrm>
            <a:off x="2771640" y="404640"/>
            <a:ext cx="3929040" cy="703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ерд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2987640" y="1557360"/>
            <a:ext cx="3286080" cy="764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д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917080" y="2708280"/>
            <a:ext cx="379404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зо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6"/>
          <p:cNvSpPr/>
          <p:nvPr/>
        </p:nvSpPr>
        <p:spPr>
          <a:xfrm>
            <a:off x="684360" y="4365720"/>
            <a:ext cx="128556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37"/>
          <p:cNvSpPr/>
          <p:nvPr/>
        </p:nvSpPr>
        <p:spPr>
          <a:xfrm>
            <a:off x="826920" y="4794120"/>
            <a:ext cx="3574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8"/>
          <p:cNvSpPr/>
          <p:nvPr/>
        </p:nvSpPr>
        <p:spPr>
          <a:xfrm>
            <a:off x="1469880" y="4579920"/>
            <a:ext cx="3574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39"/>
          <p:cNvSpPr/>
          <p:nvPr/>
        </p:nvSpPr>
        <p:spPr>
          <a:xfrm>
            <a:off x="1327320" y="52941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40"/>
          <p:cNvSpPr/>
          <p:nvPr/>
        </p:nvSpPr>
        <p:spPr>
          <a:xfrm>
            <a:off x="1541520" y="5008680"/>
            <a:ext cx="28584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41"/>
          <p:cNvSpPr/>
          <p:nvPr/>
        </p:nvSpPr>
        <p:spPr>
          <a:xfrm>
            <a:off x="1612800" y="4937040"/>
            <a:ext cx="28584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42"/>
          <p:cNvSpPr/>
          <p:nvPr/>
        </p:nvSpPr>
        <p:spPr>
          <a:xfrm>
            <a:off x="826920" y="4937040"/>
            <a:ext cx="357480" cy="128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43"/>
          <p:cNvSpPr/>
          <p:nvPr/>
        </p:nvSpPr>
        <p:spPr>
          <a:xfrm>
            <a:off x="755640" y="52941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44"/>
          <p:cNvSpPr/>
          <p:nvPr/>
        </p:nvSpPr>
        <p:spPr>
          <a:xfrm>
            <a:off x="826920" y="443700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45"/>
          <p:cNvSpPr/>
          <p:nvPr/>
        </p:nvSpPr>
        <p:spPr>
          <a:xfrm>
            <a:off x="1327320" y="4722840"/>
            <a:ext cx="3571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48"/>
          <p:cNvSpPr/>
          <p:nvPr/>
        </p:nvSpPr>
        <p:spPr>
          <a:xfrm>
            <a:off x="1541520" y="52941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49"/>
          <p:cNvSpPr/>
          <p:nvPr/>
        </p:nvSpPr>
        <p:spPr>
          <a:xfrm>
            <a:off x="898560" y="515160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0"/>
          <p:cNvSpPr/>
          <p:nvPr/>
        </p:nvSpPr>
        <p:spPr>
          <a:xfrm>
            <a:off x="3924360" y="436572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1"/>
          <p:cNvSpPr/>
          <p:nvPr/>
        </p:nvSpPr>
        <p:spPr>
          <a:xfrm>
            <a:off x="3995640" y="450864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2"/>
          <p:cNvSpPr/>
          <p:nvPr/>
        </p:nvSpPr>
        <p:spPr>
          <a:xfrm>
            <a:off x="4281480" y="4579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3"/>
          <p:cNvSpPr/>
          <p:nvPr/>
        </p:nvSpPr>
        <p:spPr>
          <a:xfrm>
            <a:off x="4067280" y="4651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4"/>
          <p:cNvSpPr/>
          <p:nvPr/>
        </p:nvSpPr>
        <p:spPr>
          <a:xfrm>
            <a:off x="4495680" y="45799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15"/>
          <p:cNvSpPr/>
          <p:nvPr/>
        </p:nvSpPr>
        <p:spPr>
          <a:xfrm>
            <a:off x="4710240" y="4579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6"/>
          <p:cNvSpPr/>
          <p:nvPr/>
        </p:nvSpPr>
        <p:spPr>
          <a:xfrm>
            <a:off x="4924440" y="4579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7"/>
          <p:cNvSpPr/>
          <p:nvPr/>
        </p:nvSpPr>
        <p:spPr>
          <a:xfrm>
            <a:off x="3995640" y="486576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8"/>
          <p:cNvSpPr/>
          <p:nvPr/>
        </p:nvSpPr>
        <p:spPr>
          <a:xfrm>
            <a:off x="4210200" y="4794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9"/>
          <p:cNvSpPr/>
          <p:nvPr/>
        </p:nvSpPr>
        <p:spPr>
          <a:xfrm>
            <a:off x="4424400" y="4794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20"/>
          <p:cNvSpPr/>
          <p:nvPr/>
        </p:nvSpPr>
        <p:spPr>
          <a:xfrm>
            <a:off x="4638600" y="47941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21"/>
          <p:cNvSpPr/>
          <p:nvPr/>
        </p:nvSpPr>
        <p:spPr>
          <a:xfrm>
            <a:off x="4853160" y="4794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22"/>
          <p:cNvSpPr/>
          <p:nvPr/>
        </p:nvSpPr>
        <p:spPr>
          <a:xfrm>
            <a:off x="4138560" y="5008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23"/>
          <p:cNvSpPr/>
          <p:nvPr/>
        </p:nvSpPr>
        <p:spPr>
          <a:xfrm>
            <a:off x="4281480" y="5008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24"/>
          <p:cNvSpPr/>
          <p:nvPr/>
        </p:nvSpPr>
        <p:spPr>
          <a:xfrm>
            <a:off x="4495680" y="500868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5"/>
          <p:cNvSpPr/>
          <p:nvPr/>
        </p:nvSpPr>
        <p:spPr>
          <a:xfrm>
            <a:off x="4710240" y="5008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26"/>
          <p:cNvSpPr/>
          <p:nvPr/>
        </p:nvSpPr>
        <p:spPr>
          <a:xfrm>
            <a:off x="4924440" y="5008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27"/>
          <p:cNvSpPr/>
          <p:nvPr/>
        </p:nvSpPr>
        <p:spPr>
          <a:xfrm>
            <a:off x="4495680" y="522288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28"/>
          <p:cNvSpPr/>
          <p:nvPr/>
        </p:nvSpPr>
        <p:spPr>
          <a:xfrm>
            <a:off x="4710240" y="52228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29"/>
          <p:cNvSpPr/>
          <p:nvPr/>
        </p:nvSpPr>
        <p:spPr>
          <a:xfrm>
            <a:off x="4924440" y="52228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30"/>
          <p:cNvSpPr/>
          <p:nvPr/>
        </p:nvSpPr>
        <p:spPr>
          <a:xfrm>
            <a:off x="3924360" y="50799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31"/>
          <p:cNvSpPr/>
          <p:nvPr/>
        </p:nvSpPr>
        <p:spPr>
          <a:xfrm>
            <a:off x="4138560" y="52228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32"/>
          <p:cNvSpPr/>
          <p:nvPr/>
        </p:nvSpPr>
        <p:spPr>
          <a:xfrm>
            <a:off x="3924360" y="52941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33"/>
          <p:cNvSpPr/>
          <p:nvPr/>
        </p:nvSpPr>
        <p:spPr>
          <a:xfrm>
            <a:off x="4281480" y="52228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6"/>
          <p:cNvSpPr/>
          <p:nvPr/>
        </p:nvSpPr>
        <p:spPr>
          <a:xfrm>
            <a:off x="6877080" y="443700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47"/>
          <p:cNvSpPr/>
          <p:nvPr/>
        </p:nvSpPr>
        <p:spPr>
          <a:xfrm>
            <a:off x="7520040" y="4579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50"/>
          <p:cNvSpPr/>
          <p:nvPr/>
        </p:nvSpPr>
        <p:spPr>
          <a:xfrm>
            <a:off x="7591320" y="4794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51"/>
          <p:cNvSpPr/>
          <p:nvPr/>
        </p:nvSpPr>
        <p:spPr>
          <a:xfrm>
            <a:off x="7734240" y="46512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52"/>
          <p:cNvSpPr/>
          <p:nvPr/>
        </p:nvSpPr>
        <p:spPr>
          <a:xfrm>
            <a:off x="7091280" y="5079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53"/>
          <p:cNvSpPr/>
          <p:nvPr/>
        </p:nvSpPr>
        <p:spPr>
          <a:xfrm>
            <a:off x="7305840" y="493704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54"/>
          <p:cNvSpPr/>
          <p:nvPr/>
        </p:nvSpPr>
        <p:spPr>
          <a:xfrm>
            <a:off x="7734240" y="53658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55"/>
          <p:cNvSpPr/>
          <p:nvPr/>
        </p:nvSpPr>
        <p:spPr>
          <a:xfrm>
            <a:off x="7091280" y="486576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56"/>
          <p:cNvSpPr/>
          <p:nvPr/>
        </p:nvSpPr>
        <p:spPr>
          <a:xfrm>
            <a:off x="7520040" y="52228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57"/>
          <p:cNvSpPr/>
          <p:nvPr/>
        </p:nvSpPr>
        <p:spPr>
          <a:xfrm>
            <a:off x="7591320" y="515160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3"/>
          <p:cNvSpPr/>
          <p:nvPr/>
        </p:nvSpPr>
        <p:spPr>
          <a:xfrm>
            <a:off x="684360" y="573408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4"/>
          <p:cNvSpPr/>
          <p:nvPr/>
        </p:nvSpPr>
        <p:spPr>
          <a:xfrm>
            <a:off x="3924360" y="566100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5"/>
          <p:cNvSpPr/>
          <p:nvPr/>
        </p:nvSpPr>
        <p:spPr>
          <a:xfrm>
            <a:off x="6948360" y="580536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2124000" y="54936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7"/>
          <p:cNvSpPr/>
          <p:nvPr/>
        </p:nvSpPr>
        <p:spPr>
          <a:xfrm>
            <a:off x="2124000" y="162864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8"/>
          <p:cNvSpPr/>
          <p:nvPr/>
        </p:nvSpPr>
        <p:spPr>
          <a:xfrm>
            <a:off x="2195640" y="285264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1428840" cy="19303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0"/>
          <p:cNvSpPr/>
          <p:nvPr/>
        </p:nvSpPr>
        <p:spPr>
          <a:xfrm>
            <a:off x="7886160" y="189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lomonosow"/>
          <p:cNvPicPr/>
          <p:nvPr/>
        </p:nvPicPr>
        <p:blipFill>
          <a:blip r:embed="rId1"/>
          <a:stretch/>
        </p:blipFill>
        <p:spPr>
          <a:xfrm>
            <a:off x="0" y="0"/>
            <a:ext cx="47196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Content Placeholder 4"/>
          <p:cNvSpPr/>
          <p:nvPr/>
        </p:nvSpPr>
        <p:spPr>
          <a:xfrm>
            <a:off x="5000760" y="142920"/>
            <a:ext cx="37573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11 году исполнится 300 лет со дня рождения великого русского учёного М.В. Ломонос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.В. Ломоносов – первый русский академик Петербургской АН, член Академии художеств, почётный член Стокгольмской и Болонской академий наук.</a:t>
            </a: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атель Московского государственного университета, который носит имя М.В. Ломонос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357120" y="714240"/>
            <a:ext cx="41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СИЛЬЕВИ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711-17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Users\user\Desktop\Ломоносов\timeline-lomonosov[1].jpg"/>
          <p:cNvPicPr/>
          <p:nvPr/>
        </p:nvPicPr>
        <p:blipFill>
          <a:blip r:embed="rId2"/>
          <a:stretch/>
        </p:blipFill>
        <p:spPr>
          <a:xfrm>
            <a:off x="5572080" y="2286000"/>
            <a:ext cx="28576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Овал 3"/>
          <p:cNvSpPr/>
          <p:nvPr/>
        </p:nvSpPr>
        <p:spPr>
          <a:xfrm>
            <a:off x="3643200" y="1643040"/>
            <a:ext cx="928800" cy="1071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4"/>
          <p:cNvSpPr/>
          <p:nvPr/>
        </p:nvSpPr>
        <p:spPr>
          <a:xfrm>
            <a:off x="2714760" y="2643120"/>
            <a:ext cx="107136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"/>
          <p:cNvSpPr/>
          <p:nvPr/>
        </p:nvSpPr>
        <p:spPr>
          <a:xfrm>
            <a:off x="2500200" y="1571760"/>
            <a:ext cx="1571760" cy="1500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5"/>
          <p:cNvSpPr/>
          <p:nvPr/>
        </p:nvSpPr>
        <p:spPr>
          <a:xfrm>
            <a:off x="5286240" y="3286080"/>
            <a:ext cx="2629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6"/>
          <p:cNvSpPr/>
          <p:nvPr/>
        </p:nvSpPr>
        <p:spPr>
          <a:xfrm>
            <a:off x="5357880" y="4143240"/>
            <a:ext cx="2628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582120" y="4857840"/>
            <a:ext cx="25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9"/>
          <p:cNvCxnSpPr/>
          <p:nvPr/>
        </p:nvCxnSpPr>
        <p:spPr>
          <a:xfrm flipV="1">
            <a:off x="1357200" y="2999520"/>
            <a:ext cx="1215360" cy="178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Прямая со стрелкой 10"/>
          <p:cNvCxnSpPr/>
          <p:nvPr/>
        </p:nvCxnSpPr>
        <p:spPr>
          <a:xfrm flipV="1">
            <a:off x="3143160" y="4285800"/>
            <a:ext cx="192960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1" name="TextBox 11"/>
          <p:cNvSpPr/>
          <p:nvPr/>
        </p:nvSpPr>
        <p:spPr>
          <a:xfrm>
            <a:off x="2717280" y="107172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6073560" y="278604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6516720" y="765000"/>
            <a:ext cx="1728720" cy="16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1"/>
          <p:cNvSpPr/>
          <p:nvPr/>
        </p:nvSpPr>
        <p:spPr>
          <a:xfrm>
            <a:off x="6877080" y="11253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2"/>
          <p:cNvSpPr/>
          <p:nvPr/>
        </p:nvSpPr>
        <p:spPr>
          <a:xfrm>
            <a:off x="7162920" y="11970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13"/>
          <p:cNvSpPr/>
          <p:nvPr/>
        </p:nvSpPr>
        <p:spPr>
          <a:xfrm>
            <a:off x="6948360" y="126828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14"/>
          <p:cNvSpPr/>
          <p:nvPr/>
        </p:nvSpPr>
        <p:spPr>
          <a:xfrm>
            <a:off x="7377120" y="11970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15"/>
          <p:cNvSpPr/>
          <p:nvPr/>
        </p:nvSpPr>
        <p:spPr>
          <a:xfrm>
            <a:off x="7591320" y="119700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6"/>
          <p:cNvSpPr/>
          <p:nvPr/>
        </p:nvSpPr>
        <p:spPr>
          <a:xfrm>
            <a:off x="7805880" y="11970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7"/>
          <p:cNvSpPr/>
          <p:nvPr/>
        </p:nvSpPr>
        <p:spPr>
          <a:xfrm>
            <a:off x="6877080" y="1482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8"/>
          <p:cNvSpPr/>
          <p:nvPr/>
        </p:nvSpPr>
        <p:spPr>
          <a:xfrm>
            <a:off x="7091280" y="141120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9"/>
          <p:cNvSpPr/>
          <p:nvPr/>
        </p:nvSpPr>
        <p:spPr>
          <a:xfrm>
            <a:off x="7305840" y="1411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20"/>
          <p:cNvSpPr/>
          <p:nvPr/>
        </p:nvSpPr>
        <p:spPr>
          <a:xfrm>
            <a:off x="7520040" y="1411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21"/>
          <p:cNvSpPr/>
          <p:nvPr/>
        </p:nvSpPr>
        <p:spPr>
          <a:xfrm>
            <a:off x="7734240" y="1411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22"/>
          <p:cNvSpPr/>
          <p:nvPr/>
        </p:nvSpPr>
        <p:spPr>
          <a:xfrm>
            <a:off x="7020000" y="16257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23"/>
          <p:cNvSpPr/>
          <p:nvPr/>
        </p:nvSpPr>
        <p:spPr>
          <a:xfrm>
            <a:off x="7162920" y="16257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24"/>
          <p:cNvSpPr/>
          <p:nvPr/>
        </p:nvSpPr>
        <p:spPr>
          <a:xfrm>
            <a:off x="7377120" y="16257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25"/>
          <p:cNvSpPr/>
          <p:nvPr/>
        </p:nvSpPr>
        <p:spPr>
          <a:xfrm>
            <a:off x="7591320" y="162576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26"/>
          <p:cNvSpPr/>
          <p:nvPr/>
        </p:nvSpPr>
        <p:spPr>
          <a:xfrm>
            <a:off x="7805880" y="16257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27"/>
          <p:cNvSpPr/>
          <p:nvPr/>
        </p:nvSpPr>
        <p:spPr>
          <a:xfrm>
            <a:off x="7377120" y="18399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28"/>
          <p:cNvSpPr/>
          <p:nvPr/>
        </p:nvSpPr>
        <p:spPr>
          <a:xfrm>
            <a:off x="7591320" y="183996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9"/>
          <p:cNvSpPr/>
          <p:nvPr/>
        </p:nvSpPr>
        <p:spPr>
          <a:xfrm>
            <a:off x="7805880" y="18399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30"/>
          <p:cNvSpPr/>
          <p:nvPr/>
        </p:nvSpPr>
        <p:spPr>
          <a:xfrm>
            <a:off x="6805440" y="169704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31"/>
          <p:cNvSpPr/>
          <p:nvPr/>
        </p:nvSpPr>
        <p:spPr>
          <a:xfrm>
            <a:off x="7020000" y="18399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32"/>
          <p:cNvSpPr/>
          <p:nvPr/>
        </p:nvSpPr>
        <p:spPr>
          <a:xfrm>
            <a:off x="7134120" y="192564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33"/>
          <p:cNvSpPr/>
          <p:nvPr/>
        </p:nvSpPr>
        <p:spPr>
          <a:xfrm>
            <a:off x="7162920" y="18399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>
            <a:off x="3703680" y="18900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ицы находятся всегда в дви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1667 C 0.0026 -0.01968 0.00399 -0.02014 0.01163 -0.01852 C 0.01042 0.01736 0.01823 0.03241 0.00243 0.01852 C 0.00052 0.01111 -0.00087 0.00417 -0.00417 -0.00255 C 0.00521 -0.00694 -0.00677 -0.00255 0.00764 -0.00093 C 0.02083 0.00046 0.03403 0.00023 0.04722 0.00093 C 0.04531 0.03125 0.04757 0.02755 0.02483 0.02546 C 0.01927 0.01435 0.02135 0.0206 0.02344 -0.00255 C 0.02361 -0.0044 0.02361 -0.00671 0.02483 -0.00787 C 0.02708 -0.00995 0.03264 -0.01134 0.03264 -0.01134 C 0.03924 -0.01088 0.04618 -0.01227 0.05243 -0.00972 C 0.05278 -0.00949 0.05521 0.00486 0.05642 0.00972 C 0.05625 0.01366 0.06111 0.07454 0.04462 0.08148 C 0.04028 0.08727 0.04149 0.0912 0.03524 0.09375 C 0.03385 0.08611 0.03056 0.08194 0.02882 0.07454 C 0.02969 0.06759 0.02951 0.06019 0.03142 0.05347 C 0.03351 0.04676 0.04392 0.04444 0.04844 0.04306 C 0.07187 0.04491 0.07691 0.04051 0.07083 0.07639 C 0.07049 0.0787 0.06823 0.07986 0.06684 0.08148 C 0.06562 0.08102 0.06302 0.07986 0.06302 0.07986 L 0.07483 0.07986 E">
                                      <p:cBhvr>
                                        <p:cTn id="817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4468 C 0.02205 -0.04329 0.03768 -0.04213 0.05278 -0.02894 C 0.06545 0.00486 0.05712 0.0625 0.02778 0.07291 C 0.02778 0.07291 0.02188 0.08171 0.01997 0.07986 C 0.01858 0.07847 0.01962 0.075 0.01858 0.07291 C 0.01771 0.07106 0.01597 0.0706 0.01459 0.06944 C 0.01146 0.04675 0.00729 0.01875 0.02778 0.01134 C 0.03959 0.0125 0.04722 0.01412 0.05799 0.01666 C 0.06354 0.02222 0.06945 0.02592 0.07518 0.03078 C 0.08021 0.05324 0.08143 0.05185 0.07639 0.09027 C 0.07604 0.09259 0.07292 0.09166 0.07118 0.09213 C 0.0658 0.09375 0.06059 0.09513 0.05538 0.09745 C 0.03611 0.09675 0.01389 0.10763 -0.00243 0.09398 C -0.01094 0.0868 0.00156 0.09305 -0.00903 0.08865 C -0.01059 0.08541 -0.01319 0.08333 -0.01441 0.07986 C -0.02274 0.0581 -0.00625 0.08958 -0.01962 0.06574 C -0.01996 0.06412 -0.02014 0.06226 -0.02083 0.06064 C -0.02153 0.05925 -0.02309 0.05856 -0.02361 0.05694 C -0.02482 0.0537 -0.02621 0.04652 -0.02621 0.04652 C -0.02344 0.02615 -0.02569 0.02824 -0.01701 0.01666 C -0.01267 0.01088 -0.01024 0.00555 -0.00503 0.00092 C -0.00364 -0.0051 -0.00139 -0.01065 0.00018 -0.01667 C -0.00034 -0.02709 0.00122 -0.0382 -0.00121 -0.04815 C -0.00173 -0.0507 -0.00469 -0.04584 -0.00642 -0.04468 C -0.00868 -0.04306 -0.01076 -0.04098 -0.01302 -0.03936 C -0.02014 -0.03473 -0.02951 -0.03496 -0.03541 -0.02709 E">
                                      <p:cBhvr>
                                        <p:cTn id="81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7 -0.03749 C -0.01145 -0.03333 -0.01145 -0.02916 -0.01059 -0.02522 C -0.01006 -0.02268 -0.0085 -0.02059 -0.00798 -0.01805 C -0.00555 -0.0074 -0.00468 0.00441 -0.00277 0.01529 C -0.00225 0.03635 -0.00208 0.05742 -0.00138 0.07848 C -0.00104 0.08843 0.00365 0.09816 0.00521 0.10811 C 0.01355 0.10047 0.02431 0.09978 0.03403 0.09769 C 0.04341 0.09144 0.0533 0.08496 0.06181 0.07663 C 0.06355 0.07316 0.06528 0.06945 0.06702 0.06598 C 0.0724 0.05487 0.06615 0.02339 0.05521 0.01876 C 0.0481 0.02084 0.04653 0.02316 0.04202 0.03103 C 0.03959 0.04075 0.03473 0.04839 0.03143 0.05742 C 0.0323 0.0632 0.03195 0.06968 0.03403 0.07478 C 0.0349 0.07686 0.03768 0.07617 0.03941 0.07663 C 0.04202 0.07732 0.04462 0.07779 0.04723 0.07848 C 0.04896 0.07894 0.05087 0.07964 0.05261 0.0801 C 0.07136 0.07593 0.06615 0.07964 0.07362 0.06436 C 0.0731 0.04908 0.07344 0.0338 0.07223 0.01876 C 0.07153 0.0095 0.06737 0.01459 0.06441 0.01691 C 0.05886 0.02107 0.0533 0.02779 0.04983 0.0345 C 0.04723 0.0463 0.05087 0.0338 0.04462 0.04329 C 0.03976 0.0507 0.03837 0.05718 0.03542 0.06598 C 0.03594 0.07292 0.03577 0.0801 0.03681 0.08704 C 0.03785 0.09376 0.03994 0.09191 0.04341 0.09422 C 0.05191 0.10001 0.06181 0.10209 0.07101 0.10649 C 0.11268 0.10417 0.0941 0.11135 0.11181 0.09584 C 0.11667 0.06853 0.12257 0.04329 0.10643 0.02038 C 0.10452 0.00464 0.09914 -0.01272 0.08803 -0.0199 C 0.08021 -0.03032 0.07275 -0.03217 0.06181 -0.03402 C 0.05747 -0.03958 0.05955 -0.04397 0.06563 -0.04629 C 0.07032 -0.04791 0.08021 -0.04976 0.08021 -0.04976 C 0.09115 -0.04907 0.10209 -0.04883 0.11303 -0.04791 C 0.12066 -0.04721 0.11893 -0.04698 0.11563 -0.04258 C 0.11164 -0.04328 0.10747 -0.04235 0.10382 -0.04444 C 0.10261 -0.04513 0.10382 -0.04907 0.10261 -0.04976 C 0.10174 -0.05022 0.09063 -0.0449 0.08941 -0.04444 C 0.07674 -0.03865 0.06789 -0.02522 0.05521 -0.0199 C 0.04879 -0.01434 0.03733 -0.00624 0.03021 -0.00231 C 0.02761 -0.00092 0.02483 -0.00046 0.02223 0.00117 C 0.01667 0.00487 0.01389 0.01089 0.00782 0.01343 C 0.00695 0.01158 0.00591 0.00996 0.00521 0.00811 C 0.00452 0.00649 0.00504 0.00394 0.00382 0.00302 C 0.00226 0.00163 -0.01059 -0.00231 -0.01319 -0.00231 L -0.00399 -0.00578 E">
                                      <p:cBhvr>
                                        <p:cTn id="82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C 0.01997 0.00185 0.03959 0.00301 0.0592 0.00694 C 0.06059 0.0088 0.06198 0.01019 0.0632 0.01227 C 0.06511 0.01551 0.06841 0.02269 0.06841 0.02292 C 0.07136 0.04398 0.0724 0.04861 0.06841 0.08079 C 0.06771 0.08565 0.06407 0.08889 0.06181 0.09306 C 0.05573 0.1044 0.04358 0.11296 0.0342 0.11921 C 0.02761 0.11782 0.02014 0.11875 0.01441 0.11412 C 0.00764 0.10857 0.00122 0.10185 -0.00659 0.09815 C -0.01805 0.09259 -0.0342 0.09259 -0.046 0.0912 C -0.04566 0.08426 -0.04635 0.07685 -0.04479 0.07014 C -0.04288 0.0625 -0.01927 0.05532 -0.0158 0.0544 C -0.01302 0.05069 -0.00521 0.0375 -2.5E-006 0.05093 C 0.00295 0.0581 -0.00034 0.06736 -0.00139 0.07546 C -0.00312 0.08819 -0.02153 0.08704 -0.02639 0.08773 C -0.03489 0.09051 -0.03073 0.09306 -0.03819 0.09653 C -0.04427 0.10857 -0.04045 0.10556 -0.04739 0.1088 C -0.05052 0.11528 -0.05121 0.12292 -0.05538 0.12801 C -0.05764 0.1375 -0.05694 0.1463 -0.0526 0.1544 C -0.02899 0.15232 -0.03593 0.15509 -0.02239 0.14213 C -0.0184 0.13819 -0.01458 0.13403 -0.01059 0.12986 C -0.00764 0.12685 -0.0026 0.11921 -0.0026 0.11944 C -0.00139 0.11204 -0.00121 0.10255 0.00261 0.09653 C 0.00452 0.09375 0.00729 0.09213 0.0092 0.08935 C 0.01059 0.08102 0.0132 0.07894 0.01702 0.07199 C 0.02066 0.04398 0.02136 0.06296 0.01962 0.01921 C 0.01528 0.01991 0.01077 0.01921 0.0066 0.02107 C 0.00347 0.02245 0.00174 0.03542 0.00122 0.03866 C 0.00243 0.05 0.00313 0.05787 0.01181 0.06134 C 0.01389 0.06944 0.01459 0.07153 0.02101 0.07361 C 0.03125 0.08403 0.04861 0.08773 0.0566 0.07199 C 0.05868 0.05671 0.05712 0.04097 0.04861 0.02986 C 0.04549 0.02569 0.03941 0.01829 0.03542 0.01574 C 0.03299 0.01412 0.02761 0.01227 0.02761 0.0125 C 0.01841 0.01296 0.0092 0.01412 -2.5E-006 0.01412 C -0.00191 0.01412 -0.00399 0.01389 -0.00538 0.01227 C -0.01736 -0.00093 0.00191 0.01227 -0.0092 0.00532 E">
                                      <p:cBhvr>
                                        <p:cTn id="823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81 0.10186 C -0.08472 0.10324 -0.07622 0.10903 -0.07483 0.11065 C -0.07327 0.1125 -0.07275 0.11598 -0.07101 0.11783 C -0.06823 0.12084 -0.06129 0.12153 -0.05782 0.12292 C -0.04913 0.12084 -0.04566 0.11667 -0.04063 0.10718 C -0.03768 0.09399 -0.04306 0.06389 -0.05261 0.05463 C -0.05729 0.05 -0.06181 0.04815 -0.06702 0.04584 C -0.07292 0.04862 -0.07847 0.05394 -0.08282 0.05996 C -0.08559 0.07408 -0.08229 0.07755 -0.07222 0.08102 C -0.06563 0.07431 -0.0599 0.07107 -0.05521 0.06158 C -0.05591 0.04514 -0.0533 0.02408 -0.06563 0.01598 C -0.06927 0.00903 -0.07153 0.00926 -0.07761 0.00718 C -0.08108 0.00787 -0.08629 0.00487 -0.08802 0.00903 C -0.0908 0.01621 -0.08507 0.04329 -0.07761 0.04769 C -0.07361 0.05 -0.06389 0.05301 -0.0592 0.05463 C -0.05521 0.05602 -0.04722 0.05811 -0.04722 0.05834 C -0.03177 0.07061 -0.01528 0.06366 0.00139 0.05996 C 0.0085 0.05348 0.00868 0.04283 0.01319 0.03357 C 0.0085 0.01274 0.0118 -0.00995 0.00937 -0.03148 C -0.00018 -0.0287 -0.00851 -0.0243 -0.01841 -0.02268 C -0.02136 -0.02129 -0.02466 -0.0206 -0.02761 -0.01898 C -0.04202 -0.01064 -0.02136 -0.01967 -0.03542 -0.01388 C -0.04132 -0.00162 -0.03959 -0.00717 -0.04202 0.00186 C -0.04254 0.00602 -0.04202 0.01065 -0.04341 0.01436 C -0.04393 0.01598 -0.04653 0.0176 -0.04722 0.01598 C -0.04931 0.01135 -0.04983 0.00024 -0.04983 0.00047 C -0.04705 -0.01458 -0.04358 -0.01388 -0.04861 -0.01388 E">
                                      <p:cBhvr>
                                        <p:cTn id="82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C 0.00972 0.00347 0.00746 0.00787 0.01302 0.01597 C 0.01041 0.06643 0.01944 0.06805 -0.00799 0.08078 C -0.01233 0.07175 -0.01424 0.06273 -0.01719 0.05277 C -0.01511 0.02268 -0.01545 0.02939 0.0092 0.03333 C 0.01406 0.05416 0.01979 0.08101 0.00382 0.0949 C -0.00556 0.09027 -0.01389 0.08425 -0.02379 0.08078 C -0.02917 0.07013 -0.02986 0.06944 -0.03698 0.06157 C -0.04063 0.0574 -0.04271 0.05185 -0.04618 0.04745 C -0.04809 0.03935 -0.05052 0.03425 -0.0566 0.03171 C -0.07084 0.03449 -0.07205 0.03958 -0.0816 0.05277 C -0.08073 0.0743 -0.0842 0.08472 -0.06979 0.09143 C -0.06354 0.08935 -0.0507 0.09282 -0.06059 0.08425 C -0.06788 0.08518 -0.07986 0.08333 -0.08559 0.09143 C -0.08889 0.10324 -0.08768 0.09699 -0.08559 0.11944 C -0.08542 0.12175 -0.08577 0.12523 -0.0842 0.12638 C -0.0816 0.12847 -0.07813 0.12754 -0.075 0.12824 C -0.06476 0.12546 -0.06493 0.12476 -0.06198 0.11226 C -0.06233 0.09236 -0.06233 0.07268 -0.0632 0.05277 C -0.0632 0.05092 -0.06424 0.0493 -0.06459 0.04745 C -0.06511 0.04351 -0.06424 0.03888 -0.0658 0.03518 C -0.06684 0.03287 -0.06945 0.03287 -0.07118 0.03171 C -0.07709 0.02361 -0.08368 0.01666 -0.08959 0.00879 C -0.08993 0.00717 -0.09011 0.00532 -0.0908 0.0037 C -0.0915 0.00231 -0.09323 0.00162 -0.09341 4.81481E-006 C -0.09479 -0.01112 -0.08038 -0.02014 -0.075 -0.02454 C -0.07014 -0.03403 -0.07396 -0.02963 -0.06059 -0.02963 E">
                                      <p:cBhvr>
                                        <p:cTn id="82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0257 C 0.01945 0.02802 0.0224 0.03218 0.02622 0.0345 C 0.03021 0.03704 0.03629 0.03774 0.04063 0.03982 C 0.04983 0.03728 0.0474 0.03843 0.04983 0.02755 C 0.05156 0.04561 0.04861 0.05209 0.07101 0.03635 C 0.07483 0.03357 0.07622 0.02686 0.07882 0.02223 C 0.08021 0.01991 0.08281 0.01528 0.08281 0.01528 C 0.09011 0.01829 0.08507 0.01968 0.09202 0.0257 C 0.09827 0.01737 0.10504 0.00834 0.10903 -0.00231 C 0.11181 -0.00995 0.11233 -0.01874 0.11441 -0.02685 C 0.11389 -0.03448 0.11476 -0.04259 0.11302 -0.04976 C 0.11198 -0.05416 0.1066 -0.0537 0.10382 -0.05671 C 0.09393 -0.06759 0.08386 -0.06897 0.07101 -0.07083 C 0.06927 -0.07013 0.06702 -0.0706 0.06563 -0.06897 C 0.06285 -0.06597 0.06563 -0.0486 0.06563 -0.04976 C 0.06563 -0.05509 0.06476 -0.06018 0.06441 -0.0655 C 0.06042 -0.06481 0.05608 -0.06597 0.05243 -0.06365 C 0.04983 -0.06203 0.04879 -0.05786 0.04722 -0.05485 C 0.04271 -0.0456 0.03924 -0.03541 0.03681 -0.02499 C 0.03872 -0.01712 0.03681 -0.01388 0.04323 -0.0111 C 0.04983 -0.0199 0.05643 -0.02615 0.05643 -0.03911 E">
                                      <p:cBhvr>
                                        <p:cTn id="82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69 -0.03125 C 0.05695 -0.04352 0.06198 -0.04074 0.06927 -0.04699 C 0.07726 -0.06273 0.06962 -0.03379 0.06788 -0.0294 C 0.06511 -0.00879 0.06875 -0.02986 0.06406 -0.01528 C 0.06024 -0.00347 0.05955 0.00463 0.04948 0.00926 C 0.0434 0.00741 0.03681 0.00741 0.03108 0.00394 C 0.02708 0.00162 0.02795 -0.00671 0.02587 -0.0118 C 0.02309 -0.01875 0.01892 -0.02523 0.01528 -0.03125 C 0.01163 -0.03704 0.00851 -0.03889 0.00347 -0.04352 C 0.00208 -0.04467 -0.00052 -0.04699 -0.00052 -0.04676 C -0.00521 -0.04467 -0.01007 -0.04329 -0.01493 -0.04167 C -0.01996 -0.03727 -0.02135 -0.0331 -0.02413 -0.02592 C -0.02344 -0.00486 -0.02517 0.01621 -0.01892 0.03542 C -0.01684 0.04213 -0.02014 0.05417 -0.01493 0.05648 C -0.00885 0.05926 -0.01233 0.05787 -0.00434 0.06019 C -0.0026 0.06134 -0.00104 0.06296 0.00087 0.06366 C 0.00295 0.06458 0.00556 0.06366 0.00747 0.06528 C 0.00868 0.06621 0.00816 0.06875 0.00868 0.0706 C 0.01111 0.08056 0.01059 0.08449 0.01667 0.08982 C 0.02274 0.08935 0.02917 0.09028 0.03507 0.0882 C 0.03663 0.08773 0.03663 0.08426 0.03767 0.08287 C 0.04115 0.07824 0.04688 0.07593 0.05087 0.07246 C 0.04948 0.01921 0.0592 0.01713 0.03247 0.00208 C 0.025 -0.00741 0.00729 -0.01273 -0.00312 -0.01528 C -0.01701 -0.02268 -0.00625 -0.02338 -0.02552 -0.0206 C -0.0283 -0.01481 -0.02917 -0.01389 -0.03073 -0.00648 C -0.03142 -0.00301 -0.03073 0.00093 -0.03212 0.00394 C -0.03316 0.00602 -0.03559 0.00625 -0.03733 0.00741 C -0.03871 0.01528 -0.04288 0.02708 -0.03472 0.03195 C -0.03229 0.03333 -0.02934 0.0331 -0.02674 0.0338 C -0.01996 0.03843 -0.01319 0.03912 -0.00573 0.04074 C 0.00208 0.04028 0.01024 0.0419 0.01788 0.03912 C 0.01962 0.03843 0.01875 0.03426 0.01927 0.03195 C 0.02066 0.02593 0.02014 0.02755 0.02326 0.02315 C 0.02431 0.01389 0.02674 0.00602 0.02847 -0.00301 C 0.02795 -0.01435 0.03108 -0.05671 0.01788 -0.06805 C 0.01493 -0.08032 0.00695 -0.08495 -0.00174 -0.08912 C -0.01094 -0.08472 -0.01267 -0.0706 -0.01493 -0.05926 C -0.01354 -0.04282 -0.01267 -0.03356 -0.00174 -0.02407 C 0.0257 -0.02616 0.02153 -0.02106 0.03646 -0.03981 C 0.0375 -0.06342 0.03299 -0.06574 0.04566 -0.07153 C 0.05764 -0.06991 0.06024 -0.07315 0.06267 -0.05926 C 0.06424 -0.02014 0.06406 -0.03704 0.06406 -0.00833 L -0.03212 0.0706 E">
                                      <p:cBhvr>
                                        <p:cTn id="831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-0.03125 C 0.03334 -0.04352 0.03837 -0.04074 0.04566 -0.04699 C 0.05365 -0.06273 0.04601 -0.0338 0.04427 -0.0294 C 0.0415 -0.0088 0.04514 -0.02986 0.04045 -0.01528 C 0.03663 -0.00347 0.03594 0.00463 0.02587 0.00926 C 0.01979 0.00741 0.0132 0.00741 0.00747 0.00393 C 0.00347 0.00162 0.00434 -0.00671 0.00226 -0.01181 C -0.00052 -0.01875 -0.00469 -0.02523 -0.00833 -0.03125 C -0.01198 -0.03704 -0.0151 -0.03889 -0.02014 -0.04352 C -0.02153 -0.04468 -0.02413 -0.04699 -0.02413 -0.04676 C -0.02882 -0.04468 -0.03368 -0.04329 -0.03854 -0.04167 C -0.04357 -0.03727 -0.04496 -0.0331 -0.04774 -0.02593 C -0.04705 -0.00486 -0.04878 0.0162 -0.04253 0.03542 C -0.04045 0.04213 -0.04375 0.05417 -0.03854 0.05648 C -0.03246 0.05926 -0.03594 0.05787 -0.02795 0.06018 C -0.02621 0.06134 -0.02465 0.06296 -0.02274 0.06366 C -0.02066 0.06458 -0.01805 0.06366 -0.01614 0.06528 C -0.01493 0.0662 -0.01545 0.06875 -0.01493 0.0706 C -0.0125 0.08056 -0.01302 0.08449 -0.00694 0.08981 C -0.00087 0.08935 0.00556 0.09028 0.01146 0.08819 C 0.01302 0.08773 0.01302 0.08426 0.01406 0.08287 C 0.01754 0.07824 0.02327 0.07593 0.02726 0.07245 C 0.02587 0.01921 0.03559 0.01713 0.00886 0.00208 C 0.00139 -0.00741 -0.01632 -0.01273 -0.02673 -0.01528 C -0.04062 -0.02269 -0.02986 -0.02338 -0.04913 -0.0206 C -0.05191 -0.01482 -0.05278 -0.01389 -0.05434 -0.00648 C -0.05503 -0.00301 -0.05434 0.00093 -0.05573 0.00393 C -0.05677 0.00602 -0.0592 0.00625 -0.06094 0.00741 C -0.06232 0.01528 -0.06649 0.02708 -0.05833 0.03194 C -0.0559 0.03333 -0.05295 0.0331 -0.05035 0.0338 C -0.04357 0.03843 -0.0368 0.03912 -0.02934 0.04074 C -0.02153 0.04028 -0.01337 0.0419 -0.00573 0.03912 C -0.00399 0.03843 -0.00486 0.03426 -0.00434 0.03194 C -0.00295 0.02593 -0.00347 0.02755 -0.00035 0.02315 C 0.0007 0.01389 0.00313 0.00602 0.00486 -0.00301 C 0.00434 -0.01435 0.00747 -0.05671 -0.00573 -0.06806 C -0.00868 -0.08032 -0.01666 -0.08495 -0.02535 -0.08912 C -0.03455 -0.08472 -0.03628 -0.0706 -0.03854 -0.05926 C -0.03715 -0.04282 -0.03628 -0.03357 -0.02535 -0.02407 C 0.00209 -0.02616 -0.00208 -0.02107 0.01285 -0.03982 C 0.01389 -0.06343 0.00938 -0.06574 0.02205 -0.07153 C 0.03403 -0.06991 0.03663 -0.07315 0.03906 -0.05926 C 0.04063 -0.02014 0.04045 -0.03704 0.04045 -0.00833 L -0.05573 0.0706 E">
                                      <p:cBhvr>
                                        <p:cTn id="833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05833 C -0.06667 -0.05972 -0.05886 -0.0618 -0.0507 -0.05833 C -0.04861 -0.05764 -0.05052 -0.0537 -0.04948 -0.05185 C -0.04844 -0.04977 -0.04341 -0.04838 -0.0415 -0.04768 C -0.03872 -0.03727 -0.03959 -0.03379 -0.04948 -0.03032 C -0.05157 -0.03102 -0.05486 -0.02986 -0.05591 -0.03171 C -0.06077 -0.04051 -0.04966 -0.04143 -0.04549 -0.04236 C -0.01806 -0.04074 -0.029 -0.04583 -0.02049 -0.0331 C -0.0217 -0.0125 -0.01754 -0.01458 -0.03091 -0.00787 C -0.03282 -0.01342 -0.03247 -0.01527 -0.02709 -0.01713 C -0.02188 -0.01666 -0.0165 -0.01689 -0.01129 -0.01574 C -0.00973 -0.01551 -0.00747 -0.01481 -0.00729 -0.01319 C -0.00486 0.01366 -0.000869999999999999 0.01088 -0.0125 0.01459 C -0.01823 0.01852 -0.02153 0.01713 -0.02709 0.01343 C -0.03056 0.00811 -0.03195 0.00695 -0.0283 0.00139 C -0.01979 0.0044 -0.02223 0.01412 -0.02448 0.02269 C -0.02639 0.02963 -0.04045 0.0338 -0.0467 0.03611 C -0.05278 0.03542 -0.0592 0.03658 -0.06511 0.03473 C -0.0665 0.03426 -0.06493 0.03148 -0.06389 0.03056 C -0.0625 0.02963 -0.06042 0.02963 -0.05868 0.0294 C -0.05417 0.02986 -0.04861 0.02894 -0.04549 0.03195 C -0.04445 0.03311 -0.0408 0.04213 -0.04011 0.04398 C -0.04063 0.04885 -0.04011 0.05371 -0.0415 0.05857 C -0.04202 0.06019 -0.04445 0.05417 -0.04289 0.05324 C -0.04011 0.05186 -0.03681 0.05417 -0.03368 0.05463 C -0.03403 0.05949 -0.03282 0.06482 -0.0349 0.06922 C -0.03577 0.07084 -0.03854 0.06852 -0.04011 0.06783 C -0.04341 0.06598 -0.04566 0.06111 -0.04809 0.05857 C -0.04966 0.05417 -0.05191 0.05209 -0.0533 0.04792 C -0.04636 0.04445 -0.04098 0.04537 -0.03368 0.04792 C -0.02986 0.05324 -0.03177 0.0551 -0.0257 0.05718 C -0.01806 0.05463 -0.02309 0.05672 -0.0125 0.04908 C -0.01129 0.04838 -0.00868 0.04653 -0.00868 0.04676 C -0.0092 0.04398 -0.01059 0.0375 -0.01129 0.03727 C -0.01667 0.03542 -0.0191 0.04098 -0.02448 0.03866 L -0.02309 0.03056 E">
                                      <p:cBhvr>
                                        <p:cTn id="83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91 -0.05834 C -0.0901 -0.06019 -0.08229 -0.06297 -0.07413 -0.05834 C -0.07204 -0.05718 -0.07395 -0.05209 -0.07291 -0.04954 C -0.07187 -0.04699 -0.06684 -0.04514 -0.06493 -0.04422 C -0.06215 -0.03033 -0.06302 -0.02593 -0.07291 -0.0213 C -0.075 -0.02199 -0.07829 -0.0206 -0.07934 -0.02315 C -0.0842 -0.03472 -0.07309 -0.03588 -0.06892 -0.03727 C -0.04149 -0.03496 -0.05243 -0.04167 -0.04392 -0.025 C -0.04513 0.00231 -0.04097 -0.00047 -0.05434 0.00833 C -0.05625 0.00115 -0.0559 -0.00139 -0.05052 -0.00394 C -0.04531 -0.00324 -0.03993 -0.00347 -0.03472 -0.00209 C -0.03316 -0.00162 -0.0309 -0.0007 -0.03073 0.00139 C -0.02829 0.0368 -0.0243 0.03333 -0.03593 0.03819 C -0.04166 0.04328 -0.04496 0.04143 -0.05052 0.03657 C -0.05399 0.02963 -0.05538 0.02801 -0.05173 0.0206 C -0.04323 0.02477 -0.04566 0.0375 -0.04791 0.04884 C -0.04982 0.0581 -0.06388 0.06342 -0.07013 0.06643 C -0.07621 0.06574 -0.08263 0.06713 -0.08854 0.06458 C -0.08993 0.06412 -0.08836 0.06041 -0.08732 0.05926 C -0.08593 0.05787 -0.08385 0.0581 -0.08211 0.05764 C -0.0776 0.05833 -0.07204 0.05694 -0.06892 0.06111 C -0.06788 0.0625 -0.06423 0.07453 -0.06354 0.07685 C -0.06406 0.08333 -0.06354 0.08981 -0.06493 0.09606 C -0.06545 0.09838 -0.06788 0.09028 -0.06632 0.08912 C -0.06354 0.08727 -0.06024 0.09028 -0.05711 0.09097 C -0.05746 0.09745 -0.05625 0.1044 -0.05833 0.11018 C -0.0592 0.11227 -0.06198 0.10949 -0.06354 0.10833 C -0.06684 0.10602 -0.06909 0.09953 -0.07152 0.09606 C -0.07309 0.09051 -0.07534 0.08773 -0.07673 0.08217 C -0.06979 0.07754 -0.06441 0.0787 -0.05711 0.08217 C -0.05329 0.08912 -0.0552 0.09166 -0.04913 0.09444 C -0.04149 0.09097 -0.04652 0.09375 -0.03593 0.08379 C -0.03472 0.08264 -0.03211 0.08032 -0.03211 0.08055 C -0.03263 0.07708 -0.03402 0.06828 -0.03472 0.06805 C -0.0401 0.06574 -0.04253 0.07291 -0.04791 0.0699 L -0.04652 0.05926 E">
                                      <p:cBhvr>
                                        <p:cTn id="83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1 -0.0625 C 0.0606 -0.05972 0.05955 -0.05602 0.0573 -0.0537 C 0.05278 -0.04884 0.04324 -0.05 0.03751 -0.04838 C 0.03612 -0.04722 0.0349 -0.04375 0.03351 -0.04491 C 0.03074 -0.04699 0.03126 -0.05393 0.0283 -0.05532 C 0.02292 -0.05787 0.0257 -0.05671 0.02032 -0.05879 C 0.00608 -0.05741 0.00018 -0.05833 -0.00729 -0.04305 C -0.00902 -0.03542 -0.00781 -0.0294 -0.0059 -0.02199 C -0.00503 -0.00417 -0.00763 0.00116 0.00192 0.00949 C 0.00678 0.0088 0.01303 0.01065 0.0165 0.00602 C 0.01858 0.00324 0.01876 -0.00116 0.02032 -0.0044 C 0.01997 -0.00625 0.02032 -0.00903 0.0191 -0.00972 C 0.01459 -0.01227 0.00834 -0.00254 0.00591 0.0007 C 0.00452 0.00625 0.00209 0.01065 0.0007 0.01644 C 0.00192 0.03796 -0.00156 0.04375 0.01372 0.04815 C 0.01858 0.04746 0.02396 0.04931 0.0283 0.0463 C 0.03074 0.04468 0.03091 0.03588 0.03091 0.03588 C 0.02969 0.02199 0.03143 0.01644 0.02171 0.01296 C 0.01372 0.01482 0.01129 0.01505 0.00851 0.02523 C 0.01025 0.03912 0.01233 0.04074 0.02292 0.04283 C 0.03039 0.04421 0.04532 0.0463 0.04532 0.0463 C 0.07553 0.04468 0.079 0.05417 0.08351 0.02176 C 0.08212 0.00764 0.0816 0.0044 0.07171 -0.00092 C 0.06563 -0.00046 0.05886 -0.00278 0.0533 0.0007 C 0.05122 0.00185 0.0533 0.00695 0.05452 0.00949 C 0.05504 0.01042 0.06372 0.01296 0.06372 0.01296 C 0.07223 0.01088 0.07553 0.00648 0.0823 0.0007 C 0.09219 -0.02569 0.05157 -0.01829 0.04532 -0.01852 C 0.04862 -0.0294 0.05608 -0.03565 0.04532 -0.04491 C 0.03803 -0.04236 0.0382 -0.03796 0.0323 -0.03264 C 0.03212 -0.03241 0.02692 -0.02014 0.0283 -0.01852 C 0.02952 -0.01713 0.03021 -0.02199 0.03091 -0.02384 C 0.0316 -0.02546 0.03178 -0.02731 0.0323 -0.02917 C 0.02674 -0.03611 0.02014 -0.03032 0.01372 -0.02731 C 0.00626 -0.01967 0.00504 -0.01065 0.00192 0.0007 C 0.00469 0.01134 -0.00086 0.00625 -0.00329 0.01644 C -0.00242 0.0206 -0.00364 0.02708 -0.00069 0.02894 C 0.0007 0.02986 0.00278 0.02732 0.00329 0.02523 C 0.00417 0.02199 0.00329 0.01829 0.00329 0.01482 E">
                                      <p:cBhvr>
                                        <p:cTn id="83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-0.0625 C 0.04497 -0.05972 0.04392 -0.05602 0.04167 -0.0537 C 0.03715 -0.04884 0.02761 -0.05 0.02188 -0.04838 C 0.02049 -0.04722 0.01927 -0.04375 0.01788 -0.04491 C 0.01511 -0.04699 0.01563 -0.05393 0.01267 -0.05532 C 0.00729 -0.05787 0.01007 -0.05671 0.00469 -0.05879 C -0.00955 -0.05741 -0.01545 -0.05833 -0.02292 -0.04305 C -0.02465 -0.03542 -0.02344 -0.0294 -0.02153 -0.02199 C -0.02066 -0.00417 -0.02326 0.00116 -0.01371 0.00949 C -0.00885 0.0088 -0.0026 0.01065 0.00087 0.00602 C 0.00295 0.00324 0.00313 -0.00116 0.00469 -0.0044 C 0.00434 -0.00625 0.00469 -0.00903 0.00347 -0.00972 C -0.00104 -0.01227 -0.00729 -0.00254 -0.00972 0.0007 C -0.01111 0.00625 -0.01354 0.01065 -0.01493 0.01644 C -0.01371 0.03796 -0.01719 0.04375 -0.00191 0.04815 C 0.00295 0.04746 0.00833 0.04931 0.01267 0.0463 C 0.01511 0.04468 0.01528 0.03588 0.01528 0.03588 C 0.01406 0.02199 0.0158 0.01644 0.00608 0.01296 C -0.00191 0.01482 -0.00434 0.01505 -0.00712 0.02523 C -0.00538 0.03912 -0.0033 0.04074 0.00729 0.04283 C 0.01476 0.04421 0.02969 0.0463 0.02969 0.0463 C 0.0599 0.04468 0.06337 0.05417 0.06788 0.02176 C 0.06649 0.00764 0.06597 0.0044 0.05608 -0.00092 C 0.05 -0.00046 0.04323 -0.00278 0.03767 0.0007 C 0.03559 0.00185 0.03767 0.00695 0.03889 0.00949 C 0.03941 0.01042 0.04809 0.01296 0.04809 0.01296 C 0.0566 0.01088 0.0599 0.00648 0.06667 0.0007 C 0.07656 -0.02569 0.03594 -0.01829 0.02969 -0.01852 C 0.03299 -0.0294 0.04045 -0.03565 0.02969 -0.04491 C 0.0224 -0.04236 0.02257 -0.03796 0.01667 -0.03264 C 0.01649 -0.03241 0.01129 -0.02014 0.01267 -0.01852 C 0.01389 -0.01713 0.01458 -0.02199 0.01528 -0.02384 C 0.01597 -0.02546 0.01615 -0.02731 0.01667 -0.02917 C 0.01111 -0.03611 0.00451 -0.03032 -0.00191 -0.02731 C -0.00937 -0.01967 -0.01059 -0.01065 -0.01371 0.0007 C -0.01094 0.01134 -0.01649 0.00625 -0.01892 0.01644 C -0.01805 0.0206 -0.01927 0.02708 -0.01632 0.02894 C -0.01493 0.02986 -0.01285 0.02732 -0.01233 0.02523 C -0.01146 0.02199 -0.01233 0.01829 -0.01233 0.01482 E">
                                      <p:cBhvr>
                                        <p:cTn id="84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13 0.00694 L -0.04827 -0.0581 L -0.06667 0.03842 L -0.04428 0.08403 L 0.01753 0.08403 L 0.01753 0.05602 L -0.00747 0.00162 L -0.04827 -0.01783 L -0.05487 0.01551 L -0.00869 0.01736 L 0.00711 -0.02824 L 0.02291 -0.03357 L 0.02951 0.00509 L 0.02013 0.00694 Z">
                                      <p:cBhvr>
                                        <p:cTn id="843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0694 L -0.0717 -0.0581 L -0.0901 0.03842 L -0.06771 0.08403 L -0.0059 0.08403 L -0.0059 0.05602 L -0.0309 0.00162 L -0.0717 -0.01783 L -0.0783 0.01551 L -0.03212 0.01736 L -0.01632 -0.02824 L -0.00052 -0.03357 L 0.00608 0.00509 L -0.0033 0.00694 Z">
                                      <p:cBhvr>
                                        <p:cTn id="845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625 L -0.03125 -0.02384 L -0.03125 0.00602 L -0.03524 0.05694 L -0.05365 0.04097 L -0.09965 0.02523 L -0.11163 -0.04491 L -0.09045 -0.07292 L -0.08003 -0.05185 L -0.07604 -0.02732 L -0.11823 -0.0132 L -0.12865 -0.0081 L -0.12604 0.02708 L -0.12465 0.07616 L -0.08924 0.07268 L -0.03403 0.06736 L -0.05764 0.00069 L -0.06944 -0.04491 L -0.03264 -0.05533 L -0.03264 -0.03264 L -0.04844 -0.01505 E">
                                      <p:cBhvr>
                                        <p:cTn id="84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3 -0.09375 L 0.01562 -0.05509 L 0.01562 -0.02523 L 0.01163 0.02569 L -0.00678 0.00972 L -0.05278 -0.00602 L -0.06476 -0.07616 L -0.04358 -0.10417 L -0.03316 -0.0831 L -0.02917 -0.05857 L -0.07136 -0.04445 L -0.08178 -0.03935 L -0.07917 -0.00417 L -0.07778 0.04491 L -0.04237 0.04143 L 0.01284 0.03611 L -0.01077 -0.03056 L -0.02257 -0.07616 L 0.01423 -0.08658 L 0.01423 -0.06389 L -0.00157 -0.0463 E">
                                      <p:cBhvr>
                                        <p:cTn id="849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9375 L -0.00781 -0.05509 L -0.00781 -0.02523 L -0.0118 0.02569 L -0.03021 0.00972 L -0.07621 -0.00602 L -0.08819 -0.07616 L -0.06701 -0.10417 L -0.05659 -0.0831 L -0.0526 -0.05857 L -0.09479 -0.04445 L -0.10521 -0.03935 L -0.1026 -0.00417 L -0.10121 0.04491 L -0.0658 0.04143 L -0.01059 0.03611 L -0.0342 -0.03056 L -0.046 -0.07616 L -0.0092 -0.08658 L -0.0092 -0.06389 L -0.025 -0.0463 E">
                                      <p:cBhvr>
                                        <p:cTn id="851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9375 L -0.13264 -0.02523 L -0.10226 0.0081 L -0.04705 0.01158 L -0.05104 -0.03055 L -0.07205 -0.03055 L -0.06806 0.0081 L -0.00885 -0.01643 L -0.02066 -0.06736 L -0.06285 -0.08657 L -0.08264 -0.09722 E">
                                      <p:cBhvr>
                                        <p:cTn id="85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93 -0.07291 L -0.02327 -0.00439 L 0.00711 0.02893 L 0.06232 0.03242 L 0.05833 -0.00971 L 0.03732 -0.00971 L 0.04131 0.02893 L 0.10052 0.00441 L 0.08871 -0.04652 L 0.04652 -0.06573 L 0.02673 -0.07638 E">
                                      <p:cBhvr>
                                        <p:cTn id="855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1 -0.09375 L 0.06251 -0.06575 L 0.05452 -0.02894 L 0.0507 -0.02014 L 0.00452 -0.0588 L -0.01249 -0.09375 L -0.06388 -0.08681 L -0.04409 -0.03936 L -0.0151 -0.01135 L -0.0177 -0.03588 L -0.02569 -0.022 L -0.02048 0.00972 L 0.0257 0.02546 L 0.0441 -0.00788 L 0.05452 0.04467 E">
                                      <p:cBhvr>
                                        <p:cTn id="85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01 -0.10625 L 0.05001 -0.07825 L 0.04202 -0.04144 L 0.0382 -0.03264 L -0.00798 -0.0713 L -0.02499 -0.10625 L -0.07638 -0.09931 L -0.05659 -0.05186 L -0.0276 -0.02385 L -0.0302 -0.04838 L -0.03819 -0.0345 L -0.03298 -0.00278 L 0.0132 0.01296 L 0.0316 -0.02038 L 0.04202 0.03217 E">
                                      <p:cBhvr>
                                        <p:cTn id="85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-0.09375 L 0.04688 -0.06575 L 0.03889 -0.02894 L 0.03507 -0.02014 L -0.01111 -0.0588 L -0.02812 -0.09375 L -0.07951 -0.08681 L -0.05972 -0.03936 L -0.03073 -0.01135 L -0.03333 -0.03588 L -0.04132 -0.022 L -0.03611 0.00972 L 0.01007 0.02546 L 0.02847 -0.00788 L 0.03889 0.04467 E">
                                      <p:cBhvr>
                                        <p:cTn id="861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843280" y="189000"/>
            <a:ext cx="3429000" cy="13435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0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714760" y="1643040"/>
            <a:ext cx="36734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1071720" y="357120"/>
            <a:ext cx="7000560" cy="703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   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1479240" y="1571760"/>
            <a:ext cx="347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4 – 38 ЧИТ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1430280" y="4429080"/>
            <a:ext cx="300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РАД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4 -15  № 2, 3,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2095560" cy="2832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Documents and Settings\Admin\Мои документы\Мои рисунки\5e7283125ab85a30c1d369fbdff2c0af.jpg"/>
          <p:cNvPicPr/>
          <p:nvPr/>
        </p:nvPicPr>
        <p:blipFill>
          <a:blip r:embed="rId2"/>
          <a:stretch/>
        </p:blipFill>
        <p:spPr>
          <a:xfrm>
            <a:off x="5724360" y="1052640"/>
            <a:ext cx="20448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857160" y="214200"/>
            <a:ext cx="7643880" cy="2104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04a7b"/>
                </a:solidFill>
                <a:latin typeface="Arial"/>
              </a:rPr>
              <a:t>Выберите </a:t>
            </a:r>
            <a:r>
              <a:rPr b="0" i="1" lang="ru-RU" sz="4400" spc="-1" strike="noStrike" u="sng">
                <a:solidFill>
                  <a:srgbClr val="604a7b"/>
                </a:solidFill>
                <a:uFillTx/>
                <a:latin typeface="Arial"/>
              </a:rPr>
              <a:t>правильны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604a7b"/>
                </a:solidFill>
                <a:uFillTx/>
                <a:latin typeface="Arial"/>
              </a:rPr>
              <a:t>ответ</a:t>
            </a:r>
            <a:r>
              <a:rPr b="0" i="1" lang="ru-RU" sz="4400" spc="-1" strike="noStrike">
                <a:solidFill>
                  <a:srgbClr val="604a7b"/>
                </a:solidFill>
                <a:latin typeface="Arial"/>
              </a:rPr>
              <a:t> и запишите </a:t>
            </a:r>
            <a:r>
              <a:rPr b="0" i="1" lang="ru-RU" sz="4400" spc="-1" strike="noStrike" u="sng">
                <a:solidFill>
                  <a:srgbClr val="604a7b"/>
                </a:solidFill>
                <a:uFillTx/>
                <a:latin typeface="Arial"/>
              </a:rPr>
              <a:t>букву</a:t>
            </a:r>
            <a:r>
              <a:rPr b="0" i="1" lang="ru-RU" sz="4400" spc="-1" strike="noStrike">
                <a:solidFill>
                  <a:srgbClr val="604a7b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04a7b"/>
                </a:solidFill>
                <a:latin typeface="Arial"/>
              </a:rPr>
              <a:t>под которой он д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285920" y="2716200"/>
            <a:ext cx="10713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357280" y="2716200"/>
            <a:ext cx="9288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286080" y="2716200"/>
            <a:ext cx="1071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357800" y="2716200"/>
            <a:ext cx="100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357880" y="2716200"/>
            <a:ext cx="100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357960" y="2716200"/>
            <a:ext cx="100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358040" y="2716200"/>
            <a:ext cx="100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150200" y="5072040"/>
            <a:ext cx="6621120" cy="642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 Эта удивительная прир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Мои документы\Мои рисунки\i.jpe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000080" y="214200"/>
            <a:ext cx="6500880" cy="3385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ТЕЛА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ВЕЩЕСТВА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ЧАСТИЦ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357280" y="571680"/>
            <a:ext cx="442944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Е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214200" y="2571840"/>
            <a:ext cx="4357800" cy="7034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т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4643280" y="2571840"/>
            <a:ext cx="4249800" cy="7034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кус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H="1">
            <a:off x="2428560" y="1713600"/>
            <a:ext cx="135792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5643720" y="1714320"/>
            <a:ext cx="100080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9"/>
          <p:cNvSpPr/>
          <p:nvPr/>
        </p:nvSpPr>
        <p:spPr>
          <a:xfrm>
            <a:off x="507240" y="36432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А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5725440" y="357192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а созд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ам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ая соединительная линия 6"/>
          <p:cNvSpPr/>
          <p:nvPr/>
        </p:nvSpPr>
        <p:spPr>
          <a:xfrm>
            <a:off x="4500720" y="0"/>
            <a:ext cx="7128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0" y="0"/>
            <a:ext cx="4357800" cy="7034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т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4572000" y="0"/>
            <a:ext cx="4572000" cy="7034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кус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43160" y="928800"/>
            <a:ext cx="2424240" cy="185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3286080" y="857160"/>
            <a:ext cx="2214720" cy="20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3357720" y="857160"/>
            <a:ext cx="221436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3214800" y="278604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5"/>
          <a:stretch/>
        </p:blipFill>
        <p:spPr>
          <a:xfrm>
            <a:off x="3286080" y="78588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6"/>
          <a:stretch/>
        </p:blipFill>
        <p:spPr>
          <a:xfrm>
            <a:off x="3357720" y="2928960"/>
            <a:ext cx="24285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7"/>
          <a:stretch/>
        </p:blipFill>
        <p:spPr>
          <a:xfrm>
            <a:off x="3500280" y="3000240"/>
            <a:ext cx="2127240" cy="200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8"/>
          <a:stretch/>
        </p:blipFill>
        <p:spPr>
          <a:xfrm>
            <a:off x="3357720" y="3071880"/>
            <a:ext cx="2111040" cy="207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9"/>
          <a:stretch/>
        </p:blipFill>
        <p:spPr>
          <a:xfrm>
            <a:off x="3214800" y="4714920"/>
            <a:ext cx="261936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10"/>
          <a:stretch/>
        </p:blipFill>
        <p:spPr>
          <a:xfrm>
            <a:off x="3286080" y="4329000"/>
            <a:ext cx="2538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 L -0.3934 -0.00208 E">
                                      <p:cBhvr>
                                        <p:cTn id="14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 L -0.13194 -0.00394 E">
                                      <p:cBhvr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3.7037E-007 L 0.4026 -0.00532 E">
                                      <p:cBhvr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79 -0.00487 L -0.36614 -0.01551 E">
                                      <p:cBhvr>
                                        <p:cTn id="17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15348 -0.00162 E">
                                      <p:cBhvr>
                                        <p:cTn id="17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38594 0.00578 E">
                                      <p:cBhvr>
                                        <p:cTn id="18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-0.14445 0.00069 E">
                                      <p:cBhvr>
                                        <p:cTn id="19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0.16701 0.00625 E">
                                      <p:cBhvr>
                                        <p:cTn id="20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L -0.2783 0.00278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0046 L 0.23611 -0.00046 E">
                                      <p:cBhvr>
                                        <p:cTn id="21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500280" cy="400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500280" y="0"/>
            <a:ext cx="2928960" cy="400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6492960" y="-6480"/>
            <a:ext cx="2657520" cy="41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571680" y="49291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ебесные те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56760" y="64260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426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К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ЖН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Я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00360" y="64260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10192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ЕК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9"/>
          <p:cNvSpPr/>
          <p:nvPr/>
        </p:nvSpPr>
        <p:spPr>
          <a:xfrm>
            <a:off x="4429080" y="642960"/>
            <a:ext cx="0" cy="36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071800" y="500040"/>
            <a:ext cx="535788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"/>
          <p:cNvCxnSpPr/>
          <p:nvPr/>
        </p:nvCxnSpPr>
        <p:spPr>
          <a:xfrm flipH="1">
            <a:off x="1928160" y="1713600"/>
            <a:ext cx="1857960" cy="128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7"/>
          <p:cNvCxnSpPr>
            <a:stCxn id="90" idx="2"/>
          </p:cNvCxnSpPr>
          <p:nvPr/>
        </p:nvCxnSpPr>
        <p:spPr>
          <a:xfrm flipH="1">
            <a:off x="4714200" y="1700280"/>
            <a:ext cx="35640" cy="27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9"/>
          <p:cNvCxnSpPr/>
          <p:nvPr/>
        </p:nvCxnSpPr>
        <p:spPr>
          <a:xfrm>
            <a:off x="5786280" y="1714320"/>
            <a:ext cx="1929600" cy="128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Box 14"/>
          <p:cNvSpPr/>
          <p:nvPr/>
        </p:nvSpPr>
        <p:spPr>
          <a:xfrm>
            <a:off x="214200" y="3071880"/>
            <a:ext cx="3929040" cy="764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верд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3143160" y="4572000"/>
            <a:ext cx="3286080" cy="764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д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346720" y="3071880"/>
            <a:ext cx="379404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зо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714240" y="421488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1"/>
          <p:cNvSpPr/>
          <p:nvPr/>
        </p:nvSpPr>
        <p:spPr>
          <a:xfrm>
            <a:off x="785880" y="435780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2"/>
          <p:cNvSpPr/>
          <p:nvPr/>
        </p:nvSpPr>
        <p:spPr>
          <a:xfrm>
            <a:off x="1071720" y="4429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3"/>
          <p:cNvSpPr/>
          <p:nvPr/>
        </p:nvSpPr>
        <p:spPr>
          <a:xfrm>
            <a:off x="857160" y="450072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14"/>
          <p:cNvSpPr/>
          <p:nvPr/>
        </p:nvSpPr>
        <p:spPr>
          <a:xfrm>
            <a:off x="1285920" y="4429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5"/>
          <p:cNvSpPr/>
          <p:nvPr/>
        </p:nvSpPr>
        <p:spPr>
          <a:xfrm>
            <a:off x="1500120" y="442908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6"/>
          <p:cNvSpPr/>
          <p:nvPr/>
        </p:nvSpPr>
        <p:spPr>
          <a:xfrm>
            <a:off x="1714680" y="4429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7"/>
          <p:cNvSpPr/>
          <p:nvPr/>
        </p:nvSpPr>
        <p:spPr>
          <a:xfrm>
            <a:off x="785880" y="4714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8"/>
          <p:cNvSpPr/>
          <p:nvPr/>
        </p:nvSpPr>
        <p:spPr>
          <a:xfrm>
            <a:off x="1000080" y="46432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9"/>
          <p:cNvSpPr/>
          <p:nvPr/>
        </p:nvSpPr>
        <p:spPr>
          <a:xfrm>
            <a:off x="1214280" y="464328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0"/>
          <p:cNvSpPr/>
          <p:nvPr/>
        </p:nvSpPr>
        <p:spPr>
          <a:xfrm>
            <a:off x="1428840" y="46432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1"/>
          <p:cNvSpPr/>
          <p:nvPr/>
        </p:nvSpPr>
        <p:spPr>
          <a:xfrm>
            <a:off x="1643040" y="46432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2"/>
          <p:cNvSpPr/>
          <p:nvPr/>
        </p:nvSpPr>
        <p:spPr>
          <a:xfrm>
            <a:off x="928800" y="4857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3"/>
          <p:cNvSpPr/>
          <p:nvPr/>
        </p:nvSpPr>
        <p:spPr>
          <a:xfrm>
            <a:off x="1071720" y="4857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24"/>
          <p:cNvSpPr/>
          <p:nvPr/>
        </p:nvSpPr>
        <p:spPr>
          <a:xfrm>
            <a:off x="1285920" y="4857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25"/>
          <p:cNvSpPr/>
          <p:nvPr/>
        </p:nvSpPr>
        <p:spPr>
          <a:xfrm>
            <a:off x="1500120" y="485784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26"/>
          <p:cNvSpPr/>
          <p:nvPr/>
        </p:nvSpPr>
        <p:spPr>
          <a:xfrm>
            <a:off x="1714680" y="4857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7"/>
          <p:cNvSpPr/>
          <p:nvPr/>
        </p:nvSpPr>
        <p:spPr>
          <a:xfrm>
            <a:off x="1285920" y="507204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8"/>
          <p:cNvSpPr/>
          <p:nvPr/>
        </p:nvSpPr>
        <p:spPr>
          <a:xfrm>
            <a:off x="1500120" y="507204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9"/>
          <p:cNvSpPr/>
          <p:nvPr/>
        </p:nvSpPr>
        <p:spPr>
          <a:xfrm>
            <a:off x="1714680" y="507204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30"/>
          <p:cNvSpPr/>
          <p:nvPr/>
        </p:nvSpPr>
        <p:spPr>
          <a:xfrm>
            <a:off x="714240" y="49291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1"/>
          <p:cNvSpPr/>
          <p:nvPr/>
        </p:nvSpPr>
        <p:spPr>
          <a:xfrm>
            <a:off x="928800" y="507204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32"/>
          <p:cNvSpPr/>
          <p:nvPr/>
        </p:nvSpPr>
        <p:spPr>
          <a:xfrm>
            <a:off x="1042920" y="51577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33"/>
          <p:cNvSpPr/>
          <p:nvPr/>
        </p:nvSpPr>
        <p:spPr>
          <a:xfrm>
            <a:off x="1071720" y="507204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7143840" y="400068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37"/>
          <p:cNvSpPr/>
          <p:nvPr/>
        </p:nvSpPr>
        <p:spPr>
          <a:xfrm>
            <a:off x="7286760" y="4429080"/>
            <a:ext cx="3571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38"/>
          <p:cNvSpPr/>
          <p:nvPr/>
        </p:nvSpPr>
        <p:spPr>
          <a:xfrm>
            <a:off x="7929720" y="4214880"/>
            <a:ext cx="3571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39"/>
          <p:cNvSpPr/>
          <p:nvPr/>
        </p:nvSpPr>
        <p:spPr>
          <a:xfrm>
            <a:off x="7786800" y="4929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40"/>
          <p:cNvSpPr/>
          <p:nvPr/>
        </p:nvSpPr>
        <p:spPr>
          <a:xfrm>
            <a:off x="8001000" y="4643280"/>
            <a:ext cx="28584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41"/>
          <p:cNvSpPr/>
          <p:nvPr/>
        </p:nvSpPr>
        <p:spPr>
          <a:xfrm>
            <a:off x="8072280" y="4572000"/>
            <a:ext cx="28584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42"/>
          <p:cNvSpPr/>
          <p:nvPr/>
        </p:nvSpPr>
        <p:spPr>
          <a:xfrm>
            <a:off x="7286760" y="4572000"/>
            <a:ext cx="357120" cy="128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43"/>
          <p:cNvSpPr/>
          <p:nvPr/>
        </p:nvSpPr>
        <p:spPr>
          <a:xfrm>
            <a:off x="7215120" y="49291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4"/>
          <p:cNvSpPr/>
          <p:nvPr/>
        </p:nvSpPr>
        <p:spPr>
          <a:xfrm>
            <a:off x="7286760" y="40719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5"/>
          <p:cNvSpPr/>
          <p:nvPr/>
        </p:nvSpPr>
        <p:spPr>
          <a:xfrm>
            <a:off x="7786800" y="4357800"/>
            <a:ext cx="3571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6"/>
          <p:cNvSpPr/>
          <p:nvPr/>
        </p:nvSpPr>
        <p:spPr>
          <a:xfrm>
            <a:off x="4071960" y="542916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47"/>
          <p:cNvSpPr/>
          <p:nvPr/>
        </p:nvSpPr>
        <p:spPr>
          <a:xfrm>
            <a:off x="4714920" y="5572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48"/>
          <p:cNvSpPr/>
          <p:nvPr/>
        </p:nvSpPr>
        <p:spPr>
          <a:xfrm>
            <a:off x="8001000" y="4929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49"/>
          <p:cNvSpPr/>
          <p:nvPr/>
        </p:nvSpPr>
        <p:spPr>
          <a:xfrm>
            <a:off x="7358040" y="4786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50"/>
          <p:cNvSpPr/>
          <p:nvPr/>
        </p:nvSpPr>
        <p:spPr>
          <a:xfrm>
            <a:off x="4786200" y="57862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51"/>
          <p:cNvSpPr/>
          <p:nvPr/>
        </p:nvSpPr>
        <p:spPr>
          <a:xfrm>
            <a:off x="4929120" y="564372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52"/>
          <p:cNvSpPr/>
          <p:nvPr/>
        </p:nvSpPr>
        <p:spPr>
          <a:xfrm>
            <a:off x="4286160" y="6072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3"/>
          <p:cNvSpPr/>
          <p:nvPr/>
        </p:nvSpPr>
        <p:spPr>
          <a:xfrm>
            <a:off x="4500720" y="592920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54"/>
          <p:cNvSpPr/>
          <p:nvPr/>
        </p:nvSpPr>
        <p:spPr>
          <a:xfrm>
            <a:off x="4929120" y="6357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5"/>
          <p:cNvSpPr/>
          <p:nvPr/>
        </p:nvSpPr>
        <p:spPr>
          <a:xfrm>
            <a:off x="4286160" y="5857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56"/>
          <p:cNvSpPr/>
          <p:nvPr/>
        </p:nvSpPr>
        <p:spPr>
          <a:xfrm>
            <a:off x="4714920" y="621504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57"/>
          <p:cNvSpPr/>
          <p:nvPr/>
        </p:nvSpPr>
        <p:spPr>
          <a:xfrm>
            <a:off x="4786200" y="61437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8"/>
          <p:cNvSpPr/>
          <p:nvPr/>
        </p:nvSpPr>
        <p:spPr>
          <a:xfrm>
            <a:off x="1835280" y="260280"/>
            <a:ext cx="5643360" cy="2104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ОВЕДЁ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ОПЫ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5:57:52Z</dcterms:created>
  <dc:creator>Admin</dc:creator>
  <dc:description/>
  <dc:language>en-US</dc:language>
  <cp:lastModifiedBy>Наташа</cp:lastModifiedBy>
  <dcterms:modified xsi:type="dcterms:W3CDTF">2013-03-30T15:36:18Z</dcterms:modified>
  <cp:revision>65</cp:revision>
  <dc:subject/>
  <dc:title>ТЕЛА, ВЕЩЕСТВА, ЧАСТИЦЫ</dc:title>
</cp:coreProperties>
</file>