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827-8F22-4B3B-A4D0-ABCA247D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732-8CAB-437A-AC5D-35B79875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DBE-00DD-40F8-8239-90C0E1B4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227-64C8-4682-B2DC-38478517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701E-3B56-4BA8-9D43-33C2D5B7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13B-B0A4-41AA-833C-E1A2E78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2217-F801-4AA6-AA12-B1C4FFD3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FF1E-A078-4251-92D2-3F55465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B20C-A559-4E71-9D93-67058B6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935F-F770-431E-BD0D-FCED7BEF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88E6-935A-4F25-B620-AC219F7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F95-D9E9-4ED1-8207-E10E66DD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B677-ACEF-49F4-BA3D-3200263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A7FD-BF7A-47F9-89A0-85C38337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3363-702C-43B8-9C75-EDAF93B8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DEF2-74B1-46C1-BDFF-5B17E36E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7BA5-D1B0-43E8-A97A-02B43AF1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FF5-55B8-44FF-B90E-12977FB4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E41-3E14-4BE4-8601-CC02C31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543-57EE-49F8-A73F-600C62C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390-706B-45CA-B6B3-424317EC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17E-82D6-4754-B9F2-DD57179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E55-1FE1-4501-B6F3-164543EF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3AE-8A90-40BD-924F-211F41A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207F-08EE-46A0-830B-D8AAB79A22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CD8-AC4E-4307-A0D7-28E4BD020A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Тест для школьников 4 класса по правилам дорожного движения.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5562720"/>
            <a:ext cx="401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оставила учитель Фадеева Инна Викто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9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6386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Бегов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0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186080" cy="319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14400" y="5181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Стоянка автотранспор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Место стоянки легковых такс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Место остановки трамва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Место остановки автобуса и (или) троллейбус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1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Где нужно ожидать общественный транспорт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693200" cy="3511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5334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Транспорт нужно ждать на остановке, при этом ни в коем случае нельзя выходить на проезжую час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В любом мес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На проезжей ча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2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4864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Движение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Въезд запрещён, движение только для пешехо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64320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6932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3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502632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14400" y="54100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На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одзем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9160" y="305640"/>
            <a:ext cx="7769880" cy="10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4 вопрос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52880" cy="304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5334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сторожно пеш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сторожно де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ереход дороги запрещё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9440" y="29592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5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105520" cy="3733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55627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Обозначает место для детских игр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Разрешает пешеходам ходить по проезжей части, жилая з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Указывает место для стоянки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Ответы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2438280"/>
          <a:ext cx="7693200" cy="2133360"/>
        </p:xfrm>
        <a:graphic>
          <a:graphicData uri="http://schemas.openxmlformats.org/drawingml/2006/table">
            <a:tbl>
              <a:tblPr/>
              <a:tblGrid>
                <a:gridCol w="513000"/>
                <a:gridCol w="512640"/>
                <a:gridCol w="512640"/>
                <a:gridCol w="513000"/>
                <a:gridCol w="512640"/>
                <a:gridCol w="512640"/>
                <a:gridCol w="513000"/>
                <a:gridCol w="514080"/>
                <a:gridCol w="513000"/>
                <a:gridCol w="512640"/>
                <a:gridCol w="512640"/>
                <a:gridCol w="513000"/>
                <a:gridCol w="512640"/>
                <a:gridCol w="513000"/>
                <a:gridCol w="51264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1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ак должен поступить пешеход в этой ситуации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153280" cy="3504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5105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Пройти перед автомобилем, убедившись, что он остановился и уступает Вам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Пройти перв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Уступить автомобил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2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ак перейти проезжую часть дороги, если рядом нет пешеходного перехода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8153640" cy="3505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495288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Пропустить транспорт, движущийся слева, дойти до середины; затем закончить переход, при отсутствии транспорта спра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Переход запрещен, нужно дойти до ближайшего пешеходного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Переходить можно только при отсутствии транспорта или достаточного удаления его от места перехо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3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этот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41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50292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Езда на велосипеде запреще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Стоянка для велосипед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4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ожно ли переходить дорог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92504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Можно перейти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Можно, убедившись, что транспорт остановил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Нельзя, нужно пропустить транспортное средств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5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Как вести себя при переходе проезжей части в ненастную погоду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9320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480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Воздержаться от перехода до окончания дождя или снегопад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Дождаться зелёного сигнала светофора и, не обращая внимание на погоду, перейти проезжую час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) Быть особенно внимательным, при переходе на зелёный сигнал светофора, если на улице сыро или скользко, машина не может резко остановиться, даже если водитель сразу нажмёт на тормо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ак правильно обходить автобус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3200" cy="4267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5562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Машины, автобусы или троллейбусы нужно обходить сзад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Подождать, когда транспорт отъедет от остановки, тогда дорога будет хорошо видна в обе стороны, после этого переходить дорог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7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32120" y="1447920"/>
            <a:ext cx="4940280" cy="354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54100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) Движение велосипе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Б) Велосипе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-53388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8 вопрос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Что обозначает данный знак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34340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5181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ешеходный перехо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Пешеходная дорож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Движение пешеходов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нна</cp:lastModifiedBy>
  <dcterms:modified xsi:type="dcterms:W3CDTF">2013-02-13T06:25:5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