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DE98-88CD-4DA0-A34C-2D96960EC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B691-26C9-4D08-AD3B-16E524489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CDE5-34CB-4B9E-8D49-61598A406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F309-1CB2-4717-9683-AFE8AB93C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4B433-68A5-4D69-917E-19A88C832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4F363-76A8-4641-B523-A4885181F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97495-FC67-4B09-AEC7-262ACB5D2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944DF-6AE2-4A49-9C95-57AA726F5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9BAC4-062A-4F3A-8797-BDCAC57B9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CFBDD-BE89-43AC-A669-A03FF81FA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601CB-7343-44FE-86F6-39C23917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CFA6-7D11-4C83-B9A9-DC6439192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EEEF5-3AB2-40E4-B425-B87261C7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933CE-3D40-4469-A247-CD7469C7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EC63E-6888-43D3-A1B2-540E2E4FC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CA696-9AC7-41CF-B873-52E3919FA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94291-112A-4EE6-8BB2-DA8A0D73D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10B1-F51F-4FF1-AE19-AA9596A99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6F51-05C0-4389-9301-CDCA3F563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1E24-48DF-46B2-8CC9-5F2A13A54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B3CB-AF20-4406-9AEE-692CDEABD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0DC0-024D-4F57-A0F6-3644C7C4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3F7A-419B-4E92-9AD0-EED18D0E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9E51-C443-4563-891E-591D3995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3FED7-6E0A-4025-938A-B1DB3879F03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44D19-B3F8-4F74-AF0F-C14EB7EA870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Arial"/>
              </a:rPr>
              <a:t>Тест для школьников 4 класса по правилам дорожного движения.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5562720"/>
            <a:ext cx="401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Составила учитель Фадеева Инна Викторовна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9 вопрос</a:t>
            </a:r>
            <a:br>
              <a:rPr sz="28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Что обозначает данный знак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63868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А) Пешеходный переход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Б) Осторожно дет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В) Беговая дорожк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486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10 вопрос</a:t>
            </a:r>
            <a:br>
              <a:rPr sz="28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 Что обозначает данный знак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743200" y="1371600"/>
            <a:ext cx="4186080" cy="31910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914400" y="51814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) Стоянка автотранспорт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Б) Место стоянки легковых такс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) Место остановки трамва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) Место остановки автобуса и (или) троллейбус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11 вопрос</a:t>
            </a:r>
            <a:br>
              <a:rPr sz="28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 Где нужно ожидать общественный транспорт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7693200" cy="3511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914400" y="53341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А) Транспорт нужно ждать на остановке, при этом ни в коем случае нельзя выходить на проезжую часть!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Б) В любом месте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В) На проезжей част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924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12 вопрос</a:t>
            </a:r>
            <a:br>
              <a:rPr sz="28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 Что обозначает данный знак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548640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А) Движение запрещено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Б) Въезд запрещён, движение только для пешеходов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В) Велосипедная дорожк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048120" y="1371600"/>
            <a:ext cx="3643200" cy="3429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6932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13 вопрос</a:t>
            </a:r>
            <a:br>
              <a:rPr sz="28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 Что обозначает данный знак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1219320"/>
            <a:ext cx="5026320" cy="35812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914400" y="541008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) Надземный переход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Б) Подземный переход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) Движение пешеходов запрещено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9160" y="305640"/>
            <a:ext cx="7769880" cy="106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14 вопрос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Что обозначает данный знак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362320" y="1676520"/>
            <a:ext cx="4952880" cy="30477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914400" y="533412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) Осторожно пешеход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Б) Осторожно дет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) Переход дороги запрещён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29440" y="29592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15 вопрос</a:t>
            </a:r>
            <a:br>
              <a:rPr sz="28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 Что обозначает данный знак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438280" y="1447920"/>
            <a:ext cx="5105520" cy="37335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38080" y="556272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) Обозначает место для детских игр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Б) Разрешает пешеходам ходить по проезжей части, жилая зон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) Указывает место для стоянки машин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Ответы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838080" y="2438280"/>
          <a:ext cx="7693200" cy="2133360"/>
        </p:xfrm>
        <a:graphic>
          <a:graphicData uri="http://schemas.openxmlformats.org/drawingml/2006/table">
            <a:tbl>
              <a:tblPr/>
              <a:tblGrid>
                <a:gridCol w="513000"/>
                <a:gridCol w="512640"/>
                <a:gridCol w="512640"/>
                <a:gridCol w="513000"/>
                <a:gridCol w="512640"/>
                <a:gridCol w="512640"/>
                <a:gridCol w="513000"/>
                <a:gridCol w="514080"/>
                <a:gridCol w="513000"/>
                <a:gridCol w="512640"/>
                <a:gridCol w="512640"/>
                <a:gridCol w="513000"/>
                <a:gridCol w="512640"/>
                <a:gridCol w="513000"/>
                <a:gridCol w="512640"/>
              </a:tblGrid>
              <a:tr h="86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26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Б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Б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Б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В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Б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Б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Б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Б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Г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Б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Б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8077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1вопрос</a:t>
            </a:r>
            <a:br>
              <a:rPr sz="28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Как должен поступить пешеход в этой ситуации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8153280" cy="3504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838080" y="51055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А) Пройти перед автомобилем, убедившись, что он остановился и уступает Вам дорогу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Б) Пройти первым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В) Уступить автомобилю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2 вопрос</a:t>
            </a:r>
            <a:br>
              <a:rPr sz="28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Как перейти проезжую часть дороги, если рядом нет пешеходного перехода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8153640" cy="35053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838080" y="4952880"/>
            <a:ext cx="815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А) Пропустить транспорт, движущийся слева, дойти до середины; затем закончить переход, при отсутствии транспорта справ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Б) Переход запрещен, нужно дойти до ближайшего пешеходного переход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В) Переходить можно только при отсутствии транспорта или достаточного удаления его от места переход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3 вопрос</a:t>
            </a:r>
            <a:br>
              <a:rPr sz="28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 Что обозначает этот знак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743200" y="1676520"/>
            <a:ext cx="4419720" cy="3276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838080" y="502920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А) Велосипедная дорожк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Б) Езда на велосипеде запрещен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В) Стоянка для велосипедов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4 вопрос</a:t>
            </a:r>
            <a:br>
              <a:rPr sz="28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Можно ли переходить дорогу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925040" cy="38098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838080" y="518148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А) Можно перейти дорогу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Б) Можно, убедившись, что транспорт остановилс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В) Нельзя, нужно пропустить транспортное средство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5 вопрос</a:t>
            </a:r>
            <a:br>
              <a:rPr sz="28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 Как вести себя при переходе проезжей части в ненастную погоду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693200" cy="32004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914400" y="480060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А) Воздержаться от перехода до окончания дождя или снегопад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Б) Дождаться зелёного сигнала светофора и, не обращая внимание на погоду, перейти проезжую часть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В) Быть особенно внимательным, при переходе на зелёный сигнал светофора, если на улице сыро или скользко, машина не может резко остановиться, даже если водитель сразу нажмёт на тормоз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6 вопрос</a:t>
            </a:r>
            <a:br>
              <a:rPr sz="28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Как правильно обходить автобус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693200" cy="4267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914400" y="556272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А) Машины, автобусы или троллейбусы нужно обходить сзад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Б) Подождать, когда транспорт отъедет от остановки, тогда дорога будет хорошо видна в обе стороны, после этого переходить дорогу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7 вопрос</a:t>
            </a:r>
            <a:br>
              <a:rPr sz="28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 Что обозначает данный знак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832120" y="1447920"/>
            <a:ext cx="4940280" cy="3547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38080" y="541008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А) Движение велосипедов запрещено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Б) Велосипедная дорожк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-53388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8 вопрос</a:t>
            </a:r>
            <a:br>
              <a:rPr sz="28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 Что обозначает данный знак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743200" y="1219320"/>
            <a:ext cx="4343400" cy="37335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838080" y="518148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) Пешеходный переход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Б) Пешеходная дорожк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) Движение пешеходов запрещено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нна</cp:lastModifiedBy>
  <dcterms:modified xsi:type="dcterms:W3CDTF">2013-02-13T06:25:52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