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02F-32FD-44A9-90AE-AB4C221E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DF7-FF2C-4138-A5DB-8F6E57CC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DF6-3C9B-40FF-AE06-F5E61D09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5B7-CAA4-4A7C-8F2C-A792B279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CB0-A7C5-484D-AB4E-A1B60031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1CF-1B4B-4269-88F9-C3676FDD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E2C-1D7C-4C59-9CFD-63D35FF4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3CA-7035-4E8A-8103-0FAD8D4D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3C3-ABEC-4FC8-97DB-CD8BD48B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238-0B31-49F8-9F6A-A0B1DC90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FAD-246D-4DB2-A31C-27DEE2A5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DA5-6A15-48E5-BE9E-D97E0707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5B266-95B1-4A3F-802B-C9CF294C19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1440000" y="539640"/>
            <a:ext cx="79200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Tower of Lond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176720" y="5842080"/>
            <a:ext cx="590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 was done by the pupils of the  5 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laev A., Bagay I., Zelenskiy D., Solovchuk M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eacher: Fedorenko O.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165400" y="2519280"/>
            <a:ext cx="64753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800360" y="2340000"/>
            <a:ext cx="16192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The Tower is  very old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not just one buildin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600360" y="720720"/>
            <a:ext cx="5580000" cy="648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979640" y="2519280"/>
            <a:ext cx="180036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t has a long and cruel history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bloody Tower has history of bloo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319640" y="1260360"/>
            <a:ext cx="4680000" cy="575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979640" y="1079640"/>
            <a:ext cx="197964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ower is very beautiful . But now King and the Queen do not live in the Tower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140360" y="360360"/>
            <a:ext cx="5400360" cy="5440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1440.jpg"/>
          <p:cNvPicPr/>
          <p:nvPr/>
        </p:nvPicPr>
        <p:blipFill>
          <a:blip r:embed="rId1"/>
          <a:stretch/>
        </p:blipFill>
        <p:spPr>
          <a:xfrm>
            <a:off x="4319640" y="1116000"/>
            <a:ext cx="5243400" cy="5742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303640" y="2124000"/>
            <a:ext cx="1368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The tall building is the White Tower, the oldest part of the Tower of London. The Bloody Tower is near  the 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03.jpg"/>
          <p:cNvPicPr/>
          <p:nvPr/>
        </p:nvPicPr>
        <p:blipFill>
          <a:blip r:embed="rId1"/>
          <a:stretch/>
        </p:blipFill>
        <p:spPr>
          <a:xfrm>
            <a:off x="2592360" y="1908000"/>
            <a:ext cx="6572160" cy="5256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2808360" y="539640"/>
            <a:ext cx="71276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明朝"/>
              </a:rPr>
              <a:t>The end 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22:16:31Z</dcterms:created>
  <dc:creator/>
  <dc:description/>
  <dc:language>en-US</dc:language>
  <cp:lastModifiedBy>Саша</cp:lastModifiedBy>
  <dcterms:modified xsi:type="dcterms:W3CDTF">2013-03-31T10:33:33Z</dcterms:modified>
  <cp:revision>13</cp:revision>
  <dc:subject/>
  <dc:title>Слайд 1</dc:title>
</cp:coreProperties>
</file>