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9D75-E949-4248-9FAC-9D7484222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0080" y="4705200"/>
            <a:ext cx="86076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2E93-8540-493A-9588-8C1B813D5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008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080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2073-D7CF-4972-85D0-92933B3FA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0320" y="209988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50560" y="209988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0080" y="470520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0320" y="470520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50560" y="470520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F40F-2E62-46CC-A00A-6A2CBB6D0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76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730080" y="6393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3008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76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926C-6FDE-4629-A48F-6E59D0704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14080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30080" y="4705200"/>
            <a:ext cx="86076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730080" y="4705200"/>
            <a:ext cx="86076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73008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14080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40320" y="209988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50560" y="209988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730080" y="470520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40320" y="470520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550560" y="470520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0C8D-579B-42DF-BF12-5995C80EB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A8B1-9588-4C8B-A96A-68252B10C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9B80-ABCC-4D0B-98BA-E2EF1673B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30080" y="6393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9353-569F-42A0-AFE4-D24E59FC5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008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97EB-B5E5-4A27-8BAD-C2F988E6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080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0D60-4651-40AC-98A4-7EF9E182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0080" y="4705200"/>
            <a:ext cx="86076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6DA2-CB7B-4D90-9E01-B2EDE73E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396360-5095-45BF-987C-E6C7BC41A54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3deb3d"/>
              </a:gs>
              <a:gs pos="100000">
                <a:srgbClr val="0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76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820728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7"/>
          <p:cNvSpPr/>
          <p:nvPr/>
        </p:nvSpPr>
        <p:spPr>
          <a:xfrm>
            <a:off x="820728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8"/>
          <p:cNvSpPr/>
          <p:nvPr/>
        </p:nvSpPr>
        <p:spPr>
          <a:xfrm>
            <a:off x="8207280" y="717552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9"/>
          <p:cNvSpPr/>
          <p:nvPr/>
        </p:nvSpPr>
        <p:spPr>
          <a:xfrm>
            <a:off x="820728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0"/>
          <p:cNvSpPr/>
          <p:nvPr/>
        </p:nvSpPr>
        <p:spPr>
          <a:xfrm>
            <a:off x="820728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1"/>
          <p:cNvSpPr/>
          <p:nvPr/>
        </p:nvSpPr>
        <p:spPr>
          <a:xfrm>
            <a:off x="820728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2"/>
          <p:cNvSpPr/>
          <p:nvPr/>
        </p:nvSpPr>
        <p:spPr>
          <a:xfrm>
            <a:off x="893772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3"/>
          <p:cNvSpPr/>
          <p:nvPr/>
        </p:nvSpPr>
        <p:spPr>
          <a:xfrm>
            <a:off x="893772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4"/>
          <p:cNvSpPr/>
          <p:nvPr/>
        </p:nvSpPr>
        <p:spPr>
          <a:xfrm>
            <a:off x="8937720" y="717552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5"/>
          <p:cNvSpPr/>
          <p:nvPr/>
        </p:nvSpPr>
        <p:spPr>
          <a:xfrm>
            <a:off x="893772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6"/>
          <p:cNvSpPr/>
          <p:nvPr/>
        </p:nvSpPr>
        <p:spPr>
          <a:xfrm>
            <a:off x="893772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7"/>
          <p:cNvSpPr/>
          <p:nvPr/>
        </p:nvSpPr>
        <p:spPr>
          <a:xfrm>
            <a:off x="893772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"/>
          <p:cNvSpPr/>
          <p:nvPr/>
        </p:nvSpPr>
        <p:spPr>
          <a:xfrm>
            <a:off x="1440000" y="539640"/>
            <a:ext cx="7920000" cy="23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e Tower of Lond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4176720" y="5842080"/>
            <a:ext cx="59040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t was done by the pupils of the  5 G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elaev A., Bagay I., Zelenskiy D., Solovchuk M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eacher: Fedorenko O.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2165400" y="2519280"/>
            <a:ext cx="6475320" cy="3240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1800360" y="2340000"/>
            <a:ext cx="161928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The Tower is  very old.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is not just one building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600360" y="720720"/>
            <a:ext cx="5580000" cy="6480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1979640" y="2519280"/>
            <a:ext cx="1800360" cy="39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t has a long and cruel history 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bloody Tower has history of bloo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319640" y="1260360"/>
            <a:ext cx="4680000" cy="5759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"/>
          <p:cNvSpPr/>
          <p:nvPr/>
        </p:nvSpPr>
        <p:spPr>
          <a:xfrm>
            <a:off x="1979640" y="1079640"/>
            <a:ext cx="1979640" cy="13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Tower is very beautiful . But now King and the Queen do not live in the Tower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4140360" y="360360"/>
            <a:ext cx="5400360" cy="5440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4" descr="1440.jpg"/>
          <p:cNvPicPr/>
          <p:nvPr/>
        </p:nvPicPr>
        <p:blipFill>
          <a:blip r:embed="rId1"/>
          <a:stretch/>
        </p:blipFill>
        <p:spPr>
          <a:xfrm>
            <a:off x="4319640" y="1116000"/>
            <a:ext cx="5243400" cy="57420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5"/>
          <p:cNvSpPr/>
          <p:nvPr/>
        </p:nvSpPr>
        <p:spPr>
          <a:xfrm>
            <a:off x="2303640" y="2124000"/>
            <a:ext cx="1368360" cy="31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The tall building is the White Tower, the oldest part of the Tower of London. The Bloody Tower is near  the ri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1" descr="03.jpg"/>
          <p:cNvPicPr/>
          <p:nvPr/>
        </p:nvPicPr>
        <p:blipFill>
          <a:blip r:embed="rId1"/>
          <a:stretch/>
        </p:blipFill>
        <p:spPr>
          <a:xfrm>
            <a:off x="2592360" y="1908000"/>
            <a:ext cx="6572160" cy="5256360"/>
          </a:xfrm>
          <a:prstGeom prst="rect">
            <a:avLst/>
          </a:prstGeom>
          <a:ln w="0">
            <a:noFill/>
          </a:ln>
        </p:spPr>
      </p:pic>
      <p:sp>
        <p:nvSpPr>
          <p:cNvPr id="106" name="TextBox 2"/>
          <p:cNvSpPr/>
          <p:nvPr/>
        </p:nvSpPr>
        <p:spPr>
          <a:xfrm>
            <a:off x="2808360" y="539640"/>
            <a:ext cx="712764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ＭＳ Ｐ明朝"/>
              </a:rPr>
              <a:t>The end !!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1T22:16:31Z</dcterms:created>
  <dc:creator/>
  <dc:description/>
  <dc:language>en-US</dc:language>
  <cp:lastModifiedBy>Саша</cp:lastModifiedBy>
  <dcterms:modified xsi:type="dcterms:W3CDTF">2013-03-31T10:33:33Z</dcterms:modified>
  <cp:revision>13</cp:revision>
  <dc:subject/>
  <dc:title>Слайд 1</dc:title>
</cp:coreProperties>
</file>