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F4B-0F10-418A-8DD5-7DC4DFF7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DBB-6066-436A-B09B-9DCB3408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C51-023F-4B91-A8FF-78ACFBB1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476-8816-401A-9FE9-E96EB496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D287-99D7-4302-A042-8F3F4532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EBB2-660B-405B-BE5F-B667BA8C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985-9F02-4B05-B643-E3B3009B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481A-00E3-41F3-AB20-F0E32A4C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AE8-8650-41AD-8B8C-D6A59388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9DB-B8B4-4FB1-91F5-FA6A878E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20D-057C-4A95-A6A8-FAEDC6DD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C146-FB0D-4990-B68F-346021D2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EDDC-4EC2-4FAD-AC69-004216E9F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English and American food and me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01300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o you want to tas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nswer the ques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)What do you like to eat best of al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)How often do you eat fast foo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)What is your favorite foo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)What do you avoid eat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)What is the famous fast food restaur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381636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Запиши предложения в логичес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)It is useful to have a walk after supp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)Englishmen have their dinner late in the ev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)Luncy is the biggest meal of the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)They drink tea or coffee for breakfa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)The usual English breakfast is porri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4535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hoose the correct answ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 Bagels were brought to the USA by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) Indian immigr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)British immigr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)Jewish immigr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 Method of cooking using wood or hardwood charcoal is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) gril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)barbecue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)bak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Americans often send a thank-you … after din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) let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)no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)tele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ranslate into Russi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USA is the most famous for ‘’fast foods’’. The first fast food restaurants served hamburgers, but now they serve other kinds of food too. Inside there is often a ‘’salad bar’’, where you can help yourself to as much salad as you want. The most popular fast restaurant is Macdonald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66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009999"/>
                </a:solidFill>
                <a:latin typeface="Arial"/>
              </a:rPr>
              <a:t>Tastes differ.</a:t>
            </a: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О вкусах не споря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841400" cy="165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04000" y="4724280"/>
            <a:ext cx="18414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overb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Appetite comes with eating!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51640" y="2754360"/>
            <a:ext cx="2808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Meals in Engl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usual meals in England are breakfast, lunch, tea, and dinner. Most Englishmen like what they call ‘’good plain food’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many meals a day do you have?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do you like to eat for breakfast, dinner, sup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A funny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Have you much variety at your canteen?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Yes, we have three different names for one and the same dish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2386080"/>
            <a:ext cx="28083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English me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e usual English breakfast is rather substantial. English people eat toasts, bacon, eggs, cornflakes in the morning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ey usually eat fish and chips, meat with potatoes, hamburgers for lunch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ey have their dinner in the evening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e most important time for Englishmen is tea time (at 5 o ‘clock). They like to drink cream tea with scones and jam.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0"/>
            <a:ext cx="2123640" cy="1844640"/>
            <a:chOff x="0" y="0"/>
            <a:chExt cx="2123640" cy="1844640"/>
          </a:xfrm>
        </p:grpSpPr>
        <p:sp>
          <p:nvSpPr>
            <p:cNvPr id="55" name="Puzzle3"/>
            <p:cNvSpPr/>
            <p:nvPr/>
          </p:nvSpPr>
          <p:spPr>
            <a:xfrm>
              <a:off x="1034280" y="0"/>
              <a:ext cx="834840" cy="9802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uzzle2"/>
            <p:cNvSpPr/>
            <p:nvPr/>
          </p:nvSpPr>
          <p:spPr>
            <a:xfrm>
              <a:off x="791280" y="713880"/>
              <a:ext cx="1332360" cy="8928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Puzzle4"/>
            <p:cNvSpPr/>
            <p:nvPr/>
          </p:nvSpPr>
          <p:spPr>
            <a:xfrm>
              <a:off x="275760" y="703080"/>
              <a:ext cx="803160" cy="11415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Puzzle1"/>
            <p:cNvSpPr/>
            <p:nvPr/>
          </p:nvSpPr>
          <p:spPr>
            <a:xfrm>
              <a:off x="0" y="296280"/>
              <a:ext cx="1348920" cy="6804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8000"/>
                </a:solidFill>
                <a:uFillTx/>
                <a:latin typeface="Arial"/>
              </a:rPr>
              <a:t>People spend less time cooking now. They prefer to visit restaurants or eat fast foo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03640" y="3429000"/>
            <a:ext cx="29368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cc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Fast Foo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traditional, British fast food meal is fish and chips but the most popular fast food meal in Britain is a hamburger and French fries. The most successful fast food restaurant in Britain is the American chain, McDonald'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77080" y="1700280"/>
            <a:ext cx="1779480" cy="178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724360" y="4076640"/>
            <a:ext cx="1649520" cy="165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17812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Fast foo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food-</a:t>
            </a: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 фаст фуд, еда, котор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быстро готовят и по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ad bar-</a:t>
            </a: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 сэлэд бар- стойка, на кото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расставлены различные сал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    Translate into Russi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21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at at pleasure, drink with meas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d enjoy life as it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549360"/>
            <a:ext cx="863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38:56Z</dcterms:created>
  <dc:creator>Компьютер № 1</dc:creator>
  <dc:description/>
  <dc:language>en-US</dc:language>
  <cp:lastModifiedBy>Компьютер № 1</cp:lastModifiedBy>
  <dcterms:modified xsi:type="dcterms:W3CDTF">2006-10-09T18:14:09Z</dcterms:modified>
  <cp:revision>3</cp:revision>
  <dc:subject/>
  <dc:title>Слайд 1</dc:title>
</cp:coreProperties>
</file>