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5.wmf" ContentType="image/x-wmf"/>
  <Override PartName="/ppt/media/image3.wmf" ContentType="image/x-wmf"/>
  <Override PartName="/ppt/media/image4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6CCF-708D-4F27-8BEE-7DE615835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A298-1605-4DDF-9648-2F5F7DFA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6448-13EA-4756-BCCE-D6FE537E3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7C70-8849-4EEC-8222-197BF7FD5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0DDA-B045-4796-9ECA-EA340EDA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5DCD-ABB0-4C1C-8A98-566E5238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516C-A1F1-4657-B34F-A2EC38DA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D8DC-33F6-4D3B-8E4A-850AF966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ACEB-DBD8-479D-995B-9F6EECA6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834C-4E06-4912-839C-C7F74304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C23A-8190-464D-B3F9-ADB74D41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D3BC-5EF3-42D2-BDC4-9BAB9578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7E9D-B432-4F2B-ADA5-BF889366F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English and American food and me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013000"/>
            <a:ext cx="64008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Do you want to tas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Answer the quest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)What do you like to eat best of all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)How often do you eat fast foo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)What is your favorite foo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4)What do you avoid eat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5)What is the famous fast food restaur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859280" y="2205000"/>
            <a:ext cx="381636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Запиши предложения в логичес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)It is useful to have a walk after supp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)Englishmen have their dinner late in the eve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)Luncy is the biggest meal of the 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4)They drink tea or coffee for breakfa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5)The usual English breakfast is porri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284720" y="2133720"/>
            <a:ext cx="4535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hoose the correct answ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64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 Bagels were brought to the USA by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) Indian immigr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)British immigr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)Jewish immigr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 Method of cooking using wood or hardwood charcoal is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) gril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)barbecue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)bak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Americans often send a thank-you … after dinn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) let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)no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)tele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ranslate into Russia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USA is the most famous for ‘’fast foods’’. The first fast food restaurants served hamburgers, but now they serve other kinds of food too. Inside there is often a ‘’salad bar’’, where you can help yourself to as much salad as you want. The most popular fast restaurant is Macdonald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66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27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800" spc="-1" strike="noStrike">
                <a:solidFill>
                  <a:srgbClr val="009999"/>
                </a:solidFill>
                <a:latin typeface="Arial"/>
              </a:rPr>
              <a:t>Tastes differ.</a:t>
            </a:r>
            <a:r>
              <a:rPr b="0" i="1" lang="en-US" sz="4400" spc="-1" strike="noStrike">
                <a:solidFill>
                  <a:srgbClr val="009999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1" i="1" lang="ru-RU" sz="4000" spc="-1" strike="noStrike">
                <a:solidFill>
                  <a:srgbClr val="009999"/>
                </a:solidFill>
                <a:latin typeface="Arial"/>
              </a:rPr>
              <a:t>О вкусах не споря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841400" cy="165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804000" y="4724280"/>
            <a:ext cx="184140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roverb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Appetite comes with eating!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651640" y="2754360"/>
            <a:ext cx="280800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Meals in Engla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usual meals in England are breakfast, lunch, tea, and dinner. Most Englishmen like what they call ‘’good plain food’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w many meals a day do you have?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at do you like to eat for breakfast, dinner, supp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A funny 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Have you much variety at your canteen?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Yes, we have three different names for one and the same dish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867280" y="2386080"/>
            <a:ext cx="28083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English me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The usual English breakfast is rather substantial. English people eat toasts, bacon, eggs, cornflakes in the morning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They usually eat fish and chips, meat with potatoes, hamburgers for lunch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They have their dinner in the evening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The most important time for Englishmen is tea time (at 5 o ‘clock). They like to drink cream tea with scones and jam.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0" y="0"/>
            <a:ext cx="2123640" cy="1844640"/>
            <a:chOff x="0" y="0"/>
            <a:chExt cx="2123640" cy="1844640"/>
          </a:xfrm>
        </p:grpSpPr>
        <p:sp>
          <p:nvSpPr>
            <p:cNvPr id="55" name="Puzzle3"/>
            <p:cNvSpPr/>
            <p:nvPr/>
          </p:nvSpPr>
          <p:spPr>
            <a:xfrm>
              <a:off x="1034280" y="0"/>
              <a:ext cx="834840" cy="9802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Puzzle2"/>
            <p:cNvSpPr/>
            <p:nvPr/>
          </p:nvSpPr>
          <p:spPr>
            <a:xfrm>
              <a:off x="791280" y="713880"/>
              <a:ext cx="1332360" cy="8928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Puzzle4"/>
            <p:cNvSpPr/>
            <p:nvPr/>
          </p:nvSpPr>
          <p:spPr>
            <a:xfrm>
              <a:off x="275760" y="703080"/>
              <a:ext cx="803160" cy="11415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Puzzle1"/>
            <p:cNvSpPr/>
            <p:nvPr/>
          </p:nvSpPr>
          <p:spPr>
            <a:xfrm>
              <a:off x="0" y="296280"/>
              <a:ext cx="1348920" cy="68040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8000"/>
                </a:solidFill>
                <a:uFillTx/>
                <a:latin typeface="Arial"/>
              </a:rPr>
              <a:t>People spend less time cooking now. They prefer to visit restaurants or eat fast foo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03640" y="3429000"/>
            <a:ext cx="293688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ccff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800" spc="-1" strike="noStrike">
                <a:solidFill>
                  <a:srgbClr val="3399ff"/>
                </a:solidFill>
                <a:latin typeface="Arial"/>
              </a:rPr>
              <a:t>Fast Foo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traditional, British fast food meal is fish and chips but the most popular fast food meal in Britain is a hamburger and French fries. The most successful fast food restaurant in Britain is the American chain, McDonald'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77080" y="1700280"/>
            <a:ext cx="1779480" cy="1787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724360" y="4076640"/>
            <a:ext cx="1649520" cy="1656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716360" y="1700280"/>
            <a:ext cx="178128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400" spc="-1" strike="noStrike">
                <a:solidFill>
                  <a:srgbClr val="3399ff"/>
                </a:solidFill>
                <a:latin typeface="Arial"/>
              </a:rPr>
              <a:t>Fast foo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 food-</a:t>
            </a: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 фаст фуд, еда, котору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быстро готовят и под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ad bar-</a:t>
            </a: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 сэлэд бар- стойка, на котор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расставлены различные сала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    Translate into Russia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2349000"/>
            <a:ext cx="8229600" cy="21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Eat at pleasure, drink with meas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nd enjoy life as it 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549360"/>
            <a:ext cx="863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5:38:56Z</dcterms:created>
  <dc:creator>Компьютер № 1</dc:creator>
  <dc:description/>
  <dc:language>en-US</dc:language>
  <cp:lastModifiedBy>Компьютер № 1</cp:lastModifiedBy>
  <dcterms:modified xsi:type="dcterms:W3CDTF">2006-10-09T18:14:09Z</dcterms:modified>
  <cp:revision>3</cp:revision>
  <dc:subject/>
  <dc:title>Слайд 1</dc:title>
</cp:coreProperties>
</file>