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A8C-B985-49E7-8B6D-29DF1900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A8C-1F30-4A75-A7A6-3E2107B1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3FC6-7353-4C40-AB59-8707933D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35C0-AB74-4831-AF36-3162752E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D158C-94D4-416A-A304-ACFA5352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34F30-BC6B-4CBA-B8A0-1FA77B20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9AA97-702A-4C3B-B98F-035B22F6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1C7BB-8D64-4C7D-ADE6-E6C49EBF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64E7B-1761-4CCE-A6B6-AA7EAEBE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EBA8B-2313-4A3C-9730-063A1769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2BD34-DF2D-4FB0-AFF0-189D607C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E78-8C1E-4CC5-9D29-69B15314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92CCD-74F2-43A2-83DA-F5347CFF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9CF25-C58F-480B-BBF6-B724AF0A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4967A-4EF6-401C-B15D-3CF9BFF9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1B5AC-A83F-4AB7-B2AA-54C557E2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6D67A-4E36-4B82-9248-00195369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D9B-3DE1-42B4-83E0-5E9E952E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6CA2-3430-4D50-AB6A-36A811D1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725-3ED3-4D19-8525-5ADF048B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8E10-12B7-4DD1-BF9C-893FD6F7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EE8-01D2-46EE-B597-BB521F8E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C7F-6078-4A59-9D61-C45252C6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E154-E905-47BA-8349-EDFB3716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4E6D-8C3C-4B34-B4A8-FDB5CF9DAB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B45E-7521-4972-83D9-44E27DF321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Урок мудроречи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ищете материальной нетрудно помочь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  нищете души невозможно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Монтень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BAB6-1EBF-4753-889A-8F430C96F96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6360" y="44280"/>
            <a:ext cx="1295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М  Ы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Д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Ц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36360" y="4428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612720" y="620640"/>
            <a:ext cx="0" cy="287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36360" y="4428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612720" y="620640"/>
            <a:ext cx="7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1332000" y="4428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4932360" y="3429000"/>
            <a:ext cx="201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ристо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36360" y="350028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2" descr="sokrat_1"/>
          <p:cNvPicPr/>
          <p:nvPr/>
        </p:nvPicPr>
        <p:blipFill>
          <a:blip r:embed="rId1"/>
          <a:stretch/>
        </p:blipFill>
        <p:spPr>
          <a:xfrm>
            <a:off x="642960" y="642960"/>
            <a:ext cx="2052720" cy="2798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3"/>
          <p:cNvSpPr/>
          <p:nvPr/>
        </p:nvSpPr>
        <p:spPr>
          <a:xfrm>
            <a:off x="828720" y="3430440"/>
            <a:ext cx="1366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к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4" descr="platon_2"/>
          <p:cNvPicPr/>
          <p:nvPr/>
        </p:nvPicPr>
        <p:blipFill>
          <a:blip r:embed="rId2"/>
          <a:stretch/>
        </p:blipFill>
        <p:spPr>
          <a:xfrm>
            <a:off x="2808360" y="692280"/>
            <a:ext cx="2017800" cy="28098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5"/>
          <p:cNvSpPr/>
          <p:nvPr/>
        </p:nvSpPr>
        <p:spPr>
          <a:xfrm>
            <a:off x="3132000" y="3429000"/>
            <a:ext cx="13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лат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8" descr="aristotel_2"/>
          <p:cNvPicPr/>
          <p:nvPr/>
        </p:nvPicPr>
        <p:blipFill>
          <a:blip r:embed="rId3"/>
          <a:stretch/>
        </p:blipFill>
        <p:spPr>
          <a:xfrm>
            <a:off x="4896000" y="692280"/>
            <a:ext cx="2004840" cy="2809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9" descr="konfucii_3"/>
          <p:cNvPicPr/>
          <p:nvPr/>
        </p:nvPicPr>
        <p:blipFill>
          <a:blip r:embed="rId4"/>
          <a:stretch/>
        </p:blipFill>
        <p:spPr>
          <a:xfrm>
            <a:off x="6948360" y="692280"/>
            <a:ext cx="2109960" cy="28098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0"/>
          <p:cNvSpPr/>
          <p:nvPr/>
        </p:nvSpPr>
        <p:spPr>
          <a:xfrm>
            <a:off x="7164360" y="3429000"/>
            <a:ext cx="180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онфу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1" descr="esop_1"/>
          <p:cNvPicPr/>
          <p:nvPr/>
        </p:nvPicPr>
        <p:blipFill>
          <a:blip r:embed="rId5"/>
          <a:stretch/>
        </p:blipFill>
        <p:spPr>
          <a:xfrm>
            <a:off x="671400" y="3860640"/>
            <a:ext cx="1992600" cy="2664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2"/>
          <p:cNvSpPr/>
          <p:nvPr/>
        </p:nvSpPr>
        <p:spPr>
          <a:xfrm>
            <a:off x="971640" y="645336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Эз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3" descr="pifagor_1"/>
          <p:cNvPicPr/>
          <p:nvPr/>
        </p:nvPicPr>
        <p:blipFill>
          <a:blip r:embed="rId6"/>
          <a:stretch/>
        </p:blipFill>
        <p:spPr>
          <a:xfrm>
            <a:off x="2933640" y="3860640"/>
            <a:ext cx="1998720" cy="2664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4"/>
          <p:cNvSpPr/>
          <p:nvPr/>
        </p:nvSpPr>
        <p:spPr>
          <a:xfrm>
            <a:off x="3059280" y="6453360"/>
            <a:ext cx="165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ифаг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26" descr="diogen_1"/>
          <p:cNvPicPr/>
          <p:nvPr/>
        </p:nvPicPr>
        <p:blipFill>
          <a:blip r:embed="rId7"/>
          <a:stretch/>
        </p:blipFill>
        <p:spPr>
          <a:xfrm>
            <a:off x="5219640" y="3916440"/>
            <a:ext cx="3673440" cy="26082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7"/>
          <p:cNvSpPr/>
          <p:nvPr/>
        </p:nvSpPr>
        <p:spPr>
          <a:xfrm>
            <a:off x="6081840" y="6453360"/>
            <a:ext cx="1298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иог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Сыном своим я выбрал служение детям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.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      Януш Корчак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5472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 простое правило нравственности состоит в том, чтобы служить себе как можно меньше и служить людям луч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.Н.Толст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Творим мудр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413000"/>
            <a:ext cx="7705800" cy="468000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глас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поним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мощ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язан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58920" y="1700280"/>
            <a:ext cx="6408720" cy="432108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имосоглас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имопомощ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имопоним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имообяза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пасибо, мудрецы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зращивайте, воспитывайт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пражняйте свою душ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держите её в чисто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6:58:06Z</dcterms:created>
  <dc:creator>Guest</dc:creator>
  <dc:description/>
  <dc:language>en-US</dc:language>
  <cp:lastModifiedBy>Guest</cp:lastModifiedBy>
  <dcterms:modified xsi:type="dcterms:W3CDTF">2011-11-06T12:21:32Z</dcterms:modified>
  <cp:revision>6</cp:revision>
  <dc:subject/>
  <dc:title>Урок мудроречия</dc:title>
</cp:coreProperties>
</file>