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D9C-1FFF-4787-B024-864A1D24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F2A-DB1D-4577-AFF6-4EB3B95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4DD-411F-41B1-B67F-3593DD47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22A-F493-408C-B516-A2D9780E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D29DE-ACBA-40B1-A350-6F4D16F7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F2379-B882-4A00-A005-8268022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5FB9A-C29E-4763-A4BC-05D236D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2FABF-482E-49CD-9C34-E25D50D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3192C-AA7E-4917-9F2D-4D7F7AEB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EDB9C-55B3-4400-8EE0-3B6BF283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869E8-694C-4488-8A69-143F151F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9F9-8DA7-4FB8-80BD-1D2103B7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C16BA-16AC-487C-BF23-61B1DE65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FCBF3-1B90-4E69-B73D-3CC74A2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F25C5-F2B3-4DC3-AB5D-8BEC5349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06E2D-6CEC-4A96-9B3A-67E866CC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708E3-7F00-4FA6-BB1D-42916949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480-E52D-4012-BDBB-7DEC4F6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DE1-CEC1-481E-AF61-0D94A227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D7C-90AB-4231-95D2-04424FE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265-F963-4154-AB7C-6D31AE81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E98-3A9B-4411-B046-EEDCE97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6C3-FD84-4BA8-AC85-78C3EC4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ABF-BCB5-4C5B-84D8-1D6955F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53D-66B7-4E54-B7ED-ACF2EE9FD7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21C-9480-4FF6-BAC0-BD1FE52C6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Урок мудрореч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ищете материальной нетрудно помоч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  нищете души невозможно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онтень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D3DE-4F2E-4210-A323-B4F88A6E649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ристо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sokrat_1"/>
          <p:cNvPicPr/>
          <p:nvPr/>
        </p:nvPicPr>
        <p:blipFill>
          <a:blip r:embed="rId1"/>
          <a:stretch/>
        </p:blipFill>
        <p:spPr>
          <a:xfrm>
            <a:off x="642960" y="642960"/>
            <a:ext cx="2052720" cy="2798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к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ла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фу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2"/>
          <p:cNvSpPr/>
          <p:nvPr/>
        </p:nvSpPr>
        <p:spPr>
          <a:xfrm>
            <a:off x="971640" y="645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з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3" descr="pifagor_1"/>
          <p:cNvPicPr/>
          <p:nvPr/>
        </p:nvPicPr>
        <p:blipFill>
          <a:blip r:embed="rId6"/>
          <a:stretch/>
        </p:blipFill>
        <p:spPr>
          <a:xfrm>
            <a:off x="2933640" y="3860640"/>
            <a:ext cx="1998720" cy="266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4"/>
          <p:cNvSpPr/>
          <p:nvPr/>
        </p:nvSpPr>
        <p:spPr>
          <a:xfrm>
            <a:off x="3059280" y="6453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6" descr="diogen_1"/>
          <p:cNvPicPr/>
          <p:nvPr/>
        </p:nvPicPr>
        <p:blipFill>
          <a:blip r:embed="rId7"/>
          <a:stretch/>
        </p:blipFill>
        <p:spPr>
          <a:xfrm>
            <a:off x="5219640" y="3916440"/>
            <a:ext cx="3673440" cy="2608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7"/>
          <p:cNvSpPr/>
          <p:nvPr/>
        </p:nvSpPr>
        <p:spPr>
          <a:xfrm>
            <a:off x="6081840" y="6453360"/>
            <a:ext cx="129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ио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ыном своим я выбрал служение детям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      Януш Корча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 простое правило нравственности состоит в том, чтобы служить себе как можно меньше и служить людям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.Н.Толст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ворим мудр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413000"/>
            <a:ext cx="7705800" cy="468000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глас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поним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яз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1700280"/>
            <a:ext cx="6408720" cy="43210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соглас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помощ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по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обяз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, мудрецы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зращивайте, воспитывайт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яйте свою душ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держите её в чисто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6:58:06Z</dcterms:created>
  <dc:creator>Guest</dc:creator>
  <dc:description/>
  <dc:language>en-US</dc:language>
  <cp:lastModifiedBy>Guest</cp:lastModifiedBy>
  <dcterms:modified xsi:type="dcterms:W3CDTF">2011-11-06T12:21:32Z</dcterms:modified>
  <cp:revision>6</cp:revision>
  <dc:subject/>
  <dc:title>Урок мудроречия</dc:title>
</cp:coreProperties>
</file>