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C78-96FB-4F83-93E8-F6635660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B3-4C9F-4CAB-AB5A-A2AE7E9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936-6AC6-48C9-BAA1-08F7F0E6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C2E-8543-489A-8828-ECA31B87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FCFB-457A-406C-B67A-6164BAFE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60A-0ED6-4EC1-95F8-828E4366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0E13-3019-4817-8E6E-271B37A3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E07-0E13-43B8-98E1-B0D2C635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B5EA-BA09-4A32-AC6F-3C57D75C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D05-1ED8-4EEC-AC59-7F675E8B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D5E5-CFCF-4195-87FD-C9077D1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A5D-B513-4E73-8794-E32172E7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BED7-A35E-47E1-AD5C-BA431BE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897-45AE-4741-B17B-EBE1B65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5D05-E905-4FF1-A2B3-1072FC9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7E9B-1478-4892-B22D-4A74C7DD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939C-39CC-4A28-B19B-013CCB77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5CB-01F2-48CA-9BEA-2EFEEDCA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123-A725-486F-ADD5-B8104C79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B4C-AFE7-4E3A-9C4D-37F1D8E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507-64A0-418C-BDAD-699AA57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706-C8D0-4A0C-BD2A-EE74B0A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C5B-DB1B-4323-B404-60C5D80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394-1775-44F6-A840-EA5B13C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0C59-F3CF-44ED-B079-BA6C7A179B9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39D5-19BE-440B-9AD2-48DC3674CDC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376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028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onstantia"/>
              </a:rPr>
              <a:t>Овощи на столе-здоровье на сто лет.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dd9"/>
                </a:solidFill>
                <a:latin typeface="Calibri"/>
              </a:rPr>
              <a:t>Авитаминоз и гипервитаминоз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ff"/>
                </a:solidFill>
                <a:latin typeface="Constantia"/>
              </a:rPr>
              <a:t>А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– это заболевание, вызванное полным отсутствием какого-либо витамина.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ff"/>
                </a:solidFill>
                <a:latin typeface="Constantia"/>
              </a:rPr>
              <a:t>Гипервитаминоз</a:t>
            </a:r>
            <a:r>
              <a:rPr b="0" i="1" lang="ru-RU" sz="4000" spc="-1" strike="noStrike">
                <a:solidFill>
                  <a:srgbClr val="9933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ивается при избыточном потреблении витаминов. В результате может развиться аллергия, кожные сипи, тошнота, понос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В2 (рибофлавин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первые был получен в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еке в середине 30-х гг. Он состоят из спирта рибитола и изоллоксазина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ится  в зерне, печени, мясе, молоке, яйцах. При недостаточном   потреблении  у взрослого человека нарушается зрение и повреждаются  слизистые оболочки р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59436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809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(аскорбиновая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</a:rPr>
              <a:t>к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ислота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является сильным восстановителем и легко превращается в свою дегидроформу, она участвует в образовании дентина, хряща, усиливает процесс всасывания железа в кишечнике, необходима для синтеза норадреналина в надпочечниках.  Содержится  в шиповнике, черной смородине, клюкве, лимоне, апельсина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AutoShape 6">
            <a:hlinkClick r:id="" action="ppaction://hlinkshowjump?jump=nextslide"/>
          </p:cNvPr>
          <p:cNvSpPr/>
          <p:nvPr/>
        </p:nvSpPr>
        <p:spPr>
          <a:xfrm>
            <a:off x="7010280" y="62485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3794"/>
                </a:moveTo>
                <a:lnTo>
                  <a:pt x="41191" y="10800"/>
                </a:lnTo>
                <a:lnTo>
                  <a:pt x="27178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5857920" y="3500280"/>
            <a:ext cx="3004920" cy="26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666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гда организм долгое время не получает  витамина С, развивается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  <a:ea typeface="Times New Roman"/>
              </a:rPr>
              <a:t>ЦИНГ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заболевание, известное путешественникам и мореплавателям. При этом заболевании появляется кровоточивость  десен, язвы на слизистых оболочках рта, расшатываются и выпадают зубы. Кости становятся хрупкими, возникают боли в суставах. Наступает малокровие, и резко  снижается сопротивляемость организма инфекционным заболеван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85800" y="53341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инга. Кровоточивость дес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>
            <a:hlinkClick r:id="" action="ppaction://hlinkshowjump?jump=nextslide"/>
          </p:cNvPr>
          <p:cNvSpPr/>
          <p:nvPr/>
        </p:nvSpPr>
        <p:spPr>
          <a:xfrm>
            <a:off x="7620120" y="5867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2819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знакомимся с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жирорастворимыми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c047"/>
                </a:solidFill>
                <a:latin typeface="Constantia"/>
              </a:rPr>
              <a:t>К ним принадлежат витамины А, </a:t>
            </a:r>
            <a:r>
              <a:rPr b="1" i="1" lang="en-US" sz="2000" spc="-1" strike="noStrike">
                <a:solidFill>
                  <a:srgbClr val="3ec047"/>
                </a:solidFill>
                <a:latin typeface="Constantia"/>
              </a:rPr>
              <a:t>D</a:t>
            </a:r>
            <a:r>
              <a:rPr b="1" i="1" lang="ru-RU" sz="2000" spc="-1" strike="noStrike">
                <a:solidFill>
                  <a:srgbClr val="3ec047"/>
                </a:solidFill>
                <a:latin typeface="Constantia"/>
              </a:rPr>
              <a:t>, Е, 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или кароти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содержится в основном в животной пище, например в рыбьем жире, сливочном масле, молоке, яичных желтках, печени, почках, рыбьей икре. Вещество, превращающееся в организме в витамин А, содержится в растительной пище: моркови, шпинате, помидорах. Витамин А - составная часть    светочувствительного   вещества  в  сетчатке глаза. Кроме  того, он необходим для роста клеток. При его недостатке дети плохо растут, нарушается формирование зубов, волос, поражаются легкие. Может возникнуть  особое заболевание –« куриная слепота»:с наступлением сумерек таких больных ослабевает  зрени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>
            <a:hlinkClick r:id="" action="ppaction://hlinkshowjump?jump=nextslide"/>
          </p:cNvPr>
          <p:cNvSpPr/>
          <p:nvPr/>
        </p:nvSpPr>
        <p:spPr>
          <a:xfrm>
            <a:off x="7391520" y="1600200"/>
            <a:ext cx="1447560" cy="533520"/>
          </a:xfrm>
          <a:custGeom>
            <a:avLst/>
            <a:gdLst>
              <a:gd name="textAreaLeft" fmla="*/ 34560 w 1447560"/>
              <a:gd name="textAreaRight" fmla="*/ 1413000 w 1447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81" h="21600">
                <a:moveTo>
                  <a:pt x="0" y="0"/>
                </a:moveTo>
                <a:lnTo>
                  <a:pt x="58581" y="0"/>
                </a:lnTo>
                <a:lnTo>
                  <a:pt x="58581" y="21600"/>
                </a:lnTo>
                <a:lnTo>
                  <a:pt x="0" y="21600"/>
                </a:lnTo>
                <a:close/>
              </a:path>
              <a:path fill="lightenLess" w="58581" h="21600">
                <a:moveTo>
                  <a:pt x="0" y="0"/>
                </a:moveTo>
                <a:lnTo>
                  <a:pt x="58581" y="0"/>
                </a:lnTo>
                <a:lnTo>
                  <a:pt x="57181" y="1400"/>
                </a:lnTo>
                <a:lnTo>
                  <a:pt x="1400" y="1400"/>
                </a:lnTo>
                <a:close/>
              </a:path>
              <a:path fill="darken" w="58581" h="21600">
                <a:moveTo>
                  <a:pt x="58581" y="0"/>
                </a:moveTo>
                <a:lnTo>
                  <a:pt x="58581" y="21600"/>
                </a:lnTo>
                <a:lnTo>
                  <a:pt x="57181" y="20200"/>
                </a:lnTo>
                <a:lnTo>
                  <a:pt x="57181" y="1400"/>
                </a:lnTo>
                <a:close/>
              </a:path>
              <a:path fill="darkenLess" w="58581" h="21600">
                <a:moveTo>
                  <a:pt x="58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81" y="20200"/>
                </a:lnTo>
                <a:close/>
              </a:path>
              <a:path fill="lighten" w="58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81" h="21600">
                <a:moveTo>
                  <a:pt x="22284" y="3794"/>
                </a:moveTo>
                <a:lnTo>
                  <a:pt x="36297" y="10800"/>
                </a:lnTo>
                <a:lnTo>
                  <a:pt x="2228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</a:t>
            </a:r>
            <a:r>
              <a:rPr b="1" lang="en-US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</a:rPr>
              <a:t>(антирахетический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ится в рыбьем жире , печени, желтке  куриного яйца и многих других продуктах. При недостатке  в пище витами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у детей разви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ХИ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При рахите содержание солей в костях, оказывается пониженным, поэтому  рост ребенка замедляется. Скелет формируется неправильно. У больных рахитом детей искривлены ноги, голова и живот увеличен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AutoShape 5">
            <a:hlinkClick r:id="" action="ppaction://hlinkshowjump?jump=nextslide"/>
          </p:cNvPr>
          <p:cNvSpPr/>
          <p:nvPr/>
        </p:nvSpPr>
        <p:spPr>
          <a:xfrm>
            <a:off x="7315200" y="624852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7" h="21600">
                <a:moveTo>
                  <a:pt x="25387" y="3794"/>
                </a:moveTo>
                <a:lnTo>
                  <a:pt x="39400" y="10800"/>
                </a:lnTo>
                <a:lnTo>
                  <a:pt x="25387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23800" y="19080"/>
            <a:ext cx="790740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1071360"/>
            <a:ext cx="885816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3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Деньги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ничего не потеря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время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многое потеря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здоровье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все потеря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img016.jpg"/>
          <p:cNvPicPr/>
          <p:nvPr/>
        </p:nvPicPr>
        <p:blipFill>
          <a:blip r:embed="rId1"/>
          <a:stretch/>
        </p:blipFill>
        <p:spPr>
          <a:xfrm rot="16397400">
            <a:off x="3879000" y="144684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мидор – золотое яблок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85560"/>
            <a:ext cx="2210040" cy="37227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Перу ( Южная Америка), свое название получил от итальянского сл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омидоро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привезли из Франции и стали выращивать в 1850 год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изо2.jpg"/>
          <p:cNvPicPr/>
          <p:nvPr/>
        </p:nvPicPr>
        <p:blipFill>
          <a:blip r:embed="rId1"/>
          <a:stretch/>
        </p:blipFill>
        <p:spPr>
          <a:xfrm rot="11019600">
            <a:off x="3325320" y="1590480"/>
            <a:ext cx="517536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3000600" cy="150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тофель- земляное яблок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857240"/>
            <a:ext cx="221004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Южная Амер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аптекарь Пармантье впервые сварил клубни картофел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артофель привезли во времена Петра Первог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img019.jpg"/>
          <p:cNvPicPr/>
          <p:nvPr/>
        </p:nvPicPr>
        <p:blipFill>
          <a:blip r:embed="rId1"/>
          <a:stretch/>
        </p:blipFill>
        <p:spPr>
          <a:xfrm>
            <a:off x="3857760" y="1609560"/>
            <a:ext cx="4286160" cy="363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3429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ожественная петруш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13920"/>
            <a:ext cx="2210040" cy="49294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петрушки – Грец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е греки плели из  петрушки венки для победителей Олимпийских иг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2148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пуста от многих болезне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71400"/>
            <a:ext cx="2819520" cy="34369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одина капусты - Средиземноморь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Рисунок 4" descr="4880_content_lite.jpg"/>
          <p:cNvPicPr/>
          <p:nvPr/>
        </p:nvPicPr>
        <p:blipFill>
          <a:blip r:embed="rId1"/>
          <a:srcRect l="0" t="5879" r="0" b="5879"/>
          <a:stretch/>
        </p:blipFill>
        <p:spPr>
          <a:xfrm rot="420000">
            <a:off x="3447720" y="1211040"/>
            <a:ext cx="4859280" cy="4524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ревний овощ - свек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Рисунок 6" descr="img020.jpg"/>
          <p:cNvPicPr/>
          <p:nvPr/>
        </p:nvPicPr>
        <p:blipFill>
          <a:blip r:embed="rId1"/>
          <a:srcRect l="8693" t="0" r="8693" b="0"/>
          <a:stretch/>
        </p:blipFill>
        <p:spPr>
          <a:xfrm rot="11180400"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2605320" cy="5214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- Средиземноморье. В Древнем Риме свекла пользовалась большим почетом. В Россию была завезена в 14-15 век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изо1.jpg"/>
          <p:cNvPicPr/>
          <p:nvPr/>
        </p:nvPicPr>
        <p:blipFill>
          <a:blip r:embed="rId1"/>
          <a:stretch/>
        </p:blipFill>
        <p:spPr>
          <a:xfrm rot="15747000">
            <a:off x="2992320" y="1617480"/>
            <a:ext cx="5155920" cy="3638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йский принц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999720"/>
            <a:ext cx="2210040" cy="4008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амых древних овощей, изображение огуречной плети украшали стены египетских храм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cc"/>
                </a:solidFill>
                <a:latin typeface="Calibri"/>
              </a:rPr>
              <a:t>Представление о витамин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3840" y="144792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1ae4"/>
                </a:solidFill>
                <a:latin typeface="Constantia"/>
              </a:rPr>
              <a:t>Витамины</a:t>
            </a:r>
            <a:r>
              <a:rPr b="0" lang="ru-RU" sz="2800" spc="-1" strike="noStrike">
                <a:solidFill>
                  <a:srgbClr val="a51ae4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это жизненно необходимые вещества, которые в минимальных дозах оказывают на организм мощное биологическое действие через участие деятельности ферментов. Организм витамины не синтезирует, поэтому основным источником витаминов служат продукты пит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04-04T14:44:10Z</dcterms:modified>
  <cp:revision>55</cp:revision>
  <dc:subject/>
  <dc:title>PowerPoint Presentation</dc:title>
</cp:coreProperties>
</file>