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E97-3D88-4753-ACB8-2465A0D5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9A4-73F1-421C-8DB8-2E82763B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6B6-9A9C-468F-A937-FAA2F7F0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BD0-DE0F-446F-B1E7-43D5D230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6558-271B-482A-9A95-30BBE406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B106-0757-4B24-AAD0-63766F61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B451-3013-42F9-AF1C-4BD67814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A259-8BD2-4116-8B8F-3D9AEE4C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58DC-0FFE-403E-914C-E2D78621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A9E0-5C5A-4DBD-94C1-6575096E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E06C-939F-4967-B20F-F252A95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5F9-4783-45DD-9E87-D3DE8D59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89DE-BDCC-41D7-B211-B3D39A3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9D1C-8798-4E29-B4F2-3C11457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C7CD-37F7-4622-843D-E96D7955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8F26-401F-486B-8110-664814B4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3B5E-53EA-4CA4-81FF-F27D8F6D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935-31A9-4CCF-BABD-6921B5E0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AE4-181D-438A-8606-20998670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F62-3E4B-4252-A0FB-588B9BB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521-9CC4-4596-A19F-A2E6AC2D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26C-5111-41C4-872F-67FAB14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1D1-8299-485F-BD33-5402C70F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45A-EC43-4B80-8EAC-1B34B1B0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0B57-D9FC-403F-B6C3-14C383C7498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5035-B208-4C00-AE44-3A04C052405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376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0280" y="14997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onstantia"/>
              </a:rPr>
              <a:t>Овощи на столе-здоровье на сто лет.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dd9"/>
                </a:solidFill>
                <a:latin typeface="Calibri"/>
              </a:rPr>
              <a:t>Авитаминоз и гипервитаминоз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ff"/>
                </a:solidFill>
                <a:latin typeface="Constantia"/>
              </a:rPr>
              <a:t>Авитаминоз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– это заболевание, вызванное полным отсутствием какого-либо витамина.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ff"/>
                </a:solidFill>
                <a:latin typeface="Constantia"/>
              </a:rPr>
              <a:t>Гипервитаминоз</a:t>
            </a:r>
            <a:r>
              <a:rPr b="0" i="1" lang="ru-RU" sz="4000" spc="-1" strike="noStrike">
                <a:solidFill>
                  <a:srgbClr val="9933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вивается при избыточном потреблении витаминов. В результате может развиться аллергия, кожные сипи, тошнота, понос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Витамин В2 (рибофлавин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первые был получен в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еке в середине 30-х гг. Он состоят из спирта рибитола и изоллоксазина,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держится  в зерне, печени, мясе, молоке, яйцах. При недостаточном   потреблении  у взрослого человека нарушается зрение и повреждаются  слизистые оболочки р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AutoShape 7">
            <a:hlinkClick r:id="" action="ppaction://hlinkshowjump?jump=nextslide"/>
          </p:cNvPr>
          <p:cNvSpPr/>
          <p:nvPr/>
        </p:nvSpPr>
        <p:spPr>
          <a:xfrm>
            <a:off x="59436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809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Витамин С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(аскорбиновая 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</a:rPr>
              <a:t>к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ислота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является сильным восстановителем и легко превращается в свою дегидроформу, она участвует в образовании дентина, хряща, усиливает процесс всасывания железа в кишечнике, необходима для синтеза норадреналина в надпочечниках.  Содержится  в шиповнике, черной смородине, клюкве, лимоне, апельсина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AutoShape 6">
            <a:hlinkClick r:id="" action="ppaction://hlinkshowjump?jump=nextslide"/>
          </p:cNvPr>
          <p:cNvSpPr/>
          <p:nvPr/>
        </p:nvSpPr>
        <p:spPr>
          <a:xfrm>
            <a:off x="7010280" y="62485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69" h="21600">
                <a:moveTo>
                  <a:pt x="27178" y="3794"/>
                </a:moveTo>
                <a:lnTo>
                  <a:pt x="41191" y="10800"/>
                </a:lnTo>
                <a:lnTo>
                  <a:pt x="27178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5857920" y="3500280"/>
            <a:ext cx="3004920" cy="260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16668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огда организм долгое время не получает  витамина С, развивается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  <a:ea typeface="Times New Roman"/>
              </a:rPr>
              <a:t>ЦИНГ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заболевание, известное путешественникам и мореплавателям. При этом заболевании появляется кровоточивость  десен, язвы на слизистых оболочках рта, расшатываются и выпадают зубы. Кости становятся хрупкими, возникают боли в суставах. Наступает малокровие, и резко  снижается сопротивляемость организма инфекционным заболеван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85800" y="53341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Цинга. Кровоточивость дес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>
            <a:hlinkClick r:id="" action="ppaction://hlinkshowjump?jump=nextslide"/>
          </p:cNvPr>
          <p:cNvSpPr/>
          <p:nvPr/>
        </p:nvSpPr>
        <p:spPr>
          <a:xfrm>
            <a:off x="7620120" y="586728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7e7e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>
            <a:off x="685800" y="2143080"/>
            <a:ext cx="28195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ознакомимся с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жирорастворимыми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 витамин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c047"/>
                </a:solidFill>
                <a:latin typeface="Constantia"/>
              </a:rPr>
              <a:t>К ним принадлежат витамины А, </a:t>
            </a:r>
            <a:r>
              <a:rPr b="1" i="1" lang="en-US" sz="2000" spc="-1" strike="noStrike">
                <a:solidFill>
                  <a:srgbClr val="3ec047"/>
                </a:solidFill>
                <a:latin typeface="Constantia"/>
              </a:rPr>
              <a:t>D</a:t>
            </a:r>
            <a:r>
              <a:rPr b="1" i="1" lang="ru-RU" sz="2000" spc="-1" strike="noStrike">
                <a:solidFill>
                  <a:srgbClr val="3ec047"/>
                </a:solidFill>
                <a:latin typeface="Constantia"/>
              </a:rPr>
              <a:t>, Е, 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Витамин 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, 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или каротин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содержится в основном в животной пище, например в рыбьем жире, сливочном масле, молоке, яичных желтках, печени, почках, рыбьей икре. Вещество, превращающееся в организме в витамин А, содержится в растительной пище: моркови, шпинате, помидорах. Витамин А - составная часть    светочувствительного   вещества  в  сетчатке глаза. Кроме  того, он необходим для роста клеток. При его недостатке дети плохо растут, нарушается формирование зубов, волос, поражаются легкие. Может возникнуть  особое заболевание –« куриная слепота»:с наступлением сумерек таких больных ослабевает  зрени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AutoShape 5">
            <a:hlinkClick r:id="" action="ppaction://hlinkshowjump?jump=nextslide"/>
          </p:cNvPr>
          <p:cNvSpPr/>
          <p:nvPr/>
        </p:nvSpPr>
        <p:spPr>
          <a:xfrm>
            <a:off x="7391520" y="1600200"/>
            <a:ext cx="1447560" cy="533520"/>
          </a:xfrm>
          <a:custGeom>
            <a:avLst/>
            <a:gdLst>
              <a:gd name="textAreaLeft" fmla="*/ 34560 w 1447560"/>
              <a:gd name="textAreaRight" fmla="*/ 1413000 w 1447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81" h="21600">
                <a:moveTo>
                  <a:pt x="0" y="0"/>
                </a:moveTo>
                <a:lnTo>
                  <a:pt x="58581" y="0"/>
                </a:lnTo>
                <a:lnTo>
                  <a:pt x="58581" y="21600"/>
                </a:lnTo>
                <a:lnTo>
                  <a:pt x="0" y="21600"/>
                </a:lnTo>
                <a:close/>
              </a:path>
              <a:path fill="lightenLess" w="58581" h="21600">
                <a:moveTo>
                  <a:pt x="0" y="0"/>
                </a:moveTo>
                <a:lnTo>
                  <a:pt x="58581" y="0"/>
                </a:lnTo>
                <a:lnTo>
                  <a:pt x="57181" y="1400"/>
                </a:lnTo>
                <a:lnTo>
                  <a:pt x="1400" y="1400"/>
                </a:lnTo>
                <a:close/>
              </a:path>
              <a:path fill="darken" w="58581" h="21600">
                <a:moveTo>
                  <a:pt x="58581" y="0"/>
                </a:moveTo>
                <a:lnTo>
                  <a:pt x="58581" y="21600"/>
                </a:lnTo>
                <a:lnTo>
                  <a:pt x="57181" y="20200"/>
                </a:lnTo>
                <a:lnTo>
                  <a:pt x="57181" y="1400"/>
                </a:lnTo>
                <a:close/>
              </a:path>
              <a:path fill="darkenLess" w="58581" h="21600">
                <a:moveTo>
                  <a:pt x="58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81" y="20200"/>
                </a:lnTo>
                <a:close/>
              </a:path>
              <a:path fill="lighten" w="58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81" h="21600">
                <a:moveTo>
                  <a:pt x="22284" y="3794"/>
                </a:moveTo>
                <a:lnTo>
                  <a:pt x="36297" y="10800"/>
                </a:lnTo>
                <a:lnTo>
                  <a:pt x="2228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9dd9"/>
                </a:solidFill>
                <a:latin typeface="Calibri"/>
              </a:rPr>
              <a:t>Характеристика витамин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Витамин </a:t>
            </a:r>
            <a:r>
              <a:rPr b="1" lang="en-US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Constantia"/>
              </a:rPr>
              <a:t>(антирахетический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держится в рыбьем жире , печени, желтке  куриного яйца и многих других продуктах. При недостатке  в пище витамина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у детей разви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РАХИТ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При рахите содержание солей в костях, оказывается пониженным, поэтому  рост ребенка замедляется. Скелет формируется неправильно. У больных рахитом детей искривлены ноги, голова и живот увеличен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AutoShape 5">
            <a:hlinkClick r:id="" action="ppaction://hlinkshowjump?jump=nextslide"/>
          </p:cNvPr>
          <p:cNvSpPr/>
          <p:nvPr/>
        </p:nvSpPr>
        <p:spPr>
          <a:xfrm>
            <a:off x="7315200" y="6248520"/>
            <a:ext cx="1828800" cy="609480"/>
          </a:xfrm>
          <a:custGeom>
            <a:avLst/>
            <a:gdLst>
              <a:gd name="textAreaLeft" fmla="*/ 39240 w 1828800"/>
              <a:gd name="textAreaRight" fmla="*/ 1789560 w 1828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4787" h="21600">
                <a:moveTo>
                  <a:pt x="0" y="0"/>
                </a:moveTo>
                <a:lnTo>
                  <a:pt x="64787" y="0"/>
                </a:lnTo>
                <a:lnTo>
                  <a:pt x="64787" y="21600"/>
                </a:lnTo>
                <a:lnTo>
                  <a:pt x="0" y="21600"/>
                </a:lnTo>
                <a:close/>
              </a:path>
              <a:path fill="lightenLess" w="64787" h="21600">
                <a:moveTo>
                  <a:pt x="0" y="0"/>
                </a:moveTo>
                <a:lnTo>
                  <a:pt x="64787" y="0"/>
                </a:lnTo>
                <a:lnTo>
                  <a:pt x="63387" y="1400"/>
                </a:lnTo>
                <a:lnTo>
                  <a:pt x="1400" y="1400"/>
                </a:lnTo>
                <a:close/>
              </a:path>
              <a:path fill="darken" w="64787" h="21600">
                <a:moveTo>
                  <a:pt x="64787" y="0"/>
                </a:moveTo>
                <a:lnTo>
                  <a:pt x="64787" y="21600"/>
                </a:lnTo>
                <a:lnTo>
                  <a:pt x="63387" y="20200"/>
                </a:lnTo>
                <a:lnTo>
                  <a:pt x="63387" y="1400"/>
                </a:lnTo>
                <a:close/>
              </a:path>
              <a:path fill="darkenLess" w="64787" h="21600">
                <a:moveTo>
                  <a:pt x="64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7" y="20200"/>
                </a:lnTo>
                <a:close/>
              </a:path>
              <a:path fill="lighten" w="64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7" h="21600">
                <a:moveTo>
                  <a:pt x="25387" y="3794"/>
                </a:moveTo>
                <a:lnTo>
                  <a:pt x="39400" y="10800"/>
                </a:lnTo>
                <a:lnTo>
                  <a:pt x="25387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523800" y="19080"/>
            <a:ext cx="790740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5840" y="1071360"/>
            <a:ext cx="8858160" cy="157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3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Деньги потерял –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ничего не потерял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время потерял –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многое потерял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здоровье потерял –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nstantia"/>
              </a:rPr>
              <a:t>все потерял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img016.jpg"/>
          <p:cNvPicPr/>
          <p:nvPr/>
        </p:nvPicPr>
        <p:blipFill>
          <a:blip r:embed="rId1"/>
          <a:stretch/>
        </p:blipFill>
        <p:spPr>
          <a:xfrm rot="16397400">
            <a:off x="3879000" y="144684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292896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мидор – золотое яблоко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85560"/>
            <a:ext cx="2210040" cy="37227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– Перу ( Южная Америка), свое название получил от итальянского слов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омидоро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ю привезли из Франции и стали выращивать в 1850 год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изо2.jpg"/>
          <p:cNvPicPr/>
          <p:nvPr/>
        </p:nvPicPr>
        <p:blipFill>
          <a:blip r:embed="rId1"/>
          <a:stretch/>
        </p:blipFill>
        <p:spPr>
          <a:xfrm rot="11019600">
            <a:off x="3325320" y="1590480"/>
            <a:ext cx="517536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3000600" cy="150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тофель- земляное яблоко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857240"/>
            <a:ext cx="221004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– Южная Амери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й аптекарь Пармантье впервые сварил клубни картофел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ю картофель привезли во времена Петра Первог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img019.jpg"/>
          <p:cNvPicPr/>
          <p:nvPr/>
        </p:nvPicPr>
        <p:blipFill>
          <a:blip r:embed="rId1"/>
          <a:stretch/>
        </p:blipFill>
        <p:spPr>
          <a:xfrm>
            <a:off x="3857760" y="1609560"/>
            <a:ext cx="4286160" cy="3638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342900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Божественная петруш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213920"/>
            <a:ext cx="2210040" cy="49294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 петрушки – Грец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ие греки плели из  петрушки венки для победителей Олимпийских иг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321480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пуста от многих болезне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71400"/>
            <a:ext cx="2819520" cy="34369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Родина капусты - Средиземноморь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Рисунок 4" descr="4880_content_lite.jpg"/>
          <p:cNvPicPr/>
          <p:nvPr/>
        </p:nvPicPr>
        <p:blipFill>
          <a:blip r:embed="rId1"/>
          <a:srcRect l="0" t="5879" r="0" b="5879"/>
          <a:stretch/>
        </p:blipFill>
        <p:spPr>
          <a:xfrm rot="420000">
            <a:off x="3447720" y="1211040"/>
            <a:ext cx="4859280" cy="45241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ревний овощ - свек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2" name="Рисунок 6" descr="img020.jpg"/>
          <p:cNvPicPr/>
          <p:nvPr/>
        </p:nvPicPr>
        <p:blipFill>
          <a:blip r:embed="rId1"/>
          <a:srcRect l="8693" t="0" r="8693" b="0"/>
          <a:stretch/>
        </p:blipFill>
        <p:spPr>
          <a:xfrm rot="11180400">
            <a:off x="3486240" y="120024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840" y="1143000"/>
            <a:ext cx="2605320" cy="52149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на- Средиземноморье. В Древнем Риме свекла пользовалась большим почетом. В Россию была завезена в 14-15 век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изо1.jpg"/>
          <p:cNvPicPr/>
          <p:nvPr/>
        </p:nvPicPr>
        <p:blipFill>
          <a:blip r:embed="rId1"/>
          <a:stretch/>
        </p:blipFill>
        <p:spPr>
          <a:xfrm rot="15747000">
            <a:off x="2992320" y="1617480"/>
            <a:ext cx="5155920" cy="3638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371484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дийский принц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999720"/>
            <a:ext cx="2210040" cy="40086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7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амых древних овощей, изображение огуречной плети украшали стены египетских храм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66cc"/>
                </a:solidFill>
                <a:latin typeface="Calibri"/>
              </a:rPr>
              <a:t>Представление о витаминах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3840" y="144792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a51ae4"/>
                </a:solidFill>
                <a:latin typeface="Constantia"/>
              </a:rPr>
              <a:t>Витамины</a:t>
            </a:r>
            <a:r>
              <a:rPr b="0" lang="ru-RU" sz="2800" spc="-1" strike="noStrike">
                <a:solidFill>
                  <a:srgbClr val="a51ae4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это жизненно необходимые вещества, которые в минимальных дозах оказывают на организм мощное биологическое действие через участие деятельности ферментов. Организм витамины не синтезирует, поэтому основным источником витаминов служат продукты пита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0-04-04T14:44:10Z</dcterms:modified>
  <cp:revision>55</cp:revision>
  <dc:subject/>
  <dc:title>PowerPoint Presentation</dc:title>
</cp:coreProperties>
</file>