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6B5-5287-4F22-9054-0617B63F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6B5-7B43-444C-A875-5776FCB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1D2-4F87-43D9-9CCC-A90C3B08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D2E-8797-43A1-AC63-9E5E95F5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05F-829A-444B-B2EA-D9FCD4F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57B-76FE-47D1-83BD-E62FDECA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469-9429-4946-BE23-A9B4789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3D9-EC8A-400A-BAC0-1A6E589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A2B-C94C-4994-AD88-F0CC8645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9F3-EAE2-4865-8D92-D9EFEEB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3CC-5497-42C1-BCAC-FC39720F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127-575C-46AD-9448-A75EDE4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07AA-F409-48BB-8D23-C788747A2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320"/>
            <a:ext cx="777240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andara"/>
              </a:rPr>
              <a:t>Восточные славян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744800"/>
            <a:ext cx="4643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453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а 38 из 21791"/>
          <p:cNvPicPr/>
          <p:nvPr/>
        </p:nvPicPr>
        <p:blipFill>
          <a:blip r:embed="rId1"/>
          <a:stretch/>
        </p:blipFill>
        <p:spPr>
          <a:xfrm>
            <a:off x="536400" y="3041640"/>
            <a:ext cx="232272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Словенин из-под Вологды (10-11 вв.).jpg"/>
          <p:cNvPicPr/>
          <p:nvPr/>
        </p:nvPicPr>
        <p:blipFill>
          <a:blip r:embed="rId2"/>
          <a:stretch/>
        </p:blipFill>
        <p:spPr>
          <a:xfrm>
            <a:off x="3127320" y="3133800"/>
            <a:ext cx="2455920" cy="352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Тверичанин (12-13 вв.).jpg"/>
          <p:cNvPicPr/>
          <p:nvPr/>
        </p:nvPicPr>
        <p:blipFill>
          <a:blip r:embed="rId3"/>
          <a:stretch/>
        </p:blipFill>
        <p:spPr>
          <a:xfrm>
            <a:off x="5645160" y="3060720"/>
            <a:ext cx="291312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4530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029200" cy="29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6 из 12722"/>
          <p:cNvPicPr/>
          <p:nvPr/>
        </p:nvPicPr>
        <p:blipFill>
          <a:blip r:embed="rId2"/>
          <a:stretch/>
        </p:blipFill>
        <p:spPr>
          <a:xfrm>
            <a:off x="142920" y="1311120"/>
            <a:ext cx="428472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87280" y="1197000"/>
            <a:ext cx="43927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ч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о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ечих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8-tub-ru.yandex.net/i?id=322210525-05-72"/>
          <p:cNvPicPr/>
          <p:nvPr/>
        </p:nvPicPr>
        <p:blipFill>
          <a:blip r:embed="rId1"/>
          <a:stretch/>
        </p:blipFill>
        <p:spPr>
          <a:xfrm>
            <a:off x="464328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14 из 156553"/>
          <p:cNvPicPr/>
          <p:nvPr/>
        </p:nvPicPr>
        <p:blipFill>
          <a:blip r:embed="rId2"/>
          <a:stretch/>
        </p:blipFill>
        <p:spPr>
          <a:xfrm>
            <a:off x="5651640" y="2421000"/>
            <a:ext cx="165708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6-tub-ru.yandex.net/i?id=526760259-42-72"/>
          <p:cNvPicPr/>
          <p:nvPr/>
        </p:nvPicPr>
        <p:blipFill>
          <a:blip r:embed="rId3"/>
          <a:stretch/>
        </p:blipFill>
        <p:spPr>
          <a:xfrm>
            <a:off x="4643280" y="3284640"/>
            <a:ext cx="14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7-tub-ru.yandex.net/i?id=310946472-57-72"/>
          <p:cNvPicPr/>
          <p:nvPr/>
        </p:nvPicPr>
        <p:blipFill>
          <a:blip r:embed="rId4"/>
          <a:stretch/>
        </p:blipFill>
        <p:spPr>
          <a:xfrm>
            <a:off x="5867280" y="4221000"/>
            <a:ext cx="1657440" cy="132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3-tub-ru.yandex.net/i?id=569491149-17-72"/>
          <p:cNvPicPr/>
          <p:nvPr/>
        </p:nvPicPr>
        <p:blipFill>
          <a:blip r:embed="rId5"/>
          <a:stretch/>
        </p:blipFill>
        <p:spPr>
          <a:xfrm>
            <a:off x="4572000" y="508464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500120" y="357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ьскохозяйствен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Орудия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857160" y="2357280"/>
            <a:ext cx="759960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85840" y="1214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Соха; 2. Цеп; 3. Рало; 4. Палка; 5. Серп; 6. Ко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429760" cy="4264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группа - «Внешний вид, черты характера наших предков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группа -«Поселок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3 группа - «Жилище восточны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4 группа - «Одежда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35720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ТЕМ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85480"/>
            <a:ext cx="774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Поселок древних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l5"/>
          <p:cNvPicPr/>
          <p:nvPr/>
        </p:nvPicPr>
        <p:blipFill>
          <a:blip r:embed="rId1"/>
          <a:stretch/>
        </p:blipFill>
        <p:spPr>
          <a:xfrm>
            <a:off x="2050920" y="1844640"/>
            <a:ext cx="4826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S Mincho"/>
                <a:ea typeface="MS Mincho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l3[1]"/>
          <p:cNvPicPr/>
          <p:nvPr/>
        </p:nvPicPr>
        <p:blipFill>
          <a:blip r:embed="rId1"/>
          <a:stretch/>
        </p:blipFill>
        <p:spPr>
          <a:xfrm>
            <a:off x="2428920" y="1785960"/>
            <a:ext cx="436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a7a00"/>
                </a:solidFill>
                <a:latin typeface="Trebuchet MS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lapti"/>
          <p:cNvPicPr/>
          <p:nvPr/>
        </p:nvPicPr>
        <p:blipFill>
          <a:blip r:embed="rId1"/>
          <a:stretch/>
        </p:blipFill>
        <p:spPr>
          <a:xfrm>
            <a:off x="3357720" y="5000760"/>
            <a:ext cx="28875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woman-dress"/>
          <p:cNvPicPr/>
          <p:nvPr/>
        </p:nvPicPr>
        <p:blipFill>
          <a:blip r:embed="rId2"/>
          <a:stretch/>
        </p:blipFill>
        <p:spPr>
          <a:xfrm>
            <a:off x="5456160" y="1714680"/>
            <a:ext cx="2544840" cy="2714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man-dress"/>
          <p:cNvPicPr/>
          <p:nvPr/>
        </p:nvPicPr>
        <p:blipFill>
          <a:blip r:embed="rId3"/>
          <a:stretch/>
        </p:blipFill>
        <p:spPr>
          <a:xfrm>
            <a:off x="428760" y="1643040"/>
            <a:ext cx="2868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785880" y="2571840"/>
            <a:ext cx="76438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prezentacii.com/istorii/423-vostochnye-slavyane-v-drev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-vostochnye/Istorija-vostochnykh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/Slavjan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ZHizn-slavjan/ZHizn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10Z</dcterms:created>
  <dc:creator>илья</dc:creator>
  <dc:description/>
  <dc:language>en-US</dc:language>
  <cp:lastModifiedBy>св</cp:lastModifiedBy>
  <dcterms:modified xsi:type="dcterms:W3CDTF">2013-01-27T06:40:59Z</dcterms:modified>
  <cp:revision>83</cp:revision>
  <dc:subject/>
  <dc:title>Восточные славяне.</dc:title>
</cp:coreProperties>
</file>