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8709-82C5-4795-9FF8-D123C8D1C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5067-DBF9-4E17-A48A-9FFF807F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746E-B7C7-47B4-AF0F-E19DB0C6B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D496-DC0C-458F-9B14-018153A70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116D-BAF1-4EF6-9705-B4A9CD27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4818-79B6-4180-8728-94E286BA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1C85-FE52-48ED-9A18-060529B7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6940-DA83-4D99-A275-BA64EC0B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18BB-7EF3-4285-8B8D-D25A22C4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516A-43FB-4AE2-A6A0-0342B3B0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A6CF-C320-4C7C-B847-D3871690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1379-CC0A-4CDB-9F66-248C6E86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2E44-74F1-4033-84D5-A3DF56E8C9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84320"/>
            <a:ext cx="777240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Candara"/>
              </a:rPr>
              <a:t>Восточные славяне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55640" y="4744800"/>
            <a:ext cx="464364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8453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Картинка 38 из 21791"/>
          <p:cNvPicPr/>
          <p:nvPr/>
        </p:nvPicPr>
        <p:blipFill>
          <a:blip r:embed="rId1"/>
          <a:stretch/>
        </p:blipFill>
        <p:spPr>
          <a:xfrm>
            <a:off x="536400" y="3041640"/>
            <a:ext cx="2322720" cy="3822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Словенин из-под Вологды (10-11 вв.).jpg"/>
          <p:cNvPicPr/>
          <p:nvPr/>
        </p:nvPicPr>
        <p:blipFill>
          <a:blip r:embed="rId2"/>
          <a:stretch/>
        </p:blipFill>
        <p:spPr>
          <a:xfrm>
            <a:off x="3127320" y="3133800"/>
            <a:ext cx="2455920" cy="3522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Тверичанин (12-13 вв.).jpg"/>
          <p:cNvPicPr/>
          <p:nvPr/>
        </p:nvPicPr>
        <p:blipFill>
          <a:blip r:embed="rId3"/>
          <a:stretch/>
        </p:blipFill>
        <p:spPr>
          <a:xfrm>
            <a:off x="5645160" y="3060720"/>
            <a:ext cx="2913120" cy="3541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4530"/>
                </a:solidFill>
                <a:latin typeface="Arial"/>
              </a:rPr>
              <a:t>Занятия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3492360" y="3357720"/>
            <a:ext cx="5029200" cy="2993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Картинка 6 из 12722"/>
          <p:cNvPicPr/>
          <p:nvPr/>
        </p:nvPicPr>
        <p:blipFill>
          <a:blip r:embed="rId2"/>
          <a:stretch/>
        </p:blipFill>
        <p:spPr>
          <a:xfrm>
            <a:off x="142920" y="1311120"/>
            <a:ext cx="428472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1187280" y="1197000"/>
            <a:ext cx="439272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шениц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Рож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Ячм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рос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Гречих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im8-tub-ru.yandex.net/i?id=322210525-05-72"/>
          <p:cNvPicPr/>
          <p:nvPr/>
        </p:nvPicPr>
        <p:blipFill>
          <a:blip r:embed="rId1"/>
          <a:stretch/>
        </p:blipFill>
        <p:spPr>
          <a:xfrm>
            <a:off x="4643280" y="1341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Картинка 14 из 156553"/>
          <p:cNvPicPr/>
          <p:nvPr/>
        </p:nvPicPr>
        <p:blipFill>
          <a:blip r:embed="rId2"/>
          <a:stretch/>
        </p:blipFill>
        <p:spPr>
          <a:xfrm>
            <a:off x="5651640" y="2421000"/>
            <a:ext cx="1657080" cy="1241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im6-tub-ru.yandex.net/i?id=526760259-42-72"/>
          <p:cNvPicPr/>
          <p:nvPr/>
        </p:nvPicPr>
        <p:blipFill>
          <a:blip r:embed="rId3"/>
          <a:stretch/>
        </p:blipFill>
        <p:spPr>
          <a:xfrm>
            <a:off x="4643280" y="3284640"/>
            <a:ext cx="1409760" cy="1428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http://im7-tub-ru.yandex.net/i?id=310946472-57-72"/>
          <p:cNvPicPr/>
          <p:nvPr/>
        </p:nvPicPr>
        <p:blipFill>
          <a:blip r:embed="rId4"/>
          <a:stretch/>
        </p:blipFill>
        <p:spPr>
          <a:xfrm>
            <a:off x="5867280" y="4221000"/>
            <a:ext cx="1657440" cy="1325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http://im3-tub-ru.yandex.net/i?id=569491149-17-72"/>
          <p:cNvPicPr/>
          <p:nvPr/>
        </p:nvPicPr>
        <p:blipFill>
          <a:blip r:embed="rId5"/>
          <a:stretch/>
        </p:blipFill>
        <p:spPr>
          <a:xfrm>
            <a:off x="4572000" y="5084640"/>
            <a:ext cx="1428840" cy="1371600"/>
          </a:xfrm>
          <a:prstGeom prst="rect">
            <a:avLst/>
          </a:prstGeom>
          <a:ln w="0">
            <a:noFill/>
          </a:ln>
        </p:spPr>
      </p:pic>
      <p:sp>
        <p:nvSpPr>
          <p:cNvPr id="55" name="TextBox 8"/>
          <p:cNvSpPr/>
          <p:nvPr/>
        </p:nvSpPr>
        <p:spPr>
          <a:xfrm>
            <a:off x="1500120" y="357120"/>
            <a:ext cx="65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льскохозяйственные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Arial"/>
              </a:rPr>
              <a:t>Орудия т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Земледельнические орудия труда"/>
          <p:cNvPicPr/>
          <p:nvPr/>
        </p:nvPicPr>
        <p:blipFill>
          <a:blip r:embed="rId1"/>
          <a:stretch/>
        </p:blipFill>
        <p:spPr>
          <a:xfrm>
            <a:off x="857160" y="2357280"/>
            <a:ext cx="7599600" cy="424512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6"/>
          <p:cNvSpPr/>
          <p:nvPr/>
        </p:nvSpPr>
        <p:spPr>
          <a:xfrm>
            <a:off x="285840" y="12142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. Соха; 2. Цеп; 3. Рало; 4. Палка; 5. Серп; 6. Кос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7. Бор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57120" y="1856880"/>
            <a:ext cx="8429760" cy="4264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 группа - «Внешний вид, черты характера наших предков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2 группа -«Поселок древних славя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3 группа - «Жилище восточных славя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4 группа - «Одежда древних славя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1357200" y="357120"/>
            <a:ext cx="635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 Black"/>
              </a:rPr>
              <a:t>ТЕМЫ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85480"/>
            <a:ext cx="7746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Bookman Old Style"/>
              </a:rPr>
              <a:t>Поселок древних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sl5"/>
          <p:cNvPicPr/>
          <p:nvPr/>
        </p:nvPicPr>
        <p:blipFill>
          <a:blip r:embed="rId1"/>
          <a:stretch/>
        </p:blipFill>
        <p:spPr>
          <a:xfrm>
            <a:off x="2050920" y="1844640"/>
            <a:ext cx="4826160" cy="4622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MS Mincho"/>
                <a:ea typeface="MS Mincho"/>
              </a:rPr>
              <a:t>Жилищ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sl3[1]"/>
          <p:cNvPicPr/>
          <p:nvPr/>
        </p:nvPicPr>
        <p:blipFill>
          <a:blip r:embed="rId1"/>
          <a:stretch/>
        </p:blipFill>
        <p:spPr>
          <a:xfrm>
            <a:off x="2428920" y="1785960"/>
            <a:ext cx="4363920" cy="3929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a7a00"/>
                </a:solidFill>
                <a:latin typeface="Trebuchet MS"/>
              </a:rPr>
              <a:t>Одеж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6" descr="lapti"/>
          <p:cNvPicPr/>
          <p:nvPr/>
        </p:nvPicPr>
        <p:blipFill>
          <a:blip r:embed="rId1"/>
          <a:stretch/>
        </p:blipFill>
        <p:spPr>
          <a:xfrm>
            <a:off x="3357720" y="5000760"/>
            <a:ext cx="2887560" cy="15001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7" descr="woman-dress"/>
          <p:cNvPicPr/>
          <p:nvPr/>
        </p:nvPicPr>
        <p:blipFill>
          <a:blip r:embed="rId2"/>
          <a:stretch/>
        </p:blipFill>
        <p:spPr>
          <a:xfrm>
            <a:off x="5456160" y="1714680"/>
            <a:ext cx="2544840" cy="27144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8" descr="man-dress"/>
          <p:cNvPicPr/>
          <p:nvPr/>
        </p:nvPicPr>
        <p:blipFill>
          <a:blip r:embed="rId3"/>
          <a:stretch/>
        </p:blipFill>
        <p:spPr>
          <a:xfrm>
            <a:off x="428760" y="1643040"/>
            <a:ext cx="286848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98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57168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Используемые источн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785880" y="2571840"/>
            <a:ext cx="764388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http://prezentacii.com/istorii/423-vostochnye-slavyane-v-drevnosti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http://900igr.net/prezentatsii/istorija/Slavjane-vostochnye/Istorija-vostochnykh-slavja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http://900igr.net/prezentatsii/istorija/Slavjane/Slavjane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http://900igr.net/prezentatsii/istorija/ZHizn-slavjan/ZHizn-slavja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1:29:10Z</dcterms:created>
  <dc:creator>илья</dc:creator>
  <dc:description/>
  <dc:language>en-US</dc:language>
  <cp:lastModifiedBy>св</cp:lastModifiedBy>
  <dcterms:modified xsi:type="dcterms:W3CDTF">2013-01-27T06:40:59Z</dcterms:modified>
  <cp:revision>83</cp:revision>
  <dc:subject/>
  <dc:title>Восточные славяне.</dc:title>
</cp:coreProperties>
</file>