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853-88BA-485A-8B04-B101CDBDE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55BD-52F9-43F6-AEB5-CA4508FBE36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4639-82C3-40BB-924B-5A6ED5CC6323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1EE-4E95-4F06-992C-44EB95787B68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FC5-5B61-4A9E-9A4D-AB61D2E8F47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B74-A57F-4B21-BB13-91E7E408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67D-4BDB-44DB-94DD-028F065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8E5-4567-4918-A851-91CF07F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D2B-ECF2-4180-81D9-2799BFF5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998E-90B2-463F-BC0D-C1664E73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5358-B171-44B2-A420-EAE6529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5E2-7429-4A7B-AC77-2AEC0A84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1870-85B6-40F1-B008-F7AA1C3C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3802-191D-41E8-9560-2177C54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4578-5796-4953-94CC-8125CB3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DC77-D0B4-42CF-829F-317CEFE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A13-5493-4310-943F-22B0693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5B8C-C425-4306-80E9-CBEF4A8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A2F1-49FE-4567-924E-632C463F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DD1-05F4-45F5-AAFE-D23235D6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6E56-C83C-42F4-992D-8793B6C5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69C-1C88-4702-A2A3-8988FDEB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C47-0E5A-4679-80BA-7CAA8AA3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034-7C47-49B8-A2C6-AECEE060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0B9-584D-4970-9D57-161B8A39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6C5-E8E3-425F-82CE-C93DB5C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19D-5F87-4437-936E-6BCA8CF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252-EF57-4075-8D1C-B184195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58F-8A77-496A-A9C6-468179B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6B4-03A9-4CE8-BBE9-42A74D868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2675-C154-47E7-9A91-40631077B8FF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rebuchet MS"/>
              </a:rPr>
              <a:t>ПОЧКИ КАК ОРГАН ВЫДЕЛЕНИЯ.</a:t>
            </a:r>
            <a:endParaRPr b="1" lang="en-US" sz="4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5857560"/>
            <a:ext cx="76327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Работа ученицы 8»б» класса Огур Светланы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29" name="Рисунок 4" descr="biol097.bmp"/>
          <p:cNvPicPr/>
          <p:nvPr/>
        </p:nvPicPr>
        <p:blipFill>
          <a:blip r:embed="rId1"/>
          <a:stretch/>
        </p:blipFill>
        <p:spPr>
          <a:xfrm>
            <a:off x="500040" y="20001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Рисунок1.png"/>
          <p:cNvPicPr/>
          <p:nvPr/>
        </p:nvPicPr>
        <p:blipFill>
          <a:blip r:embed="rId2"/>
          <a:stretch/>
        </p:blipFill>
        <p:spPr>
          <a:xfrm>
            <a:off x="3071880" y="3500280"/>
            <a:ext cx="2714400" cy="2240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нефрон.bmp"/>
          <p:cNvPicPr/>
          <p:nvPr/>
        </p:nvPicPr>
        <p:blipFill>
          <a:blip r:embed="rId3"/>
          <a:stretch/>
        </p:blipFill>
        <p:spPr>
          <a:xfrm>
            <a:off x="6143760" y="2071800"/>
            <a:ext cx="264312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Меры профилактики болезней почек:</a:t>
            </a:r>
            <a:endParaRPr b="1" lang="en-US" sz="4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Соблюдать правила личной гигиены;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Не допускать охлаждения организма, особенно нижней части тела;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Соблюдать режим и нормы питания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Не употреблять алкоголь, вещества, содержащиеся в острой и пряной пище (уксус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горчица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перец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избыток поваренной соли)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60" name="Рисунок 3" descr="ги.jpg"/>
          <p:cNvPicPr/>
          <p:nvPr/>
        </p:nvPicPr>
        <p:blipFill>
          <a:blip r:embed="rId1"/>
          <a:stretch/>
        </p:blipFill>
        <p:spPr>
          <a:xfrm>
            <a:off x="4422600" y="5429160"/>
            <a:ext cx="172116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1160773172_10327a.jpg"/>
          <p:cNvPicPr/>
          <p:nvPr/>
        </p:nvPicPr>
        <p:blipFill>
          <a:blip r:embed="rId2"/>
          <a:stretch/>
        </p:blipFill>
        <p:spPr>
          <a:xfrm>
            <a:off x="7215120" y="2762280"/>
            <a:ext cx="1714680" cy="133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85ff"/>
                </a:solidFill>
                <a:latin typeface="Trebuchet MS"/>
              </a:rPr>
              <a:t>СОДЕРЖАНИЕ:   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1599840"/>
            <a:ext cx="885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Органы выделительной системы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Строение почки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Нефрон-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структурно-функциональная единица почки;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Функции почек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очеобразование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чечнокаменная болезнь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еры профилактики болезней почек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3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Мочевыделительная система:</a:t>
            </a:r>
            <a:endParaRPr b="1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35" name="Содержимое 6" descr="249384397.jpg"/>
          <p:cNvPicPr/>
          <p:nvPr/>
        </p:nvPicPr>
        <p:blipFill>
          <a:blip r:embed="rId1"/>
          <a:stretch/>
        </p:blipFill>
        <p:spPr>
          <a:xfrm>
            <a:off x="4156200" y="658800"/>
            <a:ext cx="3949560" cy="5079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30081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1-почка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2-мочеточник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3-мочевой пузырь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4-мочеиспускательный            канал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Органы выделительной системы</a:t>
            </a:r>
            <a:endParaRPr b="1" lang="en-US" sz="4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очевыделительная система состоит из почек, мочеточников, мочевого пузыря и мочеиспускательного канала.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39" name="Рисунок 3" descr="нефрон.bmp"/>
          <p:cNvPicPr/>
          <p:nvPr/>
        </p:nvPicPr>
        <p:blipFill>
          <a:blip r:embed="rId1"/>
          <a:stretch/>
        </p:blipFill>
        <p:spPr>
          <a:xfrm>
            <a:off x="714240" y="3286080"/>
            <a:ext cx="3500640" cy="3286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1160773172_10327a.jpg"/>
          <p:cNvPicPr/>
          <p:nvPr/>
        </p:nvPicPr>
        <p:blipFill>
          <a:blip r:embed="rId2"/>
          <a:stretch/>
        </p:blipFill>
        <p:spPr>
          <a:xfrm>
            <a:off x="4929120" y="3286080"/>
            <a:ext cx="314316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68e8"/>
                </a:solidFill>
                <a:latin typeface="Trebuchet MS"/>
              </a:rPr>
              <a:t>Строение почки.</a:t>
            </a:r>
            <a:r>
              <a:rPr b="1" lang="ru-RU" sz="4400" spc="-1" strike="noStrike">
                <a:solidFill>
                  <a:srgbClr val="003366"/>
                </a:solidFill>
                <a:latin typeface="Trebuchet MS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439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        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Расширенная часть пирамиды прилегает к корковому слою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вершина-    к центру почки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где рас -полагается почечная лоханка. Вогнутая часть почки называется воротами почки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сюда подходит почечная артерия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а выходят парные почечные вены и мочеточник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а также через них проходят и нервы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643280"/>
          </a:xfrm>
          <a:prstGeom prst="rect">
            <a:avLst/>
          </a:prstGeom>
          <a:ln w="0">
            <a:noFill/>
          </a:ln>
        </p:spPr>
      </p:pic>
      <p:sp>
        <p:nvSpPr>
          <p:cNvPr id="145" name="5-конечная звезда 5"/>
          <p:cNvSpPr/>
          <p:nvPr/>
        </p:nvSpPr>
        <p:spPr>
          <a:xfrm flipH="1">
            <a:off x="357120" y="1714680"/>
            <a:ext cx="357120" cy="285480"/>
          </a:xfrm>
          <a:prstGeom prst="pie">
            <a:avLst/>
          </a:prstGeom>
          <a:solidFill>
            <a:srgbClr val="a9bee9"/>
          </a:solidFill>
          <a:ln w="25560">
            <a:solidFill>
              <a:srgbClr val="7b8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rebuchet MS"/>
              </a:rPr>
              <a:t>Нефрон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Нефрон – это структурная и функциональная единица почки. Нефрон состоит из почечного тельца, которое образовано кап сулой с расположенным в ней клубочком капилляров, и канальца, который впадает в собирательную трубочку. В капсулах нефронов происходит фильтрация плазмы крови. Жидкость, профильтрован ная в полость капсул, образует первичную мочу. В канальцах нефронов идет процесс обратного всасывания воды, глюкозы, аминокислот и других веществ. Образуется вторичная моча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9" name="Рисунок 6" descr="нефрон.bmp"/>
          <p:cNvPicPr/>
          <p:nvPr/>
        </p:nvPicPr>
        <p:blipFill>
          <a:blip r:embed="rId1"/>
          <a:stretch/>
        </p:blipFill>
        <p:spPr>
          <a:xfrm>
            <a:off x="4572000" y="1285920"/>
            <a:ext cx="421488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Функции</a:t>
            </a:r>
            <a:r>
              <a:rPr b="1" i="1" lang="ru-RU" sz="4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почек: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734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Выведение из организма излишек воды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солей и ненужных веществ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Выполняют роль биологического фильтра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ддерживают постоянство внутренней среды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Синтезируют биологические вещества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Ренин-фермент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вышающий кровяное давление и гормоны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стимулирующие кроветворение.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Мочеобразование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1285920"/>
            <a:ext cx="44290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МОЧЕОБРАЗОВАНИЕ– процесс образования мочи в выделительных органах беспозвоночных и в почках позвоночных. В последних через стенки капилляров почечных клубочков фильтруется плазма крови, образуя первичную мочу. При прохождении первичной мочи по почечным канальцам большая часть воды и часть растворенных в ней веществ всасываются обратно в кровь, в результате чего образуется конечная вторичная (концентрированная) моча, выводимая из организма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marL="312120" indent="-312120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4" name="Содержимое 16" descr="231245416.jpg"/>
          <p:cNvPicPr/>
          <p:nvPr/>
        </p:nvPicPr>
        <p:blipFill>
          <a:blip r:embed="rId1"/>
          <a:stretch/>
        </p:blipFill>
        <p:spPr>
          <a:xfrm>
            <a:off x="5000760" y="1428840"/>
            <a:ext cx="3686040" cy="49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Почечнокаменная болезнь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42865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ПОЧЕЧНОКАМЕННАЯ БОЛЕЗНЬ (мочекаменная болезнь, нефролитиаз), связана с образованием в мочевых органах, преимущественно в почке, солевых «камней» — уратов, оксалатов, фосфатов. Следствие нарушения обмена веществ, инфекционных и других заболеваний выделительной системы. Камни могут смещаться в мочеточник, вызывая приступы болей (почечная колика), появление в моче крови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7" name="Рисунок 6" descr="11101113_01.gif"/>
          <p:cNvPicPr/>
          <p:nvPr/>
        </p:nvPicPr>
        <p:blipFill>
          <a:blip r:embed="rId1"/>
          <a:stretch/>
        </p:blipFill>
        <p:spPr>
          <a:xfrm>
            <a:off x="4572000" y="1428840"/>
            <a:ext cx="4214880" cy="507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35:48Z</dcterms:created>
  <dc:creator>BUSYNA</dc:creator>
  <dc:description/>
  <dc:language>en-US</dc:language>
  <cp:lastModifiedBy>Zver</cp:lastModifiedBy>
  <dcterms:modified xsi:type="dcterms:W3CDTF">2013-03-31T11:00:36Z</dcterms:modified>
  <cp:revision>28</cp:revision>
  <dc:subject/>
  <dc:title>ПОЧКИ КАК ОРГАН ВЫДЕЛЕНИЯ.</dc:title>
</cp:coreProperties>
</file>