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F03B-9367-46F0-8956-C98F0C49D5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166A-DD26-4239-81D7-6BCBBD44B2F0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B964-7FFF-4F5A-8B91-00E108C6D8B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983F-8D02-40F6-AA08-58F556767D20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7A3D-4C04-42D5-96E0-8B9AB34412A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1E9-A19A-41FA-83CE-1994B32C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FC5-224B-4049-99BB-2A84ED17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393-C6A8-456A-9370-9CFFE21D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DB50-F4FD-4A87-884A-0B45BE1A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63C9-58E0-43F3-AA69-E3DE6A2C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8E18-710D-45F6-A926-EB081761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C35E-7008-449F-A8E8-3CA1673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E623-93CC-4F06-A4B4-BD26E428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7342-27A1-402E-B030-09B439BC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0EE8-D941-4F7B-89CF-13580EF9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4AEC-AE43-4465-9310-EC7FC36E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D5B-7032-466E-8E6F-56957D76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7723-47FE-4023-A17C-3D34A71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73E7-714F-49E5-AB44-757A706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5357-3781-4004-A6F8-254522E2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3B79-89CA-41BB-9091-795A5727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A607-643D-4462-84BD-4A425860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591-4649-44F1-BD5C-C0C34C9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D0F-023F-4D24-83BE-4C3B1F70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D07-B040-4996-863B-0A9AC182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CCC-3590-4833-BB11-31DBACF9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A98-6668-4FD5-9FF2-385D7C5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8F7-33AD-4B86-A230-1DFC1E83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169-C4A7-4CB6-B1DF-6DF02C0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4EB9-3588-48F8-8516-85A3BCCACE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FC22-A6D6-4D20-93AB-D5129B6ECDFE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rebuchet MS"/>
              </a:rPr>
              <a:t>ПОЧКИ КАК ОРГАН ВЫДЕЛЕНИЯ.</a:t>
            </a:r>
            <a:endParaRPr b="1" lang="en-US" sz="4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4360" y="5857560"/>
            <a:ext cx="76327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Работа ученицы 8»б» класса Огур Светланы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29" name="Рисунок 4" descr="biol097.bmp"/>
          <p:cNvPicPr/>
          <p:nvPr/>
        </p:nvPicPr>
        <p:blipFill>
          <a:blip r:embed="rId1"/>
          <a:stretch/>
        </p:blipFill>
        <p:spPr>
          <a:xfrm>
            <a:off x="500040" y="200016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Рисунок1.png"/>
          <p:cNvPicPr/>
          <p:nvPr/>
        </p:nvPicPr>
        <p:blipFill>
          <a:blip r:embed="rId2"/>
          <a:stretch/>
        </p:blipFill>
        <p:spPr>
          <a:xfrm>
            <a:off x="3071880" y="3500280"/>
            <a:ext cx="2714400" cy="22402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нефрон.bmp"/>
          <p:cNvPicPr/>
          <p:nvPr/>
        </p:nvPicPr>
        <p:blipFill>
          <a:blip r:embed="rId3"/>
          <a:stretch/>
        </p:blipFill>
        <p:spPr>
          <a:xfrm>
            <a:off x="6143760" y="2071800"/>
            <a:ext cx="2643120" cy="2342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Меры профилактики болезней почек:</a:t>
            </a:r>
            <a:endParaRPr b="1" lang="en-US" sz="40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Соблюдать правила личной гигиены;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Не допускать охлаждения организма, особенно нижней части тела; 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Соблюдать режим и нормы питания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Не употреблять алкоголь, вещества, содержащиеся в острой и пряной пище (уксус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 горчица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 перец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800" spc="-1" strike="noStrike">
                <a:solidFill>
                  <a:srgbClr val="003366"/>
                </a:solidFill>
                <a:latin typeface="Trebuchet MS"/>
              </a:rPr>
              <a:t> избыток поваренной соли)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60" name="Рисунок 3" descr="ги.jpg"/>
          <p:cNvPicPr/>
          <p:nvPr/>
        </p:nvPicPr>
        <p:blipFill>
          <a:blip r:embed="rId1"/>
          <a:stretch/>
        </p:blipFill>
        <p:spPr>
          <a:xfrm>
            <a:off x="4422600" y="5429160"/>
            <a:ext cx="1721160" cy="12859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1160773172_10327a.jpg"/>
          <p:cNvPicPr/>
          <p:nvPr/>
        </p:nvPicPr>
        <p:blipFill>
          <a:blip r:embed="rId2"/>
          <a:stretch/>
        </p:blipFill>
        <p:spPr>
          <a:xfrm>
            <a:off x="7215120" y="2762280"/>
            <a:ext cx="1714680" cy="133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a85ff"/>
                </a:solidFill>
                <a:latin typeface="Trebuchet MS"/>
              </a:rPr>
              <a:t>СОДЕРЖАНИЕ:   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2920" y="1599840"/>
            <a:ext cx="8858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Органы выделительной системы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Строение почки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Нефрон- 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структурно-функциональная единица почки;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Функции почек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Мочеобразование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Почечнокаменная болезнь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Меры профилактики болезней почек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3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Мочевыделительная система:</a:t>
            </a:r>
            <a:endParaRPr b="1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35" name="Содержимое 6" descr="249384397.jpg"/>
          <p:cNvPicPr/>
          <p:nvPr/>
        </p:nvPicPr>
        <p:blipFill>
          <a:blip r:embed="rId1"/>
          <a:stretch/>
        </p:blipFill>
        <p:spPr>
          <a:xfrm>
            <a:off x="4156200" y="658800"/>
            <a:ext cx="3949560" cy="50799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30081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1-почка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2-мочеточник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3-мочевой пузырь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4-мочеиспускательный            канал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rebuchet MS"/>
              </a:rPr>
              <a:t>Органы выделительной системы</a:t>
            </a:r>
            <a:endParaRPr b="1" lang="en-US" sz="40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      </a:t>
            </a: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Мочевыделительная система состоит из почек, мочеточников, мочевого пузыря и мочеиспускательного канала.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39" name="Рисунок 3" descr="нефрон.bmp"/>
          <p:cNvPicPr/>
          <p:nvPr/>
        </p:nvPicPr>
        <p:blipFill>
          <a:blip r:embed="rId1"/>
          <a:stretch/>
        </p:blipFill>
        <p:spPr>
          <a:xfrm>
            <a:off x="714240" y="3286080"/>
            <a:ext cx="3500640" cy="3286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1160773172_10327a.jpg"/>
          <p:cNvPicPr/>
          <p:nvPr/>
        </p:nvPicPr>
        <p:blipFill>
          <a:blip r:embed="rId2"/>
          <a:stretch/>
        </p:blipFill>
        <p:spPr>
          <a:xfrm>
            <a:off x="4929120" y="3286080"/>
            <a:ext cx="3143160" cy="307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668e8"/>
                </a:solidFill>
                <a:latin typeface="Trebuchet MS"/>
              </a:rPr>
              <a:t>Строение почки.</a:t>
            </a:r>
            <a:r>
              <a:rPr b="1" lang="ru-RU" sz="4400" spc="-1" strike="noStrike">
                <a:solidFill>
                  <a:srgbClr val="003366"/>
                </a:solidFill>
                <a:latin typeface="Trebuchet MS"/>
              </a:rPr>
              <a:t>  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99840"/>
            <a:ext cx="4390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         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Расширенная часть пирамиды прилегает к корковому слою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вершина-    к центру почки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где рас -полагается почечная лоханка. Вогнутая часть почки называется воротами почки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сюда подходит почечная артерия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а выходят парные почечные вены и мочеточник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а также через них проходят и нервы.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4643280"/>
          </a:xfrm>
          <a:prstGeom prst="rect">
            <a:avLst/>
          </a:prstGeom>
          <a:ln w="0">
            <a:noFill/>
          </a:ln>
        </p:spPr>
      </p:pic>
      <p:sp>
        <p:nvSpPr>
          <p:cNvPr id="145" name="5-конечная звезда 5"/>
          <p:cNvSpPr/>
          <p:nvPr/>
        </p:nvSpPr>
        <p:spPr>
          <a:xfrm flipH="1">
            <a:off x="357120" y="1714680"/>
            <a:ext cx="357120" cy="285480"/>
          </a:xfrm>
          <a:prstGeom prst="pie">
            <a:avLst/>
          </a:prstGeom>
          <a:solidFill>
            <a:srgbClr val="a9bee9"/>
          </a:solidFill>
          <a:ln w="25560">
            <a:solidFill>
              <a:srgbClr val="7b8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rebuchet MS"/>
              </a:rPr>
              <a:t>Нефрон</a:t>
            </a:r>
            <a:endParaRPr b="1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Нефрон – это структурная и функциональная единица почки. Нефрон состоит из почечного тельца, которое образовано кап сулой с расположенным в ней клубочком капилляров, и канальца, который впадает в собирательную трубочку. В капсулах нефронов происходит фильтрация плазмы крови. Жидкость, профильтрован ная в полость капсул, образует первичную мочу. В канальцах нефронов идет процесс обратного всасывания воды, глюкозы, аминокислот и других веществ. Образуется вторичная моча.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49" name="Рисунок 6" descr="нефрон.bmp"/>
          <p:cNvPicPr/>
          <p:nvPr/>
        </p:nvPicPr>
        <p:blipFill>
          <a:blip r:embed="rId1"/>
          <a:stretch/>
        </p:blipFill>
        <p:spPr>
          <a:xfrm>
            <a:off x="4572000" y="1285920"/>
            <a:ext cx="421488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Функции</a:t>
            </a:r>
            <a:r>
              <a:rPr b="1" i="1" lang="ru-RU" sz="44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почек: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734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Выведение из организма излишек воды</a:t>
            </a: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 солей и ненужных веществ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Выполняют роль биологического фильтра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Поддерживают постоянство внутренней среды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Синтезируют биологические вещества;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Ренин-фермент</a:t>
            </a: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повышающий кровяное давление и гормоны</a:t>
            </a:r>
            <a:r>
              <a:rPr b="0" lang="en-US" sz="32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0" lang="ru-RU" sz="3200" spc="-1" strike="noStrike">
                <a:solidFill>
                  <a:srgbClr val="003366"/>
                </a:solidFill>
                <a:latin typeface="Trebuchet MS"/>
              </a:rPr>
              <a:t> стимулирующие кроветворение.</a:t>
            </a:r>
            <a:endParaRPr b="0" lang="en-US" sz="32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Мочеобразование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5480" y="1285920"/>
            <a:ext cx="44290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       </a:t>
            </a: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МОЧЕОБРАЗОВАНИЕ– процесс образования мочи в выделительных органах беспозвоночных и в почках позвоночных. В последних через стенки капилляров почечных клубочков фильтруется плазма крови, образуя первичную мочу. При прохождении первичной мочи по почечным канальцам большая часть воды и часть растворенных в ней веществ всасываются обратно в кровь, в результате чего образуется конечная вторичная (концентрированная) моча, выводимая из организма.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marL="312120" indent="-312120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54" name="Содержимое 16" descr="231245416.jpg"/>
          <p:cNvPicPr/>
          <p:nvPr/>
        </p:nvPicPr>
        <p:blipFill>
          <a:blip r:embed="rId1"/>
          <a:stretch/>
        </p:blipFill>
        <p:spPr>
          <a:xfrm>
            <a:off x="5000760" y="1428840"/>
            <a:ext cx="3686040" cy="492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rebuchet MS"/>
              </a:rPr>
              <a:t>Почечнокаменная болезнь</a:t>
            </a:r>
            <a:endParaRPr b="1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3840" y="1356840"/>
            <a:ext cx="42865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          </a:t>
            </a:r>
            <a:r>
              <a:rPr b="0" lang="ru-RU" sz="2000" spc="-1" strike="noStrike">
                <a:solidFill>
                  <a:srgbClr val="003366"/>
                </a:solidFill>
                <a:latin typeface="Trebuchet MS"/>
              </a:rPr>
              <a:t>ПОЧЕЧНОКАМЕННАЯ БОЛЕЗНЬ (мочекаменная болезнь, нефролитиаз), связана с образованием в мочевых органах, преимущественно в почке, солевых «камней» — уратов, оксалатов, фосфатов. Следствие нарушения обмена веществ, инфекционных и других заболеваний выделительной системы. Камни могут смещаться в мочеточник, вызывая приступы болей (почечная колика), появление в моче крови.</a:t>
            </a:r>
            <a:endParaRPr b="0" lang="en-US" sz="20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57" name="Рисунок 6" descr="11101113_01.gif"/>
          <p:cNvPicPr/>
          <p:nvPr/>
        </p:nvPicPr>
        <p:blipFill>
          <a:blip r:embed="rId1"/>
          <a:stretch/>
        </p:blipFill>
        <p:spPr>
          <a:xfrm>
            <a:off x="4572000" y="1428840"/>
            <a:ext cx="4214880" cy="507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7:35:48Z</dcterms:created>
  <dc:creator>BUSYNA</dc:creator>
  <dc:description/>
  <dc:language>en-US</dc:language>
  <cp:lastModifiedBy>Zver</cp:lastModifiedBy>
  <dcterms:modified xsi:type="dcterms:W3CDTF">2013-03-31T11:00:36Z</dcterms:modified>
  <cp:revision>28</cp:revision>
  <dc:subject/>
  <dc:title>ПОЧКИ КАК ОРГАН ВЫДЕЛЕНИЯ.</dc:title>
</cp:coreProperties>
</file>