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207-9878-432C-8A52-2E9F4D75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E39-FE14-4FE5-8EB0-B14B0054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3E8-B474-4D15-8F7E-3F8C75E6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DD7-DF5E-433B-8D57-2E132D96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0352-FB7E-46F1-8510-9D31A0D4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2AD6-98B5-4E0C-9CC4-C3F5C7F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BB7B-1168-4F4F-BD3A-DE23ED74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6D53-2084-4734-8C4A-21C0F9DB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4571-913B-4E19-ACA5-67833E73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39A0-D3BD-46D4-8045-ABB2A29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1F32-314C-4466-856D-B201215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4A9-A4F7-4F6B-B92B-CB505C68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8FC0-CA6D-4F2E-B1E9-1925A50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180F-57BE-4F77-AA8E-795120C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FE80-4473-4E46-955D-49F50385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D12C-5EF4-4FCE-AB73-FF021504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494D-F520-4EC3-81ED-F7F02CD9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764-8007-420F-AA57-3F137819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BF0-FD6C-4638-A035-2BE30A3A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A35-9268-4751-AA69-E86B8EF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7C5-E3E9-4C75-BB73-F97173BA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3CF-202A-4BF5-A356-2B29BB8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6AA-AB51-4245-85B3-18B0FB89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709-7DE4-4E64-BB86-72D08C93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956C-9970-49D1-BE2F-DD56D1727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C851-21DC-4C4A-8C23-E614DF372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tod-kopilka.ru/pics/94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бочий стол в реальном и виртуальном мир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хомирова Т.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анель задач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нопку Пус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катор Клави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5410080"/>
            <a:ext cx="7619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нопка Пуск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 - Главное Меню – Все программы хранящиеся на компьют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200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ндикатор клавиату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ывает раскладку на клавиатуре (русская или английск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200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асы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ывает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200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оверочная работа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т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ча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па адзач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ркадиин лаквитуры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оверочная рабо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ьы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раивак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рцесп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си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тади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ела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ар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кеп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ротм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шкини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нирп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нкик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ульм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кон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одведение итогов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38098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ся с рабочим столом в реальном и виртуальном ми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ся с основными элементами Рабочего сто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200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равила работы за компьютеро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дите за компьютером прямо, не напрягая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жимайте на клавиши клавиатуры мягко и не используйте для этого посторонние предм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трогайте соединительные провода и не прикасайтесь к задним стенкам системного блока и мони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возникновении необычной ситуации с компьютером (мигание, посторонние звуки, запах) незамедлительно сообщите о ней учит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блюдайте безопасное для глаз расстояние до экрана монитора — не менее 50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ремя непрерывной работы за компьютером — не более 3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 время первых практических занятий за компьютером необходимо присутствие опытного пользова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бочий стол в реальном мире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2286000"/>
            <a:ext cx="4143240" cy="3121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09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Рабочий стол в виртуальном мире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2590920" cy="195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3581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«Мой компьютер»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еспечивает доступ ко всей информации, хранящейся на компьютере, а так же к его устройств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3504960" cy="3067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201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«Корзин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назначена для временного хранения удаленных файлов, перед полным удал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«Мой документы»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а для хранения документов, хранящихся на вашем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5334120"/>
            <a:ext cx="1233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06 из 2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762120"/>
            <a:ext cx="746784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09-11-19T16:06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