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B3D-B23D-4B5F-AF22-FA8A17F4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407-90D9-444F-AC78-346C272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D24-2F70-4DCD-87E4-0095EFEB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B12-F0EF-4672-94E2-942307CE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0CC-6CC3-4AEB-881D-52C191A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0B2C-5A52-495B-B95D-9D7D79DC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BA87-AEAC-45FD-8FBB-E583B5FC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842-9D96-4869-86E4-C92604F8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4A9C-6FAA-44DB-A248-13C80DF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C323-8BD1-4139-9699-0C90137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3C4-26F3-4991-AD5D-CBAC8F2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D72-FA4F-4B06-83AB-B9D631D0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C94-3CDB-43D4-88AF-A59C8E8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306A-4BA4-4337-8E07-9004D84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F472-7634-41A9-92FE-ED8BF34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1F15-01E4-4D36-899B-A01AA837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C082-AE85-48BF-BE34-138118E3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F38-63A1-4065-BBC2-01A0874F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201-FF5D-428D-AC6E-4FBCC346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E61-8691-4854-B9F4-D00E7D53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9CD-BC7F-4DB7-A7FC-EE913E26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25F-2953-4CE4-9FB4-477596E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97F-7EDA-48AF-ABD2-ACB44E9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F5F-9B6B-4F4A-870C-5C55F85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DFA-7CA0-4030-A96A-DDA735E5C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6D7-0FB0-4606-96D9-E08FCEAE8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tod-kopilka.ru/pics/94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чий стол в реальном и виртуальном мир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хомирова Т.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анель задач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нопку Пус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катор Клавиа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410080"/>
            <a:ext cx="7619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нопка Пуск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 - Главное Меню – Все программы хранящиеся на компьют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ндикатор клавиату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раскладку на клавиатуре (русская или английск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ас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ывает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верочная работа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т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час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па адза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кадиин лаквитуры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ьы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раивак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рцесп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си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тад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ела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ар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ркеп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ротм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шкини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нирп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нкик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ульм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ко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одведение итогов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38098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ся с рабочим столом в реальном и виртуальном ми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ся с основными элементами Рабочего сто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2002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равила работы за компьютеро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дите за компьютером прямо, не напрягая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жимайте на клавиши клавиатуры мягко и не используйте для этого посторонние пред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трогайте соединительные провода и не прикасайтесь к задним стенкам системного блока и мони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возникновении необычной ситуации с компьютером (мигание, посторонние звуки, запах) незамедлительно сообщите о ней учи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блюдайте безопасное для глаз расстояние до экрана монитора — не менее 5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ремя непрерывной работы за компьютером — не более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 время первых практических занятий за компьютером необходимо присутствие опытного пользова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447920" cy="1752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бочий стол в реальном мире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2286000"/>
            <a:ext cx="4143240" cy="3121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09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абочий стол в виртуальном мире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590920" cy="195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3581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Мой компьютер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еспечивает доступ ко всей информации, хранящейся на компьютере, а так же к его устройств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3429000"/>
            <a:ext cx="3504960" cy="306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201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Корзин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назначена для временного хранения удаленных файлов, перед полным уда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Мой документы»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а для хранения документов, хранящихся на вашем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5334120"/>
            <a:ext cx="123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06 из 2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762120"/>
            <a:ext cx="7467840" cy="55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09-11-19T16:06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