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E05-B401-4BEC-B106-2F5FC88D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2A8-9478-4D9E-9847-E9D7155D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A4A-E36C-4406-8691-74229996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423-3FE5-412C-8A0B-673F925E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C56-1A2D-4E8F-9C41-95174DA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8F08-97F0-4DFF-82E9-47E4A17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B1E-DDE5-4E59-8D01-81E6C11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A2A-8008-4486-BB26-D4CEF95D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E12-8B91-4BCA-9A37-4087F82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D2D-C9A1-4E3E-A084-3F8EAFEB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0A9-7836-4958-8165-D5A83B4A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43B-B98B-4A75-BFF7-0B05B0F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A27D-71ED-4C29-AEAE-E87A476F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762120"/>
            <a:ext cx="7696080" cy="51051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8000"/>
                </a:solidFill>
                <a:latin typeface="Monotype Corsiva"/>
              </a:rPr>
              <a:t>Дар созида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28951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Monotype Corsiva"/>
              </a:rPr>
              <a:t>Эстетическое формирование искусством окружающей сре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114440" y="304920"/>
            <a:ext cx="4800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 представить  себе современную  жизнь  без  больших  и  малых  городов  с многоэтажными  зданиями, широкими  проспектами, площадями и  парками, памятниками  и  фонтанами,  с  потоком  машин,  броскими,  зазывающими  витринами  магазинов, рекламными  щитами,  плакатами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фишами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 весь  этот  шумный,  беспокойный,  пестрый,  многозвучный мир —  дело  рук  множества 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679560" cy="464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40240" y="54864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йфелева башня.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к во все времена, создавая окружающий  его мир,  стремился  сделать его максимально удобным и красив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 этом  он руководствовался  присущими  его  времени  представлениями  о красоте  и  пользе.  Выбор  форм,  материалов,  цвета  во  многом  определялся национальными  традициями,  а  также техническими  возможностями  эпох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3352680" cy="2648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ко  культура современного мира  в  основном интернациональна, в  ней  все  меньше  и  меньше остается места  традиционным  вкусам  и  представлениям. Сегодня на разных концах планеты люди пользуются одинаковыми  предметами  быта,  носят  похожую одежду,  ездят  на  машинах  одних  и тех же  марок, живут  в  типовых  домах и  квартирах,  слушают  одни  и  те  же музыкальные  произведения,  смотрят одни  и  те  же  фильмы.  Но  несмотря на  это  каждый  народ  имеет  свое  неповторимое  искус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2960" y="586728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ой 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Алые паруса»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52680" y="380520"/>
            <a:ext cx="5562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шний  предметный  мир  создается  средствами  индустриальных технологий,  которые  учитывают  не только  меру  (законы)  красоты,  но  и моду,  функциональность.  Эти  технологии  открывают  область  промышленного  искусства  и  являются  результатом  проникновения  эстетики  в технику.  О  художественной  ценности же  каждого  отдельного  предмета  говорить  уже  не  приходится.  Вещи,  созданные  на  основе  индустриальных технологий,  производятся  быстро  и в  большом  количестве,  становятся  дешевле  и  доступнее  для  массового  покуп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352680" cy="255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5720" y="426708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ламент. 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Кремль, Москва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 выдержать  конкуренцию производителей  предметов  и  услуг для  повседневной  жизни,  стало  необходимо привлекать для их разработки  людей  творческих  специальностей: архитекторов,  художников,  дизайнеров,  оформителей,  декораторов,  модельеров,  стилистов,  рекламных  менеджеров  и  др.  Деятельность  этих специалистов  делает  продукт  промышленного  производства  не  только  целесообразным  и  конструктивно   осмысленным,  но  и  художественно-значимым,  формирующим  эстетическую  среду  жизни  каждого 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 в  справочной  литературе  понятия:  промышленное  искусство, техническая  эстетика,  дизайн.  Выпишите  в  тетрадь  те  слова  и  выражения,  которые  отражают  их  смыс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1T07:01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