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9790-EF41-49CD-AD5F-E6DAB22D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5BC-2DEC-4D19-8838-C7F6E89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4D0-1998-4FA5-9318-F6D11EAB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E7C-9378-42E6-8EEB-C7A5299F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077-628D-4166-9BBC-9128B194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396-9326-4B79-8362-E5271A3F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EE0-078E-47AE-8D73-5478F4A9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B75-33D8-4AE4-8EF8-274AFDDA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C7F-7C54-4733-B3BF-6B342256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9CD-A9A6-46CF-9160-B2793C3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DAA-E465-4E7E-84D6-A5E33BB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CE9-3490-40A7-AB97-0338C78B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F809-516B-4215-B3F7-DE18BCE06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762120"/>
            <a:ext cx="7696080" cy="51051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Monotype Corsiva"/>
              </a:rPr>
              <a:t>Дар созида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Monotype Corsiva"/>
              </a:rPr>
              <a:t>Эстетическое формирование искусством окружающей ср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114440" y="304920"/>
            <a:ext cx="4800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 представить  себе современную  жизнь  без  больших  и  малых  городов  с многоэтажными  зданиями, широкими  проспектами, площадями и  парками, памятниками  и  фонтанами,  с  потоком  машин,  броскими,  зазывающими  витринами  магазинов, рекламными  щитами,  плакатами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фишами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 весь  этот  шумный,  беспокойный,  пестрый,  многозвучный мир —  дело  рук  множества 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679560" cy="464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40240" y="548640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йфелева башня.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 во все времена, создавая окружающий  его мир,  стремился  сделать его максимально удобным и краси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 этом  он руководствовался  присущими  его  времени  представлениями  о красоте  и  пользе.  Выбор  форм,  материалов,  цвета  во  многом  определялся национальными  традициями,  а  также техническими  возможностями  эпох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3352680" cy="2648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ко  культура современного мира  в  основном интернациональна, в  ней  все  меньше  и  меньше остается места  традиционным  вкусам  и  представлениям. Сегодня на разных концах планеты люди пользуются одинаковыми  предметами  быта,  носят  похожую одежду,  ездят  на  машинах  одних  и тех же  марок, живут  в  типовых  домах и  квартирах,  слушают  одни  и  те  же музыкальные  произведения,  смотрят одни  и  те  же  фильмы.  Но  несмотря на  это  каждый  народ  имеет  свое  неповторимое  искус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2960" y="586728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ой 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Алые паруса»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52680" y="380520"/>
            <a:ext cx="5562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шний  предметный  мир  создается  средствами  индустриальных технологий,  которые  учитывают  не только  меру  (законы)  красоты,  но  и моду,  функциональность.  Эти  технологии  открывают  область  промышленного  искусства  и  являются  результатом  проникновения  эстетики  в технику.  О  художественной  ценности же  каждого  отдельного  предмета  говорить  уже  не  приходится.  Вещи,  созданные  на  основе  индустриальных технологий,  производятся  быстро  и в  большом  количестве,  становятся  дешевле  и  доступнее  для  массового  покуп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352680" cy="255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5720" y="42670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ламент. 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Кремль, Москва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 выдержать  конкуренцию производителей  предметов  и  услуг для  повседневной  жизни,  стало  необходимо привлекать для их разработки  людей  творческих  специальностей: архитекторов,  художников,  дизайнеров,  оформителей,  декораторов,  модельеров,  стилистов,  рекламных  менеджеров  и  др.  Деятельность  этих специалистов  делает  продукт  промышленного  производства  не  только  целесообразным  и  конструктивно   осмысленным,  но  и  художественно-значимым,  формирующим  эстетическую  среду  жизни  каждого 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 в  справочной  литературе  понятия:  промышленное  искусство, техническая  эстетика,  дизайн.  Выпишите  в  тетрадь  те  слова  и  выражения,  которые  отражают  их 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1T07:01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