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331-F85D-4878-AE1D-D4C4BBCA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ECB-301D-42E8-BFFB-B3538D74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1E6-94AB-48DC-9EB7-FAAB037D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563-2426-469F-99BF-86DF19F0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6342-0D3F-4F50-8BE3-202B188B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572B-0875-4C50-A741-72A5901B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8129-B4BD-459A-A11B-103CCDA0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A098-23BF-4838-9E72-4869CC3C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34AE-85FC-45D4-B094-AD94803E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564E-E31C-420A-A03A-027191B2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81E4-89C7-4AE9-AF33-C17AD56C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2F0-9E78-4A17-93EE-2C5A4973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1E1-0679-4CFB-A0B4-65D6FDD3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3AB4-9E7C-42F3-A69F-17AE5A31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C1FD-0DD6-4998-A2CB-64BC9749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84B6-AF89-4DA1-A242-B484FDD6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B0CC-E19D-4BE1-B477-EA0FA962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BC51-AEF0-4B85-8905-0FC5DE8B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59C7-7DF8-4211-AC27-4049C38C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B8A6-8435-488A-B538-D69F2E7E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F51C-C3B3-42F6-A99A-601D6115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3D802-E977-4215-B55E-72EA5776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651-F6EF-44CE-A6DC-09A25DD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61B25-6752-4436-8D56-856C1C58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0D4E-FC40-4AE0-8BFF-B0BF69C5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C16E3-43ED-4F41-AABE-41482EB2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3E97-5AD2-4AF5-B0C5-AE700DA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92845-AEBA-4E5E-A4B1-87F5E4E3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F246-7822-4561-95FA-7342A10C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F259-AB43-4E08-8F0A-AF82A5F2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77B9-02F4-45D4-B659-5898568F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6B18-EE96-405C-B129-AD83B90F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03CB-C7F6-4AC9-B40C-269D8D99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208-D193-4FC9-9A8D-EB6D920A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F6FF7-E8AB-43D3-A044-4F8C486E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3B6C-71FE-4727-9BD2-A3C07EDE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2A8D-81C4-4420-A6C7-4FA866B7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C7E3F-BCA5-4FE5-A1F9-A49D243E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C7789-503C-4D6A-A9CD-8DAE92BE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A7119-443B-43BC-8670-FC745E50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FDA2C-AC48-46E0-8877-CFFF22F4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1147F-2DF4-408E-9238-FE561921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DB8A1-7126-4821-B015-B208B6CF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47C60-8AE6-4A88-84F3-0FCE1CF1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524-1761-47C7-88A2-1A01E78F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8CFCA-CBBD-4E97-9EF9-6D91DDE3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D0445-31C0-4F9F-8D44-B7B78438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5D3EF-726F-4DC7-BD7B-8AEA1E00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337E-E4D6-4443-BBE3-F87E5FC0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26D9C-ABCD-448A-AB84-D06644FB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69F54-5423-4F29-9C4D-EEEC8E05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DDC9D-75E4-43A7-9976-EFEC0D27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45A1A-FAD7-4CA6-A98E-C3E1F44E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7D18B-9A8D-4A2B-AE27-4D124F3B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B239E-354C-433A-8862-18CA3796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3AE-940F-43C8-9830-828A9BBE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1AC31-7917-41C5-907F-3647FBA1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6808E-E3BF-4E10-851C-66B764B6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02D67-2DEA-4F22-89F8-83D2739D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CF1E5-0778-4CFB-8AD2-9BE353B7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8D82E-E831-4DD5-BE38-F2AAE367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327DC-1FCA-47DE-9146-21CE5047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12414-6333-4B19-9446-60B958A3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F5D82-768D-4EB2-ABA8-E4EB67CF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F02B1-5333-4B3C-AA99-908ABEB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C3389-2D60-41A6-B78D-D3939BB1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2A2-8895-4A27-9931-DF8CE7B7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78686-A001-4EA8-B308-D52ACAF2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C92B3-D817-4869-95CF-0F5860B3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7723B-406B-4CF1-A311-7EA078C2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A237E-5326-45D9-B0D5-7617B81E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6757D-175B-45DE-9C21-C17067F2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41902-9E78-4729-9511-538E5D46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D9D5F-00CB-4368-A59A-BAF9B7AB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86002-C38A-452B-AC5E-938AF5FC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B8175-FFE4-4876-A369-559E9ECE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B85A6-8156-47FD-A0DE-FB46209D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30F-FC49-4303-9C6D-383EFC41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AFC22-CE57-40DB-A568-06344D18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E824A-B761-4192-9CD2-EC89F7F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7F5DA-AD49-494A-86EA-C4B9C470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BC97-9E34-47D4-952A-55BDC511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7AEC2-DF86-4AA5-B0D2-A668AA0A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DB6-4B6D-40AE-AD1D-1091076A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9936-C8A2-418B-A8D3-5A5EE50C6A6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DA4F-5478-4757-BD6E-3E5D4B4E311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9238-F24D-405A-8E90-4E1C4DA2B12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04C5-3299-45FD-94F3-1F56030AB63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032B-C745-4BA3-838D-76209792F9B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F0F4-C553-4CAB-89E9-5A1A3005D6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7686-0A92-45E8-AB77-77C480EF615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1360" y="2428920"/>
            <a:ext cx="79261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572314"/>
                </a:solidFill>
                <a:latin typeface="Arial Black"/>
              </a:rPr>
              <a:t>Дизайн </a:t>
            </a:r>
            <a:br>
              <a:rPr sz="6500"/>
            </a:br>
            <a:r>
              <a:rPr b="0" lang="en-US" sz="6500" spc="-1" strike="noStrike">
                <a:solidFill>
                  <a:srgbClr val="572314"/>
                </a:solidFill>
                <a:latin typeface="Arial Black"/>
              </a:rPr>
              <a:t>web-</a:t>
            </a:r>
            <a:r>
              <a:rPr b="0" lang="ru-RU" sz="6500" spc="-1" strike="noStrike">
                <a:solidFill>
                  <a:srgbClr val="572314"/>
                </a:solidFill>
                <a:latin typeface="Arial Black"/>
              </a:rPr>
              <a:t>проекта</a:t>
            </a:r>
            <a:endParaRPr b="0" lang="en-US" sz="65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3"/>
          <p:cNvSpPr/>
          <p:nvPr/>
        </p:nvSpPr>
        <p:spPr>
          <a:xfrm>
            <a:off x="1285920" y="50004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иментальные исследования показывают, что при рассмотрении различных образцов одиночных цветов различной яркости на белом или нейтральном сером фоне, люди, обычно, отдают предпочтение синим тонам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других нравится зеленовато-желтый ц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о от цвета общее предпочтение отдаётся светлым фонам. Людей привлекают резко контрастные глубокие цвета, и цвета, отличающиеся по насыщенности и яркост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357200" y="2928960"/>
          <a:ext cx="7334280" cy="546120"/>
        </p:xfrm>
        <a:graphic>
          <a:graphicData uri="http://schemas.openxmlformats.org/drawingml/2006/table">
            <a:tbl>
              <a:tblPr/>
              <a:tblGrid>
                <a:gridCol w="3300480"/>
                <a:gridCol w="733320"/>
                <a:gridCol w="3300480"/>
              </a:tblGrid>
              <a:tr h="27288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и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елё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</a:tr>
              <a:tr h="27324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етло зелё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1285920" y="3929040"/>
          <a:ext cx="7572240" cy="2220840"/>
        </p:xfrm>
        <a:graphic>
          <a:graphicData uri="http://schemas.openxmlformats.org/drawingml/2006/table">
            <a:tbl>
              <a:tblPr/>
              <a:tblGrid>
                <a:gridCol w="785880"/>
                <a:gridCol w="1257120"/>
                <a:gridCol w="1255680"/>
                <a:gridCol w="4273560"/>
              </a:tblGrid>
              <a:tr h="2220840">
                <a:tc>
                  <a:txBody>
                    <a:bodyPr lIns="25920" rIns="25920" tIns="6480" bIns="64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128520" algn="just">
                        <a:lnSpc>
                          <a:spcPct val="115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 многом восприятие цвета может зависеть от настроения человека. Например, один и тот же человек может выбрать в разное время года или суток различный букет роз, отличающихся по общей окраске или оттенк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Рисунок 6" descr="восприятие цвета"/>
          <p:cNvPicPr/>
          <p:nvPr/>
        </p:nvPicPr>
        <p:blipFill>
          <a:blip r:embed="rId1"/>
          <a:stretch/>
        </p:blipFill>
        <p:spPr>
          <a:xfrm>
            <a:off x="1357200" y="464328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7" descr="восприятие цвета"/>
          <p:cNvPicPr/>
          <p:nvPr/>
        </p:nvPicPr>
        <p:blipFill>
          <a:blip r:embed="rId2"/>
          <a:stretch/>
        </p:blipFill>
        <p:spPr>
          <a:xfrm>
            <a:off x="2428920" y="464328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8" descr="восприятие цвета"/>
          <p:cNvPicPr/>
          <p:nvPr/>
        </p:nvPicPr>
        <p:blipFill>
          <a:blip r:embed="rId3"/>
          <a:stretch/>
        </p:blipFill>
        <p:spPr>
          <a:xfrm>
            <a:off x="3429000" y="4643280"/>
            <a:ext cx="66672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71720" y="857160"/>
            <a:ext cx="8072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центрация активного цвета в правом верхнем углу страницы сайта активизирует композицию, все увеличивается в размере. Концентрация в левом нижнем углу страницы сайта создаёт иллюзию пассивности и зрительное сжатие, движение наз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ую различимость имеет сочетание черного цвета на жёлтом фоне. По мере ухудшения контрастности располагаются следующий сочетания: желтый на черном, белый на синем, чёрный на оранжевом, оранжевый на чёрном, чёрный на белом, белый на красном, красный на жёлтом, зелёный на белом, оранжевый на белом, красный на зелён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после рассматривания каких-либо цветных поверхностей взгляд падает на белую поверхность, она кажется не белой, а окрашенной и воспринимается в "дополнительном цвете" к рассматривавшейся вначале цветной поверхности. Это явление носит название "послеобраз" и связано оно с инерцией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4"/>
          <p:cNvSpPr/>
          <p:nvPr/>
        </p:nvSpPr>
        <p:spPr>
          <a:xfrm>
            <a:off x="1285920" y="500040"/>
            <a:ext cx="7643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обр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статочное явление, возникающее после рассмотрения какого–либо объекта при строго фиксированном взгля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яркие объекты (Солнце, пламя огня, вспышка света и т.п.) вызывают достаточно стойкие послеобраз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образ хорошо заметен на однородном фоне при устойчивой зрительной фиксации неподвижной точки. После каждого скачка глаз послеобраз пропадает, а во время зрительной фиксации вновь появляется, уже ослабленный. Цвет послеобраза - дополнительный к цвету о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000080" y="57168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новение в сознании человека светового или зрительного образа происходит с некоторым запаздыванием относительно момента воздействия света на сетчатую оболочку глаза. Это время запаздывания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ем ощу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колеблется в пределах от 0,1 до 0,25 сек. в зависимости от яркости объекта. Эта особенность работы человеческого глаза лежит, например, в основе непрерывного, с нашей точки зрения, восприятия дискретных быстрочередующихся образов: кино и телеви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следовательной быстрочередующейся смене кадров последовательный образ, возникающий в мозгу зрителя, не успевает замечать затемнение экрана, возникающее при смене соседних кадров на кинолен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ческий глаз также не способен уловить "смену кадров" ("дрожание экрана", "мелькание экрана" и т.д.) монитора компьютера при частоте свыше 100 Г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больше яркость предмета, тем меньше время ощущения. Зрительное ощущение исчезает также не сразу после окончания действ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ющееся после окончания светового воздействия зрительное ощущение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овательным обра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1212480" y="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цветов послеоб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500120" y="357120"/>
          <a:ext cx="7286760" cy="6334200"/>
        </p:xfrm>
        <a:graphic>
          <a:graphicData uri="http://schemas.openxmlformats.org/drawingml/2006/table">
            <a:tbl>
              <a:tblPr/>
              <a:tblGrid>
                <a:gridCol w="3357720"/>
                <a:gridCol w="3929040"/>
              </a:tblGrid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послеобр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dec9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невато-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о-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ьтрамарин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сильково-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-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еновато-голуб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не-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рпурно-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рпурно-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овато-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еновато-жё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невато-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ьтрамарин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о-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сильково-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еновато-голуб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о-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не-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рпурно-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лтовато-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рпурно-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600"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еновато-жё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marL="19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928800" y="0"/>
            <a:ext cx="8215200" cy="68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сли на глаз воздействует периодическая смена света и темноты, то зрительное восприятие такого раздражения зависит от частоты смены света и темноты. При достаточно большой частоте глаз будет воспринимать свет постоянной яркости. Число прерываний света в секунду, при котором достигается ощущение неизменной яркости, называется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ритической частотой прерыван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менно эти особенности (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нерция зрен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) устройства и работы человеческого глаза накладывают определённые требования к разработке фирменного стиля дизайна сай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Чем меньше цветов используется при оформлении дизайна сайта, тем легче добиться определённого воздействия на посетителя сай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ем меньше контрастность и плавней переходы в цветовом оформлении сайта, тем с большей вероятностью можно предугадать цветовое воздействие на посетителя сай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профессиональном веб-дизайне более предпочтительны плавные градиентные рисунки и фоны по сравнению с мозаичными фонами и контрастными рисункам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 разных народов цветовые ассоциации различны: на Западе чёрный цвет ассоциируется со смертью и мрачными мыслями, в Японии белый цвет - цвет смерти. Во многих странах, например, белый цвет - традиционно свадебный, а в некоторых - траурный. В странах с засушливым климатом зеленый цвет считают сильным и успешны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о многом восприятие цвета зависит также и от вероисповедания посетителя сайта и от его национальности (страны проживания). Желтый цвет, более чем где-либо, почитают в Таиланде - возможно, причины этого кроются в религи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3"/>
          <p:cNvSpPr/>
          <p:nvPr/>
        </p:nvSpPr>
        <p:spPr>
          <a:xfrm>
            <a:off x="1214280" y="428760"/>
            <a:ext cx="771552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важно учитывать при разработке фирменного стиля сай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посетители носят очки. Восприятие сайта, шрифт которого имеет размер менее 10, затруднено. Особенно на мониторах старых моделей. Ещё большая ошибка при разработке сайта - запрет на возможность изменять размер шрифта в браузере посетителя при просмотре сайт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норирование такого, казалось бы, незначительного фактора, как выбор шрифта для сайта, приводит к неизбежному снижению эффективности сай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тители ценят своё время и не любят длительной загрузки страниц сайт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резмерная анимация раздражает посетителе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се посетители хорошо владеют компьютером и умело пользуются Интернетом. Запутанная система навигации и большая глубина сайта приводят к неизбежному снижению эффективности сайт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ачественно подготовленный контент сайта, в частности недостаточно подробное изложение контента неизбежно снижает эффективность сайт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рменный стиль сайта разрабатывается после того, как подготовлен контент сайта, но не наоборот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"/>
          <p:cNvSpPr/>
          <p:nvPr/>
        </p:nvSpPr>
        <p:spPr>
          <a:xfrm>
            <a:off x="1214280" y="214200"/>
            <a:ext cx="77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редварительной компоновке графики сайта необходимо учитывать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ый размер рисунков и фотографий - от 75х75 пикселей до 250х250 пикс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мально размещение от 4 до 12 фотографий на одной веб-стра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понятнее объект, представленный на фотографии, чем меньше будет необходимости в том, чтобы его разглядеть в деталях, тем больше фотографий можно разместить на странице. И наоборот. Для новых объектов, для объектов, сложных по внешнему виду и наличию мелких деталей, необходимы более крупные фотографии. Тем меньше, в этом случае, их должно быть размещено на странице с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ица сайта должна быть не длиннее 2-3 размеров экрана с разрешением 1024х768 пикселей (17" ЭЛТ или 15" LCD), что соответствует приблизительно 1200-1600 пикс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1214280" y="571680"/>
            <a:ext cx="77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е время загрузки страниц сайта не должно превышать 30 секунд при скорости соединения 28.8 Кбит/сек. Это означает, что размер всех размещённых на странице сайта графических материалов не должен превышать 40-50 К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70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имо графики сайта любая страница сайта включает в себя программный код, который также влияет на время загру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ей иллюстрацией к сайту, помимо размещения рисунков с предпросмотром (уменьшенная версия рисунка размещается на странице сайта, а её увеличенную версию можно посмотреть в отдельном окне, кликнув на уменьшенное изображение мышкой), будет включение в состав сайта небольших анимационных видеороликов, общим размером не более 200-300 Кб. На время загрузки страницы сайта это практически не влия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285920" y="642960"/>
            <a:ext cx="7358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компоненты фирменного стиля сай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ент сайта, т.е. материалы сайта (текст сайта, таблицы, графика сай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отип фи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сай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ормление верхней части страниц сай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оформления навигации сай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н страниц сай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2640" y="142920"/>
            <a:ext cx="7791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Восприятие графики посетителями сай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14480" y="857160"/>
            <a:ext cx="52196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- верхняя часть страницы. Используется для размещения логотипа, эмблемы, названия фирмы, страницы и другой наиболее важной информаци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2,4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- область размещения гиперссылок или панели навигации сайт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- область размещения текст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- нижняя часть страницы. Используется для размещения контактной информации или иных данных, менее важных, по сравнению с размещенными в области 1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Рисунок 17" descr="Восприятие графики посетителями сайта"/>
          <p:cNvPicPr/>
          <p:nvPr/>
        </p:nvPicPr>
        <p:blipFill>
          <a:blip r:embed="rId1"/>
          <a:stretch/>
        </p:blipFill>
        <p:spPr>
          <a:xfrm>
            <a:off x="1071720" y="785880"/>
            <a:ext cx="2598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"/>
          <p:cNvSpPr/>
          <p:nvPr/>
        </p:nvSpPr>
        <p:spPr>
          <a:xfrm>
            <a:off x="1143000" y="285840"/>
            <a:ext cx="77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фирменного ст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ус и чувство цвета у посетителей сайта самые разные. Разные также у посетителей сайта технические характеристики компьютеров, мониторов и скорости соединения с Интер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 тот же цвет может вызвать самые различные ассоциации, если не учитывать тематику сайта и его графический контент (фотографии и рисунк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рисунков (в каком контуре или в какой рамке они заключены) непосредственно влияет на восприятие фирменного стиля сай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иментальным путём при исследовании формы символов выявлено, что наиболее быстро и точно распознаются символы, контур которых имеет резкие перепады. Треугольник и прямоугольник распознать значительно легче, чем многоугольник или овальные фигуры. По точности их распознавания простейшие фигуры располагаются в следующем порядке (в порядке возрастания): треугольник, ромб, прямоугольник, круг, квадр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, которые должны быть запомнены посетителем сайта, желательно выполнять в виде самых простых геометрических фигур. Предпочтительны прямоугольник или квадр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928800" y="142920"/>
            <a:ext cx="82152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фирменного сти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многих случаях посетители сайта реагируют на цвет одинаково. Такие цвета: красный, желтый, зеленый и синий цвета. Красный цвет - "сигнальный", "предупреждающий" цвет. Для большинства посетителей сайтов, дизайн которых будет выполнен в красном цвете, ассоциацией будет опасность, предупреждение, чувство тревоги. Даже при закрытых глазах рядом с красными предметами и поверхностями возникает чувство волнения и разд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авило, синий цвет обозначает мышление, жёлтый - интуицию, красный - волнение, зелёный - восприятие и спокой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бы ни была тематика сайта, не следует забывать, что применение ярких и сочных цветов заставляет посетителей отвлекать своё внимание от объектов, представленных на сайте. Посетитель вынужден рассматривать оформление сайта, а не содержание, которые предлагаются на сайте. Эффективность сайта уменьш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й рисунок, перекрывающий другой рисунок кажется посетителю сайта более близк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и одинаковых по внешнему виду (форме, цвету, размеру и т.д.) рисунков внимание посетителя сайта будет сконцентрировано на том рисунке, который отличается какими-то каче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1"/>
          <p:cNvSpPr/>
          <p:nvPr/>
        </p:nvSpPr>
        <p:spPr>
          <a:xfrm>
            <a:off x="1000080" y="142920"/>
            <a:ext cx="8001000" cy="63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едостатки flash-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сем посетителям сайтов нравится анимация. Многих посетителей анимация раздраж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исковые системы (как отечественные, так и зарубежные), как правило, вообще не индексирую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Текст, находящийся внутри flash, в этих случаях не будет проиндексирован и внесён в базу данных поисковой системы. Таким образом, основная задача, которая ставится перед сайтом, применение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 решается, поскольку рейтинг сайта заведомо не может быть высок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ая загрузка страниц сайта, разработанных на основ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технологии. Посетители могут покинуть сайт, не дожидаясь его загрузки, если они просматривают страницы сайта, основанны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технологиях с использованием моде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озможно увеличить размер шрифта. Часто шрифт бывает мелким. Посетители со слабым зрением могут испытывать серьёзные неудобства при просмотре страниц сайта, основанных на примен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технологии. Кнопкой браузера увеличить или уменьшить размер шрифта нельзя. Посетителям сайта приходится читать текст со шрифтом такого размера размера, каким его задал веб-дизайне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ущийся текст читать труднее, чем неподвиж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опка браузера "Поиск"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траницах не работ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несения любых, даже мелких, изменений требуется изменение все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дуля (ролик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единить в единый сайт страницы, основанны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достаточно сложно. В ряде случаев невозмож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1214280" y="0"/>
            <a:ext cx="77868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едостатки flash-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озможно "открутить"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олик назад. Кнопка обозревателя "Назад" не работает. При перемещении внут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олика, стандартные методы "возврата" уводят со страницы, а не на ожидаемое предыдущее состоя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озможно отключить картинки (графические элемент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тдельный фрагмент нельзя поставить заклад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овлять flash-сайт очень сложно. Для него нельзя разработать специальный программный модуль для изменения текстового наполнения. Для изменения информации необходим веб-дизайнер.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 гиперссылок, основанных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изменны. В связи с этим нельзя по изменению цвета гиперссылок быстро определить, где вы побывали, а где ещё не были. Система навигации таких сайтов в значительной степени уступает, например, применению текстовых роллов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озможно скопировать текст, присутствующий на flash-странице сайта, если веб-дизайнером это не было специально предусмотре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лю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труднительно программными средствами фирмы Microsoft, входящими в состав Windows, используя настройки брауз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ые продукты, на которых разрабатывают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йты, полностью не совмести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 всеми браузер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000080" y="357120"/>
            <a:ext cx="7929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 двух совершенно одинаковых рисунков больше запоминается тот рисунок, который имеет большие геометрические разм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 двух совершенно одинаковых рисунков больше запоминается тот рисунок, разрядность цветов которого вы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ерно-белая веб-графика запоминается меньше, чем полноцветная веб-г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 двух совершенно одинаковых рисунков больше запоминается более контрастный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 двух совершенно одинаковых рисунков больше запоминается более яркий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митивная графика, иллюстрирующая процессы, схемы и т.д., понимается и запоминается быстрее и проще, чем сложная графика, иллюстрирующая те же самые процессы и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"/>
          <p:cNvSpPr/>
          <p:nvPr/>
        </p:nvSpPr>
        <p:spPr>
          <a:xfrm>
            <a:off x="1285920" y="428760"/>
            <a:ext cx="7429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ольше запоминаются веб-страницы, на которых число графических элементов, иллюстрирующих их смысловую часть, незнач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ольше запоминается графика, смысловая часть которой совпадает со смысловым содержанием веб-страницы, или ее дополня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никальная и авторская графика запоминается быстрее и на более долгий срок, чем графика, позаимствованная из чужи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дин и тот же рисунок запоминается тем больше, чем чаще он встречается на са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рафика с простыми геометрическими формами (квадрат, прямоугольник и т.д.) воспринимается легче, и запоминается проще, чем графика со сложными геометрическими фор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357280" y="213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ВЛИЯНИЕ РАЗМЕРА ГРАФИКИ НА ВОСПРИЯТИЕ САЙТА ПОСЕТИТЕЛЯМИ</a:t>
            </a:r>
            <a:br>
              <a:rPr sz="36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28920" y="1428840"/>
            <a:ext cx="6400800" cy="521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82520" indent="-182520">
              <a:lnSpc>
                <a:spcPts val="2299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На сайте может быть мало графики, но если их геометрические размеры большие, то такой сайт воспринимается посетителями как графический сай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82520" indent="-182520">
              <a:lnSpc>
                <a:spcPts val="2299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Основное внимание посетителей сайта привлекает верхняя часть веб-страницы. Если в верхнюю часть всех веб-страниц разместить одну и ту же картинку, имеющую большие геометрические размеры, то сайт будет восприниматься как графический, даже если никакой другой графики на нем н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18252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5640" y="-360"/>
            <a:ext cx="66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ОСОБЕННОСТИ ВОСПРИЯТИЯ ЦВЕТА ПОСЕТИТЕЛЯМИ САЙТА</a:t>
            </a:r>
            <a:br>
              <a:rPr sz="36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356920" y="1428840"/>
            <a:ext cx="6572520" cy="56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marL="173160" indent="-156600">
              <a:lnSpc>
                <a:spcPts val="2299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Corbel"/>
              </a:rPr>
              <a:t>Цвет - это ощущение</a:t>
            </a: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, т.е. результат физиологического воздействия излучения, попадающего на сетчатку глаза. Несмотря на то, что отношение к цвету во многих случаях носит чисто субъективный характер, большинство посетителей сайта связывает цвет с определёнными понятиями и образами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173160" indent="-156600">
              <a:lnSpc>
                <a:spcPts val="2299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Проанализировать процесс цветовосприятия намного сложнее, чем, например, эмоциональное или психологическое состояние человек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173160" indent="-156600">
              <a:lnSpc>
                <a:spcPts val="2299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Границы, которые могут быть предписаны определённым цветам и степени их воздействия на окружающих, довольно расплывчаты. Тем не менее, существуют определённые закономерности цветовосприятия дизайна сайта посетителями, основанные на научных и многочисленных экспериментальных исследованиях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173160" indent="-156600">
              <a:lnSpc>
                <a:spcPts val="2299"/>
              </a:lnSpc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Сайт может показаться посетителям скучным и неинтересным, если основная палитра сайта не соответствует назначению сайта и перечню предлагаемых на сайте товаров и услуг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173160" indent="0">
              <a:lnSpc>
                <a:spcPts val="22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1214280" y="2214720"/>
          <a:ext cx="7358400" cy="395280"/>
        </p:xfrm>
        <a:graphic>
          <a:graphicData uri="http://schemas.openxmlformats.org/drawingml/2006/table">
            <a:tbl>
              <a:tblPr/>
              <a:tblGrid>
                <a:gridCol w="1216080"/>
                <a:gridCol w="1325520"/>
                <a:gridCol w="1409760"/>
                <a:gridCol w="1241640"/>
                <a:gridCol w="1222200"/>
                <a:gridCol w="943200"/>
              </a:tblGrid>
              <a:tr h="39528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рас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анжев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и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ё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Box 8"/>
          <p:cNvSpPr/>
          <p:nvPr/>
        </p:nvSpPr>
        <p:spPr>
          <a:xfrm>
            <a:off x="1214640" y="1071720"/>
            <a:ext cx="54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есу цвета можно разделить т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>
            <a:off x="1143000" y="300024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е цвета, которые занимают равную площадь и имеют одинаковую яркость и насыщенность, с точки зрения восприятия их человеком, имеют разную степень вли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214280" y="4857840"/>
          <a:ext cx="7263000" cy="689040"/>
        </p:xfrm>
        <a:graphic>
          <a:graphicData uri="http://schemas.openxmlformats.org/drawingml/2006/table">
            <a:tbl>
              <a:tblPr/>
              <a:tblGrid>
                <a:gridCol w="1136880"/>
                <a:gridCol w="1311120"/>
                <a:gridCol w="1138320"/>
                <a:gridCol w="1138320"/>
                <a:gridCol w="1152360"/>
                <a:gridCol w="1386000"/>
              </a:tblGrid>
              <a:tr h="34452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ёл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анжев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елё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олетов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5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1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316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100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>
            <a:off x="1357200" y="571680"/>
            <a:ext cx="7500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изменяет наше представление о действительных размерах предметов, причем цвета, которые кажутся тяжелыми, уменьшают размеры. Из равновеликих фигур самой маленькой кажется красная, синяя - побольше, белая - самой большой. Не случайно, например, в трёхцветном французском флаге, обычно состоящем из трёх равновеликих по ширине полос (синяя, белая и красная), изменяют соотношение в пропорции 33:30:37 для установки его на кораблях, чтобы на расстоянии полосы казались рав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численные исследования показывают, что на сайтах, в основе цветовой палитры дизайна которых преобладает красный цвет, посетители проводят меньше времени, стремясь побыстрее его покинуть, чем на сайтах, основная палитра которых, например, синяя или светло-се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инству посетителей сайта нравятся яркие или глубокие тона по сравнению с тёмными то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071720" y="714240"/>
          <a:ext cx="7929360" cy="3800520"/>
        </p:xfrm>
        <a:graphic>
          <a:graphicData uri="http://schemas.openxmlformats.org/drawingml/2006/table">
            <a:tbl>
              <a:tblPr/>
              <a:tblGrid>
                <a:gridCol w="371160"/>
                <a:gridCol w="371520"/>
                <a:gridCol w="371520"/>
                <a:gridCol w="372960"/>
                <a:gridCol w="371520"/>
                <a:gridCol w="371520"/>
                <a:gridCol w="371520"/>
                <a:gridCol w="5327640"/>
              </a:tblGrid>
              <a:tr h="93168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0031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6bd8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eeb2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c9c9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8383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83223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90021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95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стижные, царственные цв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940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c6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de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b5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c6de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5ad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5e7ef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fef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95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Пастельные", нежные бежевые, розовые, голубоватые... Женственные, мягкие, расслабляющие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040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5de52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ad52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a521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4a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2adc6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2908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95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ые (естественные)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9400"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ce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a5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a531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a6b29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a31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43900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2902"/>
                    </a:solidFill>
                  </a:tcPr>
                </a:tc>
                <a:tc>
                  <a:txBody>
                    <a:bodyPr lIns="25920" rIns="25920" tIns="6480" bIns="6480" anchor="ctr">
                      <a:noAutofit/>
                    </a:bodyPr>
                    <a:p>
                      <a:pPr marL="954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одные (естественные), близкие к естественным органическим, природным компонентам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920" marR="25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2:29:14Z</dcterms:created>
  <dc:creator>Елена Николаевна Бублик</dc:creator>
  <dc:description/>
  <dc:language>en-US</dc:language>
  <cp:lastModifiedBy>Елена Николаевна Бублик</cp:lastModifiedBy>
  <dcterms:modified xsi:type="dcterms:W3CDTF">2009-02-19T11:31:51Z</dcterms:modified>
  <cp:revision>23</cp:revision>
  <dc:subject/>
  <dc:title>Дизайн проекта</dc:title>
</cp:coreProperties>
</file>