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322-94E7-40C1-9548-D0F1BB1F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84D-E36C-4A10-B25A-4B4254CC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96E-8E75-4F8E-A2E8-74F62456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08B-060A-4A17-B9A7-5B29EB8A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0FFA-494C-4B17-AD39-F87ED63B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7385-A12E-40F3-85DF-D8FAF6AA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4BFC-8C60-48EE-BAF6-88A45B2F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1B03-77A0-4E83-AE30-45D9D6C7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CD4A-3A6D-4D7F-95F9-72502CAE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E7ED-E7A2-433A-AFAA-B33E3D79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95E9-3442-4FC6-893D-5E6843A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E9A-729C-47D9-987C-D14768BF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9241-7587-4AF7-8DF4-56A635E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E675-1C0F-4EB7-B855-BAB29187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55C8-A9C5-4AF9-858B-227AC3D2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2B0C-9A22-4671-8692-BC37FC57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1F4D-DFAC-4678-B2FA-7B4554F1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0C6B-9025-4B1A-9600-C7B79B9C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B5EB-D65E-457D-891F-D090BB0E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E9F8-C160-450D-892F-0C521170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AB86-9083-4EA4-A5ED-13838F9C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2E55-3308-4194-B3EA-46D79DAE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358-BF88-476D-95AA-28954C2C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4B75-F12E-43E9-978A-F8140C43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5A95-E448-46D2-8D42-669B207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528D-8BD7-433E-AB73-33091A5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91B7-1B1E-467A-BA5E-845BB13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E1BC-45D7-4698-AD4B-1734C4F8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FD13-B207-4F0A-A54B-4AE49B8C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D4E3-01FB-4785-A8E8-F2F52E92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F8EFA-3AB1-4409-ABC7-01B9A5FE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0D82-6D18-4A5D-A1CF-DCA8B0A7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954B1-D728-4EC3-9EF0-73D0662A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A38-7021-4409-B5B1-BC57107D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4E58-D590-46C2-A08A-EA847885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4DB70-F74D-4622-8404-B0FF001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22AB-7F53-4A30-AC7F-1A5251CB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4EA4-853D-4CE8-BF85-780DAA6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723FD-DC2E-4A81-8DE6-283F4A3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A3DD-15E3-48A1-8DA6-DE9BED32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8657A-8036-404C-91E5-77D77967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C447-D0C6-45CF-BAE7-B1A3B9AA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01F3B-1685-43B4-9843-1D23176C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6803D-AB82-4321-B617-19488CBB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7CC-C33A-4952-A459-946F8086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1EDF4-F244-4C02-AEEC-86E76CB0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25EDD-2BD2-4DFA-B168-2EFD0D29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484F-8B1B-40B1-910C-062CFDA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FE0EB-C5E4-4A50-A163-F0D2E312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312C-DBFE-4B92-99D9-B6294272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5ADEF-65F0-4BEC-A222-DB32DEDA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565A-FE57-490D-A408-CB45C04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2F32-4663-4151-B222-CE84985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459D7-1DA5-4322-B520-AC41AEA1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4696-96E8-454E-8101-5F02CB2A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841-F28E-4E14-9FE8-8BDCBC25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55660-9808-4750-9410-D9A179E6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02D7-3E64-4303-9957-A6E9F14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D47E-AE25-4833-B644-B80EE28D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63F8-0C5B-4C77-9CE9-8D0F1FD4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19669-BEDD-47D9-90C9-1D5059CF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AC79-B47C-4D01-BEE6-66BB733C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B1E56-B3DA-41B7-9F11-3D4E0C6B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0E65-4F5B-49C7-8AB2-C0AD568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DF7F-DDDA-47A8-B1EE-25721EF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B5B7-93C4-4CC6-8F27-B8DCB7FB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15C-7CD1-4339-AAF9-A3D7497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AE7DF-0CEE-4A02-8086-064B0AAB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002E0-E8BA-4E51-86EB-938796E8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9E281-0962-41A5-ACCF-8DADDF81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C935F-8077-4AD2-839C-B25A9C84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9E96-75DC-4696-A23A-67CB0EFA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101D-B1D8-44A8-B4D4-1DF9BD0E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7150-28FD-49B6-854F-8F372BD1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6F2B-556D-4827-8297-385C7C2E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4F7F3-0298-4353-8C67-3D66C8F5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EF19-B96A-4872-8B07-13B2721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C7E-56D5-4F7F-A868-A54BBB3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43197-9C2F-401D-B4C8-D322D363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F5D0-8032-4B7B-BDA3-26808A7B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1BBE-F03C-454F-913E-CB438407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2CC4-762B-4AE8-90EE-545C5710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00611-A82F-42FE-BDE4-1D876834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D84-DBA0-4BF3-B4EE-2B9BAB48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9135-A2A4-43CF-BA4B-EF0336FFDB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4897-AADC-4798-9100-7523DC4D73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03EA-178E-4389-93BD-2A151BDEAA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571F-BA4F-4395-9D3E-8F1B1F34245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BC85-98CB-4E62-B428-4B15EB746B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A76-509B-40AB-B152-C57DEF9E418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E937-98B0-47EF-B11D-DA50EB0018F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2428920"/>
            <a:ext cx="79261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572314"/>
                </a:solidFill>
                <a:latin typeface="Arial Black"/>
              </a:rPr>
              <a:t>Дизайн </a:t>
            </a:r>
            <a:br>
              <a:rPr sz="6500"/>
            </a:br>
            <a:r>
              <a:rPr b="0" lang="en-US" sz="6500" spc="-1" strike="noStrike">
                <a:solidFill>
                  <a:srgbClr val="572314"/>
                </a:solidFill>
                <a:latin typeface="Arial Black"/>
              </a:rPr>
              <a:t>web-</a:t>
            </a:r>
            <a:r>
              <a:rPr b="0" lang="ru-RU" sz="6500" spc="-1" strike="noStrike">
                <a:solidFill>
                  <a:srgbClr val="572314"/>
                </a:solidFill>
                <a:latin typeface="Arial Black"/>
              </a:rPr>
              <a:t>проекта</a:t>
            </a:r>
            <a:endParaRPr b="0" lang="en-US" sz="65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3"/>
          <p:cNvSpPr/>
          <p:nvPr/>
        </p:nvSpPr>
        <p:spPr>
          <a:xfrm>
            <a:off x="1285920" y="50004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альные исследования показывают, что при рассмотрении различных образцов одиночных цветов различной яркости на белом или нейтральном сером фоне, люди, обычно, отдают предпочтение синим тонам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других нравится зеленовато-желтый ц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о от цвета общее предпочтение отдаётся светлым фонам. Людей привлекают резко контрастные глубокие цвета, и цвета, отличающиеся по насыщенности и ярко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357200" y="2928960"/>
          <a:ext cx="7334280" cy="546120"/>
        </p:xfrm>
        <a:graphic>
          <a:graphicData uri="http://schemas.openxmlformats.org/drawingml/2006/table">
            <a:tbl>
              <a:tblPr/>
              <a:tblGrid>
                <a:gridCol w="3300480"/>
                <a:gridCol w="733320"/>
                <a:gridCol w="3300480"/>
              </a:tblGrid>
              <a:tr h="27288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7324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тло зелё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285920" y="3929040"/>
          <a:ext cx="7572240" cy="2220840"/>
        </p:xfrm>
        <a:graphic>
          <a:graphicData uri="http://schemas.openxmlformats.org/drawingml/2006/table">
            <a:tbl>
              <a:tblPr/>
              <a:tblGrid>
                <a:gridCol w="785880"/>
                <a:gridCol w="1257120"/>
                <a:gridCol w="1255680"/>
                <a:gridCol w="4273560"/>
              </a:tblGrid>
              <a:tr h="2220840">
                <a:tc>
                  <a:txBody>
                    <a:bodyPr lIns="25920" rIns="25920" tIns="6480" bIns="64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128520" algn="just">
                        <a:lnSpc>
                          <a:spcPct val="115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 многом восприятие цвета может зависеть от настроения человека. Например, один и тот же человек может выбрать в разное время года или суток различный букет роз, отличающихся по общей окраске или оттенк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Рисунок 6" descr="восприятие цвета"/>
          <p:cNvPicPr/>
          <p:nvPr/>
        </p:nvPicPr>
        <p:blipFill>
          <a:blip r:embed="rId1"/>
          <a:stretch/>
        </p:blipFill>
        <p:spPr>
          <a:xfrm>
            <a:off x="1357200" y="4643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восприятие цвета"/>
          <p:cNvPicPr/>
          <p:nvPr/>
        </p:nvPicPr>
        <p:blipFill>
          <a:blip r:embed="rId2"/>
          <a:stretch/>
        </p:blipFill>
        <p:spPr>
          <a:xfrm>
            <a:off x="2428920" y="4643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8" descr="восприятие цвета"/>
          <p:cNvPicPr/>
          <p:nvPr/>
        </p:nvPicPr>
        <p:blipFill>
          <a:blip r:embed="rId3"/>
          <a:stretch/>
        </p:blipFill>
        <p:spPr>
          <a:xfrm>
            <a:off x="3429000" y="4643280"/>
            <a:ext cx="66672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71720" y="85716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нтрация активного цвета в правом верхнем углу страницы сайта активизирует композицию, все увеличивается в размере. Концентрация в левом нижнем углу страницы сайта создаёт иллюзию пассивности и зрительное сжатие, движение наз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ую различимость имеет сочетание черного цвета на жёлтом фоне. По мере ухудшения контрастности располагаются следующий сочетания: желтый на черном, белый на синем, чёрный на оранжевом, оранжевый на чёрном, чёрный на белом, белый на красном, красный на жёлтом, зелёный на белом, оранжевый на белом, красный на зелё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после рассматривания каких-либо цветных поверхностей взгляд падает на белую поверхность, она кажется не белой, а окрашенной и воспринимается в "дополнительном цвете" к рассматривавшейся вначале цветной поверхности. Это явление носит название "послеобраз" и связано оно с инерцией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"/>
          <p:cNvSpPr/>
          <p:nvPr/>
        </p:nvSpPr>
        <p:spPr>
          <a:xfrm>
            <a:off x="1285920" y="500040"/>
            <a:ext cx="7643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об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статочное явление, возникающее после рассмотрения какого–либо объекта при строго фиксированном взгля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яркие объекты (Солнце, пламя огня, вспышка света и т.п.) вызывают достаточно стойкие послеобраз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образ хорошо заметен на однородном фоне при устойчивой зрительной фиксации неподвижной точки. После каждого скачка глаз послеобраз пропадает, а во время зрительной фиксации вновь появляется, уже ослабленный. Цвет послеобраза - дополнительный к цвету о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000080" y="57168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 в сознании человека светового или зрительного образа происходит с некоторым запаздыванием относительно момента воздействия света на сетчатую оболочку глаза. Это время запаздывания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ем ощу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колеблется в пределах от 0,1 до 0,25 сек. в зависимости от яркости объекта. Эта особенность работы человеческого глаза лежит, например, в основе непрерывного, с нашей точки зрения, восприятия дискретных быстрочередующихся образов: кино и телеви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ледовательной быстрочередующейся смене кадров последовательный образ, возникающий в мозгу зрителя, не успевает замечать затемнение экрана, возникающее при смене соседних кадров на кинол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ий глаз также не способен уловить "смену кадров" ("дрожание экрана", "мелькание экрана" и т.д.) монитора компьютера при частоте свыше 100 Г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больше яркость предмета, тем меньше время ощущения. Зрительное ощущение исчезает также не сразу после окончания действ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ющееся после окончания светового воздействия зрительное ощущение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овательным обра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1212480" y="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цветов послеоб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500120" y="357120"/>
          <a:ext cx="7286760" cy="6334200"/>
        </p:xfrm>
        <a:graphic>
          <a:graphicData uri="http://schemas.openxmlformats.org/drawingml/2006/table">
            <a:tbl>
              <a:tblPr/>
              <a:tblGrid>
                <a:gridCol w="3357720"/>
                <a:gridCol w="3929040"/>
              </a:tblGrid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послеобр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dec9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евато-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о-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трамарин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сильково-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-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еновато-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е-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рпурно-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рпурно-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овато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еновато-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евато-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трамарин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о-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сильково-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еновато-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-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е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рпурно-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лтовато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рпурно-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еновато-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928800" y="0"/>
            <a:ext cx="8215200" cy="68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ли на глаз воздействует периодическая смена света и темноты, то зрительное восприятие такого раздражения зависит от частоты смены света и темноты. При достаточно большой частоте глаз будет воспринимать свет постоянной яркости. Число прерываний света в секунду, при котором достигается ощущение неизменной яркости, называется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ритической частотой прерыван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менно эти особенности (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нерция зрен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 устройства и работы человеческого глаза накладывают определённые требования к разработке фирменного стиля дизайна сай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Чем меньше цветов используется при оформлении дизайна сайта, тем легче добиться определённого воздействия на посетителя сай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ем меньше контрастность и плавней переходы в цветовом оформлении сайта, тем с большей вероятностью можно предугадать цветовое воздействие на посетителя сай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профессиональном веб-дизайне более предпочтительны плавные градиентные рисунки и фоны по сравнению с мозаичными фонами и контрастными рисунка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разных народов цветовые ассоциации различны: на Западе чёрный цвет ассоциируется со смертью и мрачными мыслями, в Японии белый цвет - цвет смерти. Во многих странах, например, белый цвет - традиционно свадебный, а в некоторых - траурный. В странах с засушливым климатом зеленый цвет считают сильным и успешны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о многом восприятие цвета зависит также и от вероисповедания посетителя сайта и от его национальности (страны проживания). Желтый цвет, более чем где-либо, почитают в Таиланде - возможно, причины этого кроются в религ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3"/>
          <p:cNvSpPr/>
          <p:nvPr/>
        </p:nvSpPr>
        <p:spPr>
          <a:xfrm>
            <a:off x="1214280" y="428760"/>
            <a:ext cx="771552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ажно учитывать при разработке фирменного стиля сай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посетители носят очки. Восприятие сайта, шрифт которого имеет размер менее 10, затруднено. Особенно на мониторах старых моделей. Ещё большая ошибка при разработке сайта - запрет на возможность изменять размер шрифта в браузере посетителя при просмотре сай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норирование такого, казалось бы, незначительного фактора, как выбор шрифта для сайта, приводит к неизбежному снижению эффективности сай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тители ценят своё время и не любят длительной загрузки страниц сай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резмерная анимация раздражает посетителе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се посетители хорошо владеют компьютером и умело пользуются Интернетом. Запутанная система навигации и большая глубина сайта приводят к неизбежному снижению эффективности сай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ачественно подготовленный контент сайта, в частности недостаточно подробное изложение контента неизбежно снижает эффективность сай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рменный стиль сайта разрабатывается после того, как подготовлен контент сайта, но не наоборот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1214280" y="214200"/>
            <a:ext cx="77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редварительной компоновке графики сайта необходимо учитывать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ый размер рисунков и фотографий - от 75х75 пикселей до 250х250 пикс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 размещение от 4 до 12 фотографий на одной веб-стра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понятнее объект, представленный на фотографии, чем меньше будет необходимости в том, чтобы его разглядеть в деталях, тем больше фотографий можно разместить на странице. И наоборот. Для новых объектов, для объектов, сложных по внешнему виду и наличию мелких деталей, необходимы более крупные фотографии. Тем меньше, в этом случае, их должно быть размещено на странице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а сайта должна быть не длиннее 2-3 размеров экрана с разрешением 1024х768 пикселей (17" ЭЛТ или 15" LCD), что соответствует приблизительно 1200-1600 пикс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14280" y="57168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время загрузки страниц сайта не должно превышать 30 секунд при скорости соединения 28.8 Кбит/сек. Это означает, что размер всех размещённых на странице сайта графических материалов не должен превышать 40-50 К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имо графики сайта любая страница сайта включает в себя программный код, который также влияет на время загру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ей иллюстрацией к сайту, помимо размещения рисунков с предпросмотром (уменьшенная версия рисунка размещается на странице сайта, а её увеличенную версию можно посмотреть в отдельном окне, кликнув на уменьшенное изображение мышкой), будет включение в состав сайта небольших анимационных видеороликов, общим размером не более 200-300 Кб. На время загрузки страницы сайта это практически не вли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285920" y="642960"/>
            <a:ext cx="7358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компоненты фирменного стиля сай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нт сайта, т.е. материалы сайта (текст сайта, таблицы, графика сай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отип фи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с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ление верхней части страниц с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оформления навигации с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н страниц с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791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осприятие графики посетителями сай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14480" y="857160"/>
            <a:ext cx="52196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верхняя часть страницы. Используется для размещения логотипа, эмблемы, названия фирмы, страницы и другой наиболее важной информаци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2,4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область размещения гиперссылок или панели навигации сайт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область размещения текст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нижняя часть страницы. Используется для размещения контактной информации или иных данных, менее важных, по сравнению с размещенными в области 1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Рисунок 17" descr="Восприятие графики посетителями сайта"/>
          <p:cNvPicPr/>
          <p:nvPr/>
        </p:nvPicPr>
        <p:blipFill>
          <a:blip r:embed="rId1"/>
          <a:stretch/>
        </p:blipFill>
        <p:spPr>
          <a:xfrm>
            <a:off x="1071720" y="785880"/>
            <a:ext cx="2598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143000" y="285840"/>
            <a:ext cx="77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фирменного ст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 и чувство цвета у посетителей сайта самые разные. Разные также у посетителей сайта технические характеристики компьютеров, мониторов и скорости соединения с Интер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 тот же цвет может вызвать самые различные ассоциации, если не учитывать тематику сайта и его графический контент (фотографии и рисун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рисунков (в каком контуре или в какой рамке они заключены) непосредственно влияет на восприятие фирменного стиля сай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альным путём при исследовании формы символов выявлено, что наиболее быстро и точно распознаются символы, контур которых имеет резкие перепады. Треугольник и прямоугольник распознать значительно легче, чем многоугольник или овальные фигуры. По точности их распознавания простейшие фигуры располагаются в следующем порядке (в порядке возрастания): треугольник, ромб, прямоугольник, круг, квад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, которые должны быть запомнены посетителем сайта, желательно выполнять в виде самых простых геометрических фигур. Предпочтительны прямоугольник или квад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928800" y="142920"/>
            <a:ext cx="82152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фирменного ст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случаях посетители сайта реагируют на цвет одинаково. Такие цвета: красный, желтый, зеленый и синий цвета. Красный цвет - "сигнальный", "предупреждающий" цвет. Для большинства посетителей сайтов, дизайн которых будет выполнен в красном цвете, ассоциацией будет опасность, предупреждение, чувство тревоги. Даже при закрытых глазах рядом с красными предметами и поверхностями возникает чувство волнения и разд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авило, синий цвет обозначает мышление, жёлтый - интуицию, красный - волнение, зелёный - восприятие и споко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бы ни была тематика сайта, не следует забывать, что применение ярких и сочных цветов заставляет посетителей отвлекать своё внимание от объектов, представленных на сайте. Посетитель вынужден рассматривать оформление сайта, а не содержание, которые предлагаются на сайте. Эффективность сайта уменьш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й рисунок, перекрывающий другой рисунок кажется посетителю сайта более близк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одинаковых по внешнему виду (форме, цвету, размеру и т.д.) рисунков внимание посетителя сайта будет сконцентрировано на том рисунке, который отличается какими-то каче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1000080" y="142920"/>
            <a:ext cx="800100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едостатки flash-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сем посетителям сайтов нравится анимация. Многих посетителей анимация раздраж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исковые системы (как отечественные, так и зарубежные), как правило, вообще не индексирую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Текст, находящийся внутри flash, в этих случаях не будет проиндексирован и внесён в базу данных поисковой системы. Таким образом, основная задача, которая ставится перед сайтом, применение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решается, поскольку рейтинг сайта заведомо не может быть высок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ая загрузка страниц сайта, разработанных на основ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хнологии. Посетители могут покинуть сайт, не дожидаясь его загрузки, если они просматривают страницы сайта, основанны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хнологиях с использованием моде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озможно увеличить размер шрифта. Часто шрифт бывает мелким. Посетители со слабым зрением могут испытывать серьёзные неудобства при просмотре страниц сайта, основанных на приме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хнологии. Кнопкой браузера увеличить или уменьшить размер шрифта нельзя. Посетителям сайта приходится читать текст со шрифтом такого размера размера, каким его задал веб-дизайн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ущийся текст читать труднее, чем неподвиж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опка браузера "Поиск"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раницах не работ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несения любых, даже мелких, изменений требуется изменение вс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уля (ролик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единить в единый сайт страницы, основанны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достаточно сложно. В ряде случаев невозмож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14280" y="0"/>
            <a:ext cx="77868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едостатки flash-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 "открутить"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олик назад. Кнопка обозревателя "Назад" не работает. При перемещении внут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лика, стандартные методы "возврата" уводят со страницы, а не на ожидаемое предыдущее со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 отключить картинки (графические элемент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тдельный фрагмент нельзя поставить заклад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овлять flash-сайт очень сложно. Для него нельзя разработать специальный программный модуль для изменения текстового наполнения. Для изменения информации необходим веб-дизайнер.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 гиперссылок, основанных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изменны. В связи с этим нельзя по изменению цвета гиперссылок быстро определить, где вы побывали, а где ещё не были. Система навигации таких сайтов в значительной степени уступает, например, применению текстовых роллов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 скопировать текст, присутствующий на flash-странице сайта, если веб-дизайнером это не было специально предусмотр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ю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труднительно программными средствами фирмы Microsoft, входящими в состав Windows, используя настройки брауз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ые продукты, на которых разрабатываю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йты, полностью не совмести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 всеми браузе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000080" y="357120"/>
            <a:ext cx="7929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двух совершенно одинаковых рисунков больше запоминается тот рисунок, который имеет большие геометрические разм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двух совершенно одинаковых рисунков больше запоминается тот рисунок, разрядность цветов которого в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ерно-белая веб-графика запоминается меньше, чем полноцветная веб-г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двух совершенно одинаковых рисунков больше запоминается более контраст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двух совершенно одинаковых рисунков больше запоминается более ярки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итивная графика, иллюстрирующая процессы, схемы и т.д., понимается и запоминается быстрее и проще, чем сложная графика, иллюстрирующая те же самые процессы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1285920" y="428760"/>
            <a:ext cx="7429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ольше запоминаются веб-страницы, на которых число графических элементов, иллюстрирующих их смысловую часть, незнач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ольше запоминается графика, смысловая часть которой совпадает со смысловым содержанием веб-страницы, или ее дополн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никальная и авторская графика запоминается быстрее и на более долгий срок, чем графика, позаимствованная из чужи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дин и тот же рисунок запоминается тем больше, чем чаще он встречается на с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рафика с простыми геометрическими формами (квадрат, прямоугольник и т.д.) воспринимается легче, и запоминается проще, чем графика со сложными геометрическими фор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357280" y="213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ВЛИЯНИЕ РАЗМЕРА ГРАФИКИ НА ВОСПРИЯТИЕ САЙТА ПОСЕТИТЕЛЯМИ</a:t>
            </a:r>
            <a:br>
              <a:rPr sz="36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28920" y="1428840"/>
            <a:ext cx="640080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82520" indent="-18252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На сайте может быть мало графики, но если их геометрические размеры большие, то такой сайт воспринимается посетителями как графический сай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82520" indent="-18252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сновное внимание посетителей сайта привлекает верхняя часть веб-страницы. Если в верхнюю часть всех веб-страниц разместить одну и ту же картинку, имеющую большие геометрические размеры, то сайт будет восприниматься как графический, даже если никакой другой графики на нем н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8252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ОСОБЕННОСТИ ВОСПРИЯТИЯ ЦВЕТА ПОСЕТИТЕЛЯМИ САЙТА</a:t>
            </a:r>
            <a:br>
              <a:rPr sz="36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356920" y="1428840"/>
            <a:ext cx="6572520" cy="56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73160" indent="-15660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Цвет - это ощущение</a:t>
            </a: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, т.е. результат физиологического воздействия излучения, попадающего на сетчатку глаза. Несмотря на то, что отношение к цвету во многих случаях носит чисто субъективный характер, большинство посетителей сайта связывает цвет с определёнными понятиями и образам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173160" indent="-15660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Проанализировать процесс цветовосприятия намного сложнее, чем, например, эмоциональное или психологическое состояние чело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173160" indent="-15660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Границы, которые могут быть предписаны определённым цветам и степени их воздействия на окружающих, довольно расплывчаты. Тем не менее, существуют определённые закономерности цветовосприятия дизайна сайта посетителями, основанные на научных и многочисленных экспериментальных исследованиях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173160" indent="-15660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Сайт может показаться посетителям скучным и неинтересным, если основная палитра сайта не соответствует назначению сайта и перечню предлагаемых на сайте товаров и услуг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17316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1214280" y="2214720"/>
          <a:ext cx="7358400" cy="395280"/>
        </p:xfrm>
        <a:graphic>
          <a:graphicData uri="http://schemas.openxmlformats.org/drawingml/2006/table">
            <a:tbl>
              <a:tblPr/>
              <a:tblGrid>
                <a:gridCol w="1216080"/>
                <a:gridCol w="1325520"/>
                <a:gridCol w="1409760"/>
                <a:gridCol w="1241640"/>
                <a:gridCol w="1222200"/>
                <a:gridCol w="943200"/>
              </a:tblGrid>
              <a:tr h="39528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рас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анже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Box 8"/>
          <p:cNvSpPr/>
          <p:nvPr/>
        </p:nvSpPr>
        <p:spPr>
          <a:xfrm>
            <a:off x="1214640" y="1071720"/>
            <a:ext cx="54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су цвета можно разделить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1143000" y="300024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цвета, которые занимают равную площадь и имеют одинаковую яркость и насыщенность, с точки зрения восприятия их человеком, имеют разную степень вли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14280" y="4857840"/>
          <a:ext cx="7263000" cy="689040"/>
        </p:xfrm>
        <a:graphic>
          <a:graphicData uri="http://schemas.openxmlformats.org/drawingml/2006/table">
            <a:tbl>
              <a:tblPr/>
              <a:tblGrid>
                <a:gridCol w="1136880"/>
                <a:gridCol w="1311120"/>
                <a:gridCol w="1138320"/>
                <a:gridCol w="1138320"/>
                <a:gridCol w="1152360"/>
                <a:gridCol w="1386000"/>
              </a:tblGrid>
              <a:tr h="34452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анже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олето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5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1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100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1357200" y="571680"/>
            <a:ext cx="7500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изменяет наше представление о действительных размерах предметов, причем цвета, которые кажутся тяжелыми, уменьшают размеры. Из равновеликих фигур самой маленькой кажется красная, синяя - побольше, белая - самой большой. Не случайно, например, в трёхцветном французском флаге, обычно состоящем из трёх равновеликих по ширине полос (синяя, белая и красная), изменяют соотношение в пропорции 33:30:37 для установки его на кораблях, чтобы на расстоянии полосы казались рав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численные исследования показывают, что на сайтах, в основе цветовой палитры дизайна которых преобладает красный цвет, посетители проводят меньше времени, стремясь побыстрее его покинуть, чем на сайтах, основная палитра которых, например, синяя или светло-се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нству посетителей сайта нравятся яркие или глубокие тона по сравнению с тёмными т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071720" y="714240"/>
          <a:ext cx="7929360" cy="3800520"/>
        </p:xfrm>
        <a:graphic>
          <a:graphicData uri="http://schemas.openxmlformats.org/drawingml/2006/table">
            <a:tbl>
              <a:tblPr/>
              <a:tblGrid>
                <a:gridCol w="371160"/>
                <a:gridCol w="371520"/>
                <a:gridCol w="371520"/>
                <a:gridCol w="372960"/>
                <a:gridCol w="371520"/>
                <a:gridCol w="371520"/>
                <a:gridCol w="371520"/>
                <a:gridCol w="5327640"/>
              </a:tblGrid>
              <a:tr h="93168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003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bd8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eeb2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c9c9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8383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3223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002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стижные, царственные цв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940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c6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de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b5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c6de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5ad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5e7ef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fef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Пастельные", нежные бежевые, розовые, голубоватые... Женственные, мягкие, расслабляющие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40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5de52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ad52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a52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4a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2adc6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2908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ые (естественные)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940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ce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a5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a53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6b29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a3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439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2902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ые (естественные), близкие к естественным органическим, природным компонентам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2:29:14Z</dcterms:created>
  <dc:creator>Елена Николаевна Бублик</dc:creator>
  <dc:description/>
  <dc:language>en-US</dc:language>
  <cp:lastModifiedBy>Елена Николаевна Бублик</cp:lastModifiedBy>
  <dcterms:modified xsi:type="dcterms:W3CDTF">2009-02-19T11:31:51Z</dcterms:modified>
  <cp:revision>23</cp:revision>
  <dc:subject/>
  <dc:title>Дизайн проекта</dc:title>
</cp:coreProperties>
</file>