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83BE-2A59-424A-B6E1-859E4017B6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37E0-3871-47E8-8828-18C95DDF8E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A3E0-5D9D-41F1-BF10-006BFBEA1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BC68-95D4-4D22-AC6F-D1482E5D7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BD38-4EEB-4988-8DC0-219AE7425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AFA5-7275-481C-B910-B3C8F5C13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0AC0-1D61-40CE-98B9-67323F00BD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890-38DD-4CE6-AB37-FF15647E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CA3-6097-4316-BC3B-09DB2023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FB4-430E-4F0E-8D22-BBDA626B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F1E-F831-4724-B41B-929C0F8C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ED8-7312-400A-AE4E-8B302C4D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E83-13F2-4780-A63D-0D1F0CE5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AF8-2FD3-4312-B4A3-5B555459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8C2-F5B9-433A-BFB9-E8FC40C8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5DD-D8A7-4631-A213-5BF703A1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129-14CD-4D63-91E0-85A9E99A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A41-7446-4071-8C8C-E022DE42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ACF-C7B8-4A66-874E-89916E72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e1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D38D-637C-4817-A61F-DBB53D21C7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 rot="20943600">
            <a:off x="271440" y="1413000"/>
            <a:ext cx="8477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DRAGON BOAT FESTIVAL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Picture 7" descr="дракон1"/>
          <p:cNvPicPr/>
          <p:nvPr/>
        </p:nvPicPr>
        <p:blipFill>
          <a:blip r:embed="rId1"/>
          <a:stretch/>
        </p:blipFill>
        <p:spPr>
          <a:xfrm>
            <a:off x="741240" y="260280"/>
            <a:ext cx="1571760" cy="1398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dragon-boat"/>
          <p:cNvPicPr/>
          <p:nvPr/>
        </p:nvPicPr>
        <p:blipFill>
          <a:blip r:embed="rId2"/>
          <a:stretch/>
        </p:blipFill>
        <p:spPr>
          <a:xfrm rot="21066600">
            <a:off x="539280" y="3644640"/>
            <a:ext cx="3764160" cy="2822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5079960" y="5056200"/>
            <a:ext cx="373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The project was mad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Ovod Ma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73"/>
                </a:solidFill>
                <a:latin typeface="Arial"/>
              </a:rPr>
              <a:t>Grade 10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79280" y="260280"/>
            <a:ext cx="53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ragon Boat Festival is a long-standing Chinese tra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ates back to 289 BC and takes place in May-June. It is associ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poet and statesman who drowned himself to protest against injus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 legend people searched for his body but failed to fin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1boat_celebrates_web"/>
          <p:cNvPicPr/>
          <p:nvPr/>
        </p:nvPicPr>
        <p:blipFill>
          <a:blip r:embed="rId1"/>
          <a:stretch/>
        </p:blipFill>
        <p:spPr>
          <a:xfrm>
            <a:off x="5364000" y="1125360"/>
            <a:ext cx="3635640" cy="2419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20070726_091647_dragon2_500"/>
          <p:cNvPicPr/>
          <p:nvPr/>
        </p:nvPicPr>
        <p:blipFill>
          <a:blip r:embed="rId2"/>
          <a:stretch/>
        </p:blipFill>
        <p:spPr>
          <a:xfrm>
            <a:off x="5364000" y="4124160"/>
            <a:ext cx="360396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boat"/>
          <p:cNvPicPr/>
          <p:nvPr/>
        </p:nvPicPr>
        <p:blipFill>
          <a:blip r:embed="rId1"/>
          <a:stretch/>
        </p:blipFill>
        <p:spPr>
          <a:xfrm>
            <a:off x="5003640" y="3068640"/>
            <a:ext cx="3586320" cy="270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dragon_boat"/>
          <p:cNvPicPr/>
          <p:nvPr/>
        </p:nvPicPr>
        <p:blipFill>
          <a:blip r:embed="rId2"/>
          <a:stretch/>
        </p:blipFill>
        <p:spPr>
          <a:xfrm>
            <a:off x="573120" y="2960640"/>
            <a:ext cx="3951360" cy="28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dragon_header"/>
          <p:cNvPicPr/>
          <p:nvPr/>
        </p:nvPicPr>
        <p:blipFill>
          <a:blip r:embed="rId3"/>
          <a:stretch/>
        </p:blipFill>
        <p:spPr>
          <a:xfrm>
            <a:off x="952560" y="333360"/>
            <a:ext cx="71438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3480" y="62064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Dragon Boat Races are held on this day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become an essential part of the festival. These long narrow boats with a dragon's head at the prow are brightly painted red and gold. In the evening when the race is over the boats parade along the water, decorated with brightly coloured lanter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dragonboat2-150"/>
          <p:cNvPicPr/>
          <p:nvPr/>
        </p:nvPicPr>
        <p:blipFill>
          <a:blip r:embed="rId1"/>
          <a:stretch/>
        </p:blipFill>
        <p:spPr>
          <a:xfrm>
            <a:off x="5003640" y="3954600"/>
            <a:ext cx="3686400" cy="245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dragonboat3-150"/>
          <p:cNvPicPr/>
          <p:nvPr/>
        </p:nvPicPr>
        <p:blipFill>
          <a:blip r:embed="rId2"/>
          <a:stretch/>
        </p:blipFill>
        <p:spPr>
          <a:xfrm>
            <a:off x="539640" y="4005360"/>
            <a:ext cx="36338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ragonboat4-150"/>
          <p:cNvPicPr/>
          <p:nvPr/>
        </p:nvPicPr>
        <p:blipFill>
          <a:blip r:embed="rId1"/>
          <a:stretch/>
        </p:blipFill>
        <p:spPr>
          <a:xfrm>
            <a:off x="4500720" y="3860640"/>
            <a:ext cx="4152600" cy="276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dragonboat111"/>
          <p:cNvPicPr/>
          <p:nvPr/>
        </p:nvPicPr>
        <p:blipFill>
          <a:blip r:embed="rId2"/>
          <a:stretch/>
        </p:blipFill>
        <p:spPr>
          <a:xfrm>
            <a:off x="250920" y="1484280"/>
            <a:ext cx="3895560" cy="389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dragonboat"/>
          <p:cNvPicPr/>
          <p:nvPr/>
        </p:nvPicPr>
        <p:blipFill>
          <a:blip r:embed="rId3"/>
          <a:stretch/>
        </p:blipFill>
        <p:spPr>
          <a:xfrm>
            <a:off x="4427640" y="404640"/>
            <a:ext cx="3906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38420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79280" y="333360"/>
            <a:ext cx="62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gon Boat Festivals that celebrate Chinese culture have develop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o events that people in many countries are proud of.  Drag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t Races are the fastest growing sport in the world and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find race teams all around the globe – from Australia to Fin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dragon-boat-festival-40120135954725"/>
          <p:cNvPicPr/>
          <p:nvPr/>
        </p:nvPicPr>
        <p:blipFill>
          <a:blip r:embed="rId1"/>
          <a:stretch/>
        </p:blipFill>
        <p:spPr>
          <a:xfrm>
            <a:off x="5435640" y="4076640"/>
            <a:ext cx="3465360" cy="2598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ragonboatfestivalsm"/>
          <p:cNvPicPr/>
          <p:nvPr/>
        </p:nvPicPr>
        <p:blipFill>
          <a:blip r:embed="rId2"/>
          <a:stretch/>
        </p:blipFill>
        <p:spPr>
          <a:xfrm>
            <a:off x="539640" y="4076640"/>
            <a:ext cx="3876840" cy="2608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looking_at_dragon_web"/>
          <p:cNvPicPr/>
          <p:nvPr/>
        </p:nvPicPr>
        <p:blipFill>
          <a:blip r:embed="rId3"/>
          <a:stretch/>
        </p:blipFill>
        <p:spPr>
          <a:xfrm>
            <a:off x="6012000" y="907920"/>
            <a:ext cx="29746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3:15:02Z</dcterms:created>
  <dc:creator>Admin</dc:creator>
  <dc:description/>
  <dc:language>en-US</dc:language>
  <cp:lastModifiedBy>наталья</cp:lastModifiedBy>
  <dcterms:modified xsi:type="dcterms:W3CDTF">2013-03-25T17:46:49Z</dcterms:modified>
  <cp:revision>6</cp:revision>
  <dc:subject/>
  <dc:title>Слайд 1</dc:title>
</cp:coreProperties>
</file>