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28B0-EEA7-43A0-B5C9-C0D5E875BF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07F4-D4E5-406D-B345-8A971A89E0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800C-4BEF-4A58-9765-063D1E6384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1622-5563-4E51-8602-E704233A8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4012-E362-4322-8AB7-98A3476A2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6B04-6151-4D81-A9F6-FE8DC94717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EEAB-BF6B-4096-B90B-86EEE4065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366-8AA8-4669-8A0C-F02889F8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40F-6165-4ED3-BFAE-4CE5C4FF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292-60C3-497A-89CE-5827A7DA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B65-515E-401B-8FB4-B2853E30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6F2-187C-4589-B950-934C868F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CF8-89DA-4729-96D9-41051C33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94B-629D-46EC-9E23-75F32157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EA8-3EFD-4F2C-8C2D-573F2CF2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84C-E38A-43BE-A5CE-CDA838EA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EEE-BAC0-4A97-8C8B-9FA32AE4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EDF-A81B-44DD-A5F3-299A459E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3B1-EC81-4073-9925-6C7C902F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e1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61CB-755B-454F-BAC7-4E9991749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 rot="20943600">
            <a:off x="271440" y="1413000"/>
            <a:ext cx="8477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DRAGON BOAT FESTIVAL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7" descr="дракон1"/>
          <p:cNvPicPr/>
          <p:nvPr/>
        </p:nvPicPr>
        <p:blipFill>
          <a:blip r:embed="rId1"/>
          <a:stretch/>
        </p:blipFill>
        <p:spPr>
          <a:xfrm>
            <a:off x="741240" y="260280"/>
            <a:ext cx="1571760" cy="139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ragon-boat"/>
          <p:cNvPicPr/>
          <p:nvPr/>
        </p:nvPicPr>
        <p:blipFill>
          <a:blip r:embed="rId2"/>
          <a:stretch/>
        </p:blipFill>
        <p:spPr>
          <a:xfrm rot="21066600">
            <a:off x="539280" y="3644640"/>
            <a:ext cx="3764160" cy="2822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5079960" y="5056200"/>
            <a:ext cx="373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The project was ma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Ovod Ma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Grade 10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79280" y="260280"/>
            <a:ext cx="53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agon Boat Festival is a long-standing Chinese tra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ates back to 289 BC and takes place in May-June. It is associ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poet and statesman who drowned himself to protest against injus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legend people searched for his body but failed to fin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boat_celebrates_web"/>
          <p:cNvPicPr/>
          <p:nvPr/>
        </p:nvPicPr>
        <p:blipFill>
          <a:blip r:embed="rId1"/>
          <a:stretch/>
        </p:blipFill>
        <p:spPr>
          <a:xfrm>
            <a:off x="5364000" y="1125360"/>
            <a:ext cx="3635640" cy="2419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0070726_091647_dragon2_500"/>
          <p:cNvPicPr/>
          <p:nvPr/>
        </p:nvPicPr>
        <p:blipFill>
          <a:blip r:embed="rId2"/>
          <a:stretch/>
        </p:blipFill>
        <p:spPr>
          <a:xfrm>
            <a:off x="5364000" y="4124160"/>
            <a:ext cx="360396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boat"/>
          <p:cNvPicPr/>
          <p:nvPr/>
        </p:nvPicPr>
        <p:blipFill>
          <a:blip r:embed="rId1"/>
          <a:stretch/>
        </p:blipFill>
        <p:spPr>
          <a:xfrm>
            <a:off x="5003640" y="3068640"/>
            <a:ext cx="3586320" cy="270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ragon_boat"/>
          <p:cNvPicPr/>
          <p:nvPr/>
        </p:nvPicPr>
        <p:blipFill>
          <a:blip r:embed="rId2"/>
          <a:stretch/>
        </p:blipFill>
        <p:spPr>
          <a:xfrm>
            <a:off x="573120" y="2960640"/>
            <a:ext cx="3951360" cy="28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dragon_header"/>
          <p:cNvPicPr/>
          <p:nvPr/>
        </p:nvPicPr>
        <p:blipFill>
          <a:blip r:embed="rId3"/>
          <a:stretch/>
        </p:blipFill>
        <p:spPr>
          <a:xfrm>
            <a:off x="952560" y="333360"/>
            <a:ext cx="71438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3480" y="6206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Dragon Boat Races are held on this day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become an essential part of the festival. These long narrow boats with a dragon's head at the prow are brightly painted red and gold. In the evening when the race is over the boats parade along the water, decorated with brightly coloured lanter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dragonboat2-150"/>
          <p:cNvPicPr/>
          <p:nvPr/>
        </p:nvPicPr>
        <p:blipFill>
          <a:blip r:embed="rId1"/>
          <a:stretch/>
        </p:blipFill>
        <p:spPr>
          <a:xfrm>
            <a:off x="5003640" y="3954600"/>
            <a:ext cx="3686400" cy="24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dragonboat3-150"/>
          <p:cNvPicPr/>
          <p:nvPr/>
        </p:nvPicPr>
        <p:blipFill>
          <a:blip r:embed="rId2"/>
          <a:stretch/>
        </p:blipFill>
        <p:spPr>
          <a:xfrm>
            <a:off x="539640" y="4005360"/>
            <a:ext cx="36338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ragonboat4-150"/>
          <p:cNvPicPr/>
          <p:nvPr/>
        </p:nvPicPr>
        <p:blipFill>
          <a:blip r:embed="rId1"/>
          <a:stretch/>
        </p:blipFill>
        <p:spPr>
          <a:xfrm>
            <a:off x="4500720" y="3860640"/>
            <a:ext cx="4152600" cy="276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dragonboat111"/>
          <p:cNvPicPr/>
          <p:nvPr/>
        </p:nvPicPr>
        <p:blipFill>
          <a:blip r:embed="rId2"/>
          <a:stretch/>
        </p:blipFill>
        <p:spPr>
          <a:xfrm>
            <a:off x="250920" y="1484280"/>
            <a:ext cx="3895560" cy="389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dragonboat"/>
          <p:cNvPicPr/>
          <p:nvPr/>
        </p:nvPicPr>
        <p:blipFill>
          <a:blip r:embed="rId3"/>
          <a:stretch/>
        </p:blipFill>
        <p:spPr>
          <a:xfrm>
            <a:off x="4427640" y="404640"/>
            <a:ext cx="3906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38420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79280" y="333360"/>
            <a:ext cx="62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gon Boat Festivals that celebrate Chinese culture have develo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events that people in many countries are proud of.  Drag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t Races are the fastest growing sport in the world and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find race teams all around the globe – from Australia to Fin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dragon-boat-festival-40120135954725"/>
          <p:cNvPicPr/>
          <p:nvPr/>
        </p:nvPicPr>
        <p:blipFill>
          <a:blip r:embed="rId1"/>
          <a:stretch/>
        </p:blipFill>
        <p:spPr>
          <a:xfrm>
            <a:off x="5435640" y="4076640"/>
            <a:ext cx="3465360" cy="259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ragonboatfestivalsm"/>
          <p:cNvPicPr/>
          <p:nvPr/>
        </p:nvPicPr>
        <p:blipFill>
          <a:blip r:embed="rId2"/>
          <a:stretch/>
        </p:blipFill>
        <p:spPr>
          <a:xfrm>
            <a:off x="539640" y="4076640"/>
            <a:ext cx="3876840" cy="260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looking_at_dragon_web"/>
          <p:cNvPicPr/>
          <p:nvPr/>
        </p:nvPicPr>
        <p:blipFill>
          <a:blip r:embed="rId3"/>
          <a:stretch/>
        </p:blipFill>
        <p:spPr>
          <a:xfrm>
            <a:off x="6012000" y="907920"/>
            <a:ext cx="29746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3:15:02Z</dcterms:created>
  <dc:creator>Admin</dc:creator>
  <dc:description/>
  <dc:language>en-US</dc:language>
  <cp:lastModifiedBy>наталья</cp:lastModifiedBy>
  <dcterms:modified xsi:type="dcterms:W3CDTF">2013-03-25T17:46:49Z</dcterms:modified>
  <cp:revision>6</cp:revision>
  <dc:subject/>
  <dc:title>Слайд 1</dc:title>
</cp:coreProperties>
</file>