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recycle.wav" ContentType="audio/x-wav"/>
  <Override PartName="/ppt/media/image2.png" ContentType="image/png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5FC-493A-4546-B405-DAA1E6F0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79D-061B-43FB-93D4-AA4C030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A83-D59F-40DB-91FD-11591184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C1A-EF89-40EE-9378-54A6AA27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2BF-7FC4-491E-A97C-C1E01C85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62B8-9430-4BB5-85E5-A1B12A15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25D7-EA83-444B-8EFD-7C1670F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87E-B45A-4B1F-83F6-BF3CD02D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B75-D2B2-41EC-A12D-D315BBD8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7C77-676B-4133-AE7F-4CE42AD5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22C-3E52-4F6B-97BB-F15AA57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316-BE60-446E-AF73-33DE63B4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4343-A647-4FC2-9E90-5796E95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5BC7-CD69-464C-840E-85C75505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917D-A3D3-4B37-A4BE-1AE7C0E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1BE3-69A2-49DB-B8D3-D1550F19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4F1B-C0D4-4C36-B288-22C133A2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811-5ED0-41D9-8BD2-09AA8CED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25D-5A0C-4A88-A217-A27D474D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D49-E998-4DEA-8632-B5A033CE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40C-615C-4571-A3E9-6F5C072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E63-37A3-441C-A79A-7C97BFE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CB3-8AFE-4174-BD6F-2EF9C26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6DB-CBC2-4DAA-AF17-F9EC3F11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C1D1-AAB5-439E-87BB-2C7AE0A24D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496-210D-4F93-8871-0E12058669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:\Data\potemkin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:\Data\visotski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:\Data\004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:\Data\12chairs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recycl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:\Data\prokof.avi" TargetMode="External"/><Relationship Id="rId2" Type="http://schemas.openxmlformats.org/officeDocument/2006/relationships/audio" Target="../media/recycl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4072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Monotype Corsiva"/>
              </a:rPr>
              <a:t>ЭРУДИТ</a:t>
            </a:r>
            <a:endParaRPr b="0" lang="en-US" sz="15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Этот композитор написал вальс к опере «Война и мир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.Проко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имский-Корс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П.Чай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ежиссёр фил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«Звёздные войны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14172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тивен Спилбер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Джордж Лук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Дэвид Лин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268280"/>
            <a:ext cx="7696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Какого художника называли поэтом русского пейзаж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70828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.Се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И.Левит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.Васнец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79200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3708360" y="2708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Автор музыки к фильму «Броненосец Потёмкин» режиссёра С. Эйзенште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314172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Д.Шостак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.Мусоргск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С.Рахмани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2872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>
            <a:hlinkClick r:id="rId1"/>
          </p:cNvPr>
          <p:cNvSpPr/>
          <p:nvPr/>
        </p:nvSpPr>
        <p:spPr>
          <a:xfrm>
            <a:off x="3708360" y="285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413000"/>
            <a:ext cx="7696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На сцене какого театра выступал этот актё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213000"/>
            <a:ext cx="7696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Х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Театр на Таган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Ле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7696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Полулев-полу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37000"/>
            <a:ext cx="7696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Гарп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Кентав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фик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2420640"/>
            <a:ext cx="86407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ff0000"/>
                </a:solidFill>
                <a:latin typeface="Comic Sans MS"/>
              </a:rPr>
              <a:t>ПОЗДРАВЛЯЕМ ПОБЕДИТЕЛЕЙ!</a:t>
            </a:r>
            <a:endParaRPr b="0" lang="en-US" sz="77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260280"/>
            <a:ext cx="5070240" cy="865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722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-299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692280"/>
            <a:ext cx="748980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кусство, как жизнь,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абым не по плечу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67280" y="3932280"/>
            <a:ext cx="223380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/>
          </p:cNvPr>
          <p:cNvSpPr/>
          <p:nvPr/>
        </p:nvSpPr>
        <p:spPr>
          <a:xfrm>
            <a:off x="3995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Актёр, сыгравший роль профессора Преображенского в фильме «Собачье сердце»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оман Кар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Евгений Евстегн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Евгений Ле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Назовите главный танец бала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XIX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 столетия, где блистала Наталья Гончаров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Ва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Мазу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Котиль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Режиссёр фильма «Дерсу Узала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Никита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ндрей Тарк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ира Курос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>
            <a:hlinkClick r:id="rId1"/>
          </p:cNvPr>
          <p:cNvSpPr/>
          <p:nvPr/>
        </p:nvSpPr>
        <p:spPr>
          <a:xfrm>
            <a:off x="4067280" y="2781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Назовите автора романа «Двенадцать стульев»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852640"/>
            <a:ext cx="7696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Братья Стругац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И. Ильф, Е.Пе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Братья Вай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b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756e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ЭРУДИ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rId1"/>
          </p:cNvPr>
          <p:cNvSpPr/>
          <p:nvPr/>
        </p:nvSpPr>
        <p:spPr>
          <a:xfrm>
            <a:off x="4067280" y="2997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8:50:09Z</dcterms:created>
  <dc:creator>Инна Викторовна</dc:creator>
  <dc:description/>
  <dc:language>en-US</dc:language>
  <cp:lastModifiedBy>Alex</cp:lastModifiedBy>
  <dcterms:modified xsi:type="dcterms:W3CDTF">2005-10-20T22:34:06Z</dcterms:modified>
  <cp:revision>17</cp:revision>
  <dc:subject/>
  <dc:title>ЭРУДИТ</dc:title>
</cp:coreProperties>
</file>