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ecycle.wav" ContentType="audio/x-wav"/>
  <Override PartName="/ppt/media/image2.png" ContentType="image/pn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293-A11F-4D08-91E0-37BE0545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75D-B256-4826-AE03-E9A1E11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569-5432-4C76-B70F-415E7EAB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84E-E7A9-4297-9475-9DB57BBA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D2BB-BFB0-445B-9286-422DF51F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13F-B864-420D-B682-7C6432B4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699-03D1-4D77-973D-D418282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0E5F-AAEC-4A0A-9CD4-CB424EDC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1EBD-8BBF-45E6-AEF4-00074F8F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ECDD-8344-4B6E-81C7-2CE868D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C474-5816-404B-B097-7B4D8B1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4C7-0CCD-4FBD-BC9C-410B25B2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A2FC-3D61-4709-B884-BBAA3DF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9A40-9FD7-4AC9-B491-69809BA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54A-6D98-4EC0-B9BC-75FC9E26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2478-1E97-4F81-860B-5AAC352A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0A3-3B86-4298-AB38-AA13E466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9D1-DFE6-422D-9E00-4CDB144C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964-7EDD-4AF9-892A-DF713EAB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ABE-5757-4E18-9A13-3194E0B3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61A-5C1D-42F6-B41C-E7D8CDBA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DE8-FA33-4D17-B5DA-E32E14E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871-CE88-482A-8950-1103770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54A-846D-4EE7-AF72-3EEF9BB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7C5-9027-4F1D-ABBE-DD53512474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177E-64A0-4805-806F-FD060D5C1C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:\Data\potemkin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:\Data\visotski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:\Data\004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:\Data\12chairs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:\Data\prokof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4072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Monotype Corsiva"/>
              </a:rPr>
              <a:t>ЭРУДИТ</a:t>
            </a:r>
            <a:endParaRPr b="0" lang="en-US" sz="15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Этот композитор написал вальс к опере «Война и мир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.Проко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имский-Корс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П.Чай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ежиссёр фил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«Звёздные войны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14172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тивен Спилбер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Джордж Лук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Дэвид Лин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696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Какого художника называли поэтом русского пейзаж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70828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.Се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И.Левит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.Васнец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79200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370836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Автор музыки к фильму «Броненосец Потёмкин» режиссёра С. Эйзенште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314172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Д.Шоста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.Мусорг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.Рахмани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2872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>
            <a:hlinkClick r:id="rId1"/>
          </p:cNvPr>
          <p:cNvSpPr/>
          <p:nvPr/>
        </p:nvSpPr>
        <p:spPr>
          <a:xfrm>
            <a:off x="3708360" y="285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413000"/>
            <a:ext cx="7696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На сцене какого театра выступал этот актё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21300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Х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Театр на Таган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Ле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696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олулев-полу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3700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Гарп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Кентав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фик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2420640"/>
            <a:ext cx="8640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ff0000"/>
                </a:solidFill>
                <a:latin typeface="Comic Sans MS"/>
              </a:rPr>
              <a:t>ПОЗДРАВЛЯЕМ ПОБЕДИТЕЛЕЙ!</a:t>
            </a:r>
            <a:endParaRPr b="0" lang="en-US" sz="77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60280"/>
            <a:ext cx="5070240" cy="865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22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692280"/>
            <a:ext cx="748980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кусство, как жизнь,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абым не по плечу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3932280"/>
            <a:ext cx="223380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/>
          </p:cNvPr>
          <p:cNvSpPr/>
          <p:nvPr/>
        </p:nvSpPr>
        <p:spPr>
          <a:xfrm>
            <a:off x="3995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Актёр, сыгравший роль профессора Преображенского в фильме «Собачье сердце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оман Кар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Евгений Евстегн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Евгений Ле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Назовите главный танец бала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столетия, где блистала Наталья Гончаров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а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азу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Котиль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Режиссёр фильма «Дерсу Узала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Никита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ндрей Тар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ира Курос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4067280" y="2781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Назовите автора романа «Двенадцать стульев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Братья Стругац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И. Ильф, Е.Пе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Братья Вай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rId1"/>
          </p:cNvPr>
          <p:cNvSpPr/>
          <p:nvPr/>
        </p:nvSpPr>
        <p:spPr>
          <a:xfrm>
            <a:off x="4067280" y="29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8:50:09Z</dcterms:created>
  <dc:creator>Инна Викторовна</dc:creator>
  <dc:description/>
  <dc:language>en-US</dc:language>
  <cp:lastModifiedBy>Alex</cp:lastModifiedBy>
  <dcterms:modified xsi:type="dcterms:W3CDTF">2005-10-20T22:34:06Z</dcterms:modified>
  <cp:revision>17</cp:revision>
  <dc:subject/>
  <dc:title>ЭРУДИТ</dc:title>
</cp:coreProperties>
</file>