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AAC-F1D3-4938-9F8C-0EE427DF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E69-B2AD-4E79-9F41-466B5E3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2DB-81C9-4502-8E8E-7FA4C1AD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B66-7B07-4FEA-9796-D34D06DD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0206-CED1-4F54-823B-73DD7209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C8B8-BBCB-4374-8399-CEA328E8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D044-D96C-45DF-A692-EAFF0AD4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1328-67B8-463A-9A83-6F8C0B2F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6BCF-E76B-4C23-ADC1-9803B59C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9A9B-1564-4B8D-82CD-9E2C98F4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82A7-DB39-4905-B699-E31DA94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E00-E8CA-4499-A482-075095B8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BF21-AC75-4828-A745-223ED8F2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6AB2-776C-4F30-8E53-F8A3066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7023-44C1-4175-9C0E-628975C4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E0DA-21AF-4691-8717-EDEF8D46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8628-82C6-4495-8FBF-844E9181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CC4-3467-4B89-8648-124B4BBD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E73-913C-4BA0-975D-561E9AC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7AD-D22D-4326-A105-B72FC741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EFF-CCB9-4354-993C-6561C8C9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5B5-B428-408E-9307-08F009BF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BFC-458F-47DE-80D3-4CD98FBA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51F-AC17-43E1-A555-E8FA7590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296-35CD-4569-B7E2-CEAAE53BE2CD}" type="slidenum">
              <a:rPr b="0" lang="ru-RU" sz="1200" spc="-1" strike="noStrike">
                <a:solidFill>
                  <a:srgbClr val="bcbcbc"/>
                </a:solidFill>
                <a:latin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Gene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E3C4-7F7E-4680-8667-4FD7B54C298E}" type="slidenum">
              <a:rPr b="0" lang="ru-RU" sz="1200" spc="-1" strike="noStrike">
                <a:solidFill>
                  <a:srgbClr val="bcbcbc"/>
                </a:solidFill>
                <a:latin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066680" y="2895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43000" y="457200"/>
            <a:ext cx="493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219320" y="2286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Dryopithecinae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- это ранние человекообразные обезьяны, которые, вероятно, появились в Африке в миоцене и пришли в Европу во время пересыхания доисторического моря Тетис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5" name="Picture 6" descr="Древние гоминоиды"/>
          <p:cNvPicPr/>
          <p:nvPr/>
        </p:nvPicPr>
        <p:blipFill>
          <a:blip r:embed="rId1"/>
          <a:stretch/>
        </p:blipFill>
        <p:spPr>
          <a:xfrm>
            <a:off x="1295280" y="1295280"/>
            <a:ext cx="182088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WordArt 8"/>
          <p:cNvSpPr txBox="1"/>
          <p:nvPr/>
        </p:nvSpPr>
        <p:spPr>
          <a:xfrm rot="5400000">
            <a:off x="-2324520" y="3085920"/>
            <a:ext cx="61722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ДРИОПИТЕК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00400" y="137160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0" i="1" lang="ru-RU" sz="1600" spc="-1" strike="noStrike">
                <a:solidFill>
                  <a:srgbClr val="3333cc"/>
                </a:solidFill>
                <a:latin typeface="Times New Roman"/>
              </a:rPr>
              <a:t>Dryopithecus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имел широкие, низкие резцы, длинные нижние клыки и короткие примитивные коренные зубы. Существовало два вида дриопитеков, представители одного из них были крупнее, чем другого. Время - средний и поздний миоцен. Место - Европа.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200400" y="2895480"/>
            <a:ext cx="551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Proconsul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, к этому виду относились некоторые крупные ранние гоминоиды, превышавшие по размерам низших обезьян, своим несколько выступавшим вперед лицом они были похожи на шимпанзе.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200400" y="4191120"/>
            <a:ext cx="5334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0" i="1" lang="ru-RU" sz="1600" spc="-1" strike="noStrike">
                <a:solidFill>
                  <a:srgbClr val="3333cc"/>
                </a:solidFill>
                <a:latin typeface="Times New Roman"/>
              </a:rPr>
              <a:t>Limnopithecus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 был маленьким и больше напоминал гиббонов, чем другие проконсулиды. Время - ранний и средний миоцен. Место - Восточная Африка.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3276720" y="5423040"/>
            <a:ext cx="4768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4. 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Rangwapithecus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имел длинные верхние коренные зубы, коронки которых были сильно изборождены гребнями. Размеры - различные. Время - ранний и средний миоцен. Место -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осточная Африка.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057400" y="838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2" name="WordArt 4"/>
          <p:cNvSpPr txBox="1"/>
          <p:nvPr/>
        </p:nvSpPr>
        <p:spPr>
          <a:xfrm rot="5400000">
            <a:off x="-2590920" y="3047760"/>
            <a:ext cx="63244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АВСТРАЛОПИТЕК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990720" y="380880"/>
            <a:ext cx="77389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ahoma"/>
                <a:ea typeface="Tahoma"/>
              </a:rPr>
              <a:t>АВСТРАЛОПИТЕ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Древнейший и наиболее примитивный вид человека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Tahoma"/>
              </a:rPr>
              <a:t>(</a:t>
            </a:r>
            <a:r>
              <a:rPr b="1" lang="ru-RU" sz="1800" spc="-1" strike="noStrike">
                <a:solidFill>
                  <a:srgbClr val="0066cc"/>
                </a:solidFill>
                <a:latin typeface="Tahoma"/>
                <a:ea typeface="Tahoma"/>
              </a:rPr>
              <a:t>От лат.Аустралис - южный + Питекос – обезьяна</a:t>
            </a:r>
            <a:r>
              <a:rPr b="1" lang="ru-RU" sz="1800" spc="-1" strike="noStrike">
                <a:solidFill>
                  <a:srgbClr val="0066cc"/>
                </a:solidFill>
                <a:latin typeface="Tahoma"/>
              </a:rPr>
              <a:t>)</a:t>
            </a:r>
            <a:r>
              <a:rPr b="1" lang="ru-RU" sz="1600" spc="-1" strike="noStrike">
                <a:solidFill>
                  <a:srgbClr val="0066cc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419720" y="228600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   </a:t>
            </a:r>
            <a:r>
              <a:rPr b="0" i="1" lang="ru-RU" sz="1800" spc="-1" strike="noStrike">
                <a:solidFill>
                  <a:srgbClr val="6600cc"/>
                </a:solidFill>
                <a:latin typeface="Lucida Sans Unicode"/>
              </a:rPr>
              <a:t>Следы австралопитека и рамапитека </a:t>
            </a:r>
            <a:br>
              <a:rPr sz="1800"/>
            </a:br>
            <a:r>
              <a:rPr b="0" i="1" lang="ru-RU" sz="1800" spc="-1" strike="noStrike">
                <a:solidFill>
                  <a:srgbClr val="6600cc"/>
                </a:solidFill>
                <a:latin typeface="Lucida Sans Unicode"/>
              </a:rPr>
              <a:t>в полосе тропических лесов </a:t>
            </a:r>
            <a:br>
              <a:rPr sz="1800"/>
            </a:br>
            <a:r>
              <a:rPr b="0" i="1" lang="ru-RU" sz="1800" spc="-1" strike="noStrike">
                <a:solidFill>
                  <a:srgbClr val="6600cc"/>
                </a:solidFill>
                <a:latin typeface="Lucida Sans Unicode"/>
              </a:rPr>
              <a:t>1,5-1,0 млн лет назад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5" name="Picture 11" descr="C:\Documents and Settings\site103\Мои документы\О.О.Г\ЭВОЛЮЦИЯ\к наземной жизни.files\16.gif"/>
          <p:cNvPicPr/>
          <p:nvPr/>
        </p:nvPicPr>
        <p:blipFill>
          <a:blip r:embed="rId1"/>
          <a:stretch/>
        </p:blipFill>
        <p:spPr>
          <a:xfrm>
            <a:off x="1523880" y="1752480"/>
            <a:ext cx="2819520" cy="2822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"/>
          <p:cNvSpPr/>
          <p:nvPr/>
        </p:nvSpPr>
        <p:spPr>
          <a:xfrm>
            <a:off x="1523880" y="5105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ahoma"/>
                <a:ea typeface="Tahoma"/>
              </a:rPr>
              <a:t>Рост - ок. 1,5 м, вес-до 70 кг. Прям</a:t>
            </a:r>
            <a:r>
              <a:rPr b="0" lang="ru-RU" sz="1800" spc="-1" strike="noStrike">
                <a:solidFill>
                  <a:srgbClr val="0000cc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cc"/>
                </a:solidFill>
                <a:latin typeface="Tahoma"/>
                <a:ea typeface="Tahoma"/>
              </a:rPr>
              <a:t>хождение, зубная система более близка к современному человеку, чем к обезьяне. Мозг относительно крупный (ок. 500-600 см3). Всеяден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  <a:ea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2" descr="C:\Documents and Settings\site103\Мои документы\Мои рисунки\cherep.jpg"/>
          <p:cNvPicPr/>
          <p:nvPr/>
        </p:nvPicPr>
        <p:blipFill>
          <a:blip r:embed="rId1"/>
          <a:stretch/>
        </p:blipFill>
        <p:spPr>
          <a:xfrm>
            <a:off x="1295280" y="380880"/>
            <a:ext cx="213372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C:\Documents and Settings\site103\Мои документы\О.О.Г\ЭВОЛЮЦИЯ\Питекантроп-2.files\78.gif"/>
          <p:cNvPicPr/>
          <p:nvPr/>
        </p:nvPicPr>
        <p:blipFill>
          <a:blip r:embed="rId2"/>
          <a:stretch/>
        </p:blipFill>
        <p:spPr>
          <a:xfrm>
            <a:off x="3505320" y="1143000"/>
            <a:ext cx="2068560" cy="3276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3"/>
          <p:cNvSpPr txBox="1"/>
          <p:nvPr/>
        </p:nvSpPr>
        <p:spPr>
          <a:xfrm rot="5400000">
            <a:off x="-2252880" y="3166920"/>
            <a:ext cx="6095880" cy="67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ПИТЕКАНТРО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5" descr="http://schools.techno.ru/sch758/antropogenez/homoer.jpg"/>
          <p:cNvPicPr/>
          <p:nvPr/>
        </p:nvPicPr>
        <p:blipFill>
          <a:blip r:embed="rId3"/>
          <a:stretch/>
        </p:blipFill>
        <p:spPr>
          <a:xfrm>
            <a:off x="5638680" y="304920"/>
            <a:ext cx="2248200" cy="32004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7"/>
          <p:cNvGrpSpPr/>
          <p:nvPr/>
        </p:nvGrpSpPr>
        <p:grpSpPr>
          <a:xfrm>
            <a:off x="3538440" y="1652760"/>
            <a:ext cx="9144000" cy="360"/>
            <a:chOff x="3538440" y="1652760"/>
            <a:chExt cx="9144000" cy="360"/>
          </a:xfrm>
        </p:grpSpPr>
        <p:sp>
          <p:nvSpPr>
            <p:cNvPr id="102" name="Rectangle 16"/>
            <p:cNvSpPr/>
            <p:nvPr/>
          </p:nvSpPr>
          <p:spPr>
            <a:xfrm>
              <a:off x="3538440" y="1652760"/>
              <a:ext cx="914400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03" name="Group 15"/>
            <p:cNvGrpSpPr/>
            <p:nvPr/>
          </p:nvGrpSpPr>
          <p:grpSpPr>
            <a:xfrm>
              <a:off x="3538440" y="1652760"/>
              <a:ext cx="9144000" cy="360"/>
              <a:chOff x="3538440" y="1652760"/>
              <a:chExt cx="9144000" cy="360"/>
            </a:xfrm>
          </p:grpSpPr>
          <p:sp>
            <p:nvSpPr>
              <p:cNvPr id="104" name="Rectangle 14"/>
              <p:cNvSpPr/>
              <p:nvPr/>
            </p:nvSpPr>
            <p:spPr>
              <a:xfrm>
                <a:off x="3538440" y="1652760"/>
                <a:ext cx="914400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05" name="Rectangle 13"/>
              <p:cNvSpPr/>
              <p:nvPr/>
            </p:nvSpPr>
            <p:spPr>
              <a:xfrm>
                <a:off x="3538440" y="1652760"/>
                <a:ext cx="914400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</p:grpSp>
      <p:sp>
        <p:nvSpPr>
          <p:cNvPr id="106" name="Text Box 18"/>
          <p:cNvSpPr/>
          <p:nvPr/>
        </p:nvSpPr>
        <p:spPr>
          <a:xfrm>
            <a:off x="1295280" y="0"/>
            <a:ext cx="66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Verdana"/>
              </a:rPr>
              <a:t>Древние люди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371600" y="3581280"/>
            <a:ext cx="1752480" cy="3014280"/>
          </a:xfrm>
          <a:prstGeom prst="rect">
            <a:avLst/>
          </a:pr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Сто лет тому назад врач и анатом Э. Дюбуа обнаружил на острове Ява, на берегу реки Соло окаменевшие кости: черепную крышку, три зуба и бедренную кость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733920" y="4648320"/>
            <a:ext cx="1523880" cy="15253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80"/>
                </a:solidFill>
                <a:latin typeface="Times New Roman"/>
              </a:rPr>
              <a:t>Э. Дюбуа назвал обнаруженное существо обезьяно-человеком - питекантропом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5562720" y="3581280"/>
            <a:ext cx="2438280" cy="3033720"/>
          </a:xfrm>
          <a:prstGeom prst="rect">
            <a:avLst/>
          </a:prstGeom>
          <a:noFill/>
          <a:ln w="9360">
            <a:solidFill>
              <a:srgbClr val="c9c2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80"/>
                </a:solidFill>
                <a:latin typeface="Times New Roman"/>
              </a:rPr>
              <a:t>Теперь обезьянолюдей называют </a:t>
            </a:r>
            <a:r>
              <a:rPr b="1" lang="ru-RU" sz="1300" spc="-1" strike="noStrike">
                <a:solidFill>
                  <a:srgbClr val="000080"/>
                </a:solidFill>
                <a:latin typeface="Times New Roman"/>
              </a:rPr>
              <a:t>аркантропами</a:t>
            </a:r>
            <a:r>
              <a:rPr b="0" lang="ru-RU" sz="1300" spc="-1" strike="noStrike">
                <a:solidFill>
                  <a:srgbClr val="000080"/>
                </a:solidFill>
                <a:latin typeface="Times New Roman"/>
              </a:rPr>
              <a:t> (Homo erectus - человек выпрямленный, т.е. прямоходящий). Несмотря на значительное морфологическое разнообразие, их всех относят к одному виду. Жили аркантропы во всём Старом Свете, исключая, возможно, лишь самые северные области, в Америку и Австралию проникнуть не смогли. Они владели Землёй 1.5 - 0.5 млн.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transition spd="slow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0" y="2362320"/>
            <a:ext cx="32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Verdana"/>
              </a:rPr>
              <a:t>Распространяясь по областям с умеренным климатом,</a:t>
            </a:r>
            <a:br>
              <a:rPr sz="1800"/>
            </a:br>
            <a:r>
              <a:rPr b="1" i="1" lang="ru-RU" sz="1800" spc="-1" strike="noStrike">
                <a:solidFill>
                  <a:srgbClr val="6600cc"/>
                </a:solidFill>
                <a:latin typeface="Verdana"/>
              </a:rPr>
              <a:t>питекантроп обходил естественные препятствия: </a:t>
            </a:r>
            <a:br>
              <a:rPr sz="1800"/>
            </a:br>
            <a:r>
              <a:rPr b="1" i="1" lang="ru-RU" sz="1800" spc="-1" strike="noStrike">
                <a:solidFill>
                  <a:srgbClr val="6600cc"/>
                </a:solidFill>
                <a:latin typeface="Verdana"/>
              </a:rPr>
              <a:t>моря, горы, пустыни. 1,0-0,7 млн лет назад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1" name="Picture 3" descr="C:\Documents and Settings\site103\Мои документы\О.О.Г\ЭВОЛЮЦИЯ\к наземной жизни.files\17.gif"/>
          <p:cNvPicPr/>
          <p:nvPr/>
        </p:nvPicPr>
        <p:blipFill>
          <a:blip r:embed="rId1"/>
          <a:stretch/>
        </p:blipFill>
        <p:spPr>
          <a:xfrm>
            <a:off x="1371600" y="2209680"/>
            <a:ext cx="3048120" cy="31244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 rot="5400000">
            <a:off x="-2252880" y="3166920"/>
            <a:ext cx="6095880" cy="67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ПИТЕКАНТРО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76520" y="457200"/>
            <a:ext cx="64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Verdana"/>
              </a:rPr>
              <a:t>Древние люди: 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Verdana"/>
              </a:rPr>
              <a:t>питекантропы, аркантропы, синантропы </a:t>
            </a:r>
            <a:r>
              <a:rPr b="1" lang="ru-RU" sz="2400" spc="-1" strike="noStrike">
                <a:solidFill>
                  <a:srgbClr val="cc0099"/>
                </a:solidFill>
                <a:latin typeface="Verdana"/>
              </a:rPr>
              <a:t>(Homo erectus)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4" name="Picture 6" descr="C:\Documents and Settings\site103\Мои документы\О.О.Г\ЭВОЛЮЦИЯ\анимация\первобытный.-4.gif"/>
          <p:cNvPicPr/>
          <p:nvPr/>
        </p:nvPicPr>
        <p:blipFill>
          <a:blip r:embed="rId2"/>
          <a:stretch/>
        </p:blipFill>
        <p:spPr>
          <a:xfrm>
            <a:off x="5105520" y="4724280"/>
            <a:ext cx="161136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5"/>
          <p:cNvSpPr txBox="1"/>
          <p:nvPr/>
        </p:nvSpPr>
        <p:spPr>
          <a:xfrm rot="5400000">
            <a:off x="-2291040" y="3205080"/>
            <a:ext cx="60199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СИНАНТРО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18" descr="C:\Documents and Settings\site103\Мои документы\Мои рисунки\0.gif"/>
          <p:cNvPicPr/>
          <p:nvPr/>
        </p:nvPicPr>
        <p:blipFill>
          <a:blip r:embed="rId1"/>
          <a:stretch/>
        </p:blipFill>
        <p:spPr>
          <a:xfrm>
            <a:off x="4648320" y="380880"/>
            <a:ext cx="3003480" cy="2667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C:\Documents and Settings\site103\Мои документы\О.О.Г\ЭВОЛЮЦИЯ\Синантроп и чжоукоудянь.files\143.gif"/>
          <p:cNvPicPr/>
          <p:nvPr/>
        </p:nvPicPr>
        <p:blipFill>
          <a:blip r:embed="rId2"/>
          <a:stretch/>
        </p:blipFill>
        <p:spPr>
          <a:xfrm>
            <a:off x="1828800" y="304920"/>
            <a:ext cx="23623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4"/>
          <p:cNvGrpSpPr/>
          <p:nvPr/>
        </p:nvGrpSpPr>
        <p:grpSpPr>
          <a:xfrm>
            <a:off x="3743280" y="2286000"/>
            <a:ext cx="9144000" cy="360"/>
            <a:chOff x="3743280" y="2286000"/>
            <a:chExt cx="9144000" cy="360"/>
          </a:xfrm>
        </p:grpSpPr>
        <p:sp>
          <p:nvSpPr>
            <p:cNvPr id="119" name="Rectangle 23"/>
            <p:cNvSpPr/>
            <p:nvPr/>
          </p:nvSpPr>
          <p:spPr>
            <a:xfrm>
              <a:off x="3743280" y="2286000"/>
              <a:ext cx="9144000" cy="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neva"/>
              </a:endParaRPr>
            </a:p>
          </p:txBody>
        </p:sp>
        <p:grpSp>
          <p:nvGrpSpPr>
            <p:cNvPr id="120" name="Group 22"/>
            <p:cNvGrpSpPr/>
            <p:nvPr/>
          </p:nvGrpSpPr>
          <p:grpSpPr>
            <a:xfrm>
              <a:off x="3743280" y="2286000"/>
              <a:ext cx="9144000" cy="360"/>
              <a:chOff x="3743280" y="2286000"/>
              <a:chExt cx="9144000" cy="360"/>
            </a:xfrm>
          </p:grpSpPr>
          <p:sp>
            <p:nvSpPr>
              <p:cNvPr id="121" name="Rectangle 21"/>
              <p:cNvSpPr/>
              <p:nvPr/>
            </p:nvSpPr>
            <p:spPr>
              <a:xfrm>
                <a:off x="3743280" y="2286000"/>
                <a:ext cx="914400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3743280" y="2286000"/>
                <a:ext cx="9144000" cy="3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neva"/>
                </a:endParaRPr>
              </a:p>
            </p:txBody>
          </p:sp>
        </p:grpSp>
      </p:grpSp>
      <p:sp>
        <p:nvSpPr>
          <p:cNvPr id="123" name="Text Box 25"/>
          <p:cNvSpPr/>
          <p:nvPr/>
        </p:nvSpPr>
        <p:spPr>
          <a:xfrm>
            <a:off x="1447920" y="3200400"/>
            <a:ext cx="655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Lucida Sans Unicode"/>
                <a:ea typeface="Tahoma"/>
              </a:rPr>
              <a:t>С</a:t>
            </a:r>
            <a:r>
              <a:rPr b="1" lang="ru-RU" sz="1600" spc="-1" strike="noStrike">
                <a:solidFill>
                  <a:srgbClr val="800080"/>
                </a:solidFill>
                <a:latin typeface="Lucida Sans Unicode"/>
              </a:rPr>
              <a:t>инантроп</a:t>
            </a:r>
            <a:r>
              <a:rPr b="1" lang="ru-RU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  <a:ea typeface="Tahoma"/>
              </a:rPr>
              <a:t>-такое название получил ископаемый человек, череп которого был найден в Ч. В 1930 г. здесь были найдены останки еще одного черепа. Кроме того, здесь же были обнаружены куски кремня, похожие на каменные орудия, и зола от костров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4" name="Picture 26" descr="C:\Documents and Settings\site103\Мои документы\О.О.Г\ЭВОЛЮЦИЯ\Синантроп и чжоукоудянь.files\120.gif"/>
          <p:cNvPicPr/>
          <p:nvPr/>
        </p:nvPicPr>
        <p:blipFill>
          <a:blip r:embed="rId3"/>
          <a:stretch/>
        </p:blipFill>
        <p:spPr>
          <a:xfrm>
            <a:off x="2895480" y="4343400"/>
            <a:ext cx="312444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523880" y="396252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Verdana"/>
              </a:rPr>
              <a:t>Великое оледенение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990099"/>
                </a:solidFill>
                <a:latin typeface="Verdana"/>
              </a:rPr>
              <a:t>Места основных </a:t>
            </a:r>
            <a:br>
              <a:rPr sz="2400"/>
            </a:br>
            <a:r>
              <a:rPr b="0" i="1" lang="ru-RU" sz="2400" spc="-1" strike="noStrike">
                <a:solidFill>
                  <a:srgbClr val="990099"/>
                </a:solidFill>
                <a:latin typeface="Verdana"/>
              </a:rPr>
              <a:t>неандертальских находок. 0,7-0,3 млн лет назад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6" name="Picture 3" descr="C:\Documents and Settings\site103\Мои документы\О.О.Г\ЭВОЛЮЦИЯ\к наземной жизни.files\18.gif"/>
          <p:cNvPicPr/>
          <p:nvPr/>
        </p:nvPicPr>
        <p:blipFill>
          <a:blip r:embed="rId1"/>
          <a:stretch/>
        </p:blipFill>
        <p:spPr>
          <a:xfrm>
            <a:off x="2666880" y="304920"/>
            <a:ext cx="3276720" cy="3105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 rot="5400000">
            <a:off x="-2209680" y="3124080"/>
            <a:ext cx="579096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НЕАНДЕРТАЛЕ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5" descr="C:\Documents and Settings\site103\Мои документы\О.О.Г\ЭВОЛЮЦИЯ\анимация\первоб..gif"/>
          <p:cNvPicPr/>
          <p:nvPr/>
        </p:nvPicPr>
        <p:blipFill>
          <a:blip r:embed="rId2"/>
          <a:stretch/>
        </p:blipFill>
        <p:spPr>
          <a:xfrm>
            <a:off x="6553080" y="46483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Documents and Settings\site103\Мои документы\О.О.Г\ЭВОЛЮЦИЯ\анимация\следы.gif"/>
          <p:cNvPicPr/>
          <p:nvPr/>
        </p:nvPicPr>
        <p:blipFill>
          <a:blip r:embed="rId3"/>
          <a:stretch/>
        </p:blipFill>
        <p:spPr>
          <a:xfrm>
            <a:off x="1828800" y="6095880"/>
            <a:ext cx="5018040" cy="3207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371600" y="457200"/>
            <a:ext cx="6248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neva"/>
              </a:rPr>
              <a:t>В древности человечество было не менее разнообразно, чем сейчас. Наряду с кроманьонцами, порой рядом с ними, в Европе и Азии обитали представители иных форм.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1" name="WordArt 3"/>
          <p:cNvSpPr txBox="1"/>
          <p:nvPr/>
        </p:nvSpPr>
        <p:spPr>
          <a:xfrm rot="5400000">
            <a:off x="-2247840" y="3238200"/>
            <a:ext cx="586764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КРОМАНЬОНЕЦ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981080" y="5181480"/>
            <a:ext cx="518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Cyr"/>
                <a:ea typeface="Tahoma"/>
              </a:rPr>
              <a:t>Череп Костснки XIV из погребения на позднепалеолитической стоянке </a:t>
            </a:r>
            <a:r>
              <a:rPr b="0" lang="ru-RU" sz="2000" spc="-1" strike="noStrike">
                <a:solidFill>
                  <a:srgbClr val="9900ff"/>
                </a:solidFill>
                <a:latin typeface="Arial Cyr"/>
                <a:ea typeface="Tahoma"/>
              </a:rPr>
              <a:t>“</a:t>
            </a:r>
            <a:r>
              <a:rPr b="0" lang="ru-RU" sz="2000" spc="-1" strike="noStrike">
                <a:solidFill>
                  <a:srgbClr val="ff0000"/>
                </a:solidFill>
                <a:latin typeface="Arial Cyr"/>
                <a:ea typeface="Tahoma"/>
              </a:rPr>
              <a:t>Маркина гора”, с. Костенки, в 45 км к югу от г. Воронежа. 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Picture 15" descr="C:\Documents and Settings\site103\Мои документы\Мои рисунки\382.gif"/>
          <p:cNvPicPr/>
          <p:nvPr/>
        </p:nvPicPr>
        <p:blipFill>
          <a:blip r:embed="rId1"/>
          <a:stretch/>
        </p:blipFill>
        <p:spPr>
          <a:xfrm>
            <a:off x="1676520" y="2057400"/>
            <a:ext cx="2209680" cy="308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C:\Documents and Settings\site103\Мои документы\Мои рисунки\383.gif"/>
          <p:cNvPicPr/>
          <p:nvPr/>
        </p:nvPicPr>
        <p:blipFill>
          <a:blip r:embed="rId2"/>
          <a:stretch/>
        </p:blipFill>
        <p:spPr>
          <a:xfrm>
            <a:off x="4952880" y="2133720"/>
            <a:ext cx="2514600" cy="3051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1T01:23:44Z</dcterms:created>
  <dc:creator>site103</dc:creator>
  <dc:description/>
  <dc:language>en-US</dc:language>
  <cp:lastModifiedBy>Нипесикт</cp:lastModifiedBy>
  <dcterms:modified xsi:type="dcterms:W3CDTF">2013-01-25T16:17:26Z</dcterms:modified>
  <cp:revision>103</cp:revision>
  <dc:subject/>
  <dc:title>Презентация PowerPoint</dc:title>
</cp:coreProperties>
</file>