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7A2-3AE0-486F-9D1B-A2649A3E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C71-A78A-4615-AE88-A4C317FA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516-1213-40BB-8211-C4AC13AC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787-DB6B-4ABB-902A-3A15BF7A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964-4214-45A1-8B51-8E02A131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4587-0532-4C77-B2C1-869B882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9F70-4EEE-43D8-9636-C9164CDB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094-1F21-45B6-942E-7CD9ABE7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274C-8327-45EA-9D26-B235A139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F71-1313-491A-AB52-F18FD340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667-5429-4A5E-BA86-D1A4C1A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6CE-31F8-4909-8A4A-FF6962B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57E9-8014-437B-AC18-A53363A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5194-2F5E-491C-8DE2-5933C36C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05B-67F6-406A-BC3B-0814C64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0C5-A5F0-4768-93F2-E0F2AE13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4C6-EB24-4B63-B90C-1AEA18AE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B6E-DB52-4BF5-881D-168FDCDD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EEF-BB28-4A2E-8884-18C64D8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616-4835-443B-9C13-59187DF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C15-CD8A-4650-93BA-BF1D2BB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1F7-2F13-4C35-A110-28D015A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035-BBCA-44B0-AD9B-2C32AC3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E99-6FE4-4998-B925-DEEA418A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f8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A2D-AF35-42A9-AD8D-4A8554E0B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f8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CBA-B967-4885-ABEC-5F88915CF21A}" type="slidenum"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50920" y="33336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822920" y="539100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285840" y="357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Город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у подножия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САЯН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857840" y="4857840"/>
            <a:ext cx="4143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Презентацию   подготовила: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Еремеева К.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Руководитель: учитель истории 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Войнова А.Ю.,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МБОУ коррекционная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школа-интернат№8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г.Саяногорска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4" name="Picture 26" descr="F:\А.Ю.В\УРОКИ\ХАКАСИЯ, Региональный компонент\Саяно шушенская гэс\3129.jpg"/>
          <p:cNvPicPr/>
          <p:nvPr/>
        </p:nvPicPr>
        <p:blipFill>
          <a:blip r:embed="rId1"/>
          <a:stretch/>
        </p:blipFill>
        <p:spPr>
          <a:xfrm>
            <a:off x="890640" y="3754440"/>
            <a:ext cx="326700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71680" y="4643280"/>
            <a:ext cx="550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Освещает  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Хакасию,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Кузбасс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214200" y="500040"/>
            <a:ext cx="85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00"/>
                </a:solidFill>
                <a:latin typeface="Times New Roman"/>
              </a:rPr>
              <a:t>Саяно-Шушенская ГЭС имени «Непорожнего»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62000" y="2000160"/>
            <a:ext cx="32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Строительная высота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245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метров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6286320" y="392904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ет с1978 года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285840" y="32860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Установленная мощность –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6,4 млн кВт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электроэнергии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59" name="Picture 9" descr="F:\А.Ю.В\УРОКИ\ХАКАСИЯ, Региональный компонент\Саяно шушенская гэс\3057.JPG"/>
          <p:cNvPicPr/>
          <p:nvPr/>
        </p:nvPicPr>
        <p:blipFill>
          <a:blip r:embed="rId1"/>
          <a:stretch/>
        </p:blipFill>
        <p:spPr>
          <a:xfrm>
            <a:off x="6211800" y="4432320"/>
            <a:ext cx="24447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285840" y="192888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один из 300 городов, появившихся на карте нашей страны в советское время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аяногорск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появился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по  Указу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Верховного  Совета  РСФСР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6" name="Прямоугольник 7" descr=""/>
          <p:cNvPicPr/>
          <p:nvPr/>
        </p:nvPicPr>
        <p:blipFill>
          <a:blip r:embed="rId2"/>
          <a:stretch/>
        </p:blipFill>
        <p:spPr>
          <a:xfrm>
            <a:off x="-79200" y="42840"/>
            <a:ext cx="7254720" cy="11034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1004400" y="4429080"/>
            <a:ext cx="72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Times New Roman"/>
              </a:rPr>
              <a:t>6 ноября 1975 года</a:t>
            </a:r>
            <a:endParaRPr b="0" lang="en-US" sz="6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516240" y="1714680"/>
            <a:ext cx="484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Саяногорск –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9" name="Рисунок 5" descr="sayanogorsk"/>
          <p:cNvPicPr/>
          <p:nvPr/>
        </p:nvPicPr>
        <p:blipFill>
          <a:blip r:embed="rId3"/>
          <a:stretch/>
        </p:blipFill>
        <p:spPr>
          <a:xfrm>
            <a:off x="7192800" y="633240"/>
            <a:ext cx="9036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244440" y="30240"/>
            <a:ext cx="8008920" cy="12081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>
            <a:off x="214200" y="1357200"/>
            <a:ext cx="89298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Город вырос из деревни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значенное,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004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заложенной и основанной казаками – первопроходцами,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которые устанавливали южные границы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Российской империи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аринное село Означенное…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“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значенный пункт есть граница государства Российского”,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– так записано в исторических документах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547640" y="549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42960" y="135720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род Саяногорск, образованный из рабочего поселка Означенное, имеет богатую историю.</a:t>
            </a:r>
            <a:br>
              <a:rPr sz="3200"/>
            </a:b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809280" y="357120"/>
            <a:ext cx="727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82"/>
                </a:solidFill>
                <a:latin typeface="Arial"/>
                <a:ea typeface="Arial"/>
              </a:rPr>
              <a:t>Из истории города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571680" y="2928960"/>
            <a:ext cx="535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 окрестностях города обнаружены многочисленные археологические памятники, относящиеся к самым ранним появлениям человека на территории нашей страны,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мятники эпохи Великого переселения народов, раннего средневековья.</a:t>
            </a:r>
            <a:br>
              <a:rPr sz="2400"/>
            </a:b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36" name="Picture 7" descr="P7090123"/>
          <p:cNvPicPr/>
          <p:nvPr/>
        </p:nvPicPr>
        <p:blipFill>
          <a:blip r:embed="rId2"/>
          <a:stretch/>
        </p:blipFill>
        <p:spPr>
          <a:xfrm>
            <a:off x="5724360" y="2908440"/>
            <a:ext cx="29131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6"/>
          <p:cNvSpPr/>
          <p:nvPr/>
        </p:nvSpPr>
        <p:spPr>
          <a:xfrm>
            <a:off x="500040" y="128592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Люди,   населявшие территорию современной Хакасии, всегда любили и берегли природу родного края, старались бережно относиться к её богатствам: лесам, водам и кладовым земли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880560" y="214200"/>
            <a:ext cx="727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82"/>
                </a:solidFill>
                <a:latin typeface="Arial"/>
                <a:ea typeface="Arial"/>
              </a:rPr>
              <a:t>Из истории города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57120" y="357192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82"/>
                </a:solidFill>
                <a:latin typeface="Times New Roman"/>
              </a:rPr>
              <a:t>Взаимоотношения  народов являлись непростыми: были и бесчисленные военные столкновения, борьба за выживание, и периоды относительного затишья, когда шли оживленный торговый и культурные обмены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6" descr=""/>
          <p:cNvPicPr/>
          <p:nvPr/>
        </p:nvPicPr>
        <p:blipFill>
          <a:blip r:embed="rId1"/>
          <a:stretch/>
        </p:blipFill>
        <p:spPr>
          <a:xfrm>
            <a:off x="-42840" y="42840"/>
            <a:ext cx="90345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571680" y="1214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ланомерное заселение  края началось в XVIII столетии, а своим образованием и развитием город  обязан экономическим событиям середины ХХ века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857160" y="2143080"/>
            <a:ext cx="66438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Современный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Саяногорск </a:t>
            </a:r>
            <a:r>
              <a:rPr b="0" lang="ru-RU" sz="4000" spc="-1" strike="noStrike">
                <a:solidFill>
                  <a:srgbClr val="820082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город с хорошо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развитой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инфраструктурой,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соединен  с другими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городами Хакасии и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Красноярского края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43" name="Рисунок 22" descr="F:\А.Ю.В\УРОКИ\ХАКАСИЯ, Региональный компонент\Саяно шушенская гэс\3098.jpg"/>
          <p:cNvPicPr/>
          <p:nvPr/>
        </p:nvPicPr>
        <p:blipFill>
          <a:blip r:embed="rId2"/>
          <a:stretch/>
        </p:blipFill>
        <p:spPr>
          <a:xfrm>
            <a:off x="5310360" y="3962520"/>
            <a:ext cx="358452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4"/>
          <p:cNvSpPr/>
          <p:nvPr/>
        </p:nvSpPr>
        <p:spPr>
          <a:xfrm>
            <a:off x="500040" y="1071720"/>
            <a:ext cx="7929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крупнейший промышленный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центр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Республики Хакасия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785880" y="42148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В настоящее время в городе расположено 8 промышленных предприятий, выпускающих 1/4  всей продукции Хакасия.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231840" y="23760"/>
            <a:ext cx="905832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500040" y="28584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82"/>
                </a:solidFill>
                <a:latin typeface="Times New Roman"/>
              </a:rPr>
              <a:t>Основные промышленные предприятия Саяногорска: 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14200" y="1857240"/>
            <a:ext cx="87868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 А З” – Саянский алюминиевый завод -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(производство алюминия)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ШГЭС  имени Непорожнего”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- 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(производство электроэнергии)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1bff"/>
                </a:solidFill>
                <a:latin typeface="Times New Roman"/>
              </a:rPr>
              <a:t>Крупнейшая в мире Саяно-Шушенская ГЭС и Саяногорский алюминиевый завод составляют основу его специализации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214200" y="571680"/>
            <a:ext cx="46436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о строительства -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976 г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строен в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985 г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АЗ” – это один из трёх ведущих производителей алюминия в России с годовым объёмом выпускаемой продукци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430000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онн.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20082"/>
                </a:solidFill>
                <a:latin typeface="Times New Roman"/>
              </a:rPr>
              <a:t>САЗ – гигант цветной металлургии, ведущее предприятие кампании “Русский Алюминий”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26320" y="142920"/>
            <a:ext cx="77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аянский алюминиевый завод</a:t>
            </a:r>
            <a:r>
              <a:rPr b="0" lang="ru-RU" sz="3200" spc="-1" strike="noStrike">
                <a:solidFill>
                  <a:srgbClr val="990099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“С А З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51" name="Picture 2" descr="Копия (4) Отсканировано 11"/>
          <p:cNvPicPr/>
          <p:nvPr/>
        </p:nvPicPr>
        <p:blipFill>
          <a:blip r:embed="rId1"/>
          <a:stretch/>
        </p:blipFill>
        <p:spPr>
          <a:xfrm>
            <a:off x="633240" y="3938760"/>
            <a:ext cx="3084840" cy="24192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4643280" y="1714680"/>
            <a:ext cx="407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Золотой орёл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Международной бриллиантовой звездой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Международным экологическим сертификатом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5727600" y="12859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грады 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8:11:03Z</dcterms:created>
  <dc:creator>SamLab.ws</dc:creator>
  <dc:description/>
  <dc:language>en-US</dc:language>
  <cp:lastModifiedBy>шк.8</cp:lastModifiedBy>
  <dcterms:modified xsi:type="dcterms:W3CDTF">2013-04-01T01:55:15Z</dcterms:modified>
  <cp:revision>78</cp:revision>
  <dc:subject/>
  <dc:title>Слайд 1</dc:title>
</cp:coreProperties>
</file>