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1.png" ContentType="image/png"/>
  <Override PartName="/ppt/media/image1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21.jpeg" ContentType="image/jpeg"/>
  <Override PartName="/ppt/media/image16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1.jpeg" ContentType="image/jpeg"/>
  <Override PartName="/ppt/media/image7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5D9B-3CB7-4F23-B279-675541AFF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999E-3A3D-48C0-8CBC-01A733235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4A37DE-D098-4764-90F8-054442E85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54FD23-51F0-4D8D-A0C7-49BFD1E80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EE04E7-1E1E-4DA8-8B13-842CF60B3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1A74FA-6638-4BFB-81F6-ADC3D5EA3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AACAC4-A095-493B-BC62-EED3C9F72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D5208B-60F6-42A5-B7DB-9B15A913C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DFD403-5B06-4C82-9A01-A2EB34079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81449D-58A3-4AE0-886E-6524AE218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DD04F9-428D-4C65-BC06-BB974DA7C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7AD4-8755-43DA-B814-782B04044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EA8E-1BFB-4125-A570-EE162375D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72170-33F7-45C6-A9F0-2E1F47BDF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9C9F1-5335-44DB-A82F-FD8FDA195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2E186-1C7F-4646-9D94-53AC23E93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CDDBA-F334-4F30-B41D-7D6CC2A51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134E1-876C-4397-AE8A-F59B9DD1B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45D2A-24B7-4CCC-B172-59D13FAA9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71A25-B5E5-4BD3-9498-D7D59A4CE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8D3B-279B-4239-92E7-CA5ED8CE1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CBE48-C2A3-4BBB-BD2C-0E60C35DB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B2CFF-720F-4A04-AC24-31AB14CD0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1657C-96A2-4F84-84AD-CFC03B696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2834A-02F0-4797-90BB-B09864386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70073-7E5E-4CFA-B712-29BB12236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77D822-E30F-49B4-8399-5587101FD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11366D-9CD4-4A42-AFD6-8AAFE59C6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75E3AD-E1BB-48EF-9FCB-5C8222E21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E17AC6-0F5E-4D55-BFAF-DF446FE37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F99DA5-69AF-4C75-986B-DCCB9249C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6517-9AB3-483F-B2F9-70FC91C30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FF7B38-CE3F-4E16-A251-BEA215BC2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41ADCE-47BC-4680-8846-7E1321465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E038A4-009B-412D-B782-AE57E3A53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30C1C0-D584-4D35-BF29-6F60C8809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1970EA-640B-4A33-8A03-37AD872D3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B5DC84-3DE9-4156-A440-3653EC8D3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61D9FF-8771-4FEF-A05D-C6730A7BC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E0DB97-D68E-491C-99DA-633426565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E1F8BC-047E-42C0-9ECD-C95F7AA32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CB6BE4-A4A3-4119-8FDE-F5B899FFA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7B2E-8AD3-4B1D-B17F-F6D5AC647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80B939-AA9F-48BF-8635-5EA425119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A6023D-DB46-4CC6-88D9-763112D82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BC66C3-CAA3-4740-A35B-18030FA27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D1B322-43B1-4A52-A2FF-40ED7D04A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68F611-F0AD-4B3B-9FF6-A5682AA37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DE1FB3-111B-4825-88CE-85D22032B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84DFAC-AAD1-4265-82F6-1795A9CB0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CADBB0-AE6B-417A-B641-5D35F3431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2F80FD-A7DE-4801-BB88-BF460F716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65A403-9DC2-4504-A470-47B4C8E98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F88F-AC52-4753-8D3E-9100DE56D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A43445-D092-4977-A32E-859FB71DB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056345-02E2-4B8A-95BE-4672475B8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809927-DAB1-41CD-A175-E73D25462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9CE6C5-FD43-4F3E-AC0B-D620FC4C6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92AD75-8E89-496F-9209-3F18B0D2F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100E53-F328-41DB-A1A5-F87E16E46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9111CD-E23A-4566-BF50-61860066D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705E9D-81AA-4CBE-8D8B-2B803016D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512055-675F-4A76-9CDC-0FCCAB499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0ECB6A-2EC7-4668-83EC-8E4016204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3118-42F6-49C8-8C3F-1FC2DA288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5F7EE7-145F-41BC-9397-76A267798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72CFB6-1E6D-4C8D-9635-B6CE642A9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07EF55-F4DF-492E-977D-32D0407C2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73985D-3DE5-466A-B55F-ED8ED8CDA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BD8409-6F41-4121-84EC-8D190DB34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983E1E-1155-44EB-BEAD-623D25B05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75BB74-5435-41AF-B4D8-AE0BACC9A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686EEB-7DBA-4297-B18B-44332B31E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F84EF2-4886-4001-A7E5-22963CA23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AE7DA3-3378-4ECC-A35C-A82033BE3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AF3F-E0C8-44C3-94BD-00C2704BD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0E3847-A390-4783-926E-3C5A89AB8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784309-D50C-4606-BCBC-7995580CB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2EC3AF-A3E3-41FD-9B39-7F30ACCB5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54DC2A-FFB8-48C0-AAF1-B8D42E2DD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6227EC-94A8-4E3D-AFBE-3B090B2CB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02042C-7319-4DDF-857A-5E64C78BA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C8B49C-9EC9-439F-9C21-9C9E6FA3C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C9E532-C314-454E-B55E-23A9E5FC5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C6CA40-F29F-49D6-86CE-3FC363084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BB419B-884C-4D04-B968-EFBF9CF5E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BF24-B25A-41F4-BCEC-CD4BE82AB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3C827D-0EE7-4505-94B8-08EED1E1A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205201-453E-4741-9151-0F9EC9A20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E84A64-58C5-452C-AA6D-7DD14D572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BDA2BA-8D28-4534-9E93-9CB23E033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E554AB-A129-4282-85D0-EE1F294D3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FB7D9B-5EFF-4581-A30C-70AB3EE04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A80D11-D651-4FCB-A1E5-E91B85E9C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96362D-07AF-45F4-AB55-7EE3E484A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CC7CF8-9B44-493C-99F5-6824AEBAC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7CF7C3-5145-4F7F-8279-D3F207EC1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DD59-FCF9-4729-9BF4-51228ABB8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5C7DE1-24F0-40EF-9CE0-A1ABF3F20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E45A05-F73F-4128-A708-E8531A2A6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579E4A-7BAC-4B1A-AADD-CD12F501C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732FE4-8462-41B9-A98D-882155443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8BCCFD-960D-4CBC-B0C3-E432691EF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72849C-F168-4E1B-B9FC-E332C8313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3A32AA-F3DE-4F73-817B-8FB9E35C9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C2C79E-E22E-46FC-B495-9082057BC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C66A22-AA52-469B-B541-B5155CE59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E133EC-82DA-4542-9791-324F28E55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F4EF9-1055-4E97-A77D-E1628060A231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FA5DB-434E-40B5-9096-2795CD519330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A3F53-CD4A-4E4A-B800-6ADAFA7BDCEF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D9AFE-9030-4E94-B19B-551D57489592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CD783-0467-4B0F-8998-F4AF95CFE913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0A44E-977D-492F-9400-A21A332EBE8B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7CF0E-EAC7-4B34-92BE-F86FECE70384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0E513-CDE2-438E-88E7-39458A467826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EF692-7393-4D9A-BEE6-360D2652C09F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80520" y="4852800"/>
            <a:ext cx="8458200" cy="12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ubTitle"/>
          </p:nvPr>
        </p:nvSpPr>
        <p:spPr>
          <a:xfrm>
            <a:off x="380520" y="38862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43329"/>
                </a:solidFill>
                <a:latin typeface="Franklin Gothic Book"/>
              </a:rPr>
              <a:t>ОАО  «ХЛЕБНАЯ БАЗА №39»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Заголовок 1" descr=""/>
          <p:cNvPicPr/>
          <p:nvPr/>
        </p:nvPicPr>
        <p:blipFill>
          <a:blip r:embed="rId1"/>
          <a:stretch/>
        </p:blipFill>
        <p:spPr>
          <a:xfrm>
            <a:off x="225360" y="2279520"/>
            <a:ext cx="8772480" cy="428004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2" descr="C:\Documents and Settings\Admin\Мои документы\Мои рисунки\Изображение\Изображение 058.jpg"/>
          <p:cNvPicPr/>
          <p:nvPr/>
        </p:nvPicPr>
        <p:blipFill>
          <a:blip r:embed="rId2"/>
          <a:stretch/>
        </p:blipFill>
        <p:spPr>
          <a:xfrm>
            <a:off x="1917720" y="609480"/>
            <a:ext cx="54608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Заголовок 1" descr=""/>
          <p:cNvPicPr/>
          <p:nvPr/>
        </p:nvPicPr>
        <p:blipFill>
          <a:blip r:embed="rId1"/>
          <a:stretch/>
        </p:blipFill>
        <p:spPr>
          <a:xfrm>
            <a:off x="255600" y="450720"/>
            <a:ext cx="8742240" cy="79848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2" descr="C:\Documents and Settings\Admin\Мои документы\Мои рисунки\Изображение\Изображение 051.jpg"/>
          <p:cNvPicPr/>
          <p:nvPr/>
        </p:nvPicPr>
        <p:blipFill>
          <a:blip r:embed="rId2"/>
          <a:stretch/>
        </p:blipFill>
        <p:spPr>
          <a:xfrm>
            <a:off x="380880" y="1074600"/>
            <a:ext cx="8534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Заголовок 1" descr=""/>
          <p:cNvPicPr/>
          <p:nvPr/>
        </p:nvPicPr>
        <p:blipFill>
          <a:blip r:embed="rId1"/>
          <a:stretch/>
        </p:blipFill>
        <p:spPr>
          <a:xfrm>
            <a:off x="255600" y="450720"/>
            <a:ext cx="8742240" cy="8780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2" descr="C:\Documents and Settings\Admin\Мои документы\Мои рисунки\Изображение\Изображение 052.jpg"/>
          <p:cNvPicPr/>
          <p:nvPr/>
        </p:nvPicPr>
        <p:blipFill>
          <a:blip r:embed="rId2"/>
          <a:stretch/>
        </p:blipFill>
        <p:spPr>
          <a:xfrm>
            <a:off x="-6480" y="1468440"/>
            <a:ext cx="9150480" cy="47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Заголовок 1" descr=""/>
          <p:cNvPicPr/>
          <p:nvPr/>
        </p:nvPicPr>
        <p:blipFill>
          <a:blip r:embed="rId1"/>
          <a:stretch/>
        </p:blipFill>
        <p:spPr>
          <a:xfrm>
            <a:off x="237960" y="450720"/>
            <a:ext cx="8759880" cy="85428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2" descr="C:\Documents and Settings\Admin\Мои документы\Мои рисунки\Изображение\Изображение 053.jpg"/>
          <p:cNvPicPr/>
          <p:nvPr/>
        </p:nvPicPr>
        <p:blipFill>
          <a:blip r:embed="rId2"/>
          <a:stretch/>
        </p:blipFill>
        <p:spPr>
          <a:xfrm>
            <a:off x="914400" y="1219320"/>
            <a:ext cx="7315200" cy="55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Заголовок 1" descr=""/>
          <p:cNvPicPr/>
          <p:nvPr/>
        </p:nvPicPr>
        <p:blipFill>
          <a:blip r:embed="rId1"/>
          <a:stretch/>
        </p:blipFill>
        <p:spPr>
          <a:xfrm>
            <a:off x="255600" y="152280"/>
            <a:ext cx="8742240" cy="173700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2" descr="C:\Documents and Settings\Admin\Мои документы\Мои рисунки\Изображение\Изображение 054.jpg"/>
          <p:cNvPicPr/>
          <p:nvPr/>
        </p:nvPicPr>
        <p:blipFill>
          <a:blip r:embed="rId2"/>
          <a:stretch/>
        </p:blipFill>
        <p:spPr>
          <a:xfrm>
            <a:off x="503280" y="2109960"/>
            <a:ext cx="8289720" cy="34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Заголовок 1" descr=""/>
          <p:cNvPicPr/>
          <p:nvPr/>
        </p:nvPicPr>
        <p:blipFill>
          <a:blip r:embed="rId1"/>
          <a:stretch/>
        </p:blipFill>
        <p:spPr>
          <a:xfrm>
            <a:off x="255600" y="450720"/>
            <a:ext cx="8785080" cy="87804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e3b30"/>
                </a:solidFill>
                <a:latin typeface="Franklin Gothic Book"/>
              </a:rPr>
              <a:t>С 1954 г по 1957г предприятием  управлял  Кулешов С.В.  За период  с 1957 г по 1965г сменилось два директора – Айтуганов и Долгих.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e3b30"/>
                </a:solidFill>
                <a:latin typeface="Franklin Gothic Book"/>
              </a:rPr>
              <a:t>В 1965г Леньковское ХПП переименовано в  Хлебную базу № 39. С этого времени и до 1973 г предприятием руководил Кирюшкин Е.Е..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e3b30"/>
                </a:solidFill>
                <a:latin typeface="Franklin Gothic Book"/>
              </a:rPr>
              <a:t>Его сменил  Ипполитов  Б.В.  И управлял Хлебной базой до 1979 г..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e3b30"/>
                </a:solidFill>
                <a:latin typeface="Franklin Gothic Book"/>
              </a:rPr>
              <a:t>С 1979 г по 1983 г директором был Долгов В.И., затем  до 1986 г – Гавелла А.Н..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e3b30"/>
                </a:solidFill>
                <a:latin typeface="Franklin Gothic Book"/>
              </a:rPr>
              <a:t>С 17 июля 1986 г  и до настоящего времени предприятием  управляет Гончар С.Л..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e3b30"/>
                </a:solidFill>
                <a:latin typeface="Franklin Gothic Book"/>
              </a:rPr>
              <a:t>За этот период предприятие переименовывалось ещё два раза: в 1994 г оно называлось  Акционерное общество открытого типа «Хлебная база №39» (АООТ «ХБ №39), а с 1997 г – называется  Открытое  акционерное общество « Хлебная база №39»  (ОАО «ХБ №39)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Заголовок 1" descr=""/>
          <p:cNvPicPr/>
          <p:nvPr/>
        </p:nvPicPr>
        <p:blipFill>
          <a:blip r:embed="rId1"/>
          <a:stretch/>
        </p:blipFill>
        <p:spPr>
          <a:xfrm>
            <a:off x="103320" y="987480"/>
            <a:ext cx="2877840" cy="504180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2" descr="C:\Documents and Settings\Admin\Мои документы\Мои рисунки\Изображение\Изображение 055.jpg"/>
          <p:cNvPicPr/>
          <p:nvPr/>
        </p:nvPicPr>
        <p:blipFill>
          <a:blip r:embed="rId2"/>
          <a:stretch/>
        </p:blipFill>
        <p:spPr>
          <a:xfrm>
            <a:off x="2819520" y="1447920"/>
            <a:ext cx="6172200" cy="41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76868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2" descr="C:\Documents and Settings\Admin\Мои документы\Мои рисунки\Изображение\Изображение 056.jpg"/>
          <p:cNvPicPr/>
          <p:nvPr/>
        </p:nvPicPr>
        <p:blipFill>
          <a:blip r:embed="rId2"/>
          <a:stretch/>
        </p:blipFill>
        <p:spPr>
          <a:xfrm>
            <a:off x="380880" y="2151000"/>
            <a:ext cx="6858000" cy="44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Заголовок 1" descr=""/>
          <p:cNvPicPr/>
          <p:nvPr/>
        </p:nvPicPr>
        <p:blipFill>
          <a:blip r:embed="rId1"/>
          <a:stretch/>
        </p:blipFill>
        <p:spPr>
          <a:xfrm>
            <a:off x="255600" y="79200"/>
            <a:ext cx="8785080" cy="173700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2" descr="C:\Documents and Settings\Admin\Мои документы\Мои рисунки\Изображение\Изображение 057.jpg"/>
          <p:cNvPicPr/>
          <p:nvPr/>
        </p:nvPicPr>
        <p:blipFill>
          <a:blip r:embed="rId2"/>
          <a:stretch/>
        </p:blipFill>
        <p:spPr>
          <a:xfrm>
            <a:off x="2514600" y="2286000"/>
            <a:ext cx="5950080" cy="39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10-18T01:55:49Z</dcterms:modified>
  <cp:revision>11</cp:revision>
  <dc:subject/>
  <dc:title>Слайд 1</dc:title>
</cp:coreProperties>
</file>