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FD47-30DD-4A0F-BFD9-3DD8A833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17B-2C84-42A5-BFE8-68DEF542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A08D1-AC4B-4B53-BD1F-57C44907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7C488-3CD1-4290-978D-480E9815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D2AB8-8EA5-4121-8859-B2B066EF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9B471-4822-4CE4-A11A-D5DCD0D8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0A94A-C4D7-4186-A509-58045D1F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F9299-0125-4D4F-85BB-706A10CA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91500-99E0-44D0-929A-0912BFF6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92BEB-1A99-4E73-A6FE-D7C0B489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48AC0-4529-4455-9CDD-B77518CD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9FD-6CFE-4094-8D62-9A4F1E31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D6E-0BF4-46A3-A247-042CACA8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2611-E1A4-4748-AF97-5D6CE548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A565-CE25-47F1-9CE1-16E261DC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2BF9-2B72-4706-94C7-5ED53DCF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88F6-E4D6-45FB-845D-4FC9F2E8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3B0D-3B1F-44FE-AA2D-7160691B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8F6D-2200-4AFE-B3CC-4669EB5E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3EEE-A9E5-4648-BDFA-DAF8A4E0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4BA-1949-4758-8F3E-BDF5CF7B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3E87-D935-4B6E-B0CB-EF88A8A0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03BA-E722-4079-8D96-AAD17AC6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9733-19A0-4A2D-94AF-1A5DD82B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83E7-B8AB-42F7-8BE8-F6263CD5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C75F-02CA-499A-BF80-8B3A15EE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B2EA1-EE4F-471A-BD7E-201C3531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B8032-395A-440A-9E68-B828F81B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AD01E-F754-4AFE-A9A5-CD064E5A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6D096-DA1B-4612-8962-21F83B03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649B6-03FA-44FD-926C-B5B63F73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94B-D932-4F5D-820D-5C1C1DC5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A45C9-6C5F-4906-B579-7876DDE2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25B4C-5179-47B5-983C-8FE272C2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7ECE9-6CC1-4623-8932-623522B7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28FD2-7A49-4CF6-84A9-0736F1CE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50625-C813-4B98-A9FB-E29F152E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36851-2A45-4702-945C-292226EF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EB8AC-45B6-4DE6-9963-729B21D3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85619-2676-4335-8F03-2797611B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29B91-67DD-4170-92CD-1FB48280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F639E-9FE2-4FE7-9929-34F06630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379-DEE4-4BBC-8684-1606F157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FD9C6-9DE5-48AF-AD75-870685C7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C4C2E-53BC-4637-B68E-F6C03B77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7C771-8138-46CE-9CDE-9D18369B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76669-3ABC-48E0-9C17-29145491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0C603-A1D0-483B-9BA7-4CF63F20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FD193-8F30-4CDB-95FF-7C6FEA2D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AE04F-C455-43C2-BCD1-0A4241EF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CD138-E431-41EC-9CD3-2F2AE3D6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C411A-CC89-40DF-BB13-371F83E2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0B85F-611E-44A5-87D5-3B9518F5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2FC-A355-47B5-90A4-F04CCFDA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AFF8F-88AB-4E0B-B60B-64F503C2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D142C-5020-43E7-B436-720B14E6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A3635-7AA9-4EF2-AE63-34C8926D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4DBA7-6651-4D56-A74E-7F83B445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08D0A-5B41-45D6-8DF0-3F7673A8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C2D12-9585-41C2-AA7D-46FF41C3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EC425-F193-4DB5-A705-166DC612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C183F-0DB6-4562-ADB3-270FAA03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DD93B-F2E5-4277-8303-ED6AF691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CA6DB-9F3A-4070-AD08-87C67749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CA3F-B219-45C9-BF02-C37AB40F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4B56D-29E4-473C-83FD-718DA33C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2F17D-AA08-4A7E-848E-F00AF534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EC2A8-79A4-4430-BCF4-B0168C13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3837C-60CF-46ED-8C47-FCD5D170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0A766-B4A9-4664-83B5-E4D39E72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62850-5132-4E82-A608-99A5056D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473C5-C94A-4D66-990B-78B1E902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C8D4E-2B5B-4DD7-A789-F90BB771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B18EA-09AC-4FE6-BB50-826CD841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5CF21-9607-44C4-B4BE-F603D704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58F-96DD-44B2-8127-4E528327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CE6AF-21D4-4FF4-B581-6615020B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F6277-18D4-4AE4-9953-2E3F2C0C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CB8AF-F00B-4E51-AAF0-CF32174E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CE93E-1A7C-447D-8142-0DBBF469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9CA68-B855-4EFE-BBC8-19772A90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A7195-E55C-42CE-AAAB-CFA0424B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35328-A932-401B-A280-7186CA6F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F5B34-3178-4206-A986-3B966DF4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95DFB-7A0A-49D6-863D-4D6EFD26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CF3D4-07CE-497C-B1C7-4CD8A236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31E-2BC9-4C02-9C66-A835D0C7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17676-69F2-4958-A39F-D4AF6917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97B98-A00A-43E2-AC66-D180D8E4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88CB4-9F79-4E1E-B534-DE0809F5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5FD46-833A-4D10-BEA5-77743795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C756C-F094-4394-82B9-68F21AE0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5A2B7-1061-4133-8045-F1099007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BAE34-804E-4777-94B3-FCE9A862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DD93B-9684-4CFA-A704-42B05BBD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27AF5-9C6E-425A-8E7F-54BA3AA7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E58AD-89B7-475A-85AE-C1E27E90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8C6-AE08-41EB-845F-7CC2A77E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4C533-9BFD-4859-81E6-23D11346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1AE05-E0BE-44C4-A51F-C5724675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C7F17-6660-4A84-8249-B32351BC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AF76B-7D9F-4C8B-A38A-7764C48C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52356-39C8-46B7-A842-47E3336D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26F83-24AF-45C6-A1E8-FC34F911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E6FDE-277B-41D7-86A5-19DED0DC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BB050-FC81-4F1A-8FE4-B6AD5B05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E7D29-9AE0-4000-AE33-C9233A10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6FE54-64E1-4846-98C1-80920221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C217-4F2F-4DD5-849F-47800614C21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72A3-F664-413B-8E49-A2352314310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33E8-4738-45E5-BA08-CA06B70AA1B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DBBB-1793-4927-BE5A-90711D694F4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81A5-FB09-490C-962C-2D3EF64A938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51C4-5BFA-4C8A-A551-88DDBBC3227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5263-A5EB-4D55-BB40-CC58F4F10A8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E683-206D-4324-9168-56D13EEC9E3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CBF8-75DC-478E-9CE6-DC1C2BB1DEA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ОАО  «ХЛЕБНАЯ БАЗА №39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225360" y="2279520"/>
            <a:ext cx="8772480" cy="4280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Documents and Settings\Admin\Мои документы\Мои рисунки\Изображение\Изображение 058.jpg"/>
          <p:cNvPicPr/>
          <p:nvPr/>
        </p:nvPicPr>
        <p:blipFill>
          <a:blip r:embed="rId2"/>
          <a:stretch/>
        </p:blipFill>
        <p:spPr>
          <a:xfrm>
            <a:off x="1917720" y="609480"/>
            <a:ext cx="5460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55600" y="450720"/>
            <a:ext cx="8742240" cy="7984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C:\Documents and Settings\Admin\Мои документы\Мои рисунки\Изображение\Изображение 051.jpg"/>
          <p:cNvPicPr/>
          <p:nvPr/>
        </p:nvPicPr>
        <p:blipFill>
          <a:blip r:embed="rId2"/>
          <a:stretch/>
        </p:blipFill>
        <p:spPr>
          <a:xfrm>
            <a:off x="380880" y="1074600"/>
            <a:ext cx="8534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255600" y="450720"/>
            <a:ext cx="8742240" cy="878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C:\Documents and Settings\Admin\Мои документы\Мои рисунки\Изображение\Изображение 052.jpg"/>
          <p:cNvPicPr/>
          <p:nvPr/>
        </p:nvPicPr>
        <p:blipFill>
          <a:blip r:embed="rId2"/>
          <a:stretch/>
        </p:blipFill>
        <p:spPr>
          <a:xfrm>
            <a:off x="-6480" y="1468440"/>
            <a:ext cx="91504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37960" y="450720"/>
            <a:ext cx="8759880" cy="854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C:\Documents and Settings\Admin\Мои документы\Мои рисунки\Изображение\Изображение 053.jpg"/>
          <p:cNvPicPr/>
          <p:nvPr/>
        </p:nvPicPr>
        <p:blipFill>
          <a:blip r:embed="rId2"/>
          <a:stretch/>
        </p:blipFill>
        <p:spPr>
          <a:xfrm>
            <a:off x="914400" y="1219320"/>
            <a:ext cx="731520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742240" cy="1737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Documents and Settings\Admin\Мои документы\Мои рисунки\Изображение\Изображение 054.jpg"/>
          <p:cNvPicPr/>
          <p:nvPr/>
        </p:nvPicPr>
        <p:blipFill>
          <a:blip r:embed="rId2"/>
          <a:stretch/>
        </p:blipFill>
        <p:spPr>
          <a:xfrm>
            <a:off x="503280" y="2109960"/>
            <a:ext cx="82897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55600" y="450720"/>
            <a:ext cx="8785080" cy="8780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С 1954 г по 1957г предприятием  управлял  Кулешов С.В.  За период  с 1957 г по 1965г сменилось два директора – Айтуганов и Долгих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В 1965г Леньковское ХПП переименовано в  Хлебную базу № 39. С этого времени и до 1973 г предприятием руководил Кирюшкин Е.Е.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Его сменил  Ипполитов  Б.В.  И управлял Хлебной базой до 1979 г.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С 1979 г по 1983 г директором был Долгов В.И., затем  до 1986 г – Гавелла А.Н.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С 17 июля 1986 г  и до настоящего времени предприятием  управляет Гончар С.Л.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За этот период предприятие переименовывалось ещё два раза: в 1994 г оно называлось  Акционерное общество открытого типа «Хлебная база №39» (АООТ «ХБ №39), а с 1997 г – называется  Открытое  акционерное общество « Хлебная база №39»  (ОАО «ХБ №39)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3320" y="987480"/>
            <a:ext cx="2877840" cy="5041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Documents and Settings\Admin\Мои документы\Мои рисунки\Изображение\Изображение 055.jpg"/>
          <p:cNvPicPr/>
          <p:nvPr/>
        </p:nvPicPr>
        <p:blipFill>
          <a:blip r:embed="rId2"/>
          <a:stretch/>
        </p:blipFill>
        <p:spPr>
          <a:xfrm>
            <a:off x="2819520" y="1447920"/>
            <a:ext cx="617220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768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C:\Documents and Settings\Admin\Мои документы\Мои рисунки\Изображение\Изображение 056.jpg"/>
          <p:cNvPicPr/>
          <p:nvPr/>
        </p:nvPicPr>
        <p:blipFill>
          <a:blip r:embed="rId2"/>
          <a:stretch/>
        </p:blipFill>
        <p:spPr>
          <a:xfrm>
            <a:off x="380880" y="2151000"/>
            <a:ext cx="68580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785080" cy="1737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Documents and Settings\Admin\Мои документы\Мои рисунки\Изображение\Изображение 057.jpg"/>
          <p:cNvPicPr/>
          <p:nvPr/>
        </p:nvPicPr>
        <p:blipFill>
          <a:blip r:embed="rId2"/>
          <a:stretch/>
        </p:blipFill>
        <p:spPr>
          <a:xfrm>
            <a:off x="2514600" y="2286000"/>
            <a:ext cx="59500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0-18T01:55:49Z</dcterms:modified>
  <cp:revision>11</cp:revision>
  <dc:subject/>
  <dc:title>Слайд 1</dc:title>
</cp:coreProperties>
</file>