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55B-43B0-4663-9064-CC79882E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92F-23D9-4383-85F5-0C82AAB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920-D278-45AD-9616-0B4C3E96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7C4-2721-4F5E-94AC-D7190F73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601-593F-4B2E-940A-22965FE0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9A3-A00D-4C1A-AAC1-EB4A4C5D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882B-3C67-46BB-BB06-2D8414A9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488-C9AE-4EEA-93EA-F3E2EAA3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2AD-B721-4736-847D-7CE761CC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42E-AB1E-4B40-9D2B-82BB797E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E25-D5F4-4C85-B01C-12294C0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FA2-075C-4577-B673-7CC260F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8287-4D61-4088-9C45-51EC9AC23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619760" cy="428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Художественное мышление в авангард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343040" y="609480"/>
            <a:ext cx="4267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льтурное  развитие  включает  в  себя  и  достижения  технического  прогресса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истории  культуры много  различных фактов,  подтверждающих  э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356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322800" cy="2236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14440" y="60912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ний  эпохи  Возрождени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еонардо  да  Вин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уже  в  XV  в.  разработал модель  летательного  аппарата!  Его, правда,  тогда  так  и  не  построили,  но чертежи  сохрани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нцузский  писатель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норе  де Бальз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1799—1850)  в  своей  эпопее «Человеческая  комедия»,  включающей множество  романов  и  рассказов,  раньше  ученых  сделал  отдельные  наблюдения, связанные с биологической природой  человека,  исследовал  психологию душевной  деформации 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34340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скизы летательных аппа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цузский  писатель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юль  Вер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828—1905),  один  из  основателей жанра  научной  фантастики,  предсказал  полеты  на  Луну  в  то  время,  когда ни самолетов, а тем более ракет еще не было.  Во  многих  произведениях  писателя  звучит  протест  против  использования  науки  в  преступных  целях.  Значит  и  эту  возможность  он  предвид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исатель, граф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ексей Николаевич  Толс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1882—1945),  автор известных  исторических  романов,  написал  и  несколько  не  менее  популярных  научно-фантастических  произведений.  В  них  он  предсказал  появление  лазера  и  космических  кора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0632800">
            <a:off x="6477120" y="304560"/>
            <a:ext cx="1743120" cy="24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19920" y="2895480"/>
            <a:ext cx="2541600" cy="355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95480" y="53341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и и обл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и Жюль Ве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утешествие на Лун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4419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ий  инженер  Лев  Сергеевич Термен  (1896—1993) предвидел  появление  современного  синтезатора  и  звучание  электронной  музыки.  В  1920  г.  им  был  изобретен  терменвокс —  электромузыкальный инструмент, на котором  звук  извлекается  путем  перемещения  рук  исполнителя  в  электромагнитном  поле  вблизи  металлической  антенны.  Терменвокс  может  звучать  как  скрипка,  виолончель,  флейта.  Инструмент  предназначен  для исполнения  любых  (классических,  эстрадных,  джазовых)  музыкальных  произведений,  а  также  для  создания  различных  звуковых  эффектов  (пение  птиц,  свист и  др.),  которые  находят  применение  при  озвучении кинофильмов,  в  театральных  постановках,  цирковых программах.  Л.  Термен  считал,  что  самое  удачное  произведение для демонстрации возможностей  терменвокса —  «Вокализ»  С.  Рахманин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2846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0440200">
            <a:off x="1219320" y="2514240"/>
            <a:ext cx="2257200" cy="3749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ая  фантастика  не  только  проектировала  технический  прогресс  человечества,  но  и  стремилась  предугадать  будущее  человека  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 rot="1191600">
            <a:off x="5409720" y="2666520"/>
            <a:ext cx="244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1T08:39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