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AC73-8EF7-4245-AC5C-9ED4B4BD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9A41-A282-4EF7-84E7-9F254577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6B60-A495-4DF1-BF3C-5448EFE4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509C-44C9-451D-AE77-9B5DA1F6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E81C-6AE5-4664-AD3A-F0E371B3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B1ED-83A5-472D-BFE9-8D177A0F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0956-6A56-4026-BB95-FCAE0FD0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646F-48C2-4381-A4B5-1F06CF12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29B3-223C-4483-9FB4-2753FF75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EE94-CD15-4789-954F-ACC44F0C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9317-1FAF-4130-A492-5E8D25FC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407-E148-4236-895C-26194FD6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CF17-A987-48F6-B73E-F6BF753DA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62120" y="1295280"/>
            <a:ext cx="7619760" cy="428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Художественное мышление в авангарде н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343040" y="609480"/>
            <a:ext cx="4267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льтурное  развитие  включает  в  себя  и  достижения  технического  прогресса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истории  культуры много  различных фактов,  подтверждающих  э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3560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3322800" cy="2236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114440" y="609120"/>
            <a:ext cx="4419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ений  эпохи  Возрождения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еонардо  да  Винч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уже  в  XV  в.  разработал модель  летательного  аппарата!  Его, правда,  тогда  так  и  не  построили,  но чертежи  сохранили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анцузский  писатель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норе  де Бальз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1799—1850)  в  своей  эпопее «Человеческая  комедия»,  включающей множество  романов  и  рассказов,  раньше  ученых  сделал  отдельные  наблюдения, связанные с биологической природой  человека,  исследовал  психологию душевной  деформации 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343400"/>
            <a:ext cx="335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онардо да Вин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скизы летательных аппар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5410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анцузский  писатель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Жюль  Вер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1828—1905),  один  из  основателей жанра  научной  фантастики,  предсказал  полеты  на  Луну  в  то  время,  когда ни самолетов, а тем более ракет еще не было.  Во  многих  произведениях  писателя  звучит  протест  против  использования  науки  в  преступных  целях.  Значит  и  эту  возможность  он  предвидел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ий писатель, граф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лексей Николаевич  Толст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1882—1945),  автор известных  исторических  романов,  написал  и  несколько  не  менее  популярных  научно-фантастических  произведений.  В  них  он  предсказал  появление  лазера  и  космических  кораб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 rot="20632800">
            <a:off x="6477120" y="304560"/>
            <a:ext cx="1743120" cy="2438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019920" y="2895480"/>
            <a:ext cx="2541600" cy="3554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95480" y="53341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и и обло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и Жюль Вер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утешествие на Лун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44197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сский  инженер  Лев  Сергеевич Термен  (1896—1993) предвидел  появление  современного  синтезатора  и  звучание  электронной  музыки.  В  1920  г.  им  был  изобретен  терменвокс —  электромузыкальный инструмент, на котором  звук  извлекается  путем  перемещения  рук  исполнителя  в  электромагнитном  поле  вблизи  металлической  антенны.  Терменвокс  может  звучать  как  скрипка,  виолончель,  флейта.  Инструмент  предназначен  для исполнения  любых  (классических,  эстрадных,  джазовых)  музыкальных  произведений,  а  также  для  создания  различных  звуковых  эффектов  (пение  птиц,  свист и  др.),  которые  находят  применение  при  озвучении кинофильмов,  в  театральных  постановках,  цирковых программах.  Л.  Термен  считал,  что  самое  удачное  произведение для демонстрации возможностей  терменвокса —  «Вокализ»  С.  Рахманин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57800" y="685800"/>
            <a:ext cx="28465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 rot="20440200">
            <a:off x="1219320" y="2514240"/>
            <a:ext cx="2257200" cy="37497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ая  фантастика  не  только  проектировала  технический  прогресс  человечества,  но  и  стремилась  предугадать  будущее  человека  и об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 rot="1191600">
            <a:off x="5409720" y="2666520"/>
            <a:ext cx="244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01T08:39:4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