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F04-D40E-41D1-9F34-71A86D7F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B0BB-6B4C-4D08-B441-2D548041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C367-9536-4B27-9926-2DC827DD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856-1137-4AD8-8239-0AA2A817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21A9-F0E3-4A3A-A773-72FBEE2F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F602-5844-44A7-96CA-9AF7FE79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1F6E-BE4F-44CB-B606-A608E6E3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C38B-58D0-4B49-A131-E1CBC2B4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B4ED-D30F-4F9F-AC3B-04811DB7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C640-4E27-4998-8669-8F7922E1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EC73-87E7-4A24-BCA8-38625C1F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06B2-52DE-464E-8A5B-BDBAF284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9565-A85E-4E2C-9FCE-917925CD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BE07-AACE-49AD-BF5B-042617A5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B120-114C-4494-87FA-FBB439AC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9D39-AB93-4858-9F84-5550673C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B63C-C554-46B7-9411-69DD1973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2EB-47B4-46AF-B04A-4D640A92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889-38C6-43F0-87E5-73D52B16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83DD-D75F-462B-B414-BE179DBE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CB9-6C55-499C-9AB0-8B08D67D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4EC-2EEE-411D-8A3D-8166EF67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91D-6AB1-472A-B25B-981F591E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DE9-3D1B-488E-978A-BB779CE1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EFB0-4C5E-4DD8-A21E-824C14A91B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F972-05FE-4CBF-AAAD-FFB44ADF6F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7240"/>
            <a:ext cx="777240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Изобразительная природа кино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2280" y="1523520"/>
            <a:ext cx="5029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е  произведение  искусства создает  неповторимую  модель  мира. Более  полувека  назад  (в  1957  г.)  появился на  свет художественный фильм «Летят  журавли»  (режиссер  М.  Колотозов,  оператор  С.  Урусевский),  который  снискал  заслуженную  славу  и  в отечественном,  и  в  зарубежном  кинематографе.  Пальмовая  ветвь  Международного  Каннского  кинофестиваля приравняла  ленту  к  шедеврам  таких признанных  мастеров,  как  Ф.  Феллини  и  М. Антониони  (Итал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554280" cy="525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34120" y="58672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катный плакат кинофил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Летят журав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038120" y="144756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 основе  сюжета фильма  —  пьеса драматурга  В.  Розова  «Вечно  живые», дань  памяти  прошедшим  войну  и  наставление  будущим  поколениям.  В ней  через конкретные  истории  самых обыкновенных  людей  раскрывается судьба  целого  народа, исковерканная, покореженная  войной  (1941–1945  гг.)., но  не  сломл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886200" cy="2684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17880" y="4724280"/>
            <a:ext cx="23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др из кинофил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Летят журав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 драматическом  фильме  «Летят  журавли»  органично  соединяются  боль  и радость,  потери  и  обретения,  юмор  и слезы,  молодость  и  мудрость.  Каждый из  действующих  лиц —  на  фронте  и  в тылу  —  прибавляет  желания  выстоять и  жить  в  мирное  время.  Кто-то  предает  себя,  а  кто-то  никогда  не  изменяет собственным принципам,  кто-то не  выдерживает  и  сдается,  а  кто-то  начинает понимать  свое  предназначение.  Каждый  ведет  эту  войну,  которая  происходит не  только на полях  сражений, но и в  душе 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8862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419720" y="16761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 фильме  явно выделяются  две драматургические  линии,  два  пласта, две  истории.  Первая  —  внешняя:  несложная  история  жизни  девушки  Вероники  (Татьяна  Самойлова),  жених которой  (Алексей  Баталов)  уходит  на фронт.  И  тогда  она  от  собственной слабости,  от  страха,  вызванного  бомбежкой,  изменяет  своему  жениху  и связывает  свою  жизнь  с  его  братом — пианистом  Мар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892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38862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ая  линия  —  внутренняя.  Это  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шевный  мир  Вероники,  где  она  настоящая —  страдающая от  собственной измены,  но  живущая  любовью  к  Борису,  измотанная  ожиданием, уничтоженная  страшным  известием  о  его  смер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 образ  «хорошей  плохой  героин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02040" cy="281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793840" y="5181480"/>
            <a:ext cx="25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дры из кинофиль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Летят журав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Значимыми  в  фильме  становятся язык образов, психологизм  героев, повторы  деталей,  ракурсов,  отсылки  к  прежним  временам,  к  воспоминаниям,  которые  заставляют  зрителя  взглянуть  на мир  глазами Вероники, ощутить движение  ее  души.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224320" cy="3730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93080" y="632448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дры из кинофильма «Летят журав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19T13:26:4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