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3CC-BBAA-4C77-851B-765387B9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528-2FD2-49D0-BCCD-FA717929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DE05-F7E1-44D0-A6FB-17EB7675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DE92-6408-46D3-9A4B-B27E8002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5A77-54D2-423B-B3F6-B53ECD2D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0B05-E0DC-48F1-ABB7-0421F4F6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EA57-B8DA-4DDD-9AAB-B5884FBE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FCD7-5888-4EDA-8A97-437F8380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B37A-970F-42BC-9A1C-279722D0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459B-DA9C-448D-B3E6-150F0687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2152-D887-4A8A-8DA4-E1C3FBA6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D94E-2185-4991-817E-A8B90EC2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C54D-7D36-42A5-A23D-DDBCE088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48B0-2A2E-4DC0-A07B-599F9422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B0F3-ACC7-4748-AE99-98FBFBC2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F75A-E187-4AA2-847C-78BF13FE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71F2-ED93-4970-B2D2-7779C124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10F-3818-4685-9F32-F1ABBDFE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7A5-1EBC-4D45-8619-9F29557A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8C29-D300-4CC7-B87E-7360304B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5BCA-8ED0-40EC-A2D0-3EDB47E1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6AB-59EA-4C7A-B20D-07FC4028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DA2B-4135-46D8-8A89-DD3062EB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2AF-21A4-4861-AED0-C82EC680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C199-6FE0-471A-AB3F-496190209A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3C4C-3621-45C5-B007-BF3C4405BF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7240"/>
            <a:ext cx="777240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Изобразительная природа кино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2280" y="1523520"/>
            <a:ext cx="5029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ое  произведение  искусства создает  неповторимую  модель  мира. Более  полувека  назад  (в  1957  г.)  появился на  свет художественный фильм «Летят  журавли»  (режиссер  М.  Колотозов,  оператор  С.  Урусевский),  который  снискал  заслуженную  славу  и  в отечественном,  и  в  зарубежном  кинематографе.  Пальмовая  ветвь  Международного  Каннского  кинофестиваля приравняла  ленту  к  шедеврам  таких признанных  мастеров,  как  Ф.  Феллини  и  М. Антониони  (Итал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257800" y="457200"/>
            <a:ext cx="3554280" cy="5254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34120" y="58672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катный плакат кинофил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Летят журав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038120" y="144756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 основе  сюжета фильма  —  пьеса драматурга  В.  Розова  «Вечно  живые», дань  памяти  прошедшим  войну  и  наставление  будущим  поколениям.  В ней  через конкретные  истории  самых обыкновенных  людей  раскрывается судьба  целого  народа, исковерканная, покореженная  войной  (1941–1945  гг.)., но  не  сломле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886200" cy="2684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17880" y="4724280"/>
            <a:ext cx="23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др из кинофил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Летят журав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 драматическом  фильме  «Летят  журавли»  органично  соединяются  боль  и радость,  потери  и  обретения,  юмор  и слезы,  молодость  и  мудрость.  Каждый из  действующих  лиц —  на  фронте  и  в тылу  —  прибавляет  желания  выстоять и  жить  в  мирное  время.  Кто-то  предает  себя,  а  кто-то  никогда  не  изменяет собственным принципам,  кто-то не  выдерживает  и  сдается,  а  кто-то  начинает понимать  свое  предназначение.  Каждый  ведет  эту  войну,  которая  происходит не  только на полях  сражений, но и в  душе 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88620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419720" y="16761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 фильме  явно выделяются  две драматургические  линии,  два  пласта, две  истории.  Первая  —  внешняя:  несложная  история  жизни  девушки  Вероники  (Татьяна  Самойлова),  жених которой  (Алексей  Баталов)  уходит  на фронт.  И  тогда  она  от  собственной слабости,  от  страха,  вызванного  бомбежкой,  изменяет  своему  жениху  и связывает  свою  жизнь  с  его  братом — пианистом  Мар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2892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38862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торая  линия  —  внутренняя.  Это  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шевный  мир  Вероники,  где  она  настоящая —  страдающая от  собственной измены,  но  живущая  любовью  к  Борису,  измотанная  ожиданием, уничтоженная  страшным  известием  о  его  смер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 образ  «хорошей  плохой  героин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02040" cy="281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793840" y="5181480"/>
            <a:ext cx="25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дры из кинофиль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Летят журав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Значимыми  в  фильме  становятся язык образов, психологизм  героев, повторы  деталей,  ракурсов,  отсылки  к  прежним  временам,  к  воспоминаниям,  которые  заставляют  зрителя  взглянуть  на мир  глазами Вероники, ощутить движение  ее  души.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224320" cy="3730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93080" y="632448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дры из кинофильма «Летят журав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19T13:26:4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