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B23B-FD6E-4C73-A570-025C012F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1BF7-87A8-4753-93E1-FA6A1FA7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8BA5-3B83-495A-8868-5FA3625D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469-7AB3-4C7D-A030-6D87B268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8D30-5F9D-4BB9-ADB8-84AC84AF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8B0F-3FEB-45D5-936D-0717BA81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2BC5-077C-4928-B612-B8BB57C3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B518-D8B6-46EF-8A3C-FA1B01B5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539B-A51A-4052-8CC3-EF000E05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2581-712F-4FBB-A906-21BC829F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0F1-475E-4F50-B837-B11D37CE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4C7-0AFC-4AF0-832B-5E59F5F5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6D26-86AB-4DE1-859F-2D26B9AF65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Открытый урок математики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в </a:t>
            </a:r>
            <a:r>
              <a:rPr b="1" lang="en-US" sz="4400" spc="-1" strike="noStrike">
                <a:solidFill>
                  <a:srgbClr val="0070c0"/>
                </a:solidFill>
                <a:latin typeface="Arial"/>
              </a:rPr>
              <a:t>3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классе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(УМК ПНШ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76560" y="44197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Харито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Ирина Анатольевна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6" descr=""/>
          <p:cNvPicPr/>
          <p:nvPr/>
        </p:nvPicPr>
        <p:blipFill>
          <a:blip r:embed="rId2"/>
          <a:stretch/>
        </p:blipFill>
        <p:spPr>
          <a:xfrm>
            <a:off x="1066680" y="30240"/>
            <a:ext cx="4803840" cy="579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8"/>
          <p:cNvSpPr/>
          <p:nvPr/>
        </p:nvSpPr>
        <p:spPr>
          <a:xfrm>
            <a:off x="3962520" y="5867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20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5" descr=""/>
          <p:cNvPicPr/>
          <p:nvPr/>
        </p:nvPicPr>
        <p:blipFill>
          <a:blip r:embed="rId1"/>
          <a:stretch/>
        </p:blipFill>
        <p:spPr>
          <a:xfrm>
            <a:off x="914400" y="1407960"/>
            <a:ext cx="791856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4419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1721160" y="1219320"/>
            <a:ext cx="270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Я хоч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узнать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понять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3362040" y="3048120"/>
            <a:ext cx="41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Я хочу научи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называть…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записывать…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5" descr="zn"/>
          <p:cNvPicPr/>
          <p:nvPr/>
        </p:nvPicPr>
        <p:blipFill>
          <a:blip r:embed="rId1"/>
          <a:stretch/>
        </p:blipFill>
        <p:spPr>
          <a:xfrm>
            <a:off x="1143000" y="3630600"/>
            <a:ext cx="1638360" cy="25621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4419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1219320" y="838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№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43 (п.т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2057400" y="129528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293;   7039;   309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500;   8609;  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1932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№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44 (п.т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2057400" y="304812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88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44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22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219320" y="48769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№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45 (п.т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1981080" y="54100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362 + 1030 = 5392 (фил.) ст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4419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Итог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2451240" y="1233360"/>
            <a:ext cx="323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Я узна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Я поня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Я научил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2" descr="J0232988"/>
          <p:cNvPicPr/>
          <p:nvPr/>
        </p:nvPicPr>
        <p:blipFill>
          <a:blip r:embed="rId1"/>
          <a:stretch/>
        </p:blipFill>
        <p:spPr>
          <a:xfrm>
            <a:off x="1143000" y="4191120"/>
            <a:ext cx="2016000" cy="1989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4425480" y="3154320"/>
            <a:ext cx="350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Я узнал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Я понял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Я научилас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Скругленный прямоугольник 1"/>
          <p:cNvSpPr/>
          <p:nvPr/>
        </p:nvSpPr>
        <p:spPr>
          <a:xfrm>
            <a:off x="914400" y="685800"/>
            <a:ext cx="8020080" cy="5715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971640" y="1557360"/>
            <a:ext cx="7704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" name="Picture 5" descr="Cup_200"/>
          <p:cNvPicPr/>
          <p:nvPr/>
        </p:nvPicPr>
        <p:blipFill>
          <a:blip r:embed="rId1"/>
          <a:stretch/>
        </p:blipFill>
        <p:spPr>
          <a:xfrm>
            <a:off x="3733920" y="421020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5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" dur="25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" dur="25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3720" y="533160"/>
            <a:ext cx="44193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1143000" y="1828800"/>
            <a:ext cx="7772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Чекин А.Л. Математика. 3 класс: учебник. В 2 ч. Часть 1.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.: Академкнига/Учеб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Захарова О.А. Юдина Е.П. Математика: тетрадь для самостоятельной работы № 1. – М.: Академкнига/Учеб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Чекин А.Л. Математика: 3 класс: методическое пособие для учителя. – М.: Академкнига/Учеб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3-03-31T20:46:4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