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DBD-2FCC-496B-9725-CAEE98ED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DD5-0EDA-4714-AC5C-E0947DAF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7A2-BAE1-478B-8D41-12E154F2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1C6-628E-4AEC-9032-2FFC08CA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336-1B8B-400C-A9C6-1630A0C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0F5-AED5-4AFB-9CD8-07137B5A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AE2-3FD0-440A-9FB5-82CDB00D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8EA-D4F8-4039-9F47-C7318A4C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BCF-CEBC-4C85-9B1D-49447BD3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2C1-A1DD-4F5A-9500-7F5FEE9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B8A-6021-4D8A-ABEB-69BCBCA5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5FE-1A01-48F9-A6F8-A9052C1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E1E0-688A-4003-B28F-FD6849445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ткрытый урок математик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70c0"/>
                </a:solidFill>
                <a:latin typeface="Arial"/>
              </a:rPr>
              <a:t>3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классе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(УМК ПНШ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560" y="44197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Харито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рина Анатольевн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1066680" y="30240"/>
            <a:ext cx="4803840" cy="579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396252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5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91856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721160" y="1219320"/>
            <a:ext cx="270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хо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узнать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понять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362040" y="3048120"/>
            <a:ext cx="41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Я хочу науч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называть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записывать…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5" descr="zn"/>
          <p:cNvPicPr/>
          <p:nvPr/>
        </p:nvPicPr>
        <p:blipFill>
          <a:blip r:embed="rId1"/>
          <a:stretch/>
        </p:blipFill>
        <p:spPr>
          <a:xfrm>
            <a:off x="1143000" y="3630600"/>
            <a:ext cx="1638360" cy="2562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219320" y="838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3 (п.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057400" y="12952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293;   7039;   309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500;   8609;  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4 (п.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057400" y="304812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8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44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2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219320" y="48769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45 (п.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981080" y="54100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362 + 1030 = 5392 (фил.) ст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4419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51240" y="1233360"/>
            <a:ext cx="323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узн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поня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Я научил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J0232988"/>
          <p:cNvPicPr/>
          <p:nvPr/>
        </p:nvPicPr>
        <p:blipFill>
          <a:blip r:embed="rId1"/>
          <a:stretch/>
        </p:blipFill>
        <p:spPr>
          <a:xfrm>
            <a:off x="1143000" y="4191120"/>
            <a:ext cx="2016000" cy="1989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4425480" y="3154320"/>
            <a:ext cx="350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узна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Я поня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Я научила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кругленный прямоугольник 1"/>
          <p:cNvSpPr/>
          <p:nvPr/>
        </p:nvSpPr>
        <p:spPr>
          <a:xfrm>
            <a:off x="914400" y="685800"/>
            <a:ext cx="802008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71640" y="1557360"/>
            <a:ext cx="77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5" descr="Cup_200"/>
          <p:cNvPicPr/>
          <p:nvPr/>
        </p:nvPicPr>
        <p:blipFill>
          <a:blip r:embed="rId1"/>
          <a:stretch/>
        </p:blipFill>
        <p:spPr>
          <a:xfrm>
            <a:off x="3733920" y="42102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1143000" y="182880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кин А.Л. Математика. 3 класс: учебник. В 2 ч. Часть 1.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.: Академкнига/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харова О.А. Юдина Е.П. Математика: тетрадь для самостоятельной работы № 1. – М.: Академкнига/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кин А.Л. Математика: 3 класс: методическое пособие для учителя. – М.: Академкнига/Учеб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3-31T20:46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