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4C2-FB3F-43D7-880C-385AD857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142-AF1F-470E-A4FB-5241E40A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C1A-EFFF-43B0-BE20-009AA10F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798-AEF1-4D3E-B2CC-EF6F1744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026-DBD0-4E11-AADD-838BEC5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7B6-8C52-45E4-8DFC-6255157D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716-D4D9-4715-B3DA-69F8323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E86-9F0B-4640-8653-D6EAD8A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26A-90DD-4B93-A325-6298F650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F42-6D03-4328-A822-35C55857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F5A-BECF-4005-98C3-EC0882D0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4B1-0D2B-4D35-9454-1BDEE69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3A4-D560-4406-B617-3CB898166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5640" y="-44420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93080" y="609264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259080" y="189000"/>
            <a:ext cx="5249880" cy="6453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620640"/>
            <a:ext cx="259236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ДАНИЕ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79280" y="2133720"/>
            <a:ext cx="3024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ОБЪЯСНИТЬ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ТРУКТУРУ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ПИРАМИДЫ.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АКОЙ ПРОГНОЗ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МОЖНО УСТАНОВИТЬ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 ЕЕ ПОМОЩЬЮ ?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ЧТО ПРОИЗОЙДЕТ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С НАСЕЛЕНИЕМ ?</a:t>
            </a:r>
            <a:endParaRPr b="1" lang="en-US" sz="1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72360" y="-4044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259640" y="594972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7345440" cy="55119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3276720" y="476280"/>
            <a:ext cx="453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ОЕКТНАЯ  ТЕХНОЛОГИЯ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8:58:59Z</dcterms:created>
  <dc:creator>User</dc:creator>
  <dc:description/>
  <dc:language>en-US</dc:language>
  <cp:lastModifiedBy>User</cp:lastModifiedBy>
  <dcterms:modified xsi:type="dcterms:W3CDTF">2013-04-01T07:23:24Z</dcterms:modified>
  <cp:revision>81</cp:revision>
  <dc:subject/>
  <dc:title>Слайд 1</dc:title>
</cp:coreProperties>
</file>