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E7A-BCDC-42B5-8C4A-0360B3E2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BF1-705C-4A00-B95A-A537CDE5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BF3-110A-4934-A201-F6F13E0B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F9F-D7D2-4B62-B028-D1CCBB58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7C2-C87F-4BAD-A6D2-01ABDBCE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11D-2253-4289-9422-789BB39F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BB0-7571-4D80-A560-9FAA8D65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91C-F333-459A-BCD5-AE05E339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44B-1DB8-4C39-8DA7-D2A6C141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0DB-3C79-4150-A1A9-68A6A1E1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749-2189-4333-8D8E-C986E00C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295-3805-4F51-B220-09181D44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1723-DEFF-4C18-AF09-E7E7911D4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5640" y="-44420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93080" y="6092640"/>
            <a:ext cx="824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259080" y="189000"/>
            <a:ext cx="5249880" cy="6453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620640"/>
            <a:ext cx="259236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ДАНИЕ</a:t>
            </a:r>
            <a:endParaRPr b="1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79280" y="2133720"/>
            <a:ext cx="3024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ОБЪЯСНИТЬ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СТРУКТУРУ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ИРАМИДЫ.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КАКОЙ ПРОГНОЗ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МОЖНО УСТАНОВИТЬ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С ЕЕ ПОМОЩЬЮ ?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ЧТО ПРОИЗОЙДЕТ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С НАСЕЛЕНИЕМ ?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72360" y="-4044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259640" y="5949720"/>
            <a:ext cx="824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7345440" cy="55119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3276720" y="476280"/>
            <a:ext cx="4535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РОЕКТНАЯ  ТЕХНОЛОГИЯ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8:58:59Z</dcterms:created>
  <dc:creator>User</dc:creator>
  <dc:description/>
  <dc:language>en-US</dc:language>
  <cp:lastModifiedBy>User</cp:lastModifiedBy>
  <dcterms:modified xsi:type="dcterms:W3CDTF">2013-04-01T07:23:24Z</dcterms:modified>
  <cp:revision>81</cp:revision>
  <dc:subject/>
  <dc:title>Слайд 1</dc:title>
</cp:coreProperties>
</file>