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6.jpeg" ContentType="image/jpeg"/>
  <Override PartName="/ppt/media/image27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150DB-E139-40D8-BD78-F905A8AFF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816FC-919F-45BF-B69E-E3F63BA47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81F9B-E9B2-4E5F-9797-5B8F03265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06D06-0B8C-4539-95C1-371FEA497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9F378-22D2-42E4-BD35-1A3ABC082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95824-CFF8-4765-B2AA-20D23A633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D1C5F-3296-4378-B616-4210FD012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3FB03-18EE-4728-AD72-5F6A16708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5B6F2-C1D6-4150-89DA-77466D21F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6600A-CB29-47B2-8562-9BFCF365E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B95E4-12C4-474A-908F-DACAD655B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BD9C2-0FC2-46ED-BEC6-39C4EAB6D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654FB-4366-4256-93CE-27FC8FE20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166E8-D8D6-41CA-B443-ED10969C4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0318E-F0E3-497F-8F06-7157DC620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12336-0C31-4BF7-BD97-3AABF025B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BA4D2-147C-4C29-A922-8DC0CD359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B6E44-9EC3-4C10-A494-57FF0EA1A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EAD5A-714E-43E8-9B47-F95A265FC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620F7-1345-48A2-A8CF-7F44C5528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50502-AAE6-461D-8B41-9073C77C2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670C0-7A2B-463D-A4BE-21E388A36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25572-6A44-4A9F-AFED-0953F7418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97D6F-AC7A-418B-9AEE-A94F99A21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prstGeom prst="pie">
              <a:avLst/>
            </a:pr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prstGeom prst="pie">
              <a:avLst/>
            </a:pr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3400" y="6173640"/>
                <a:ext cx="196560" cy="2523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61400" y="6514560"/>
                <a:ext cx="336600" cy="2098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280" y="6411600"/>
                <a:ext cx="352080" cy="1065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prstGeom prst="pie">
              <a:avLst/>
            </a:pr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2E15F-DF09-4D45-9A2C-0CCE98E1A33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51120" cy="6858000"/>
            <a:chOff x="-20160" y="0"/>
            <a:chExt cx="905112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407560" y="63360"/>
              <a:ext cx="3623400" cy="6129000"/>
              <a:chOff x="5407560" y="63360"/>
              <a:chExt cx="3623400" cy="612900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2600" y="348840"/>
                <a:ext cx="2115360" cy="23572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21760" y="1961280"/>
                <a:ext cx="906120" cy="8431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7040" y="2593440"/>
                <a:ext cx="439200" cy="3952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52200" y="675360"/>
                <a:ext cx="388800" cy="5511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55720" y="2644560"/>
                <a:ext cx="163440" cy="3319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41320" y="1241640"/>
                <a:ext cx="190080" cy="1429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38200" y="2930400"/>
                <a:ext cx="523440" cy="326844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3480" y="3106800"/>
              <a:ext cx="512280" cy="10303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400" y="2000160"/>
              <a:ext cx="1998360" cy="24321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1160" cy="7286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4520" y="4532400"/>
              <a:ext cx="561600" cy="7365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7560" y="4728960"/>
              <a:ext cx="137880" cy="43488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88920" y="5195880"/>
              <a:ext cx="1758600" cy="16621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49720" y="1033560"/>
              <a:ext cx="1015200" cy="1262160"/>
              <a:chOff x="4149720" y="1033560"/>
              <a:chExt cx="1015200" cy="126216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63720" y="1071360"/>
                <a:ext cx="285840" cy="378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48680" y="1604520"/>
                <a:ext cx="488880" cy="3142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09760" y="1962000"/>
                <a:ext cx="511200" cy="1602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54160" y="293040"/>
              <a:ext cx="889200" cy="834120"/>
              <a:chOff x="5654160" y="293040"/>
              <a:chExt cx="889200" cy="83412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65760" y="796680"/>
                <a:ext cx="178560" cy="3618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14280" y="476280"/>
                <a:ext cx="306000" cy="300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53560" y="393480"/>
                <a:ext cx="320040" cy="153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60840" y="5253480"/>
              <a:ext cx="1062720" cy="834840"/>
              <a:chOff x="960840" y="5253480"/>
              <a:chExt cx="1062720" cy="83484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706760" y="5522040"/>
                <a:ext cx="250920" cy="3002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89800" y="5733360"/>
                <a:ext cx="429480" cy="2491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52200" y="5378040"/>
                <a:ext cx="448920" cy="126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75840" y="451080"/>
              <a:ext cx="1690200" cy="1146600"/>
              <a:chOff x="375840" y="451080"/>
              <a:chExt cx="1690200" cy="114660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76080" y="1069560"/>
                <a:ext cx="355320" cy="53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22760" y="594720"/>
                <a:ext cx="608400" cy="44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78640" y="1108440"/>
                <a:ext cx="636120" cy="2239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377480" y="3712320"/>
              <a:ext cx="1156320" cy="1607760"/>
              <a:chOff x="7377480" y="3712320"/>
              <a:chExt cx="1156320" cy="160776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32200" y="4755960"/>
                <a:ext cx="355320" cy="53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882920" y="4455360"/>
                <a:ext cx="608400" cy="44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575840" y="3781440"/>
                <a:ext cx="636120" cy="2239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1760" y="3240"/>
              <a:ext cx="1368000" cy="140652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25040" y="161280"/>
              <a:ext cx="1080720" cy="9414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69080" y="1361160"/>
              <a:ext cx="523440" cy="4410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29440" y="1282320"/>
              <a:ext cx="195120" cy="37044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4120" y="0"/>
              <a:ext cx="196560" cy="19224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48800" y="1963800"/>
              <a:ext cx="623520" cy="365148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6880" cy="2095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E039B-25AC-4E9C-AAB5-440C2ED03C62}" type="slidenum">
              <a:rPr b="0" lang="ru-RU" sz="1400" spc="-1" strike="noStrike">
                <a:solidFill>
                  <a:srgbClr val="00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84000" y="1267920"/>
            <a:ext cx="6193080" cy="233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200" spc="-1" strike="noStrike">
                <a:solidFill>
                  <a:srgbClr val="006666"/>
                </a:solidFill>
                <a:latin typeface="Verdana"/>
              </a:rPr>
              <a:t>Как появляется бабочка?</a:t>
            </a:r>
            <a:endParaRPr b="0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484000" y="3644640"/>
            <a:ext cx="6147000" cy="66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Этапы развития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9" name="Rectangle 4"/>
          <p:cNvSpPr/>
          <p:nvPr/>
        </p:nvSpPr>
        <p:spPr>
          <a:xfrm>
            <a:off x="611280" y="5157720"/>
            <a:ext cx="80643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6699"/>
                </a:solidFill>
                <a:uFillTx/>
                <a:latin typeface="Verdana"/>
              </a:rPr>
              <a:t>Выполнил</a:t>
            </a:r>
            <a:r>
              <a:rPr b="1" lang="ru-RU" sz="1400" spc="-1" strike="noStrike">
                <a:solidFill>
                  <a:srgbClr val="006699"/>
                </a:solidFill>
                <a:latin typeface="Verdana"/>
              </a:rPr>
              <a:t>: ученик 3 класса школы-сад №14 </a:t>
            </a:r>
            <a:br>
              <a:rPr sz="1400"/>
            </a:br>
            <a:r>
              <a:rPr b="1" lang="ru-RU" sz="1400" spc="-1" strike="noStrike">
                <a:solidFill>
                  <a:srgbClr val="006699"/>
                </a:solidFill>
                <a:latin typeface="Verdana"/>
              </a:rPr>
              <a:t>г.Байкальска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99"/>
                </a:solidFill>
                <a:latin typeface="Verdana"/>
              </a:rPr>
              <a:t>Ефименко Вадим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Verdana"/>
              </a:rPr>
              <a:t>2013 год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9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7" descr="1317619211_9"/>
          <p:cNvPicPr/>
          <p:nvPr/>
        </p:nvPicPr>
        <p:blipFill>
          <a:blip r:embed="rId1"/>
          <a:stretch/>
        </p:blipFill>
        <p:spPr>
          <a:xfrm>
            <a:off x="539640" y="1052640"/>
            <a:ext cx="3846600" cy="225108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8" descr="1317619228_11"/>
          <p:cNvPicPr/>
          <p:nvPr/>
        </p:nvPicPr>
        <p:blipFill>
          <a:blip r:embed="rId2"/>
          <a:stretch/>
        </p:blipFill>
        <p:spPr>
          <a:xfrm>
            <a:off x="4572000" y="549360"/>
            <a:ext cx="4325760" cy="251604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9" descr="1317619236_3"/>
          <p:cNvPicPr/>
          <p:nvPr/>
        </p:nvPicPr>
        <p:blipFill>
          <a:blip r:embed="rId3"/>
          <a:stretch/>
        </p:blipFill>
        <p:spPr>
          <a:xfrm>
            <a:off x="468360" y="3645000"/>
            <a:ext cx="4375080" cy="254952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0" descr="1317619245_1"/>
          <p:cNvPicPr/>
          <p:nvPr/>
        </p:nvPicPr>
        <p:blipFill>
          <a:blip r:embed="rId4"/>
          <a:stretch/>
        </p:blipFill>
        <p:spPr>
          <a:xfrm>
            <a:off x="5076720" y="3357720"/>
            <a:ext cx="3594240" cy="235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1000"/>
                            </p:stCondLst>
                            <p:childTnLst>
                              <p:par>
                                <p:cTn id="184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7" descr="1317619245_7"/>
          <p:cNvPicPr/>
          <p:nvPr/>
        </p:nvPicPr>
        <p:blipFill>
          <a:blip r:embed="rId1"/>
          <a:stretch/>
        </p:blipFill>
        <p:spPr>
          <a:xfrm>
            <a:off x="684360" y="836640"/>
            <a:ext cx="3732120" cy="21510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8" descr="1317619262_21"/>
          <p:cNvPicPr/>
          <p:nvPr/>
        </p:nvPicPr>
        <p:blipFill>
          <a:blip r:embed="rId2"/>
          <a:stretch/>
        </p:blipFill>
        <p:spPr>
          <a:xfrm>
            <a:off x="5148360" y="836640"/>
            <a:ext cx="3227400" cy="215100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9" descr="i"/>
          <p:cNvPicPr/>
          <p:nvPr/>
        </p:nvPicPr>
        <p:blipFill>
          <a:blip r:embed="rId3"/>
          <a:stretch/>
        </p:blipFill>
        <p:spPr>
          <a:xfrm>
            <a:off x="755640" y="3429000"/>
            <a:ext cx="3911760" cy="255276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0" descr="i (1)"/>
          <p:cNvPicPr/>
          <p:nvPr/>
        </p:nvPicPr>
        <p:blipFill>
          <a:blip r:embed="rId4"/>
          <a:stretch/>
        </p:blipFill>
        <p:spPr>
          <a:xfrm>
            <a:off x="5003640" y="3429000"/>
            <a:ext cx="3443400" cy="254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4038480" cy="52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Далее, каждая гусеница делает себе твердый кокон, который называется </a:t>
            </a:r>
            <a:r>
              <a:rPr b="0" lang="ru-RU" sz="2400" spc="-1" strike="noStrike">
                <a:solidFill>
                  <a:srgbClr val="ff0000"/>
                </a:solidFill>
                <a:latin typeface="Verdana"/>
              </a:rPr>
              <a:t>куколка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. В нем ее тело превращается во что-то вроде густого супа. Куколка бабочек практически не подвижна, она не питается, находясь в состоянии покоя.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01" name="Picture 15" descr="i (5)"/>
          <p:cNvPicPr/>
          <p:nvPr/>
        </p:nvPicPr>
        <p:blipFill>
          <a:blip r:embed="rId1"/>
          <a:stretch/>
        </p:blipFill>
        <p:spPr>
          <a:xfrm>
            <a:off x="4500720" y="404640"/>
            <a:ext cx="2320920" cy="280836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17" descr="i (2)"/>
          <p:cNvPicPr/>
          <p:nvPr/>
        </p:nvPicPr>
        <p:blipFill>
          <a:blip r:embed="rId2"/>
          <a:stretch/>
        </p:blipFill>
        <p:spPr>
          <a:xfrm>
            <a:off x="6732720" y="3716280"/>
            <a:ext cx="2201760" cy="244656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20" descr="i (3)"/>
          <p:cNvPicPr/>
          <p:nvPr/>
        </p:nvPicPr>
        <p:blipFill>
          <a:blip r:embed="rId3"/>
          <a:stretch/>
        </p:blipFill>
        <p:spPr>
          <a:xfrm>
            <a:off x="6732720" y="1052640"/>
            <a:ext cx="2170080" cy="27352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18" descr="i (4)"/>
          <p:cNvPicPr/>
          <p:nvPr/>
        </p:nvPicPr>
        <p:blipFill>
          <a:blip r:embed="rId4"/>
          <a:stretch/>
        </p:blipFill>
        <p:spPr>
          <a:xfrm>
            <a:off x="4427640" y="3357720"/>
            <a:ext cx="2587680" cy="23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0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0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500"/>
                            </p:stCondLst>
                            <p:childTnLst>
                              <p:par>
                                <p:cTn id="23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1500"/>
                            </p:stCondLst>
                            <p:childTnLst>
                              <p:par>
                                <p:cTn id="23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2500"/>
                            </p:stCondLst>
                            <p:childTnLst>
                              <p:par>
                                <p:cTn id="244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3500"/>
                            </p:stCondLst>
                            <p:childTnLst>
                              <p:par>
                                <p:cTn id="250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4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Куколка медленно превращается в бабочку. Когда бабочка выбирается из своей куколки, ее крылья мягки и сморщены. Впрочем, они быстро отвердевают на солнце. Взрослая бабочка, как правило, питается жидкой пищей: нектаром цветов, соком деревьев, гниющими фруктами.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0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7" descr="i (10)"/>
          <p:cNvPicPr/>
          <p:nvPr/>
        </p:nvPicPr>
        <p:blipFill>
          <a:blip r:embed="rId1"/>
          <a:stretch/>
        </p:blipFill>
        <p:spPr>
          <a:xfrm>
            <a:off x="611280" y="662040"/>
            <a:ext cx="3600360" cy="272736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8" descr="i (7)"/>
          <p:cNvPicPr/>
          <p:nvPr/>
        </p:nvPicPr>
        <p:blipFill>
          <a:blip r:embed="rId2"/>
          <a:stretch/>
        </p:blipFill>
        <p:spPr>
          <a:xfrm>
            <a:off x="4716360" y="620640"/>
            <a:ext cx="3672000" cy="275436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9" descr="i (8)"/>
          <p:cNvPicPr/>
          <p:nvPr/>
        </p:nvPicPr>
        <p:blipFill>
          <a:blip r:embed="rId3"/>
          <a:stretch/>
        </p:blipFill>
        <p:spPr>
          <a:xfrm>
            <a:off x="539640" y="3645000"/>
            <a:ext cx="4246560" cy="265428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10" descr="i (9)"/>
          <p:cNvPicPr/>
          <p:nvPr/>
        </p:nvPicPr>
        <p:blipFill>
          <a:blip r:embed="rId4"/>
          <a:stretch/>
        </p:blipFill>
        <p:spPr>
          <a:xfrm>
            <a:off x="4932360" y="3645000"/>
            <a:ext cx="3730680" cy="270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Интересные факты: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6699"/>
                </a:solidFill>
                <a:latin typeface="Verdana"/>
              </a:rPr>
              <a:t>Куколка — это будто сейф, который защищает тело насекомого, когда оно изменяет свою форму.</a:t>
            </a:r>
            <a:endParaRPr b="0" lang="en-US" sz="21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ru-RU" sz="2100" spc="-1" strike="noStrike">
                <a:solidFill>
                  <a:srgbClr val="006699"/>
                </a:solidFill>
                <a:latin typeface="Verdana"/>
              </a:rPr>
              <a:t>Малыши, которые вылупляются из яиц насекомого, называются </a:t>
            </a:r>
            <a:r>
              <a:rPr b="1" lang="ru-RU" sz="2100" spc="-1" strike="noStrike">
                <a:solidFill>
                  <a:srgbClr val="006699"/>
                </a:solidFill>
                <a:latin typeface="Verdana"/>
              </a:rPr>
              <a:t>личинками</a:t>
            </a:r>
            <a:r>
              <a:rPr b="0" lang="ru-RU" sz="2100" spc="-1" strike="noStrike">
                <a:solidFill>
                  <a:srgbClr val="006699"/>
                </a:solidFill>
                <a:latin typeface="Verdana"/>
              </a:rPr>
              <a:t>, хотя люди часто называют их просто гусеницей.</a:t>
            </a:r>
            <a:endParaRPr b="0" lang="en-US" sz="21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6699"/>
                </a:solidFill>
                <a:latin typeface="Verdana"/>
              </a:rPr>
              <a:t>Гусеница растет настолько быстро, что ее кожа трескается, а под ней уже есть новенькая кожа, рассчитанная на рост.</a:t>
            </a:r>
            <a:endParaRPr b="0" lang="en-US" sz="21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6699"/>
                </a:solidFill>
                <a:latin typeface="Verdana"/>
              </a:rPr>
              <a:t>За всю свою жизнь самка бабочки откладывает 50 000 яиц.</a:t>
            </a:r>
            <a:endParaRPr b="0" lang="en-US" sz="21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6699"/>
                </a:solidFill>
                <a:latin typeface="Verdana"/>
              </a:rPr>
              <a:t>Бабочка не растет, однако она время от времени любит напиться сладкого цветочного нектара. Это горючее, которое помогает ей летать.</a:t>
            </a: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6699"/>
                </a:solidFill>
                <a:latin typeface="Verdana"/>
              </a:rPr>
              <a:t>Средняя продолжительность жизни бабочек составляет всего 2-4 недели. </a:t>
            </a:r>
            <a:endParaRPr b="0" lang="en-US" sz="21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0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8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86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87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88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89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250"/>
                            </p:stCondLst>
                            <p:childTnLst>
                              <p:par>
                                <p:cTn id="29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1750"/>
                            </p:stCondLst>
                            <p:childTnLst>
                              <p:par>
                                <p:cTn id="29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2250"/>
                            </p:stCondLst>
                            <p:childTnLst>
                              <p:par>
                                <p:cTn id="30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2750"/>
                            </p:stCondLst>
                            <p:childTnLst>
                              <p:par>
                                <p:cTn id="30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3250"/>
                            </p:stCondLst>
                            <p:childTnLst>
                              <p:par>
                                <p:cTn id="31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3750"/>
                            </p:stCondLst>
                            <p:childTnLst>
                              <p:par>
                                <p:cTn id="31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440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Литература: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http://poznaiko.ru/givotni/kak-poyavlyaetsya-babochka.html (</a:t>
            </a:r>
            <a:r>
              <a:rPr b="0" lang="ru-RU" sz="1700" spc="-1" strike="noStrike">
                <a:solidFill>
                  <a:srgbClr val="006699"/>
                </a:solidFill>
                <a:latin typeface="Verdana"/>
              </a:rPr>
              <a:t>детская онлайн энциклопедия poznaiko.ru</a:t>
            </a: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)</a:t>
            </a:r>
            <a:br>
              <a:rPr sz="1800"/>
            </a:b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http://www.esszoomir.ru/news/2012-06-09/tapy-razvitiya-babochki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фотографии яиц бабочки:</a:t>
            </a:r>
            <a:br>
              <a:rPr sz="1800"/>
            </a:b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http://vsyako-razno.ru/19318-krasivye-fotografii-yaic-babochek-i-razlichnyh-nasekomyh-9-foto.html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фотографии гусениц:</a:t>
            </a:r>
            <a:br>
              <a:rPr sz="1800"/>
            </a:b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http://art-assorty.ru/162-gusenicy-babochek-foto.html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фотографии бабочек:</a:t>
            </a:r>
            <a:br>
              <a:rPr sz="1800"/>
            </a:b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http://images.yandex.ru/yandsearch?text=%D0%B1%D0%B0%D0%B1%D0%BE%D1%87%D0%BA%D0%B8%20%D1%84%D0%BE%D1%82%D0%BE&amp;stype=image&amp;lr=65&amp;noreask=1&amp;source=wiz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фотографии куколки бабочки:</a:t>
            </a:r>
            <a:br>
              <a:rPr sz="1800"/>
            </a:br>
            <a:r>
              <a:rPr b="0" lang="ru-RU" sz="1800" spc="-1" strike="noStrike">
                <a:solidFill>
                  <a:srgbClr val="cc99ff"/>
                </a:solidFill>
                <a:latin typeface="Verdana"/>
              </a:rPr>
              <a:t>http://images.yandex.ru/yandsearch?text=%D0%BA%D1%83%D0%BA%D0%BE%D0%BB%D0%BA%D0%B8%20%D0%B1%D0%B0%D0%B1%D0%BE%D1%87%D0%B5%D0%BA&amp;stype=image&amp;lr=65&amp;noreask=1&amp;source=wiz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0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500"/>
                            </p:stCondLst>
                            <p:childTnLst>
                              <p:par>
                                <p:cTn id="32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"/>
                            </p:stCondLst>
                            <p:childTnLst>
                              <p:par>
                                <p:cTn id="334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1000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2500"/>
                            </p:stCondLst>
                            <p:childTnLst>
                              <p:par>
                                <p:cTn id="340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3500"/>
                            </p:stCondLst>
                            <p:childTnLst>
                              <p:par>
                                <p:cTn id="34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1000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4500"/>
                            </p:stCondLst>
                            <p:childTnLst>
                              <p:par>
                                <p:cTn id="35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6" dur="1000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39640" y="141264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Спасибо за внимание </a:t>
            </a:r>
            <a:r>
              <a:rPr b="0" lang="ru-RU" sz="4400" spc="-1" strike="noStrike">
                <a:solidFill>
                  <a:srgbClr val="006666"/>
                </a:solidFill>
                <a:latin typeface="Wingdings"/>
                <a:ea typeface="Wingdings"/>
              </a:rPr>
              <a:t>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0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468360" y="692280"/>
            <a:ext cx="8229600" cy="51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just">
              <a:spcBef>
                <a:spcPts val="774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6699"/>
                </a:solidFill>
                <a:latin typeface="Verdana"/>
              </a:rPr>
              <a:t>Много видов насекомых, развиваясь, меняют свою форму. Такой способ развития называется </a:t>
            </a:r>
            <a:r>
              <a:rPr b="0" lang="ru-RU" sz="3100" spc="-1" strike="noStrike">
                <a:solidFill>
                  <a:srgbClr val="ff0000"/>
                </a:solidFill>
                <a:latin typeface="Verdana"/>
              </a:rPr>
              <a:t>метаморфоза</a:t>
            </a:r>
            <a:r>
              <a:rPr b="0" lang="ru-RU" sz="3100" spc="-1" strike="noStrike">
                <a:solidFill>
                  <a:srgbClr val="006699"/>
                </a:solidFill>
                <a:latin typeface="Verdana"/>
              </a:rPr>
              <a:t>.</a:t>
            </a:r>
            <a:endParaRPr b="0" lang="en-US" sz="31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just">
              <a:spcBef>
                <a:spcPts val="774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6699"/>
                </a:solidFill>
                <a:latin typeface="Verdana"/>
              </a:rPr>
              <a:t>До того как стать взрослым насекомым, каждая бабочка должна пройти через четыре этапа своей жизни. На каждой стадии она меняет свой размер, форму, цвет. </a:t>
            </a:r>
            <a:endParaRPr b="0" lang="en-US" sz="31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Этапы развития бабочки: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Бабочка откладывает яйца на растения, которые потом ест гусеница. Яйца бабочек покрыты плотной твёрдой оболочкой и могут быть разнообразной формы. Их число в кладке зависит от вида и может быть больше 1000, однако до взрослой стадии выживают немногие. Средняя продолжительность стадии яйца 8—15 дней.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" dur="250" autoRev="1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40" dur="250" autoRev="1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1" dur="250" autoRev="1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5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6" descr="b2d7a44bafc9e65a46bd10202bd1a2ab"/>
          <p:cNvPicPr/>
          <p:nvPr/>
        </p:nvPicPr>
        <p:blipFill>
          <a:blip r:embed="rId1"/>
          <a:stretch/>
        </p:blipFill>
        <p:spPr>
          <a:xfrm>
            <a:off x="3419640" y="260280"/>
            <a:ext cx="5395680" cy="387504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5" descr="22"/>
          <p:cNvPicPr/>
          <p:nvPr/>
        </p:nvPicPr>
        <p:blipFill>
          <a:blip r:embed="rId2"/>
          <a:stretch/>
        </p:blipFill>
        <p:spPr>
          <a:xfrm>
            <a:off x="826920" y="2852640"/>
            <a:ext cx="314964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Яйца бабочки в увеличенном виде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6" name="Picture 9" descr="1283851370_babochka002"/>
          <p:cNvPicPr/>
          <p:nvPr/>
        </p:nvPicPr>
        <p:blipFill>
          <a:blip r:embed="rId1"/>
          <a:stretch/>
        </p:blipFill>
        <p:spPr>
          <a:xfrm>
            <a:off x="5283360" y="3903840"/>
            <a:ext cx="2766960" cy="215244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3" descr="1283851368_0001"/>
          <p:cNvPicPr/>
          <p:nvPr/>
        </p:nvPicPr>
        <p:blipFill>
          <a:blip r:embed="rId2"/>
          <a:stretch/>
        </p:blipFill>
        <p:spPr>
          <a:xfrm>
            <a:off x="457200" y="2357280"/>
            <a:ext cx="4038480" cy="294192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4" descr="1283851365_babochka008"/>
          <p:cNvPicPr/>
          <p:nvPr/>
        </p:nvPicPr>
        <p:blipFill>
          <a:blip r:embed="rId3"/>
          <a:stretch/>
        </p:blipFill>
        <p:spPr>
          <a:xfrm>
            <a:off x="5281560" y="1600200"/>
            <a:ext cx="277020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6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67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68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69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70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800"/>
                            </p:stCondLst>
                            <p:childTnLst>
                              <p:par>
                                <p:cTn id="7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2300"/>
                            </p:stCondLst>
                            <p:childTnLst>
                              <p:par>
                                <p:cTn id="76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Яйца бабочки в увеличенном виде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0" name="Picture 6" descr="1283851378_babochka004"/>
          <p:cNvPicPr/>
          <p:nvPr/>
        </p:nvPicPr>
        <p:blipFill>
          <a:blip r:embed="rId1"/>
          <a:stretch/>
        </p:blipFill>
        <p:spPr>
          <a:xfrm>
            <a:off x="1090440" y="1600200"/>
            <a:ext cx="2770200" cy="215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1" descr="1283851394_babochka005"/>
          <p:cNvPicPr/>
          <p:nvPr/>
        </p:nvPicPr>
        <p:blipFill>
          <a:blip r:embed="rId2"/>
          <a:stretch/>
        </p:blipFill>
        <p:spPr>
          <a:xfrm>
            <a:off x="1089000" y="3903840"/>
            <a:ext cx="2773440" cy="215244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2" descr="1283851382_babochka007"/>
          <p:cNvPicPr/>
          <p:nvPr/>
        </p:nvPicPr>
        <p:blipFill>
          <a:blip r:embed="rId3"/>
          <a:stretch/>
        </p:blipFill>
        <p:spPr>
          <a:xfrm>
            <a:off x="5060880" y="1600200"/>
            <a:ext cx="3213000" cy="44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4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2000"/>
                            </p:stCondLst>
                            <p:childTnLst>
                              <p:par>
                                <p:cTn id="9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1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Второй этап – гусеница. Она жадно ест и очень быстро растет.</a:t>
            </a:r>
            <a:br>
              <a:rPr sz="2400"/>
            </a:br>
            <a:r>
              <a:rPr b="1" lang="ru-RU" sz="2400" spc="-1" strike="noStrike">
                <a:solidFill>
                  <a:srgbClr val="006699"/>
                </a:solidFill>
                <a:latin typeface="Verdana"/>
              </a:rPr>
              <a:t>Гусеницы бабочек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 бывают самых различных форм и размеров. Размеры этих созданий колеблются от нескольких миллиметров до 12 сантиметров. Расцветок они бывают самых необычных, от самых скромных, до таких ярких, насыщенных и необычных, что похожи больше на цирковых клоунов. Они не кусаются, не ядовиты, не причиняют никакого вреда. Основная масса гусениц обитают в лесах и мы не видим их по той причине, что они тщательно маскируются. Эти представители живой природы настолько красивы в своём многообразии, что порой забываешь, что это те самые гусеницы, о которых мы привыкли слышать. Некоторые из них больше похожи на пушистых кроликов или диковинные растения, а другим впору идти в парикмахерскую и делать укладку.</a:t>
            </a:r>
            <a:r>
              <a:rPr b="0" lang="ru-RU" sz="23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3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13" descr="1317619165_5"/>
          <p:cNvPicPr/>
          <p:nvPr/>
        </p:nvPicPr>
        <p:blipFill>
          <a:blip r:embed="rId1"/>
          <a:stretch/>
        </p:blipFill>
        <p:spPr>
          <a:xfrm>
            <a:off x="826920" y="692280"/>
            <a:ext cx="3524400" cy="21510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4" descr="1317619166_6"/>
          <p:cNvPicPr/>
          <p:nvPr/>
        </p:nvPicPr>
        <p:blipFill>
          <a:blip r:embed="rId2"/>
          <a:stretch/>
        </p:blipFill>
        <p:spPr>
          <a:xfrm>
            <a:off x="5651640" y="836640"/>
            <a:ext cx="2417760" cy="215100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5" descr="1317619184_2"/>
          <p:cNvPicPr/>
          <p:nvPr/>
        </p:nvPicPr>
        <p:blipFill>
          <a:blip r:embed="rId3"/>
          <a:stretch/>
        </p:blipFill>
        <p:spPr>
          <a:xfrm>
            <a:off x="1042920" y="3284640"/>
            <a:ext cx="2976480" cy="215244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16" descr="1317619189_28"/>
          <p:cNvPicPr/>
          <p:nvPr/>
        </p:nvPicPr>
        <p:blipFill>
          <a:blip r:embed="rId4"/>
          <a:stretch/>
        </p:blipFill>
        <p:spPr>
          <a:xfrm>
            <a:off x="5197320" y="3903840"/>
            <a:ext cx="2940120" cy="215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5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8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7" descr="1317619198_15"/>
          <p:cNvPicPr/>
          <p:nvPr/>
        </p:nvPicPr>
        <p:blipFill>
          <a:blip r:embed="rId1"/>
          <a:stretch/>
        </p:blipFill>
        <p:spPr>
          <a:xfrm>
            <a:off x="755640" y="692280"/>
            <a:ext cx="3827520" cy="253188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8" descr="1317619201_8"/>
          <p:cNvPicPr/>
          <p:nvPr/>
        </p:nvPicPr>
        <p:blipFill>
          <a:blip r:embed="rId2"/>
          <a:stretch/>
        </p:blipFill>
        <p:spPr>
          <a:xfrm>
            <a:off x="4788000" y="692280"/>
            <a:ext cx="3784680" cy="259704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9" descr="1317619203_12"/>
          <p:cNvPicPr/>
          <p:nvPr/>
        </p:nvPicPr>
        <p:blipFill>
          <a:blip r:embed="rId3"/>
          <a:stretch/>
        </p:blipFill>
        <p:spPr>
          <a:xfrm>
            <a:off x="755640" y="3573360"/>
            <a:ext cx="3887640" cy="261144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" descr="1317619210_43"/>
          <p:cNvPicPr/>
          <p:nvPr/>
        </p:nvPicPr>
        <p:blipFill>
          <a:blip r:embed="rId4"/>
          <a:stretch/>
        </p:blipFill>
        <p:spPr>
          <a:xfrm>
            <a:off x="4859280" y="3500280"/>
            <a:ext cx="35179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8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8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8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8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8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8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8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8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000"/>
                            </p:stCondLst>
                            <p:childTnLst>
                              <p:par>
                                <p:cTn id="153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4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4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4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4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2T14:25:25Z</dcterms:created>
  <dc:creator>www.PHILka.RU</dc:creator>
  <dc:description/>
  <dc:language>en-US</dc:language>
  <cp:lastModifiedBy>Admin</cp:lastModifiedBy>
  <dcterms:modified xsi:type="dcterms:W3CDTF">2013-04-01T11:33:59Z</dcterms:modified>
  <cp:revision>29</cp:revision>
  <dc:subject/>
  <dc:title>Как появляется бабочка?</dc:title>
</cp:coreProperties>
</file>