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683-558A-4849-BC66-3A456A6E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394-064F-4070-8295-00E75F6E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1B9-1017-48B2-9814-D2E5325B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067-06B9-40A3-A9C7-42E5F419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20D9-A9B1-47C5-8A11-4166A8DD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C081-547E-4CB8-A59A-37C09C17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64E8-692F-4613-B015-112AAFA7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F0A3-0F1A-48C9-8612-0E620CC1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720E-7975-412C-A2E5-B40FE8B4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CFB0-0AB2-41AA-9DF1-279EB5C0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B128-AB03-48BE-BE1C-1D9F0429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E95-0E2A-4DC2-BE8D-5AAB3B1F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B46A-8C95-4E60-A6B2-0E479F8D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5229-75B0-4F2F-A7AF-05C24A23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9872-E3C9-4DFD-A310-AF0220B6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91DD-FB69-4DB3-A42A-10C3B397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E92F-B438-4ECE-B98D-DF42B188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4D0-8112-44E6-8B6F-7BCD9989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19D-A183-4D9F-8AD9-96A0CE48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A6F-2556-457C-86AE-07519934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0F2-2469-401B-9FCD-959DA299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F77-840E-4CEA-8616-3F564275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232-9C32-4A63-AFE6-9EC40609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AD7-6A33-4C15-A3D5-A85BE05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F289-4CA3-4721-B958-EA26861764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02C7-DE68-446F-907A-67D8A3B6C84A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000" y="1267920"/>
            <a:ext cx="6193080" cy="233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Как появляется бабочка?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4000" y="3644640"/>
            <a:ext cx="61470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Этапы развит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11280" y="5157720"/>
            <a:ext cx="80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Выполнил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: ученик 3 класса школы-сад №14 </a:t>
            </a:r>
            <a:br>
              <a:rPr sz="1400"/>
            </a:b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г.Байкальс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Ефименко Вади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2013 год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1317619211_9"/>
          <p:cNvPicPr/>
          <p:nvPr/>
        </p:nvPicPr>
        <p:blipFill>
          <a:blip r:embed="rId1"/>
          <a:stretch/>
        </p:blipFill>
        <p:spPr>
          <a:xfrm>
            <a:off x="539640" y="1052640"/>
            <a:ext cx="3846600" cy="225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317619228_11"/>
          <p:cNvPicPr/>
          <p:nvPr/>
        </p:nvPicPr>
        <p:blipFill>
          <a:blip r:embed="rId2"/>
          <a:stretch/>
        </p:blipFill>
        <p:spPr>
          <a:xfrm>
            <a:off x="4572000" y="549360"/>
            <a:ext cx="4325760" cy="2516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317619236_3"/>
          <p:cNvPicPr/>
          <p:nvPr/>
        </p:nvPicPr>
        <p:blipFill>
          <a:blip r:embed="rId3"/>
          <a:stretch/>
        </p:blipFill>
        <p:spPr>
          <a:xfrm>
            <a:off x="468360" y="3645000"/>
            <a:ext cx="4375080" cy="2549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1317619245_1"/>
          <p:cNvPicPr/>
          <p:nvPr/>
        </p:nvPicPr>
        <p:blipFill>
          <a:blip r:embed="rId4"/>
          <a:stretch/>
        </p:blipFill>
        <p:spPr>
          <a:xfrm>
            <a:off x="5076720" y="3357720"/>
            <a:ext cx="359424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7" descr="1317619245_7"/>
          <p:cNvPicPr/>
          <p:nvPr/>
        </p:nvPicPr>
        <p:blipFill>
          <a:blip r:embed="rId1"/>
          <a:stretch/>
        </p:blipFill>
        <p:spPr>
          <a:xfrm>
            <a:off x="684360" y="836640"/>
            <a:ext cx="3732120" cy="2151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1317619262_21"/>
          <p:cNvPicPr/>
          <p:nvPr/>
        </p:nvPicPr>
        <p:blipFill>
          <a:blip r:embed="rId2"/>
          <a:stretch/>
        </p:blipFill>
        <p:spPr>
          <a:xfrm>
            <a:off x="5148360" y="836640"/>
            <a:ext cx="3227400" cy="21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i"/>
          <p:cNvPicPr/>
          <p:nvPr/>
        </p:nvPicPr>
        <p:blipFill>
          <a:blip r:embed="rId3"/>
          <a:stretch/>
        </p:blipFill>
        <p:spPr>
          <a:xfrm>
            <a:off x="755640" y="3429000"/>
            <a:ext cx="3911760" cy="2552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i (1)"/>
          <p:cNvPicPr/>
          <p:nvPr/>
        </p:nvPicPr>
        <p:blipFill>
          <a:blip r:embed="rId4"/>
          <a:stretch/>
        </p:blipFill>
        <p:spPr>
          <a:xfrm>
            <a:off x="5003640" y="3429000"/>
            <a:ext cx="34434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лее, каждая гусеница делает себе твердый кокон, который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уколк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В нем ее тело превращается во что-то вроде густого супа. Куколка бабочек практически не подвижна, она не питается, находясь в состоянии поко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15" descr="i (5)"/>
          <p:cNvPicPr/>
          <p:nvPr/>
        </p:nvPicPr>
        <p:blipFill>
          <a:blip r:embed="rId1"/>
          <a:stretch/>
        </p:blipFill>
        <p:spPr>
          <a:xfrm>
            <a:off x="4500720" y="404640"/>
            <a:ext cx="232092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i (2)"/>
          <p:cNvPicPr/>
          <p:nvPr/>
        </p:nvPicPr>
        <p:blipFill>
          <a:blip r:embed="rId2"/>
          <a:stretch/>
        </p:blipFill>
        <p:spPr>
          <a:xfrm>
            <a:off x="6732720" y="3716280"/>
            <a:ext cx="2201760" cy="244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i (3)"/>
          <p:cNvPicPr/>
          <p:nvPr/>
        </p:nvPicPr>
        <p:blipFill>
          <a:blip r:embed="rId3"/>
          <a:stretch/>
        </p:blipFill>
        <p:spPr>
          <a:xfrm>
            <a:off x="6732720" y="1052640"/>
            <a:ext cx="2170080" cy="2735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8" descr="i (4)"/>
          <p:cNvPicPr/>
          <p:nvPr/>
        </p:nvPicPr>
        <p:blipFill>
          <a:blip r:embed="rId4"/>
          <a:stretch/>
        </p:blipFill>
        <p:spPr>
          <a:xfrm>
            <a:off x="4427640" y="3357720"/>
            <a:ext cx="25876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уколка медленно превращается в бабочку. Когда бабочка выбирается из своей куколки, ее крылья мягки и сморщены. Впрочем, они быстро отвердевают на солнце. Взрослая бабочка, как правило, питается жидкой пищей: нектаром цветов, соком деревьев, гниющими фрукт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i (10)"/>
          <p:cNvPicPr/>
          <p:nvPr/>
        </p:nvPicPr>
        <p:blipFill>
          <a:blip r:embed="rId1"/>
          <a:stretch/>
        </p:blipFill>
        <p:spPr>
          <a:xfrm>
            <a:off x="611280" y="662040"/>
            <a:ext cx="3600360" cy="2727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i (7)"/>
          <p:cNvPicPr/>
          <p:nvPr/>
        </p:nvPicPr>
        <p:blipFill>
          <a:blip r:embed="rId2"/>
          <a:stretch/>
        </p:blipFill>
        <p:spPr>
          <a:xfrm>
            <a:off x="4716360" y="62064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i (8)"/>
          <p:cNvPicPr/>
          <p:nvPr/>
        </p:nvPicPr>
        <p:blipFill>
          <a:blip r:embed="rId3"/>
          <a:stretch/>
        </p:blipFill>
        <p:spPr>
          <a:xfrm>
            <a:off x="539640" y="3645000"/>
            <a:ext cx="4246560" cy="265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i (9)"/>
          <p:cNvPicPr/>
          <p:nvPr/>
        </p:nvPicPr>
        <p:blipFill>
          <a:blip r:embed="rId4"/>
          <a:stretch/>
        </p:blipFill>
        <p:spPr>
          <a:xfrm>
            <a:off x="4932360" y="3645000"/>
            <a:ext cx="373068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нтересные факт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Куколка — это будто сейф, который защищает тело насекомого, когда оно изменяет свою форму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Малыши, которые вылупляются из яиц насекомого, называются </a:t>
            </a:r>
            <a:r>
              <a:rPr b="1" lang="ru-RU" sz="2100" spc="-1" strike="noStrike">
                <a:solidFill>
                  <a:srgbClr val="006699"/>
                </a:solidFill>
                <a:latin typeface="Verdana"/>
              </a:rPr>
              <a:t>личинками</a:t>
            </a: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, хотя люди часто называют их просто гусеницей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Гусеница растет настолько быстро, что ее кожа трескается, а под ней уже есть новенькая кожа, рассчитанная на рост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За всю свою жизнь самка бабочки откладывает 50 000 яиц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Бабочка не растет, однако она время от времени любит напиться сладкого цветочного нектара. Это горючее, которое помогает ей летать.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Средняя продолжительность жизни бабочек составляет всего 2-4 недели. 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50"/>
                            </p:stCondLst>
                            <p:childTnLst>
                              <p:par>
                                <p:cTn id="2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750"/>
                            </p:stCondLst>
                            <p:childTnLst>
                              <p:par>
                                <p:cTn id="2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25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75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25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750"/>
                            </p:stCondLst>
                            <p:childTnLst>
                              <p:par>
                                <p:cTn id="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итератур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http://poznaiko.ru/givotni/kak-poyavlyaetsya-babochka.html (</a:t>
            </a:r>
            <a:r>
              <a:rPr b="0" lang="ru-RU" sz="1700" spc="-1" strike="noStrike">
                <a:solidFill>
                  <a:srgbClr val="006699"/>
                </a:solidFill>
                <a:latin typeface="Verdana"/>
              </a:rPr>
              <a:t>детская онлайн энциклопедия poznaiko.ru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http://www.esszoomir.ru/news/2012-06-09/tapy-razvitiya-babochk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тографии яиц бабочки: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http://vsyako-razno.ru/19318-krasivye-fotografii-yaic-babochek-i-razlichnyh-nasekomyh-9-foto.htm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тографии гусениц: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http://art-assorty.ru/162-gusenicy-babochek-foto.htm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тографии бабочек: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http://images.yandex.ru/yandsearch?text=%D0%B1%D0%B0%D0%B1%D0%BE%D1%87%D0%BA%D0%B8%20%D1%84%D0%BE%D1%82%D0%BE&amp;stype=image&amp;lr=65&amp;noreask=1&amp;source=wiz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тографии куколки бабочки:</a:t>
            </a:r>
            <a:br>
              <a:rPr sz="1800"/>
            </a:br>
            <a:r>
              <a:rPr b="0" lang="ru-RU" sz="1800" spc="-1" strike="noStrike">
                <a:solidFill>
                  <a:srgbClr val="cc99ff"/>
                </a:solidFill>
                <a:latin typeface="Verdana"/>
              </a:rPr>
              <a:t>http://images.yandex.ru/yandsearch?text=%D0%BA%D1%83%D0%BA%D0%BE%D0%BB%D0%BA%D0%B8%20%D0%B1%D0%B0%D0%B1%D0%BE%D1%87%D0%B5%D0%BA&amp;stype=image&amp;lr=65&amp;noreask=1&amp;source=wiz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асибо за внимание </a:t>
            </a:r>
            <a:r>
              <a:rPr b="0" lang="ru-RU" sz="44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Много видов насекомых, развиваясь, меняют свою форму. Такой способ развития называется </a:t>
            </a:r>
            <a:r>
              <a:rPr b="0" lang="ru-RU" sz="3100" spc="-1" strike="noStrike">
                <a:solidFill>
                  <a:srgbClr val="ff0000"/>
                </a:solidFill>
                <a:latin typeface="Verdana"/>
              </a:rPr>
              <a:t>метаморфоза</a:t>
            </a: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До того как стать взрослым насекомым, каждая бабочка должна пройти через четыре этапа своей жизни. На каждой стадии она меняет свой размер, форму, цвет. 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тапы развития бабочки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абочка откладывает яйца на растения, которые потом ест гусеница. Яйца бабочек покрыты плотной твёрдой оболочкой и могут быть разнообразной формы. Их число в кладке зависит от вида и может быть больше 1000, однако до взрослой стадии выживают немногие. Средняя продолжительность стадии яйца 8—15 дней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b2d7a44bafc9e65a46bd10202bd1a2ab"/>
          <p:cNvPicPr/>
          <p:nvPr/>
        </p:nvPicPr>
        <p:blipFill>
          <a:blip r:embed="rId1"/>
          <a:stretch/>
        </p:blipFill>
        <p:spPr>
          <a:xfrm>
            <a:off x="3419640" y="260280"/>
            <a:ext cx="5395680" cy="3875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22"/>
          <p:cNvPicPr/>
          <p:nvPr/>
        </p:nvPicPr>
        <p:blipFill>
          <a:blip r:embed="rId2"/>
          <a:stretch/>
        </p:blipFill>
        <p:spPr>
          <a:xfrm>
            <a:off x="826920" y="2852640"/>
            <a:ext cx="3149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Яйца бабочки в увеличенном вид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Picture 9" descr="1283851370_babochka002"/>
          <p:cNvPicPr/>
          <p:nvPr/>
        </p:nvPicPr>
        <p:blipFill>
          <a:blip r:embed="rId1"/>
          <a:stretch/>
        </p:blipFill>
        <p:spPr>
          <a:xfrm>
            <a:off x="5283360" y="3903840"/>
            <a:ext cx="2766960" cy="21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1283851368_0001"/>
          <p:cNvPicPr/>
          <p:nvPr/>
        </p:nvPicPr>
        <p:blipFill>
          <a:blip r:embed="rId2"/>
          <a:stretch/>
        </p:blipFill>
        <p:spPr>
          <a:xfrm>
            <a:off x="457200" y="2357280"/>
            <a:ext cx="4038480" cy="2941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1283851365_babochka008"/>
          <p:cNvPicPr/>
          <p:nvPr/>
        </p:nvPicPr>
        <p:blipFill>
          <a:blip r:embed="rId3"/>
          <a:stretch/>
        </p:blipFill>
        <p:spPr>
          <a:xfrm>
            <a:off x="5281560" y="1600200"/>
            <a:ext cx="27702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Яйца бабочки в увеличенном вид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6" descr="1283851378_babochka004"/>
          <p:cNvPicPr/>
          <p:nvPr/>
        </p:nvPicPr>
        <p:blipFill>
          <a:blip r:embed="rId1"/>
          <a:stretch/>
        </p:blipFill>
        <p:spPr>
          <a:xfrm>
            <a:off x="1090440" y="1600200"/>
            <a:ext cx="2770200" cy="215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1283851394_babochka005"/>
          <p:cNvPicPr/>
          <p:nvPr/>
        </p:nvPicPr>
        <p:blipFill>
          <a:blip r:embed="rId2"/>
          <a:stretch/>
        </p:blipFill>
        <p:spPr>
          <a:xfrm>
            <a:off x="1089000" y="3903840"/>
            <a:ext cx="2773440" cy="2152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1283851382_babochka007"/>
          <p:cNvPicPr/>
          <p:nvPr/>
        </p:nvPicPr>
        <p:blipFill>
          <a:blip r:embed="rId3"/>
          <a:stretch/>
        </p:blipFill>
        <p:spPr>
          <a:xfrm>
            <a:off x="5060880" y="1600200"/>
            <a:ext cx="32130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торой этап – гусеница. Она жадно ест и очень быстро растет.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Гусеницы бабочек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бывают самых различных форм и размеров. Размеры этих созданий колеблются от нескольких миллиметров до 12 сантиметров. Расцветок они бывают самых необычных, от самых скромных, до таких ярких, насыщенных и необычных, что похожи больше на цирковых клоунов. Они не кусаются, не ядовиты, не причиняют никакого вреда. Основная масса гусениц обитают в лесах и мы не видим их по той причине, что они тщательно маскируются. Эти представители живой природы настолько красивы в своём многообразии, что порой забываешь, что это те самые гусеницы, о которых мы привыкли слышать. Некоторые из них больше похожи на пушистых кроликов или диковинные растения, а другим впору идти в парикмахерскую и делать укладку.</a:t>
            </a:r>
            <a:r>
              <a:rPr b="0" lang="ru-RU" sz="23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3" descr="1317619165_5"/>
          <p:cNvPicPr/>
          <p:nvPr/>
        </p:nvPicPr>
        <p:blipFill>
          <a:blip r:embed="rId1"/>
          <a:stretch/>
        </p:blipFill>
        <p:spPr>
          <a:xfrm>
            <a:off x="826920" y="692280"/>
            <a:ext cx="3524400" cy="2151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1317619166_6"/>
          <p:cNvPicPr/>
          <p:nvPr/>
        </p:nvPicPr>
        <p:blipFill>
          <a:blip r:embed="rId2"/>
          <a:stretch/>
        </p:blipFill>
        <p:spPr>
          <a:xfrm>
            <a:off x="5651640" y="836640"/>
            <a:ext cx="2417760" cy="2151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1317619184_2"/>
          <p:cNvPicPr/>
          <p:nvPr/>
        </p:nvPicPr>
        <p:blipFill>
          <a:blip r:embed="rId3"/>
          <a:stretch/>
        </p:blipFill>
        <p:spPr>
          <a:xfrm>
            <a:off x="1042920" y="3284640"/>
            <a:ext cx="2976480" cy="2152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1317619189_28"/>
          <p:cNvPicPr/>
          <p:nvPr/>
        </p:nvPicPr>
        <p:blipFill>
          <a:blip r:embed="rId4"/>
          <a:stretch/>
        </p:blipFill>
        <p:spPr>
          <a:xfrm>
            <a:off x="5197320" y="3903840"/>
            <a:ext cx="29401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1317619198_15"/>
          <p:cNvPicPr/>
          <p:nvPr/>
        </p:nvPicPr>
        <p:blipFill>
          <a:blip r:embed="rId1"/>
          <a:stretch/>
        </p:blipFill>
        <p:spPr>
          <a:xfrm>
            <a:off x="755640" y="692280"/>
            <a:ext cx="3827520" cy="2531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1317619201_8"/>
          <p:cNvPicPr/>
          <p:nvPr/>
        </p:nvPicPr>
        <p:blipFill>
          <a:blip r:embed="rId2"/>
          <a:stretch/>
        </p:blipFill>
        <p:spPr>
          <a:xfrm>
            <a:off x="4788000" y="692280"/>
            <a:ext cx="3784680" cy="2597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1317619203_12"/>
          <p:cNvPicPr/>
          <p:nvPr/>
        </p:nvPicPr>
        <p:blipFill>
          <a:blip r:embed="rId3"/>
          <a:stretch/>
        </p:blipFill>
        <p:spPr>
          <a:xfrm>
            <a:off x="755640" y="3573360"/>
            <a:ext cx="3887640" cy="2611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1317619210_43"/>
          <p:cNvPicPr/>
          <p:nvPr/>
        </p:nvPicPr>
        <p:blipFill>
          <a:blip r:embed="rId4"/>
          <a:stretch/>
        </p:blipFill>
        <p:spPr>
          <a:xfrm>
            <a:off x="4859280" y="3500280"/>
            <a:ext cx="35179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4:25:25Z</dcterms:created>
  <dc:creator>www.PHILka.RU</dc:creator>
  <dc:description/>
  <dc:language>en-US</dc:language>
  <cp:lastModifiedBy>Admin</cp:lastModifiedBy>
  <dcterms:modified xsi:type="dcterms:W3CDTF">2013-04-01T11:33:59Z</dcterms:modified>
  <cp:revision>29</cp:revision>
  <dc:subject/>
  <dc:title>Как появляется бабочка?</dc:title>
</cp:coreProperties>
</file>