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9.png" ContentType="image/png"/>
  <Override PartName="/ppt/media/image11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6.wmf" ContentType="image/x-wmf"/>
  <Override PartName="/ppt/media/image12.wmf" ContentType="image/x-wmf"/>
  <Override PartName="/ppt/media/image4.png" ContentType="image/png"/>
  <Override PartName="/ppt/media/image7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AE6B-239B-4A33-9C7C-A72F23C6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0F75-0510-46AD-8546-3651E0B5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CE9-62FD-4095-A137-7AA1753D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CB6-1DCA-49EA-8A28-14940ADE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0C63-F63D-4DBF-96F4-8662B4D2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AFAA-DACE-4FA0-AEBB-9698412F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2D94-4734-4656-AB0F-62DF7FE6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58B5-9B05-4B20-85F7-EDEA04F1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D5E2-8531-483F-82B2-35400EF4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BBED-86B3-4765-B4AD-B9D1C379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B825-75C8-4063-86A3-53D067DE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8932-1AAF-4DD6-B6AE-ACC1AC94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61C1-0DAA-4B40-91D6-CAE266CB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DB5C-C6C5-45AE-B188-EFD86A73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9BF4-53EF-4C97-A73D-7EF11692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BFB2-3502-4F60-8570-1A7CBFE4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ECA1-DEA0-4DFB-B710-6F1D846E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00C5-AA6A-450F-A4C9-EB48F086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8A4-39DA-4518-8E14-0124DC06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73F5-F8E3-4852-A84B-549A793F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FDF2-3084-4AB6-9295-8A0DC115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9F1F-F422-42AB-9AB9-86FB6225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65CD-B9CC-4641-B54B-D742E34F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A52B-9B36-4FA5-85C3-8FC085A1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7a5"/>
            </a:gs>
            <a:gs pos="100000">
              <a:srgbClr val="003b3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4"/>
          <p:cNvGrpSpPr/>
          <p:nvPr/>
        </p:nvGrpSpPr>
        <p:grpSpPr>
          <a:xfrm>
            <a:off x="-360" y="0"/>
            <a:ext cx="9133200" cy="6845400"/>
            <a:chOff x="-360" y="0"/>
            <a:chExt cx="9133200" cy="6845400"/>
          </a:xfrm>
        </p:grpSpPr>
        <p:grpSp>
          <p:nvGrpSpPr>
            <p:cNvPr id="1" name="Group 32"/>
            <p:cNvGrpSpPr/>
            <p:nvPr/>
          </p:nvGrpSpPr>
          <p:grpSpPr>
            <a:xfrm>
              <a:off x="-360" y="0"/>
              <a:ext cx="9133200" cy="6845400"/>
              <a:chOff x="-360" y="0"/>
              <a:chExt cx="9133200" cy="6845400"/>
            </a:xfrm>
          </p:grpSpPr>
          <p:sp>
            <p:nvSpPr>
              <p:cNvPr id="2" name="Line 2"/>
              <p:cNvSpPr/>
              <p:nvPr/>
            </p:nvSpPr>
            <p:spPr>
              <a:xfrm flipH="1">
                <a:off x="0" y="0"/>
                <a:ext cx="642960" cy="7239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3" name="Line 3"/>
              <p:cNvSpPr/>
              <p:nvPr/>
            </p:nvSpPr>
            <p:spPr>
              <a:xfrm flipH="1">
                <a:off x="-360" y="0"/>
                <a:ext cx="1150920" cy="12952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H="1">
                <a:off x="-360" y="0"/>
                <a:ext cx="1676520" cy="188604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H="1">
                <a:off x="-360" y="0"/>
                <a:ext cx="2166840" cy="24382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H="1">
                <a:off x="0" y="0"/>
                <a:ext cx="2674800" cy="30099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7" name="Line 7"/>
              <p:cNvSpPr/>
              <p:nvPr/>
            </p:nvSpPr>
            <p:spPr>
              <a:xfrm flipH="1">
                <a:off x="0" y="0"/>
                <a:ext cx="3200400" cy="36003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8" name="Line 8"/>
              <p:cNvSpPr/>
              <p:nvPr/>
            </p:nvSpPr>
            <p:spPr>
              <a:xfrm flipH="1">
                <a:off x="0" y="0"/>
                <a:ext cx="3726000" cy="41911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 flipH="1">
                <a:off x="-360" y="0"/>
                <a:ext cx="4267080" cy="4800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 flipH="1">
                <a:off x="0" y="0"/>
                <a:ext cx="4757760" cy="53532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 flipH="1">
                <a:off x="0" y="0"/>
                <a:ext cx="5300640" cy="59626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 flipH="1">
                <a:off x="-360" y="0"/>
                <a:ext cx="5824440" cy="65530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3" name="Line 13"/>
              <p:cNvSpPr/>
              <p:nvPr/>
            </p:nvSpPr>
            <p:spPr>
              <a:xfrm flipH="1">
                <a:off x="282600" y="0"/>
                <a:ext cx="608472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4" name="Line 14"/>
              <p:cNvSpPr/>
              <p:nvPr/>
            </p:nvSpPr>
            <p:spPr>
              <a:xfrm flipH="1">
                <a:off x="790200" y="0"/>
                <a:ext cx="608508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5" name="Line 15"/>
              <p:cNvSpPr/>
              <p:nvPr/>
            </p:nvSpPr>
            <p:spPr>
              <a:xfrm flipH="1">
                <a:off x="1314000" y="0"/>
                <a:ext cx="608508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6" name="Line 16"/>
              <p:cNvSpPr/>
              <p:nvPr/>
            </p:nvSpPr>
            <p:spPr>
              <a:xfrm flipH="1">
                <a:off x="1789200" y="0"/>
                <a:ext cx="608472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7" name="Line 17"/>
              <p:cNvSpPr/>
              <p:nvPr/>
            </p:nvSpPr>
            <p:spPr>
              <a:xfrm flipH="1">
                <a:off x="2314080" y="0"/>
                <a:ext cx="608508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8" name="Line 18"/>
              <p:cNvSpPr/>
              <p:nvPr/>
            </p:nvSpPr>
            <p:spPr>
              <a:xfrm flipH="1">
                <a:off x="2811600" y="6480"/>
                <a:ext cx="6078240" cy="68389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9" name="Line 19"/>
              <p:cNvSpPr/>
              <p:nvPr/>
            </p:nvSpPr>
            <p:spPr>
              <a:xfrm flipH="1">
                <a:off x="3843000" y="895320"/>
                <a:ext cx="5289480" cy="59500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20" name="Line 20"/>
              <p:cNvSpPr/>
              <p:nvPr/>
            </p:nvSpPr>
            <p:spPr>
              <a:xfrm flipH="1">
                <a:off x="4317480" y="1428840"/>
                <a:ext cx="4815000" cy="54165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21" name="Line 21"/>
              <p:cNvSpPr/>
              <p:nvPr/>
            </p:nvSpPr>
            <p:spPr>
              <a:xfrm flipH="1">
                <a:off x="4808520" y="1981080"/>
                <a:ext cx="4324320" cy="48643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22" name="Line 22"/>
              <p:cNvSpPr/>
              <p:nvPr/>
            </p:nvSpPr>
            <p:spPr>
              <a:xfrm flipH="1">
                <a:off x="5316120" y="2552760"/>
                <a:ext cx="3816360" cy="429264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23" name="Line 23"/>
              <p:cNvSpPr/>
              <p:nvPr/>
            </p:nvSpPr>
            <p:spPr>
              <a:xfrm flipH="1">
                <a:off x="5859000" y="3162240"/>
                <a:ext cx="3273480" cy="36831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24" name="Line 24"/>
              <p:cNvSpPr/>
              <p:nvPr/>
            </p:nvSpPr>
            <p:spPr>
              <a:xfrm flipH="1">
                <a:off x="6400440" y="3772080"/>
                <a:ext cx="2732040" cy="30733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25" name="Line 25"/>
              <p:cNvSpPr/>
              <p:nvPr/>
            </p:nvSpPr>
            <p:spPr>
              <a:xfrm flipH="1">
                <a:off x="6908760" y="4343400"/>
                <a:ext cx="2224080" cy="25020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26" name="Line 26"/>
              <p:cNvSpPr/>
              <p:nvPr/>
            </p:nvSpPr>
            <p:spPr>
              <a:xfrm flipH="1">
                <a:off x="7434360" y="4933800"/>
                <a:ext cx="1698480" cy="1911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27" name="Line 27"/>
              <p:cNvSpPr/>
              <p:nvPr/>
            </p:nvSpPr>
            <p:spPr>
              <a:xfrm flipH="1">
                <a:off x="7924680" y="5486400"/>
                <a:ext cx="1208160" cy="13590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28" name="Line 28"/>
              <p:cNvSpPr/>
              <p:nvPr/>
            </p:nvSpPr>
            <p:spPr>
              <a:xfrm flipH="1">
                <a:off x="8399160" y="6019920"/>
                <a:ext cx="733320" cy="8254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29" name="Line 29"/>
              <p:cNvSpPr/>
              <p:nvPr/>
            </p:nvSpPr>
            <p:spPr>
              <a:xfrm flipH="1">
                <a:off x="8872200" y="6553080"/>
                <a:ext cx="260280" cy="2923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30" name="Line 30"/>
              <p:cNvSpPr/>
              <p:nvPr/>
            </p:nvSpPr>
            <p:spPr>
              <a:xfrm flipH="1">
                <a:off x="0" y="0"/>
                <a:ext cx="203040" cy="228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31" name="Line 31"/>
              <p:cNvSpPr/>
              <p:nvPr/>
            </p:nvSpPr>
            <p:spPr>
              <a:xfrm flipH="1">
                <a:off x="3363480" y="361800"/>
                <a:ext cx="5762520" cy="6483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</p:grpSp>
        <p:sp>
          <p:nvSpPr>
            <p:cNvPr id="32" name="Rectangle 33"/>
            <p:cNvSpPr/>
            <p:nvPr/>
          </p:nvSpPr>
          <p:spPr>
            <a:xfrm>
              <a:off x="463680" y="463680"/>
              <a:ext cx="8216640" cy="5930640"/>
            </a:xfrm>
            <a:prstGeom prst="rect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b7a5"/>
                </a:gs>
              </a:gsLst>
              <a:lin ang="5400000"/>
            </a:gradFill>
            <a:ln w="12600">
              <a:solidFill>
                <a:srgbClr val="d60093"/>
              </a:solidFill>
              <a:miter/>
            </a:ln>
            <a:effectLst>
              <a:outerShdw dist="125751" dir="2700000" blurRad="0" rotWithShape="0">
                <a:srgbClr val="003b3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Cyr"/>
              </a:endParaRPr>
            </a:p>
          </p:txBody>
        </p:sp>
      </p:grpSp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6009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9A78-F6F8-478E-B781-933A668035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7a5"/>
            </a:gs>
            <a:gs pos="100000">
              <a:srgbClr val="003b3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34"/>
          <p:cNvGrpSpPr/>
          <p:nvPr/>
        </p:nvGrpSpPr>
        <p:grpSpPr>
          <a:xfrm>
            <a:off x="-360" y="0"/>
            <a:ext cx="9133200" cy="6845400"/>
            <a:chOff x="-360" y="0"/>
            <a:chExt cx="9133200" cy="6845400"/>
          </a:xfrm>
        </p:grpSpPr>
        <p:grpSp>
          <p:nvGrpSpPr>
            <p:cNvPr id="75" name="Group 32"/>
            <p:cNvGrpSpPr/>
            <p:nvPr/>
          </p:nvGrpSpPr>
          <p:grpSpPr>
            <a:xfrm>
              <a:off x="-360" y="0"/>
              <a:ext cx="9133200" cy="6845400"/>
              <a:chOff x="-360" y="0"/>
              <a:chExt cx="9133200" cy="6845400"/>
            </a:xfrm>
          </p:grpSpPr>
          <p:sp>
            <p:nvSpPr>
              <p:cNvPr id="76" name="Line 2"/>
              <p:cNvSpPr/>
              <p:nvPr/>
            </p:nvSpPr>
            <p:spPr>
              <a:xfrm flipH="1">
                <a:off x="0" y="0"/>
                <a:ext cx="642960" cy="7239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77" name="Line 3"/>
              <p:cNvSpPr/>
              <p:nvPr/>
            </p:nvSpPr>
            <p:spPr>
              <a:xfrm flipH="1">
                <a:off x="-360" y="0"/>
                <a:ext cx="1150920" cy="12952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78" name="Line 4"/>
              <p:cNvSpPr/>
              <p:nvPr/>
            </p:nvSpPr>
            <p:spPr>
              <a:xfrm flipH="1">
                <a:off x="-360" y="0"/>
                <a:ext cx="1676520" cy="188604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79" name="Line 5"/>
              <p:cNvSpPr/>
              <p:nvPr/>
            </p:nvSpPr>
            <p:spPr>
              <a:xfrm flipH="1">
                <a:off x="-360" y="0"/>
                <a:ext cx="2166840" cy="24382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80" name="Line 6"/>
              <p:cNvSpPr/>
              <p:nvPr/>
            </p:nvSpPr>
            <p:spPr>
              <a:xfrm flipH="1">
                <a:off x="0" y="0"/>
                <a:ext cx="2674800" cy="30099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81" name="Line 7"/>
              <p:cNvSpPr/>
              <p:nvPr/>
            </p:nvSpPr>
            <p:spPr>
              <a:xfrm flipH="1">
                <a:off x="0" y="0"/>
                <a:ext cx="3200400" cy="36003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82" name="Line 8"/>
              <p:cNvSpPr/>
              <p:nvPr/>
            </p:nvSpPr>
            <p:spPr>
              <a:xfrm flipH="1">
                <a:off x="0" y="0"/>
                <a:ext cx="3726000" cy="41911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83" name="Line 9"/>
              <p:cNvSpPr/>
              <p:nvPr/>
            </p:nvSpPr>
            <p:spPr>
              <a:xfrm flipH="1">
                <a:off x="-360" y="0"/>
                <a:ext cx="4267080" cy="4800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84" name="Line 10"/>
              <p:cNvSpPr/>
              <p:nvPr/>
            </p:nvSpPr>
            <p:spPr>
              <a:xfrm flipH="1">
                <a:off x="0" y="0"/>
                <a:ext cx="4757760" cy="53532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85" name="Line 11"/>
              <p:cNvSpPr/>
              <p:nvPr/>
            </p:nvSpPr>
            <p:spPr>
              <a:xfrm flipH="1">
                <a:off x="0" y="0"/>
                <a:ext cx="5300640" cy="59626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86" name="Line 12"/>
              <p:cNvSpPr/>
              <p:nvPr/>
            </p:nvSpPr>
            <p:spPr>
              <a:xfrm flipH="1">
                <a:off x="-360" y="0"/>
                <a:ext cx="5824440" cy="65530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87" name="Line 13"/>
              <p:cNvSpPr/>
              <p:nvPr/>
            </p:nvSpPr>
            <p:spPr>
              <a:xfrm flipH="1">
                <a:off x="282600" y="0"/>
                <a:ext cx="608472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88" name="Line 14"/>
              <p:cNvSpPr/>
              <p:nvPr/>
            </p:nvSpPr>
            <p:spPr>
              <a:xfrm flipH="1">
                <a:off x="790200" y="0"/>
                <a:ext cx="608508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89" name="Line 15"/>
              <p:cNvSpPr/>
              <p:nvPr/>
            </p:nvSpPr>
            <p:spPr>
              <a:xfrm flipH="1">
                <a:off x="1314000" y="0"/>
                <a:ext cx="608508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90" name="Line 16"/>
              <p:cNvSpPr/>
              <p:nvPr/>
            </p:nvSpPr>
            <p:spPr>
              <a:xfrm flipH="1">
                <a:off x="1789200" y="0"/>
                <a:ext cx="608472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91" name="Line 17"/>
              <p:cNvSpPr/>
              <p:nvPr/>
            </p:nvSpPr>
            <p:spPr>
              <a:xfrm flipH="1">
                <a:off x="2314080" y="0"/>
                <a:ext cx="608508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92" name="Line 18"/>
              <p:cNvSpPr/>
              <p:nvPr/>
            </p:nvSpPr>
            <p:spPr>
              <a:xfrm flipH="1">
                <a:off x="2811600" y="6480"/>
                <a:ext cx="6078240" cy="68389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93" name="Line 19"/>
              <p:cNvSpPr/>
              <p:nvPr/>
            </p:nvSpPr>
            <p:spPr>
              <a:xfrm flipH="1">
                <a:off x="3843000" y="895320"/>
                <a:ext cx="5289480" cy="59500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94" name="Line 20"/>
              <p:cNvSpPr/>
              <p:nvPr/>
            </p:nvSpPr>
            <p:spPr>
              <a:xfrm flipH="1">
                <a:off x="4317480" y="1428840"/>
                <a:ext cx="4815000" cy="54165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95" name="Line 21"/>
              <p:cNvSpPr/>
              <p:nvPr/>
            </p:nvSpPr>
            <p:spPr>
              <a:xfrm flipH="1">
                <a:off x="4808520" y="1981080"/>
                <a:ext cx="4324320" cy="48643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96" name="Line 22"/>
              <p:cNvSpPr/>
              <p:nvPr/>
            </p:nvSpPr>
            <p:spPr>
              <a:xfrm flipH="1">
                <a:off x="5316120" y="2552760"/>
                <a:ext cx="3816360" cy="429264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97" name="Line 23"/>
              <p:cNvSpPr/>
              <p:nvPr/>
            </p:nvSpPr>
            <p:spPr>
              <a:xfrm flipH="1">
                <a:off x="5859000" y="3162240"/>
                <a:ext cx="3273480" cy="36831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98" name="Line 24"/>
              <p:cNvSpPr/>
              <p:nvPr/>
            </p:nvSpPr>
            <p:spPr>
              <a:xfrm flipH="1">
                <a:off x="6400440" y="3772080"/>
                <a:ext cx="2732040" cy="30733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99" name="Line 25"/>
              <p:cNvSpPr/>
              <p:nvPr/>
            </p:nvSpPr>
            <p:spPr>
              <a:xfrm flipH="1">
                <a:off x="6908760" y="4343400"/>
                <a:ext cx="2224080" cy="25020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00" name="Line 26"/>
              <p:cNvSpPr/>
              <p:nvPr/>
            </p:nvSpPr>
            <p:spPr>
              <a:xfrm flipH="1">
                <a:off x="7434360" y="4933800"/>
                <a:ext cx="1698480" cy="1911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01" name="Line 27"/>
              <p:cNvSpPr/>
              <p:nvPr/>
            </p:nvSpPr>
            <p:spPr>
              <a:xfrm flipH="1">
                <a:off x="7924680" y="5486400"/>
                <a:ext cx="1208160" cy="13590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02" name="Line 28"/>
              <p:cNvSpPr/>
              <p:nvPr/>
            </p:nvSpPr>
            <p:spPr>
              <a:xfrm flipH="1">
                <a:off x="8399160" y="6019920"/>
                <a:ext cx="733320" cy="8254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03" name="Line 29"/>
              <p:cNvSpPr/>
              <p:nvPr/>
            </p:nvSpPr>
            <p:spPr>
              <a:xfrm flipH="1">
                <a:off x="8872200" y="6553080"/>
                <a:ext cx="260280" cy="2923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04" name="Line 30"/>
              <p:cNvSpPr/>
              <p:nvPr/>
            </p:nvSpPr>
            <p:spPr>
              <a:xfrm flipH="1">
                <a:off x="0" y="0"/>
                <a:ext cx="203040" cy="228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05" name="Line 31"/>
              <p:cNvSpPr/>
              <p:nvPr/>
            </p:nvSpPr>
            <p:spPr>
              <a:xfrm flipH="1">
                <a:off x="3363480" y="361800"/>
                <a:ext cx="5762520" cy="6483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</p:grpSp>
        <p:sp>
          <p:nvSpPr>
            <p:cNvPr id="106" name="Rectangle 33"/>
            <p:cNvSpPr/>
            <p:nvPr/>
          </p:nvSpPr>
          <p:spPr>
            <a:xfrm>
              <a:off x="463680" y="1606680"/>
              <a:ext cx="8216640" cy="4178160"/>
            </a:xfrm>
            <a:prstGeom prst="rect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b7a5"/>
                </a:gs>
              </a:gsLst>
              <a:lin ang="5400000"/>
            </a:gradFill>
            <a:ln w="12600">
              <a:solidFill>
                <a:srgbClr val="d60093"/>
              </a:solidFill>
              <a:miter/>
            </a:ln>
            <a:effectLst>
              <a:outerShdw dist="125751" dir="2700000" blurRad="0" rotWithShape="0">
                <a:srgbClr val="003b3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Cyr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6009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9BA7-DEC2-4B04-9314-3B54DDB81A1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cc"/>
                </a:solidFill>
                <a:latin typeface="Times New Roman"/>
              </a:rPr>
              <a:t>Презентация к уроку истории в 5 классе по теме «Индийские касты».  Выполнила учитель истории МБОУСОШ№20 г.Новочеркасска </a:t>
            </a:r>
            <a:br>
              <a:rPr sz="3600"/>
            </a:br>
            <a:r>
              <a:rPr b="0" lang="ru-RU" sz="3600" spc="-1" strike="noStrike">
                <a:solidFill>
                  <a:srgbClr val="ff99cc"/>
                </a:solidFill>
                <a:latin typeface="Times New Roman"/>
              </a:rPr>
              <a:t>Мох Галина Сергеевна</a:t>
            </a:r>
            <a:endParaRPr b="0" lang="en-US" sz="3600" spc="-1" strike="noStrike">
              <a:solidFill>
                <a:srgbClr val="ff99cc"/>
              </a:solidFill>
              <a:latin typeface="Times New Roman"/>
            </a:endParaRPr>
          </a:p>
        </p:txBody>
      </p:sp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СТЫ В ИНДИИ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graphicFrame>
        <p:nvGraphicFramePr>
          <p:cNvPr id="186" name="Object 3"/>
          <p:cNvGraphicFramePr/>
          <p:nvPr/>
        </p:nvGraphicFramePr>
        <p:xfrm>
          <a:off x="2743200" y="1905120"/>
          <a:ext cx="3429000" cy="46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05120"/>
                    <a:ext cx="342900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4"/>
          <p:cNvGraphicFramePr/>
          <p:nvPr/>
        </p:nvGraphicFramePr>
        <p:xfrm>
          <a:off x="2743200" y="2514600"/>
          <a:ext cx="3429000" cy="466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514600"/>
                    <a:ext cx="342900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5"/>
          <p:cNvGraphicFramePr/>
          <p:nvPr/>
        </p:nvGraphicFramePr>
        <p:xfrm>
          <a:off x="2743200" y="3124080"/>
          <a:ext cx="3429000" cy="466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9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3124080"/>
                    <a:ext cx="34290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6"/>
          <p:cNvGraphicFramePr/>
          <p:nvPr/>
        </p:nvGraphicFramePr>
        <p:xfrm>
          <a:off x="2743200" y="3733920"/>
          <a:ext cx="3429000" cy="4665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9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3733920"/>
                    <a:ext cx="342900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7"/>
          <p:cNvGraphicFramePr/>
          <p:nvPr/>
        </p:nvGraphicFramePr>
        <p:xfrm>
          <a:off x="2743200" y="4648320"/>
          <a:ext cx="3429000" cy="4572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9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648320"/>
                    <a:ext cx="3429000" cy="457200"/>
                  </a:xfrm>
                  <a:prstGeom prst="rect">
                    <a:avLst/>
                  </a:prstGeom>
                  <a:ln w="76320">
                    <a:solidFill>
                      <a:srgbClr val="003b3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6" name="Rectangle 8"/>
          <p:cNvSpPr/>
          <p:nvPr/>
        </p:nvSpPr>
        <p:spPr>
          <a:xfrm>
            <a:off x="991800" y="5638680"/>
            <a:ext cx="77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!!!НЕПРИКАСАЕМЫЕ НАХОДИЛИСЬ ВНЕ КАСТ!!!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685800" y="609480"/>
          <a:ext cx="7772400" cy="5486400"/>
        </p:xfrm>
        <a:graphic>
          <a:graphicData uri="http://schemas.openxmlformats.org/drawingml/2006/table">
            <a:tbl>
              <a:tblPr/>
              <a:tblGrid>
                <a:gridCol w="2448000"/>
                <a:gridCol w="2631960"/>
                <a:gridCol w="269244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 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  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  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  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-468360" y="33336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Cyr"/>
              </a:rPr>
              <a:t>Будда</a:t>
            </a:r>
            <a:endParaRPr b="0" lang="en-US" sz="4400" spc="-1" strike="noStrike">
              <a:solidFill>
                <a:srgbClr val="ffffff"/>
              </a:solidFill>
              <a:latin typeface="Arial Cyr"/>
            </a:endParaRPr>
          </a:p>
        </p:txBody>
      </p:sp>
      <p:pic>
        <p:nvPicPr>
          <p:cNvPr id="199" name="Picture 5" descr="buddha-2"/>
          <p:cNvPicPr/>
          <p:nvPr/>
        </p:nvPicPr>
        <p:blipFill>
          <a:blip r:embed="rId1"/>
          <a:stretch/>
        </p:blipFill>
        <p:spPr>
          <a:xfrm>
            <a:off x="3276720" y="1197000"/>
            <a:ext cx="4449600" cy="47721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1428840" y="2786040"/>
            <a:ext cx="566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 Cyr"/>
              </a:rPr>
              <a:t>КАСТЫ В ДРЕВНЕЙ</a:t>
            </a:r>
            <a:endParaRPr b="0" lang="en-US" sz="4400" spc="-1" strike="noStrike">
              <a:solidFill>
                <a:srgbClr val="ffffff"/>
              </a:solidFill>
              <a:latin typeface="Arial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 Cyr"/>
              </a:rPr>
              <a:t>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 Cyr"/>
              </a:rPr>
              <a:t>ИНДИИ</a:t>
            </a:r>
            <a:endParaRPr b="0" lang="en-US" sz="4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1285920" y="642960"/>
            <a:ext cx="6357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Cyr"/>
              </a:rPr>
              <a:t>Почему дети земледельцев не могут стать воинами?</a:t>
            </a:r>
            <a:endParaRPr b="0" lang="en-US" sz="4000" spc="-1" strike="noStrike">
              <a:solidFill>
                <a:srgbClr val="ffffff"/>
              </a:solidFill>
              <a:latin typeface="Arial Cyr"/>
            </a:endParaRPr>
          </a:p>
        </p:txBody>
      </p:sp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1539720" y="1998000"/>
            <a:ext cx="6064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Cyr"/>
              </a:rPr>
              <a:t>Я запомнил(а)…</a:t>
            </a:r>
            <a:endParaRPr b="0" lang="en-US" sz="6000" spc="-1" strike="noStrike">
              <a:solidFill>
                <a:srgbClr val="ffffff"/>
              </a:solidFill>
              <a:latin typeface="Arial Cyr"/>
            </a:endParaRPr>
          </a:p>
          <a:p>
            <a:pPr algn="ctr">
              <a:tabLst>
                <a:tab algn="l" pos="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Cyr"/>
              </a:rPr>
              <a:t>Я понял(а)…</a:t>
            </a:r>
            <a:endParaRPr b="0" lang="en-US" sz="6000" spc="-1" strike="noStrike">
              <a:solidFill>
                <a:srgbClr val="ffffff"/>
              </a:solidFill>
              <a:latin typeface="Arial Cyr"/>
            </a:endParaRPr>
          </a:p>
          <a:p>
            <a:pPr algn="ctr">
              <a:tabLst>
                <a:tab algn="l" pos="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Cyr"/>
              </a:rPr>
              <a:t>Мне на уроке…</a:t>
            </a:r>
            <a:endParaRPr b="0" lang="en-US" sz="6000" spc="-1" strike="noStrike">
              <a:solidFill>
                <a:srgbClr val="ffffff"/>
              </a:solidFill>
              <a:latin typeface="Arial Cyr"/>
            </a:endParaRPr>
          </a:p>
        </p:txBody>
      </p:sp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тератур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«История Древнего мира»-учебник для 5 класса общеобразовательных учреждений/(А.А. Вигасин, Г.И. Годер).-М, издательство Прсвещ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Рабочая тетрадь по Истории Древнего мира для 5 класса общеобразовательных школ (Г.И. Годер) ).-М, издательство Прсвещ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900000" y="714240"/>
            <a:ext cx="6943680" cy="1202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утешествие в Древнюю Индию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025800" cy="1357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611280" y="1601640"/>
            <a:ext cx="2665440" cy="1582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2733840" cy="2228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4"/>
          <a:stretch/>
        </p:blipFill>
        <p:spPr>
          <a:xfrm>
            <a:off x="4788000" y="3716280"/>
            <a:ext cx="3441600" cy="223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КАСТЫ В ДРЕВНЕЙ ИНДИИ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1285920" y="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Cyr"/>
              </a:rPr>
              <a:t>Почему дети земледельцев не могут стать воинами?</a:t>
            </a:r>
            <a:endParaRPr b="0" lang="en-US" sz="3600" spc="-1" strike="noStrike">
              <a:solidFill>
                <a:srgbClr val="ffffff"/>
              </a:solidFill>
              <a:latin typeface="Arial Cyr"/>
            </a:endParaRPr>
          </a:p>
        </p:txBody>
      </p:sp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4" descr="5"/>
          <p:cNvPicPr/>
          <p:nvPr/>
        </p:nvPicPr>
        <p:blipFill>
          <a:blip r:embed="rId1"/>
          <a:stretch/>
        </p:blipFill>
        <p:spPr>
          <a:xfrm>
            <a:off x="592200" y="981000"/>
            <a:ext cx="3763800" cy="51008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3120"/>
            <a:ext cx="8076960" cy="587160"/>
          </a:xfrm>
          <a:prstGeom prst="rect">
            <a:avLst/>
          </a:prstGeom>
          <a:solidFill>
            <a:srgbClr val="003b3b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Легенда о происхождении каст</a:t>
            </a:r>
            <a:endParaRPr b="0" lang="en-US" sz="28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1619280" y="2133720"/>
            <a:ext cx="609480" cy="380880"/>
          </a:xfrm>
          <a:custGeom>
            <a:avLst/>
            <a:gdLst>
              <a:gd name="textAreaLeft" fmla="*/ 138960 w 609480"/>
              <a:gd name="textAreaRight" fmla="*/ 470520 w 60948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Cyr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3276720" y="3581280"/>
            <a:ext cx="685800" cy="533520"/>
          </a:xfrm>
          <a:custGeom>
            <a:avLst/>
            <a:gdLst>
              <a:gd name="textAreaLeft" fmla="*/ 156600 w 685800"/>
              <a:gd name="textAreaRight" fmla="*/ 529200 w 68580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Cyr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1219320" y="498780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Cyr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2666880" y="5257800"/>
            <a:ext cx="609840" cy="457200"/>
          </a:xfrm>
          <a:custGeom>
            <a:avLst/>
            <a:gdLst>
              <a:gd name="textAreaLeft" fmla="*/ 138960 w 609840"/>
              <a:gd name="textAreaRight" fmla="*/ 470880 w 60984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3b"/>
                </a:solidFill>
                <a:latin typeface="Arial Cyr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00720" y="1557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Уста</a:t>
            </a:r>
            <a:endParaRPr b="0" lang="en-US" sz="32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4500720" y="2700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2.Руки</a:t>
            </a:r>
            <a:endParaRPr b="0" lang="en-US" sz="32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500720" y="376704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3.Бедра</a:t>
            </a:r>
            <a:endParaRPr b="0" lang="en-US" sz="32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4500720" y="48340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Ступни</a:t>
            </a:r>
            <a:endParaRPr b="0" lang="en-US" sz="32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5940360" y="1628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Cyr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Брахманы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6084720" y="278136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Cyr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Воины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6012000" y="38606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Cyr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Земледельцы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6372360" y="49417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Cyr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Слуги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</p:spTree>
  </p:cSld>
  <p:transition spd="med">
    <p:push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1440" y="43920"/>
            <a:ext cx="8458200" cy="600120"/>
          </a:xfrm>
          <a:prstGeom prst="rect">
            <a:avLst/>
          </a:prstGeom>
          <a:solidFill>
            <a:srgbClr val="003b3b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Брахманы и их роль в индийском обществе</a:t>
            </a:r>
            <a:endParaRPr b="0" lang="en-US" sz="32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84720" y="1228680"/>
            <a:ext cx="4114800" cy="464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Брахманы-самая почитаемая часть населения Инд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Брахманы  общались с бог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Жизнь брахмана делилась на три части-учение,обза-ведение семьей,от-шельниче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3" descr="4"/>
          <p:cNvPicPr/>
          <p:nvPr/>
        </p:nvPicPr>
        <p:blipFill>
          <a:blip r:embed="rId2"/>
          <a:stretch/>
        </p:blipFill>
        <p:spPr>
          <a:xfrm>
            <a:off x="900000" y="1197000"/>
            <a:ext cx="2922840" cy="46814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44280"/>
            <a:ext cx="3598560" cy="540000"/>
          </a:xfrm>
          <a:prstGeom prst="rect">
            <a:avLst/>
          </a:prstGeom>
          <a:solidFill>
            <a:srgbClr val="003b3b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оины</a:t>
            </a:r>
            <a:endParaRPr b="0" lang="en-US" sz="32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217760" y="2205000"/>
            <a:ext cx="3809880" cy="2286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Воины-самые знатные люди в Индии .Из них происходили Цари и Княз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8" descr="1"/>
          <p:cNvPicPr/>
          <p:nvPr/>
        </p:nvPicPr>
        <p:blipFill>
          <a:blip r:embed="rId2"/>
          <a:stretch/>
        </p:blipFill>
        <p:spPr>
          <a:xfrm>
            <a:off x="755640" y="620640"/>
            <a:ext cx="3029040" cy="561672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23640" y="43920"/>
            <a:ext cx="5110200" cy="659160"/>
          </a:xfrm>
          <a:prstGeom prst="rect">
            <a:avLst/>
          </a:prstGeom>
          <a:solidFill>
            <a:srgbClr val="003b3b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Земледельцы</a:t>
            </a:r>
            <a:endParaRPr b="0" lang="en-US" sz="40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00360" y="2193840"/>
            <a:ext cx="3809880" cy="2819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Земледельцы-имели имущество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землю,дом,скот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земледельцы платили нало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3"/>
          <p:cNvPicPr/>
          <p:nvPr/>
        </p:nvPicPr>
        <p:blipFill>
          <a:blip r:embed="rId2"/>
          <a:stretch/>
        </p:blipFill>
        <p:spPr>
          <a:xfrm>
            <a:off x="755640" y="1197000"/>
            <a:ext cx="3384720" cy="450540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8" descr="1"/>
          <p:cNvPicPr/>
          <p:nvPr/>
        </p:nvPicPr>
        <p:blipFill>
          <a:blip r:embed="rId1"/>
          <a:stretch/>
        </p:blipFill>
        <p:spPr>
          <a:xfrm>
            <a:off x="1728720" y="681120"/>
            <a:ext cx="5616720" cy="38624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49080" y="43920"/>
            <a:ext cx="4173480" cy="576360"/>
          </a:xfrm>
          <a:prstGeom prst="rect">
            <a:avLst/>
          </a:prstGeom>
          <a:solidFill>
            <a:srgbClr val="003b3b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Слуги</a:t>
            </a:r>
            <a:endParaRPr b="0" lang="en-US" sz="40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4510080"/>
            <a:ext cx="7846920" cy="223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Слуги-были фактическими рабами,но хозяин не мог их уб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Слуги не имели имущества и не могли молиться бог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80000" cy="765000"/>
          </a:xfrm>
          <a:prstGeom prst="rect">
            <a:avLst/>
          </a:prstGeom>
          <a:solidFill>
            <a:srgbClr val="003b3b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Неприкасаемые</a:t>
            </a:r>
            <a:endParaRPr b="0" lang="en-US" sz="40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48320" y="1066680"/>
            <a:ext cx="4114800" cy="5562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Неприкасаемые на-ходились вне кас-тового деления общ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Неприкасаемые жи-ли вне деревень ,и выполняли самые грязные и тяже-лые раб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Подумайте, как чело-век мог стать не-прикасаемым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2"/>
          <p:cNvPicPr/>
          <p:nvPr/>
        </p:nvPicPr>
        <p:blipFill>
          <a:blip r:embed="rId2"/>
          <a:stretch/>
        </p:blipFill>
        <p:spPr>
          <a:xfrm>
            <a:off x="900000" y="1444680"/>
            <a:ext cx="3329280" cy="443232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07:06:29Z</dcterms:created>
  <dc:creator>ЧЕРНОВ АЛЕКСЕЙ</dc:creator>
  <dc:description/>
  <dc:language>en-US</dc:language>
  <cp:lastModifiedBy>User</cp:lastModifiedBy>
  <dcterms:modified xsi:type="dcterms:W3CDTF">2013-03-14T12:55:13Z</dcterms:modified>
  <cp:revision>18</cp:revision>
  <dc:subject/>
  <dc:title>КАСТЫ В ДРЕВНЕЙ ИНДИИ</dc:title>
</cp:coreProperties>
</file>