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14.jpeg" ContentType="image/jpe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8.png" ContentType="image/png"/>
  <Override PartName="/ppt/media/image39.jpeg" ContentType="image/jpeg"/>
  <Override PartName="/ppt/media/image36.jpeg" ContentType="image/jpeg"/>
  <Override PartName="/ppt/media/image37.jpeg" ContentType="image/jpeg"/>
  <Override PartName="/ppt/media/image41.gif" ContentType="image/gif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0BDD-594C-40A6-970C-6F79176B5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954F-F262-4F91-A5BE-26BF1E06DCF7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72D7-A353-4E49-B159-55B5F107562F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45CF-79EA-4AE5-A358-2F6691176FD5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F5EF-C34A-48B0-966E-288FD9D98775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01840" y="914400"/>
            <a:ext cx="4052880" cy="31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872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D11F-0DE8-4E39-8844-A935925AA863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DB28-F8EA-4D8C-94DE-3D77D62FC0BB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59A-737E-4576-8428-16302A91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AD3-5462-4534-8669-3A35FC61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58D-AC6F-4B1F-A370-941FFDDC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EF2-A1A1-4BB7-B951-4B5A3E3B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163D-24C5-4473-B558-80C0DFB0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3D80-43F2-42F7-953B-F810419D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0994-AC69-47FD-8200-9004C17F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E55D-57E5-475E-865C-80C76488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5947-1EBB-4F97-8C51-64BB2C71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B23A-EB98-458E-9C82-D8A1B387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A2F3-389F-4E07-9E4E-1282E52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758-4E45-4F06-A1C3-8208D689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B857-A203-4389-8837-FEADB884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DEA1-430D-4DB7-90D2-11D1786B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FE3E-8F0B-438E-BC9A-372657B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55F6-52A2-4E8B-BAA3-CFB19BC0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6515-3E97-40F7-833D-60346A74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3A9-F084-4C9F-941B-9744640A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25E-14D9-4945-B816-8C0EC28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958-3F05-4891-AEFD-36E776E8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B9C-6492-40C2-B615-960CBA66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616-BEEE-40CA-B336-9C559CB2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6BF-5CD4-43DE-B4D9-3D7528DE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B39-D6D8-43B9-A873-111A644E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AC98-D913-4E2E-B176-BF39F911361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DFE1-0E20-414A-8F5B-CA0CEEB5A47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icasaweb.google.com/lh/photo/14Mb6XG_v6LRiEW0_EnNWg?feat=embedwebsite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picasaweb.google.com/lh/photo/i7QQnrmC5h_LysLb-xqn1Q?feat=embedwebsite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900000" y="1341360"/>
            <a:ext cx="633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Picture 6" descr="alpha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alpha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9280" y="18900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Развитие мелкой моторики у детей дошкольного возраста в изобразительной деятельности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Подпроек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Bookman Old Style"/>
              </a:rPr>
              <a:t>КВИЛЛИНГ - БУМАГОКРУЧЕНИЕ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813280" y="2781360"/>
            <a:ext cx="3330720" cy="4076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11280" y="2779560"/>
            <a:ext cx="46800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68544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-321480"/>
            <a:ext cx="19036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202" name="Рисунок 21" descr="Защипывание с двух сторо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427640" cy="44197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3" descr="Сдвигание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2224080"/>
            <a:ext cx="46432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Наши занят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219280" y="5229000"/>
            <a:ext cx="34671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8118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10887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102646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5680" cy="87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95080" cy="78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иллинг - искусство изготовления плоских или объемных композиций из скрученных в спиральки длинных и узких полосок бумаг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 бумажных спиралей создают цветы и узоры, которые затем используют обычно для украшения открыток, альбомов, подарочных упаковок, рамок для фотографий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иллинг - это простой и очень красивый вид рукоделия, не требующий больших затра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скусство пришло в Россию из Кореи. Как хобби также популярно в Германии, Англии и Америк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-223920"/>
            <a:ext cx="9685440" cy="72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-184320"/>
            <a:ext cx="10799640" cy="79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ОТКРЫТОЕ ЗАНЯТ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764400" cy="901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36360" cy="81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-135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ИСТОР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наши дни бумагокручение широко известно и популярно как хобби в странах Западной Европы, особенно в Англии и Германии. Но самое широкое распространение это искусство получило, когда оно «переехало» на Восток. Богатейшие традиции тончайшей графики и пластики, изготовления бумаги и работы с ней дали искусству бумажной пластики новую жизнь.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Южной Корее существует целая Ассоциация любителей бумажной пластики, объединяющая последователей самых разных направлений бумажного творчества.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15 веке это считалось искусством. В 19 — дамским развлечением. Большую часть 20 века оно было забыто. И только в конце прошлого столетия квиллинг снова стал превращаться в искусство. 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45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Планирование работы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Яблонька»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выполнять аппликацию методом отрывания кусочков бумаги, продолжать учить детей скручивать элемент (форму) «свободная спираль»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928800" y="4500720"/>
            <a:ext cx="691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3048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гриб «Мухомор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учить обводить трафарет на цветную бумагу и вырезать по контуру, продолжать учить детей скручивать элемент (форму) «свободная спираль». Учить детей разрезать бумагу не доходя до края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24242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Виноград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продолжать учить обводить трафарет на цветную бумагу и вырезать по контуру, продолжать учить детей скручивать элемент (форму) «свободная спираль», закреплять умение детей складывать полоску пополам и разрезать на 2 одинаковые ча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843280" y="2914560"/>
            <a:ext cx="4032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Ёлочка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обводить трафарет на цветную бумагу и вырезать по контуру, продолжать учить детей скручивать элемент (форму) «свободная спираль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3156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507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Дождик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обводить трафарет на цветную бумагу и вырезать по контуру. Продолжать учить детей скручивать форму в технике квиллинг – капель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640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Снежинка»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детей скручивать элемент (форму) «свободная спираль» и «капелька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4834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Ромашка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детей скручивать элемент (форму) «свободная спираль» и «капелька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34099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Верба»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детей скручивать элемент (форму) «капелька»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32432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Первые листочки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детей скручивать элемент (форму) -  «капелька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39751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ктуальность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данной темы обусловлена  тем, что у большинства современных детей, в том числе и у поступающих в наш социально-реабилитационный центр, все чаще специалистами отмечается общее моторное отставание и слабое развитие моторики рук. Дети с плохо развитой ручной моторикой неловко держат ложку, карандаш, не могут застегивать пуговицы, шнуровать ботинки. Им бывает трудно собрать рассыпавшиеся детали конструктора, работать с пазлами, мозаикой. Они отказываются от любимых другими детьми занятий по лепке и аппликации, не успевают за ребятами в группе на занятия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звитие мелкой моторики рук, не соответствующее возрастным нормам,  говорит о неготовности ребенка к школьному обучен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оспитатели дошкольной группы, которую посещают дети от 3 до 6 лет, мы видим актуальность данной проблемы на современном этапе при подготовке дошкольников к письму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Ожидаемые результаты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 результате обучения по данной теме дети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ознакомятся с искусством квиллинг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аучатся различным приёмам работы с бумаго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аучатся основным  геометрическим понятиям и базовым формам технике квиллинг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аучатся создавать композиции с изделиями, выполненными в технике квиллинг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разовьют внимание, память, мышление, пространственное воображение; мелкую моторику рук и глазомер; художественный вкус, творческие способности и фантази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овладеют навыками культуры труд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улучшат свои коммуникативные способности и приобретут навыки работы в коллектив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63440" y="326880"/>
            <a:ext cx="8651880" cy="620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0755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Цель: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Способствовать развитию мелкой моторики рук детей в процессе овладения элементарными приёмами техники квиллинг, как художественного способа конструирования из бумаг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Задачи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Обучающие: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Знакомить детей с основными понятиями и базовыми формами техники квиллинг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Обучать различным приёмам работы с бумаг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Формировать умения следовать устным инструкциям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Знакомить детей с основными геометрическими понятиями: круг, квадрат, треугольник, угол, сторона, вершина и т.д. Обогащать словарь ребенка специальными терминам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Учить создавать композиции, выполненные в технике квиллинг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Развивающие: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Развивать внимание, память и пространственное воображение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Развивать мелкую моторику рук и глазомер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Развивать художественный вкус, творческие способности и фантазию детей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Развивать способность работать руками, приучать к точным движениям пальцев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Воспитательные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Воспитывать интерес к искусству квиллинг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Способствовать созданию игровых ситуаций, расширять коммуникативные способности детей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Учить аккуратности, умению бережно и экономно использовать материал, содержать в порядке рабочее место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Материалы и инструмен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671480" y="16509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468360" y="212040"/>
            <a:ext cx="93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Базовые формы квиллин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3" name="Рисунок 10" descr=""/>
          <p:cNvPicPr/>
          <p:nvPr/>
        </p:nvPicPr>
        <p:blipFill>
          <a:blip r:embed="rId2"/>
          <a:stretch/>
        </p:blipFill>
        <p:spPr>
          <a:xfrm>
            <a:off x="-324000" y="836640"/>
            <a:ext cx="9792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80808"/>
                </a:solidFill>
                <a:uFillTx/>
                <a:latin typeface="Verdana"/>
              </a:rPr>
              <a:t>Техника квиллинг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311120"/>
            <a:ext cx="9145440" cy="5546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-1440" y="907920"/>
            <a:ext cx="914544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55:40Z</dcterms:created>
  <dc:creator>123</dc:creator>
  <dc:description/>
  <dc:language>en-US</dc:language>
  <cp:lastModifiedBy>User</cp:lastModifiedBy>
  <dcterms:modified xsi:type="dcterms:W3CDTF">2013-04-01T05:51:36Z</dcterms:modified>
  <cp:revision>57</cp:revision>
  <dc:subject/>
  <dc:title>Слайд 1</dc:title>
</cp:coreProperties>
</file>