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1.png" ContentType="image/png"/>
  <Override PartName="/ppt/media/image17.jpeg" ContentType="image/jpeg"/>
  <Override PartName="/ppt/media/image14.jpeg" ContentType="image/jpeg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30.jpeg" ContentType="image/jpeg"/>
  <Override PartName="/ppt/media/image8.png" ContentType="image/png"/>
  <Override PartName="/ppt/media/image39.jpeg" ContentType="image/jpeg"/>
  <Override PartName="/ppt/media/image36.jpeg" ContentType="image/jpeg"/>
  <Override PartName="/ppt/media/image37.jpeg" ContentType="image/jpeg"/>
  <Override PartName="/ppt/media/image41.gif" ContentType="image/gif"/>
  <Override PartName="/ppt/media/image12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575A-65B5-4B96-A2C1-D3F2E970C0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D953-4619-45FD-A864-D7D0A2D64F16}" type="slidenum">
              <a:rPr b="0" lang="ru-RU" sz="1200" spc="-1" strike="noStrike">
                <a:solidFill>
                  <a:srgbClr val="006699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3BEC-A8BA-413F-98C5-2D4280FB87E6}" type="slidenum">
              <a:rPr b="0" lang="ru-RU" sz="1200" spc="-1" strike="noStrike">
                <a:solidFill>
                  <a:srgbClr val="006699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763E-49CF-4D8D-A5FE-D95B402D0EF2}" type="slidenum">
              <a:rPr b="0" lang="ru-RU" sz="1200" spc="-1" strike="noStrike">
                <a:solidFill>
                  <a:srgbClr val="006699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BC95-C8D7-47FD-81C6-ED1BB70C449D}" type="slidenum">
              <a:rPr b="0" lang="ru-RU" sz="1200" spc="-1" strike="noStrike">
                <a:solidFill>
                  <a:srgbClr val="006699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401840" y="914400"/>
            <a:ext cx="4052880" cy="31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1031760" y="4624560"/>
            <a:ext cx="4608720" cy="37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7E42-88A9-4443-B277-4999AA780BC2}" type="slidenum">
              <a:rPr b="0" lang="ru-RU" sz="1200" spc="-1" strike="noStrike">
                <a:solidFill>
                  <a:srgbClr val="006699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2C0C-A39C-47E7-A066-8D5702D8AEDD}" type="slidenum">
              <a:rPr b="0" lang="ru-RU" sz="1200" spc="-1" strike="noStrike">
                <a:solidFill>
                  <a:srgbClr val="006699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0461-8840-43D8-B047-8B92530DB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2B46-FE56-41A8-924F-BB647D38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2782-25D9-4729-A852-EED61C46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C18E-D0A0-46E6-803A-BE30DE7D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C6D6-D24C-471B-A8B6-C43D1508B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D125-19E6-44CA-9642-2FDF526C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8904-8AE2-4FE5-AD20-FD453481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5B1E-EB87-4ABB-B328-96496CC2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33D6-6E03-4D4F-A272-0552AA33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F649-3099-41DA-8D5A-2A1604E3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9E8D-F544-432C-83A4-ACE0B392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E4B0-7E9F-4DBA-956B-8E00091E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8BCD-C968-4168-943F-70D45A60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BB50-30E9-456F-B2A8-229B5341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78B7-5124-400F-8ABD-22F5A076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7F5B-1CE0-4142-B2AD-E4F0C0972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FCFF-C004-4430-8445-BB1CD8E2D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70BB-684C-484B-9BF7-F79C2A03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4366-DE7F-4000-8114-693D114E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0C02-023D-46C7-BE12-96EFD1A4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F814-9140-4458-B367-E08370E8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8541-7080-46BB-A99C-E5FCA76B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7E83-F8D4-4F88-860D-60E634ED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6305-6A8C-4C27-9664-678B0398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4397-20CA-46D4-9815-1B28BB27565A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5A2D-FE29-4248-B435-6DDE75E6F9F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icasaweb.google.com/lh/photo/14Mb6XG_v6LRiEW0_EnNWg?feat=embedwebsite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picasaweb.google.com/lh/photo/i7QQnrmC5h_LysLb-xqn1Q?feat=embedwebsite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4"/>
          <p:cNvSpPr txBox="1"/>
          <p:nvPr/>
        </p:nvSpPr>
        <p:spPr>
          <a:xfrm>
            <a:off x="900000" y="1341360"/>
            <a:ext cx="6337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4" name="Picture 6" descr="alpha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alpha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79280" y="189000"/>
            <a:ext cx="8785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Verdana"/>
              </a:rPr>
              <a:t>Развитие мелкой моторики у детей дошкольного возраста в изобразительной деятельности.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Bookman Old Style"/>
              </a:rPr>
              <a:t>Подпроек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Bookman Old Style"/>
              </a:rPr>
              <a:t> </a:t>
            </a:r>
            <a:r>
              <a:rPr b="1" lang="ru-RU" sz="4400" spc="-1" strike="noStrike">
                <a:solidFill>
                  <a:srgbClr val="800080"/>
                </a:solidFill>
                <a:latin typeface="Bookman Old Style"/>
              </a:rPr>
              <a:t>КВИЛЛИНГ - БУМАГОКРУЧЕНИЕ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5813280" y="2781360"/>
            <a:ext cx="3330720" cy="4076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611280" y="2779560"/>
            <a:ext cx="46800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71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9685440" cy="57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-321480"/>
            <a:ext cx="1903680" cy="15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202" name="Рисунок 21" descr="Защипывание с двух сторон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427640" cy="441972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23" descr="Сдвигание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00720" y="2224080"/>
            <a:ext cx="46432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Наши занят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219280" y="5229000"/>
            <a:ext cx="346716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826920" y="981000"/>
            <a:ext cx="811872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-468360" y="0"/>
            <a:ext cx="1108872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-252360" y="0"/>
            <a:ext cx="1026468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45680" cy="874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495080" cy="78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виллинг - искусство изготовления плоских или объемных композиций из скрученных в спиральки длинных и узких полосок бумаг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з бумажных спиралей создают цветы и узоры, которые затем используют обычно для украшения открыток, альбомов, подарочных упаковок, рамок для фотографий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виллинг - это простой и очень красивый вид рукоделия, не требующий больших затрат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скусство пришло в Россию из Кореи. Как хобби также популярно в Германии, Англии и Америке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-223920"/>
            <a:ext cx="9685440" cy="72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0" y="-184320"/>
            <a:ext cx="10799640" cy="794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ОТКРЫТОЕ ЗАНЯТ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116000" y="1125360"/>
            <a:ext cx="6764400" cy="901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836360" cy="81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63160" cy="69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0" y="-135000"/>
            <a:ext cx="932508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ИСТОРИЯ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В наши дни бумагокручение широко известно и популярно как хобби в странах Западной Европы, особенно в Англии и Германии. Но самое широкое распространение это искусство получило, когда оно «переехало» на Восток. Богатейшие традиции тончайшей графики и пластики, изготовления бумаги и работы с ней дали искусству бумажной пластики новую жизнь. 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В Южной Корее существует целая Ассоциация любителей бумажной пластики, объединяющая последователей самых разных направлений бумажного творчества. 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В 15 веке это считалось искусством. В 19 — дамским развлечением. Большую часть 20 века оно было забыто. И только в конце прошлого столетия квиллинг снова стал превращаться в искусство. </a:t>
            </a:r>
            <a:br>
              <a:rPr sz="2400"/>
            </a:b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845964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Планирование работы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Тема: «Яблонька»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Цель: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родолжать учить выполнять аппликацию методом отрывания кусочков бумаги, продолжать учить детей скручивать элемент (форму) «свободная спираль».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928800" y="4500720"/>
            <a:ext cx="691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4211640" y="2565360"/>
            <a:ext cx="30481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86868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Тема: гриб «Мухомор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Цель: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учить обводить трафарет на цветную бумагу и вырезать по контуру, продолжать учить детей скручивать элемент (форму) «свободная спираль». Учить детей разрезать бумагу не доходя до края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2771640" y="2492280"/>
            <a:ext cx="242424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85075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Тема: «Виноград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Цель: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продолжать учить обводить трафарет на цветную бумагу и вырезать по контуру, продолжать учить детей скручивать элемент (форму) «свободная спираль», закреплять умение детей складывать полоску пополам и разрезать на 2 одинаковые част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2843280" y="2914560"/>
            <a:ext cx="403236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-360" y="0"/>
            <a:ext cx="843588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Тема: «Ёлочка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Цель: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родолжать учить обводить трафарет на цветную бумагу и вырезать по контуру, продолжать учить детей скручивать элемент (форму) «свободная спираль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5580000" y="1557360"/>
            <a:ext cx="31561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50752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Тема: «Дождик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Цель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: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родолжать учить обводить трафарет на цветную бумагу и вырезать по контуру. Продолжать учить детей скручивать форму в технике квиллинг – капельк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36403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9528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Тема: «Снежинка»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Цель: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родолжать учить детей скручивать элемент (форму) «свободная спираль» и «капелька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3132000" y="1989000"/>
            <a:ext cx="483408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Тема: «Ромашка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Цель: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родолжать учить детей скручивать элемент (форму) «свободная спираль» и «капелька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3348000" y="1628640"/>
            <a:ext cx="340992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Тема: «Верба»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Цель: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родолжать учить детей скручивать элемент (форму) «капелька».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2340000" y="2060640"/>
            <a:ext cx="324324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Тема: «Первые листочки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Цель: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родолжать учить детей скручивать элемент (форму) -  «капелька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1908000" y="1700280"/>
            <a:ext cx="397512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Verdana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8893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Актуальность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данной темы обусловлена  тем, что у большинства современных детей, в том числе и у поступающих в наш социально-реабилитационный центр, все чаще специалистами отмечается общее моторное отставание и слабое развитие моторики рук. Дети с плохо развитой ручной моторикой неловко держат ложку, карандаш, не могут застегивать пуговицы, шнуровать ботинки. Им бывает трудно собрать рассыпавшиеся детали конструктора, работать с пазлами, мозаикой. Они отказываются от любимых другими детьми занятий по лепке и аппликации, не успевают за ребятами в группе на занятиях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Развитие мелкой моторики рук, не соответствующее возрастным нормам,  говорит о неготовности ребенка к школьному обучению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Как воспитатели дошкольной группы, которую посещают дети от 3 до 6 лет, мы видим актуальность данной проблемы на современном этапе при подготовке дошкольников к письму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Ожидаемые результаты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1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В результате обучения по данной теме дети: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85760" indent="171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познакомятся с искусством квиллинг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85760" indent="171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научатся различным приёмам работы с бумаго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85760" indent="171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научатся основным  геометрическим понятиям и базовым формам технике квиллинг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85760" indent="171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научатся создавать композиции с изделиями, выполненными в технике квиллинг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85760" indent="171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разовьют внимание, память, мышление, пространственное воображение; мелкую моторику рук и глазомер; художественный вкус, творческие способности и фантазию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85760" indent="171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овладеют навыками культуры труда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85760" indent="171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улучшат свои коммуникативные способности и приобретут навыки работы в коллектив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163440" y="326880"/>
            <a:ext cx="8651880" cy="620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07552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Цель: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Способствовать развитию мелкой моторики рук детей в процессе овладения элементарными приёмами техники квиллинг, как художественного способа конструирования из бумаги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Задачи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Обучающие:</a:t>
            </a: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· Знакомить детей с основными понятиями и базовыми формами техники квиллинг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· Обучать различным приёмам работы с бумагой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· Формировать умения следовать устным инструкциям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· Знакомить детей с основными геометрическими понятиями: круг, квадрат, треугольник, угол, сторона, вершина и т.д. Обогащать словарь ребенка специальными терминами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· Учить создавать композиции, выполненные в технике квиллинг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Развивающие: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· Развивать внимание, память и пространственное воображение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· Развивать мелкую моторику рук и глазомер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· Развивать художественный вкус, творческие способности и фантазию детей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· Развивать способность работать руками, приучать к точным движениям пальцев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Воспитательные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· Воспитывать интерес к искусству квиллинг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· Способствовать созданию игровых ситуаций, расширять коммуникативные способности детей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· Учить аккуратности, умению бережно и экономно использовать материал, содержать в порядке рабочее место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Материалы и инструмент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1671480" y="165096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-468360" y="212040"/>
            <a:ext cx="93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Базовые формы квиллинг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3" name="Рисунок 10" descr=""/>
          <p:cNvPicPr/>
          <p:nvPr/>
        </p:nvPicPr>
        <p:blipFill>
          <a:blip r:embed="rId2"/>
          <a:stretch/>
        </p:blipFill>
        <p:spPr>
          <a:xfrm>
            <a:off x="-324000" y="836640"/>
            <a:ext cx="9792000" cy="65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80808"/>
                </a:solidFill>
                <a:uFillTx/>
                <a:latin typeface="Verdana"/>
              </a:rPr>
              <a:t>Техника квиллинг.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1311120"/>
            <a:ext cx="9145440" cy="55468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-1440" y="907920"/>
            <a:ext cx="914544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55:40Z</dcterms:created>
  <dc:creator>123</dc:creator>
  <dc:description/>
  <dc:language>en-US</dc:language>
  <cp:lastModifiedBy>User</cp:lastModifiedBy>
  <dcterms:modified xsi:type="dcterms:W3CDTF">2013-04-01T05:51:36Z</dcterms:modified>
  <cp:revision>57</cp:revision>
  <dc:subject/>
  <dc:title>Слайд 1</dc:title>
</cp:coreProperties>
</file>