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68E-F488-446D-BC25-74C33F95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5F6-8718-4497-B643-CCD111E1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DA8-BB86-4B41-A6A4-51192279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99F-00C3-43FF-8F45-BF5DE7FA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43540-9D41-4F09-99B2-9405C356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D8444-6DBB-4923-AD9A-ECD378B3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0041F-298D-48F1-A6A3-D202AE66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E6E7A-EBE9-40A7-9EE8-437F470C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34B45-CBFF-48C9-B96F-0EE43CD8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33522-C9F7-4F03-A468-71835B2E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B43AB-6F89-4507-834D-CB8BA858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6C3-B6CF-4441-9928-719E1536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0E968-4509-4343-AFC9-E4F92658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2085E-3BDA-4925-8FE3-438D525E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67C80-FA5C-4296-819D-10CD4120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1B442-57E7-4FD3-9BBA-DE82E3C8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C9E46-62AF-4590-92EC-E04E0B66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114-5230-440A-8C7B-F85C578F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9B3-7F2E-4C4D-9EA9-ED610C75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C34-AC4C-4E96-8E50-BF742DD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953-9FA1-43E0-AED7-7DB42D8C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11C-65EF-4F8D-8616-3F70E8D7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C1B-8EC6-4DE4-B8AD-4A94EDB9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C46-CEA8-4930-826C-934828B4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7F2B-F55B-4EAC-A80E-3FBA741648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BB18-DB76-4D3C-B015-6C65882422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441972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 Black"/>
              </a:rPr>
              <a:t>Лошадь 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 Black"/>
              </a:rPr>
              <a:t>друг и помощни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9" descr="a_52e10a"/>
          <p:cNvPicPr/>
          <p:nvPr/>
        </p:nvPicPr>
        <p:blipFill>
          <a:blip r:embed="rId1"/>
          <a:stretch/>
        </p:blipFill>
        <p:spPr>
          <a:xfrm>
            <a:off x="2952720" y="66600"/>
            <a:ext cx="6191280" cy="4810320"/>
          </a:xfrm>
          <a:prstGeom prst="rect">
            <a:avLst/>
          </a:prstGeom>
          <a:ln w="0">
            <a:noFill/>
          </a:ln>
        </p:spPr>
      </p:pic>
      <p:pic>
        <p:nvPicPr>
          <p:cNvPr id="124" name="13_-_Hans_Zimmer_-_The_Long_Road_Back.mp3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4038480" y="4952880"/>
            <a:ext cx="48006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сследовательская работа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иколаевой Екатерины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цы 3 «Б» класса 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БОУ-СОШ №2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ода Чебоксары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219320" y="64371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уководитель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Николаева В.В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 spd="slow"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Цель исследования: </a:t>
            </a:r>
            <a:br>
              <a:rPr sz="2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Создать и систематизировать информацию о лошадях, о дружбе и взаимопомощи человека и лошади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Выяснить в каких областях человеческой деятельности использовали лош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наблюдать как изменилась жизнь лошади в современном ми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Исследовать повадки лошадей, их рац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Исследовать влияние общения с лошадьми на здоровье и развитие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1267795302678"/>
          <p:cNvPicPr/>
          <p:nvPr/>
        </p:nvPicPr>
        <p:blipFill>
          <a:blip r:embed="rId1"/>
          <a:stretch/>
        </p:blipFill>
        <p:spPr>
          <a:xfrm>
            <a:off x="5089680" y="1676520"/>
            <a:ext cx="3673440" cy="4381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нятия в конно-спортивной школ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ение №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 какие масти лошадей существуют и лошади каких мастей живут в шко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Наблюдение №2</a:t>
            </a:r>
            <a:br>
              <a:rPr sz="36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Цель: узнать повадки лошадей</a:t>
            </a: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Результат: </a:t>
            </a: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Дикарь и Пакт добрые и покладистые кони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24280" y="2133720"/>
            <a:ext cx="4191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следование №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824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: выяснить, как общение с лошадьми влияет на наше здоров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ы: за время посещения конно-спортивной школы, общения с лошадьми на свежем воздухе я не болела. Для занятий требуется специальная физическая подготовка, что способствует укреплению иммунит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Мои эксперименты  и опыты</a:t>
            </a:r>
            <a:br>
              <a:rPr sz="32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Цель:</a:t>
            </a:r>
            <a:br>
              <a:rPr sz="2400"/>
            </a:b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выяснить рацион взрослой лошади и жеребенка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рослая лошадь съела в сут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вса-6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убей – 1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на- 15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кови – 1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мовой свеклы- 3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го-26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34304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ребенок съел в сут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лаково-бобового сена – 5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вса-5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шеничных отрубей – 1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авяной муки – 1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кови – 4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мовой свеклы – 3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рошенное зерно – 1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го 2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Вывод эксперимента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нормы кормления и рацион жеребенка сходны с нормами кормления и рационом взрослой лошади, так как растущий организм жеребят нуждается в усиленном питании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3733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зультаты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Рацион жеребенка сходен с рационом взрослой лошади и составляет примерно 20 кг в су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Общение с лошадьми во время занятий в конно-спортивной школе оказываеет благоприятное влияние на здоровье и физическое развитие шко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Благодаря силе, выносливости, понятливости, резвости лошадь сыграла важную роль в развитии человеческой цивил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есмотря на то, что дни славы лошади в прошлом, у нее до сих пор множество обязанностей на службе у человека. Лошадь по прежнему остается его другом и помощни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ева В.В.</cp:lastModifiedBy>
  <dcterms:modified xsi:type="dcterms:W3CDTF">2013-04-01T12:53:3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