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4F83-8E63-494C-91B5-160B0F84B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47E8-034B-4316-BC17-1E28318C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39DA-6B2C-41DC-86D1-F00FCB627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2982-C683-4B81-991F-B2A448AF0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CD2B0-428F-4D52-9C76-086D36315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FDAA3-CE4D-470A-902A-E02493DE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15909-3753-4207-83D3-29F41C2A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D3959E-B7FE-4831-8AD0-B8BE42BE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12AB27-997E-473E-9165-2BF19DCA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2F2F8-29BE-4613-897B-F83F1AF4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E6D1B-1F75-4016-9AFF-2A1E6299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D076-5E1C-4BF1-8C54-8E9D59B4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5A003-0D62-4B97-83BE-88153D28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74A1D3-920C-4FC2-883B-2720D001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B3076-00BB-4D28-A0E7-292630D4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C8109-2422-4C4B-8C6F-41332A93C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E19E0-4D8C-40D5-9FB3-4BF9410C6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BE5C-60D9-47F6-A87D-C8FB6D05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F9CA-3D98-44D9-AD2A-02A3B6C9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C12B-814E-4636-9348-690AE4E1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F362-0D15-47A7-9411-16E782AD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D344-E80A-4BF2-A3A0-BE669022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0950-9FBC-4DD8-A16E-FC0E579E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2225-019E-4D6D-BAE7-F4FA1A0E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071E-ABB1-41EF-A488-11F5C92E12C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EABF-00BC-4285-9857-39958F19AA0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4419720"/>
            <a:ext cx="4876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 Black"/>
              </a:rPr>
              <a:t>Лошадь 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 Black"/>
              </a:rPr>
              <a:t>друг и помощни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3" name="Picture 9" descr="a_52e10a"/>
          <p:cNvPicPr/>
          <p:nvPr/>
        </p:nvPicPr>
        <p:blipFill>
          <a:blip r:embed="rId1"/>
          <a:stretch/>
        </p:blipFill>
        <p:spPr>
          <a:xfrm>
            <a:off x="2952720" y="66600"/>
            <a:ext cx="6191280" cy="4810320"/>
          </a:xfrm>
          <a:prstGeom prst="rect">
            <a:avLst/>
          </a:prstGeom>
          <a:ln w="0">
            <a:noFill/>
          </a:ln>
        </p:spPr>
      </p:pic>
      <p:pic>
        <p:nvPicPr>
          <p:cNvPr id="124" name="13_-_Hans_Zimmer_-_The_Long_Road_Back.mp3" descr=""/>
          <p:cNvPicPr/>
          <p:nvPr/>
        </p:nvPicPr>
        <p:blipFill>
          <a:blip r:embed="rId2"/>
          <a:stretch/>
        </p:blipFill>
        <p:spPr>
          <a:xfrm>
            <a:off x="3276720" y="4419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4038480" y="4952880"/>
            <a:ext cx="48006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Исследовательская работа 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иколаевой Екатерины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ченицы 3 «Б» класса 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БОУ-СОШ №2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орода Чебоксары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219320" y="643716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Руководитель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Николаева В.В.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slow" advTm="15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Цель исследования: </a:t>
            </a:r>
            <a:br>
              <a:rPr sz="2400"/>
            </a:b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Создать и систематизировать информацию о лошадях, о дружбе и взаимопомощи человека и лошади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4800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Выяснить в каких областях человеческой деятельности использовали лошад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Понаблюдать как изменилась жизнь лошади в современном мир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Исследовать повадки лошадей, их раци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Исследовать влияние общения с лошадьми на здоровье и развитие дет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7" descr="1267795302678"/>
          <p:cNvPicPr/>
          <p:nvPr/>
        </p:nvPicPr>
        <p:blipFill>
          <a:blip r:embed="rId1"/>
          <a:stretch/>
        </p:blipFill>
        <p:spPr>
          <a:xfrm>
            <a:off x="5089680" y="1676520"/>
            <a:ext cx="3673440" cy="43815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Занятия в конно-спортивной школе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блюдение №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ль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яснить какие масти лошадей существуют и лошади каких мастей живут в школ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5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Наблюдение №2</a:t>
            </a:r>
            <a:br>
              <a:rPr sz="3600"/>
            </a:br>
            <a:r>
              <a:rPr b="0" lang="ru-RU" sz="2800" spc="-1" strike="noStrike">
                <a:solidFill>
                  <a:srgbClr val="e3e3ff"/>
                </a:solidFill>
                <a:latin typeface="Arial"/>
              </a:rPr>
              <a:t>Цель: узнать повадки лошадей</a:t>
            </a:r>
            <a:br>
              <a:rPr sz="2800"/>
            </a:br>
            <a:r>
              <a:rPr b="0" lang="ru-RU" sz="2800" spc="-1" strike="noStrike">
                <a:solidFill>
                  <a:srgbClr val="e3e3ff"/>
                </a:solidFill>
                <a:latin typeface="Arial"/>
              </a:rPr>
              <a:t>Результат: </a:t>
            </a:r>
            <a:br>
              <a:rPr sz="2800"/>
            </a:br>
            <a:r>
              <a:rPr b="0" lang="ru-RU" sz="2800" spc="-1" strike="noStrike">
                <a:solidFill>
                  <a:srgbClr val="e3e3ff"/>
                </a:solidFill>
                <a:latin typeface="Arial"/>
              </a:rPr>
              <a:t>Дикарь и Пакт добрые и покладистые кони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3" name="Picture 9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4038480" cy="3886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4038480" cy="38862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724280" y="2133720"/>
            <a:ext cx="4191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5000"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68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68" fill="hold"/>
                                        <p:tgtEl>
                                          <p:spTgt spid="1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68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68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Исследование №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28240" y="15998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ль: выяснить, как общение с лошадьми влияет на наше здоров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зультаты: за время посещения конно-спортивной школы, общения с лошадьми на свежем воздухе я не болела. Для занятий требуется специальная физическая подготовка, что способствует укреплению иммуните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343400" cy="48006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Мои эксперименты  и опыты</a:t>
            </a:r>
            <a:br>
              <a:rPr sz="3200"/>
            </a:b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Цель:</a:t>
            </a:r>
            <a:br>
              <a:rPr sz="2400"/>
            </a:b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выяснить рацион взрослой лошади и жеребенка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68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зрослая лошадь съела в сутк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вса-6 к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рубей – 1к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на- 15 к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ркови – 1к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рмовой свеклы- 3 к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его-26 к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343040" y="1600200"/>
            <a:ext cx="4343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еребенок съел в сутк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лаково-бобового сена – 5 к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вса-5 к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шеничных отрубей – 1 к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авяной муки – 1 к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ркови – 4 к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рмовой свеклы – 3 к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рошенное зерно – 1 к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его 20 к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5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3e3ff"/>
                </a:solidFill>
                <a:latin typeface="Arial"/>
              </a:rPr>
              <a:t>Вывод эксперимента</a:t>
            </a: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: </a:t>
            </a:r>
            <a:br>
              <a:rPr sz="2400"/>
            </a:b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нормы кормления и рацион жеребенка сходны с нормами кормления и рационом взрослой лошади, так как растущий организм жеребят нуждается в усиленном питании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4038480" cy="3733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"/>
          <p:cNvPicPr/>
          <p:nvPr/>
        </p:nvPicPr>
        <p:blipFill>
          <a:blip r:embed="rId2"/>
          <a:stretch/>
        </p:blipFill>
        <p:spPr>
          <a:xfrm>
            <a:off x="4952880" y="2362320"/>
            <a:ext cx="3733920" cy="37335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Результаты исследован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Рацион жеребенка сходен с рационом взрослой лошади и составляет примерно 20 кг в сут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Общение с лошадьми во время занятий в конно-спортивной школе оказываеет благоприятное влияние на здоровье и физическое развитие школьн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5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Благодаря силе, выносливости, понятливости, резвости лошадь сыграла важную роль в развитии человеческой цивилиз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Несмотря на то, что дни славы лошади в прошлом, у нее до сих пор множество обязанностей на службе у человека. Лошадь по прежнему остается его другом и помощник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5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иколаева В.В.</cp:lastModifiedBy>
  <dcterms:modified xsi:type="dcterms:W3CDTF">2013-04-01T12:53:34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