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993600" y="777960"/>
            <a:ext cx="5112000" cy="3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0812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019400" y="0"/>
            <a:ext cx="3081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721800"/>
            <a:ext cx="30812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7E401-EB3F-42BC-970A-A16EBCAAB9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AEB6B-D2F7-442B-BDCC-9B0E332F77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5D1CF-DE4C-45B2-A9FF-D697C54766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49383-093C-4F1B-8542-5B3C755834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C5042-D7D6-4398-B892-8630FCEE4B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95FAA-F5E8-417D-B5A4-B2990F7F3C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5F425-269E-4619-8950-C8FE66A45A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E4464-C370-4339-B9E0-F182A08BAB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242A8-AD4E-4D5A-ADE8-77BC1C2024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3B679-7E7F-43DE-BFBC-610348590F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4B4C1-870D-4A9E-8E0C-1C51BFEFDD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C059A-B63B-470C-BB3A-3FAF0D838C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01EF1-98D1-41B8-9B8C-0F702534B8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36E2F-DFA6-46B9-BB97-F0E4C3DFCD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C8790-20E1-4098-B45B-180610DB63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019400" y="9721800"/>
            <a:ext cx="3081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4BE62-09A9-4317-9428-2FCD97E757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833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9A00-B80D-4FB6-A461-36C4F933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2D4F-6896-460C-AADC-D53692E5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3955-3D32-4111-B17B-E5A114D0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17E5-0985-4DF3-BFF6-73A48C54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5E3-E232-45F0-BD38-B71FF183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9854-DE6C-4B3F-A4FD-206B4C1D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D451-9158-4A29-8D47-591B42CE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22AD-1072-4B74-9EA7-F95F1AA1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49B-5DC9-4E47-ADC0-321769E8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EFD5-8830-45E2-825A-2BA17F49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D86E-3D4E-4A1D-AD99-4B0E98CD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9621-098C-4AAB-9460-36F4A644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5F16FC-0011-4674-9CC4-E7B3754A6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вята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территориальная научно-практическая конференция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«Наша новая школа: проблемы и перспективы реализации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ВИТИЕ ТВОРЧЕСКИХ СПОСОБНОСТЕЙ НА УРОКАХ МУЗЫ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03280" y="4375080"/>
            <a:ext cx="907092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кина С.Н., учитель муз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БОУ СОШ № 3 п.г.т. Смышляев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539640" y="4140360"/>
            <a:ext cx="3610080" cy="26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ближение понят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1440000"/>
            <a:ext cx="9070920" cy="600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Логическая цепочка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Между любыми двумя понятиями (словами) установить ассоциативный переход в 4-5 этапов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овремен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жизнь; жизнь – красота; красота –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узы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Найди пропущенное слово"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манс – это ... и музык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литература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Найди ненужное слово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в случае "ошибки" поднимать руку: песня, нота, рояль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трока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рижер  и т. 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Ассоциативные гроздья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К исходному слову подобрать ассоциативные зна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530280" y="225360"/>
            <a:ext cx="1449360" cy="12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28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пособность предвидения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или интуи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55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Творческое комбинирование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век моделирует мысленно цепь событий, объединенных связью. При этом он использует прошлый опыт, таким путем предугадывается заключительное звено моделируемой цепи событ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прием предполагает формообразование, комбинационное построение прослушанного музыкального произ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7559640" y="1079640"/>
            <a:ext cx="199872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пособность к открыт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55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Поиск художественной ассоциации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Выявление парадокса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щиеся, прослушав минорную прелюдию и фугу Баха, выявляют яркую, неожиданную деталь в окончании произведения (парадоксальность стилевых особенностей композитор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туац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Я - психолог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Через прослушивание произведения композитора рассказать о нем, которого никогда не видели и не зн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8099280" y="179280"/>
            <a:ext cx="161928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пособность к рефлек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Самостоятельное оценивание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прием используется как при самооценивании, так и оценивании однокласс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500720" y="4140360"/>
            <a:ext cx="395892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ображение или фанта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97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Импровизация отдельных средств музыкальной выразительности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прием рекомендуется для овладения композиционными средствами музыкальной выразительности (форма, ритмический рисунок, лад, мелодия, динамика, темп, оперируя знаниями с целью создания новых вариантов и комбинаци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539640" y="1440000"/>
            <a:ext cx="1622520" cy="258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ю структуру урока необходимо направлять на развитие творческих способностей, уделяя большое внимание творческому развитию учащихся в различных видах деятельности, при подаче нового материала, расширяющего музыкальные познания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1547640" y="5580000"/>
            <a:ext cx="2592720" cy="180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5580000" y="5580000"/>
            <a:ext cx="3332160" cy="180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1619280" y="476280"/>
            <a:ext cx="1800360" cy="16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41112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тство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агодатный период для твор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и от природы любознательны и полны желания учиться. Музыка является посредником между творчеством и восприятием. Необходимо на уроках музыки не только учить ребенка каким-то музыкальным умениям, дать знания о музыке – важно пробудить постоянную потребность в общении с ней, творческую актив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047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047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047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047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360360" y="720720"/>
            <a:ext cx="251928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163080"/>
            <a:ext cx="90709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сихо-физиологические составляющие процесса развития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творческих способ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521000"/>
            <a:ext cx="9070920" cy="58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ельность восприят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ибкость мышл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ригинальность мышл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отовность памяти: объем, надеж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егкость генериров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становление причинно-следственных связ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нтуиц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пособность к открыти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пособность к рефлекс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оображение или фантаз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7020000" y="5219640"/>
            <a:ext cx="270036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дактические приемы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вивающ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ворческие способ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152960" y="4859280"/>
            <a:ext cx="2506680" cy="22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ельность вос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55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дущая задача – умение слушать, целостно анализировать музыкальное произ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Творческая мастерская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Учащиеся разбиваются на 3 группы: художники, поэты, танцоры. Дается установка на воспроизведение художественного образа услышанного произведения согласно своему виду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Художники-декораторы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Оформляются декорации к программе (концерту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382760" y="58680"/>
            <a:ext cx="12571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ибкость мыш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1740960"/>
            <a:ext cx="907092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левая игр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Я – сочинитель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Составить ритмический рисунок и сочинить к нему тек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Литературно-музыкальная палитра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Прослушать произведение (обязательно 2 контрастные част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Назвать слова-оттенки к понятию "грусть" и "торжество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Напротив каждого слова нарисовать кружок определенного цв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900000" y="179280"/>
            <a:ext cx="216864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игинальность мыш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Перевод музыки на язык другого вида искусства"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на язык красок или движени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Экспрессивное выражение внутреннего эоционального состояния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вокализируя мелодию, учащиеся показывают ее направление жест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7392960" y="5505480"/>
            <a:ext cx="196704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отовность памя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Определение автора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(На уроке, где звучит музыка Чайковского, учащиеся припоминают известные им произведения этого композитора, а в случае разучивания русской народной песни пропеть ранее изучавшиеся песни русского наро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Ассоциативная сеть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выяснить, о музыке какого композитора пойдет речь: старинный – зарубежный – композитор – философ – органист – полифонист (И.С. Бах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584280" y="165240"/>
            <a:ext cx="10792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егкость генерирования ид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Мозговой штурм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авить осмысленное предложение, включающее в себя сло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риме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музыка, литература, композит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айковский, литература, романс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1440000" y="1440000"/>
            <a:ext cx="3060720" cy="216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>Admin</cp:lastModifiedBy>
  <dcterms:modified xsi:type="dcterms:W3CDTF">2013-03-31T23:01:21Z</dcterms:modified>
  <cp:revision>6</cp:revision>
  <dc:subject/>
  <dc:title>Девятая  территориальная научно-практическая конференция «Наша новая школа: проблемы и перспективы реализации»</dc:title>
</cp:coreProperties>
</file>