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93600" y="777960"/>
            <a:ext cx="51120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812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019400" y="0"/>
            <a:ext cx="3081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6D935-44BA-4157-BACD-A75EAE2E4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7155E-3F20-4BF6-ACBB-2C6F46183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EF79E-93E5-4BE9-8EB3-5AF22F59B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98241-1E03-488B-A427-A00E97A6A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B26E5-3002-4D79-AA43-A487F2DB7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0230C-2D78-4B39-A505-310EDE6689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C7204-5BF3-40EB-B69D-F96D9798D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5E9F0-D0BF-4C7E-BB2B-D8A79BDD8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46141-DDC5-4A63-BDE1-9BCFFF52B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F5E17-3F47-49D4-8943-12AB7F234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43215-38E7-4003-A847-533286D27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9B77B-8F6E-46CC-A56B-8D266B212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754A0-B5E1-4FF8-9512-7B6158773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D912F-E8D9-48A0-B317-186262EA3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C65D4-D4AA-4202-93EF-A2184F541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AD37F-B763-4185-88DB-D5857849F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A49-2E85-4534-B972-AE77766E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D09-91CD-4438-A5DC-82ACB89C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1C1-9428-451F-9C78-3D2DEA11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310-9EE5-4F50-A106-678E29FC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BAC-6E0B-4596-81F6-28DAD0B0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7AC-0982-4547-BF59-20ECC85F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2EF-174D-4C0F-B2FF-BF18136E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7DB-B92E-4958-9A06-FB57B95B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16D-380E-4B2B-8C65-C5BF5A6D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8A9-931B-47E2-8D7D-8EEF14C8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942-C148-47BE-8B91-7572C37C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AF2-4574-45F9-BD8A-646027B6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574839-2439-462E-B15F-EE0EE9FD0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ята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территориальная научно-практическая конференция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Наша новая школа: проблемы и перспективы реализац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 НА УРОКАХ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0328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кина С.Н., учитель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БОУ СОШ № 3 п.г.т. Смышляе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539640" y="4140360"/>
            <a:ext cx="3610080" cy="26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ближение поня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440000"/>
            <a:ext cx="9070920" cy="600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Логическая цепочка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Между любыми двумя понятиями (словами) установить ассоциативный переход в 4-5 этапов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времен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жизнь; жизнь – красота; красота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узы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Найди пропущенное слово"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манс – это ... и музы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литератур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Найди ненужное слово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в случае "ошибки" поднимать руку: песня, нота, рояль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трока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рижер  и т. 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Ассоциативные гроздья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К исходному слову подобрать ассоциатив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30280" y="225360"/>
            <a:ext cx="144936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особность предвидения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или интуи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Творческое комбинировани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к моделирует мысленно цепь событий, объединенных связью. При этом он использует прошлый опыт, таким путем предугадывается заключительное звено моделируемой цепи событ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прием предполагает формообразование, комбинационное построение прослушанного музыкального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7559640" y="1079640"/>
            <a:ext cx="19987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особность к откры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Поиск художественной ассоциации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Выявление парадокс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, прослушав минорную прелюдию и фугу Баха, выявляют яркую, неожиданную деталь в окончании произведения (парадоксальность стилевых особенностей композито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туац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Я - психолог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Через прослушивание произведения композитора рассказать о нем, которого никогда не видели и не з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8099280" y="179280"/>
            <a:ext cx="161928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особность к рефлек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Самостоятельное оценивани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прием используется как при самооценивании, так и оценивании однокласс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500720" y="4140360"/>
            <a:ext cx="395892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бражение или фант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Импровизация отдельных средств музыкальной выразительност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прием рекомендуется для овладения композиционными средствами музыкальной выразительности (форма, ритмический рисунок, лад, мелодия, динамика, темп, оперируя знаниями с целью создания новых вариантов и комбинац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1622520" cy="25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ю структуру урока необходимо направлять на развитие творческих способностей, уделяя большое внимание творческому развитию учащихся в различных видах деятельности, при подаче нового материала, расширяющего музыкальные познани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547640" y="5580000"/>
            <a:ext cx="2592720" cy="180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5580000" y="5580000"/>
            <a:ext cx="33321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1619280" y="476280"/>
            <a:ext cx="1800360" cy="16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41112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тство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агодатный период для твор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от природы любознательны и полны желания учиться. Музыка является посредником между творчеством и восприятием. Необходимо на уроках музыки не только учить ребенка каким-то музыкальным умениям, дать знания о музыке – важно пробудить постоянную потребность в общении с ней, творческую актив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60360" y="720720"/>
            <a:ext cx="251928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163080"/>
            <a:ext cx="90709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сихо-физиологические составляющие процесса развития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творческих способ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521000"/>
            <a:ext cx="907092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ьность восприят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ибкость мышл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ригинальность мышл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товность памяти: объем, надеж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егкость генерир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становление причинно-следственных связ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туиц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к открыти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к рефлекс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ображение или фантаз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7020000" y="5219640"/>
            <a:ext cx="270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дактические прием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ивающ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орческие способ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152960" y="4859280"/>
            <a:ext cx="250668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ность вос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ущая задача – умение слушать, целостно анализировать музыкальное прои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Творческая мастерская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Учащиеся разбиваются на 3 группы: художники, поэты, танцоры. Дается установка на воспроизведение художественного образа услышанного произведения согласно своему виду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Художники-декораторы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формляются декорации к программе (концерт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382760" y="58680"/>
            <a:ext cx="1257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ибкость 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740960"/>
            <a:ext cx="907092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евая иг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Я – сочинитель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оставить ритмический рисунок и сочинить к нему тек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Литературно-музыкальная палитра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ослушать произведение (обязательно 2 контрастные част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звать слова-оттенки к понятию "грусть" и "торжество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Напротив каждого слова нарисовать кружок определенного ц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900000" y="179280"/>
            <a:ext cx="216864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игинальность 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Перевод музыки на язык другого вида искусства"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на язык красок или движени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Экспрессивное выражение внутреннего эоционального состояния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вокализируя мелодию, учащиеся показывают ее направление жест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7392960" y="5505480"/>
            <a:ext cx="196704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товность памя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Определение автора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(На уроке, где звучит музыка Чайковского, учащиеся припоминают известные им произведения этого композитора, а в случае разучивания русской народной песни пропеть ранее изучавшиеся песни русского нар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Ассоциативная сеть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выяснить, о музыке какого композитора пойдет речь: старинный – зарубежный – композитор – философ – органист – полифонист (И.С. Бах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84280" y="165240"/>
            <a:ext cx="107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гкость генерирования и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Мозговой штурм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ть осмысленное предложение, включающее в себя сл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узыка, литература, композит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айковский, литература, романс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440000" y="1440000"/>
            <a:ext cx="3060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Admin</cp:lastModifiedBy>
  <dcterms:modified xsi:type="dcterms:W3CDTF">2013-03-31T23:01:21Z</dcterms:modified>
  <cp:revision>6</cp:revision>
  <dc:subject/>
  <dc:title>Девятая  территориальная научно-практическая конференция «Наша новая школа: проблемы и перспективы реализации»</dc:title>
</cp:coreProperties>
</file>