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1D5-21F0-4850-B42E-D622B284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5BD-9F70-4D21-87C6-2374D2B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759-6000-4EE0-862C-66CDDA76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39F-A129-4E16-8780-31083FCC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26D-DDEA-4130-BAA8-C3120655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9F4-DDE6-42F2-BD34-8BE6E202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FCE-69B0-4299-892A-8F2C699B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121-19C6-4B0E-8B75-9FEF82FC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B2F-7EE6-4A16-A9F3-169FB5F4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52E-0BA4-4F5D-82E2-ABDB182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0D3-F3EC-4F7C-B746-967FA1B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857-7390-4DBA-A5FC-A72E9D89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1BC-2BE3-4486-836B-855519B7E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301680"/>
            <a:ext cx="914400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ОУ Инзенская нача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«Морозные узоры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сказка или быль?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лесов Евг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еник 3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абашова 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45080" cy="633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435280" y="620280"/>
            <a:ext cx="37083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Аристова Лидия Григорьевна -директор нашей шко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читель физики и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Дендриты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древовидные образования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Морозные узоры - дендрит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Трихиты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(волокнистые формы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Морозные узоры - трихит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24360" y="1413000"/>
            <a:ext cx="5472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.Вечером  23 января 2013 года мы  с мамой поставили  ведро с тёплой водой в остеклённое помещение (на балкон) с внутренней температурой  О С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а окном температура  -15 градусов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. Через 15 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ы наблюда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лажность на окнах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IMG_0155.JPG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. Через 5 часов увидели, как стекло охватили причудливые формы морозных узоро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038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24000" y="160020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тро  следующего дня. Как только солнечные лучи попадали на окно, тем самым согревая его, морозные узоры постепенно исчезали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IMG_0180.JPG"/>
          <p:cNvPicPr/>
          <p:nvPr/>
        </p:nvPicPr>
        <p:blipFill>
          <a:blip r:embed="rId1"/>
          <a:stretch/>
        </p:blipFill>
        <p:spPr>
          <a:xfrm>
            <a:off x="395280" y="1197000"/>
            <a:ext cx="367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пыт с желатином.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Шаг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Шаг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Шаг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ля фантазии нет грани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ой морозный узо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Проверяем народные приметы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) Если веточки узоров направлены вверх, значит погода будет ясной и солне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Фото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7января, на     следующий день был сильный мороз (до 30),ясно и солнечно. Народная примета подтверд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) Прямые рисунки предвещают ещё большие хол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5280" y="1268280"/>
            <a:ext cx="51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ой интер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узор я наблюдал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дном из окон 2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января. Согласно       примете, должен быть   сильный моро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днако 29 ян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мпература повыс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о 17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родная прим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подтверд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гресс лишил жителей городов возможности любоваться морозными узор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4464000" cy="374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96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Анализ наблюдений и опытов.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Цель достигнута. Я выяснил, как и почему зимо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кнах часто появляются причудливые снежные уз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Сделал следующие 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Морозные рисунки на стекле – это большие кристаллы льда, растущие из водяного пара на границе тепла и хол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ид узора на поверхности стекла зависит от температуры внутри помещения и снаружи, влажности воздуха в помещении, толщины стекла и загрязненности его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Мои наблюдения лишь частично подтверждают гипотезу о том, что по форме снежных узоров можно предсказывать по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48320" y="333000"/>
            <a:ext cx="44956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 заключении несколько слов </a:t>
            </a:r>
            <a:br>
              <a:rPr sz="3200"/>
            </a:b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о красоте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е узоры очень красивы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казывается вот уже почти 200 лет они  служат  образцом для наших северных рукодельниц - кружев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248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Эта сказочная красота не исчезнет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не растает.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Знаменитое вологодское кружев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249800" cy="489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103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99"/>
                </a:solidFill>
                <a:latin typeface="Arial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99"/>
                </a:solidFill>
                <a:latin typeface="Arial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99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исок использованной литературы и интернет – ресурсов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Энциклопедия забавных игрушек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.: «Просвещение», 2009 г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фото из личного архива семьи Колесов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http://images.yandex.ru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http://nsportal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http://www.o-detstve.r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Цель исследования:</a:t>
            </a:r>
            <a:br>
              <a:rPr sz="5400"/>
            </a:b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выяснить, как и почему зимой на окнах  появляются морозные узоры и можно ли по ним предсказать пог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зучить дополнительную литературу и отобрать интересные сведения по выбр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ыяснить, как появляются морозные узоры и  почему они бывают  не на всех окн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вести наблюдения и опы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делать выводы и обобщить результат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Гипотез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редположим, что  морозные узоры появляются из-за того, что дома тепло, а на улице холодно и по  их форме  можно предсказывать погод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95640" y="259920"/>
            <a:ext cx="5400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лександр Александрович Любищ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890-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лимент  Аркадьевич Тимиряз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843 -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504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й узор            Цветок васил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27640" cy="609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й у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595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одоро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й узор                 Ветки сос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165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20:59:20Z</dcterms:created>
  <dc:creator>Admin</dc:creator>
  <dc:description/>
  <dc:language>en-US</dc:language>
  <cp:lastModifiedBy>1</cp:lastModifiedBy>
  <dcterms:modified xsi:type="dcterms:W3CDTF">2013-03-18T07:13:51Z</dcterms:modified>
  <cp:revision>37</cp:revision>
  <dc:subject/>
  <dc:title>Морозные узоры. </dc:title>
</cp:coreProperties>
</file>