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CF3-4B6D-47FC-B590-9176110A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B44-001F-4A24-B090-DF59D76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089-94FF-470A-B244-BA876751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1AE-A066-4524-B7CB-42C90612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C6E-6A3E-4DA9-8E02-D7D9455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A9A-F1E5-4C4E-9ED3-27FE9880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3B7-6C08-4773-AF3C-7BCC4D1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858-3384-4989-90AB-229AC58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06F-70DC-4232-8776-D21D1A90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6CA-701E-4070-ADEC-964DBA3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D4F-21F8-4F4D-B4D9-56F5929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EBA-E8C9-4AA0-9078-5BB4D16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21B-E9F4-4976-A862-F7999EAE6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301680"/>
            <a:ext cx="91440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ОУ Инзенская нача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«Морозные узор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Arial"/>
              </a:rPr>
              <a:t>сказка или быль?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Выполн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лесов Евг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ник 3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абашова 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45080" cy="633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435280" y="620280"/>
            <a:ext cx="37083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Аристова Лидия Григорьевна -директор нашей шко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читель физики и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Дендриты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древовидные образования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Морозные узоры - дендрит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Трихиты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(волокнистые формы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Морозные узоры - трихиты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24360" y="1413000"/>
            <a:ext cx="5472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Вечером  23 января 2013 года мы  с мамой поставили  ведро с тёплой водой в остеклённое помещение (на балкон) с внутренней температурой  О С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 окном температура  -15 градусов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 Через 15 м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ы наблюда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лажность на окнах. 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6" descr="IMG_0155.JPG"/>
          <p:cNvPicPr/>
          <p:nvPr/>
        </p:nvPicPr>
        <p:blipFill>
          <a:blip r:embed="rId1"/>
          <a:stretch/>
        </p:blipFill>
        <p:spPr>
          <a:xfrm>
            <a:off x="395280" y="1341360"/>
            <a:ext cx="4032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 Через 5 часов увидели, как стекло охватили причудливые формы морозных узоро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038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Мой опы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24000" y="160020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Утро  следующего дня. Как только солнечные лучи попадали на окно, тем самым согревая его, морозные узоры постепенно исчезали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IMG_0180.JPG"/>
          <p:cNvPicPr/>
          <p:nvPr/>
        </p:nvPicPr>
        <p:blipFill>
          <a:blip r:embed="rId1"/>
          <a:stretch/>
        </p:blipFill>
        <p:spPr>
          <a:xfrm>
            <a:off x="395280" y="1197000"/>
            <a:ext cx="367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пыт с желатином.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Шаг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Шаг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Шаг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ля фантазии нет грани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ой морозный узо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Проверяем народные приметы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) Если веточки узоров направлены вверх, значит погода будет ясной и солне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Фото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7января, на     следующий день был сильный мороз (до 30),ясно и солнечно. Народная примета подтверд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) Прямые рисунки предвещают ещё большие хол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5280" y="1268280"/>
            <a:ext cx="51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ой интер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зор я наблюдал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дном из окон 28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января. Согласно       примете, должен быть   сильный моро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однако 29 ян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емпература повыс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до 17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родная прим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е подтверд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гресс лишил жителей городов возможности любоваться морозными узорам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2852640"/>
            <a:ext cx="4464000" cy="3745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96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Анализ наблюдений и опытов.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Цель достигнута. Я выяснил, как и почему зимо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кнах часто появляются причудливые снежные уз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Сделал следующие 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орозные рисунки на стекле – это большие кристаллы льда, растущие из водяного пара на границе тепла и хол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Вид узора на поверхности стекла зависит от температуры внутри помещения и снаружи, влажности воздуха в помещении, толщины стекла и загрязненности его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ои наблюдения лишь частично подтверждают гипотезу о том, что по форме снежных узоров можно предсказывать по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48320" y="333000"/>
            <a:ext cx="44956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 заключении несколько слов </a:t>
            </a:r>
            <a:br>
              <a:rPr sz="3200"/>
            </a:br>
            <a:r>
              <a:rPr b="1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о красоте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е узоры очень красивы.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казывается вот уже почти 200 лет они  служат  образцом для наших северных рукодельниц - кружев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248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та сказочная красота не исчезнет,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не растает.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Знаменитое вологодское кружев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249800" cy="48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0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99"/>
                </a:solidFill>
                <a:latin typeface="Arial"/>
              </a:rPr>
              <a:t>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исок использованной литературы и интернет – ресурсов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Энциклопедия забавных игрушек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.: «Просвещение», 2009 г.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фото из личного архива семьи Колесов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images.yandex.ru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nsportal.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http://www.o-detstve.r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Цель исследования:</a:t>
            </a:r>
            <a:br>
              <a:rPr sz="5400"/>
            </a:b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выяснить, как и почему зимой на окнах  появляются морозные узоры и можно ли по ним предсказать погод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зучить дополнительную литературу и отобрать интересные сведения по выбр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ыяснить, как появляются морозные узоры и  почему они бывают  не на всех окн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овести наблюдения и опы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делать выводы и обобщить результат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99"/>
                </a:solidFill>
                <a:uFillTx/>
                <a:latin typeface="Arial"/>
              </a:rPr>
              <a:t>Гипотез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редположим, что  морозные узоры появляются из-за того, что дома тепло, а на улице холодно и по  их форме  можно предсказывать погод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95640" y="259920"/>
            <a:ext cx="5400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Александр Александрович Любищ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890-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имент  Аркадьевич Тимиряз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843 -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504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            Цветок васил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609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595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71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орозный узор                 Ветки сос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6165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20:59:20Z</dcterms:created>
  <dc:creator>Admin</dc:creator>
  <dc:description/>
  <dc:language>en-US</dc:language>
  <cp:lastModifiedBy>1</cp:lastModifiedBy>
  <dcterms:modified xsi:type="dcterms:W3CDTF">2013-03-18T07:13:51Z</dcterms:modified>
  <cp:revision>37</cp:revision>
  <dc:subject/>
  <dc:title>Морозные узоры. </dc:title>
</cp:coreProperties>
</file>