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jpeg" ContentType="image/jpeg"/>
  <Override PartName="/ppt/media/image1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8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B8AF-6423-4078-82D1-299DD397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7984-5676-40E8-9BED-F3E6E68A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27823-26EF-469D-A1E6-CF56D834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CD405-1621-4C28-A132-583747ED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179C9-E41A-43E9-9119-935ECA0F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D63A7-CA31-4E91-81D9-26EE72F3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A32DE-40BD-4658-9305-6C78B89F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A535D-7BD0-4B63-A610-877F32C8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BB4C9-5BA6-4CCC-A085-DB82311D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F257F-EFA7-4581-9E6C-D4CE400B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B3DAA-B562-477D-A7E7-73CAE3C2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C85C-7EC2-47ED-860E-83D31F7C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B090-09DF-4A6C-B7C5-93B80593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E4B8-1A73-481F-B43F-06D8F5E3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F400-E420-4F09-BFC6-9D25D8FC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50BA-E373-4DF2-B945-2185DA40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EFE5-8B29-4FF4-9B46-516ED0FD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A2C4-9A3B-44F3-AAF0-9C079133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2A35-FD10-475D-8F98-51CE017F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C147-DD22-4513-8D94-C3620795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B0B3-182F-4794-A4EB-988EF99D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FD76-C954-4DBC-8F20-470F52A9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C52A-31FF-493E-BF83-F7007FCE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AB93-F39E-4191-97C4-95639490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B4F3-F823-4EFA-92B0-1ABDA310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899B-B33A-4EC6-9FC7-D618FC96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C3802-87AB-43E2-8F1C-2206F082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307A0-5694-44E6-80FB-F395B3FE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F4F55-04A0-4A4C-B176-5033E8F8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AEC7B-48A1-4B30-A718-B4784A19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D6030-A97C-48F6-91B5-27BCDCAB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9307-7BC4-4129-96CF-C845336D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E6B79-2A12-41CB-B680-C4BB116D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10B05-FEF6-4EBC-AE29-5DAC29D7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8D136-77B6-414D-A3E3-2D54D8F0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1D4EC-451C-4D51-8858-F487323D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8486F-4672-4AF4-A64F-DF57900E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E3CD6-2E46-4282-9856-79C1FDF8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B4DE4-A880-47A8-AB4E-D2454798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921F9-2FA0-4F1B-AEC9-75DC2D40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D124D-98AD-4D5F-9C95-529B938D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60379-9326-42A3-89C7-3A79C800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5271-BDDF-43BC-9B53-79A5C26E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BC0FF-8F13-4D28-95C0-DB95ABCC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9B0CF-E521-494B-ACA6-A6BC3D03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9A116-6F82-4E0D-9E81-E9853876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1E357-E04E-42C9-93EC-451ABEBE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54833-0FD1-4AAF-8E97-9F49F64B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4DADD-BDF6-40F3-90E5-AA9D2A6C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867EB-9EEB-474F-B469-EDEB0B0F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A6C05-47B7-4197-B246-C9E62CD8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A55B4-900C-413B-839E-D0589A45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D956D-5F50-4DD5-8615-15897B8C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4E81-36FE-45A5-AAF1-9A04EFDD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70984-73DA-4111-AC66-09B4A4A1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E266F-EFFF-48A7-B253-90054B30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E0560-4323-4D4C-8AFD-D3CCE1C0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F146B-1EBF-4C42-9DCD-C226D491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19C9B-17BE-417D-BD37-A25562F3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F89EF-F62B-4211-831D-96ABCAD7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03AB1-4BDD-4207-A339-CB4FB81F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848C2-8F7C-4EE6-8ED6-1736EB94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54F48-FD8F-447C-AFDF-2EB13618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35FF4-6202-4F53-ABDA-A6F24453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CC50-D0C6-4053-BA80-FCAC1023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5EAFE-3521-4163-B8B6-158EF220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C938F-267F-4EB8-8FDC-0662EB32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3E927-64FA-4D72-BA8D-6F68DA68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CF5A8-8119-46F8-A908-278BD893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4F9C6-BC78-48FC-9F4A-6A641222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AC3E1-95F4-40AF-84DB-C0E9AF55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E2B18-D83F-4028-AEA8-8A33F4E3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84D09-BB16-4F86-8BF4-C54928EB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E7FF4-9899-4FEF-BCCF-79BE143A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E6B26-1B34-4C3F-81D3-FF462322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39F6-DE88-470A-9094-68E36508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2788B-B2E7-4534-B546-0E2C6EB4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45D84-3271-4AE5-9F57-DD30FB70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129D8-8CAC-4C8C-95EF-DDF8B707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133D1-EAF9-4B98-9118-D1D15249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AF182-6940-43B3-BEE3-C3F720CC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22CF6-1032-4F8B-9DCE-8E8B9958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54D60-03F2-4974-8245-BBA1BC3B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02FE6-88EF-47B0-B7BB-7246BB74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0C3F1-5D8F-4E14-ACDB-7B63C51B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02D4B-0730-4667-B445-B2F64D98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1E23-896A-4933-820E-6806FA71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FD91B-7624-4ABD-BA5F-7C92D459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EC77F-D49A-4B22-ACF5-DDB4252A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6550C-0B81-48D1-9238-AE7B5BA1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48DC3-D15E-4027-9CE0-683B3361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AFDA6-0C7A-44A2-BFC6-45EEE27C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C406F-C891-4BFD-9A19-08423E25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DAE38-9670-437D-BC28-55DBD7AD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7EE6A-71DB-4454-91A3-8575EA86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659C9-6DDF-4BE3-A3CF-85EFF0EE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E33FE-4EBF-4525-89D8-C4BEE5AF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F6B8-C3EE-44AF-BB80-F3B40C15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3343A-6386-4714-BB0E-16DF0D4E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93C85-9502-4ABB-8D36-16F81BFB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A3D29-82B0-4DC0-8492-B43CD57C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5A732-4D4D-4CAF-979A-C4D51A73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8CF5A-FC24-4771-A36E-EA8719CA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07EBB-7F95-49FA-AD07-9E2BC8DAD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D1FC8-3E4B-4688-B784-CD514F7BB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DF915-ADE2-4BDE-823B-2866C57F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D917D-EC89-4B40-ABCD-07542507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0037F-BEB4-4161-AF6F-FB451FE3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F489-BF28-43C6-9CEB-B11735911526}" type="slidenum"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B9CB-984F-40EC-A730-B6FD2FF7B1CF}" type="slidenum"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3A41-9749-4D46-AC63-BFD46171DB58}" type="slidenum"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E12A-FD45-431B-822B-D287DD8601B5}" type="slidenum"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AD3F-379B-4DCB-BD46-2E44FBC81423}" type="slidenum"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F758-CBA5-4040-801F-40CFC75346B4}" type="slidenum"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881A-8153-468D-B85B-EFDA95AEBDAC}" type="slidenum"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3B52-4160-4DFB-B4E8-2F2889C53EB2}" type="slidenum"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98DF-8D90-433C-9C82-2348D3682268}" type="slidenum"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7639200" cy="60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7467480" cy="1998720"/>
          </a:xfrm>
          <a:prstGeom prst="rect">
            <a:avLst/>
          </a:prstGeom>
          <a:ln w="0">
            <a:noFill/>
          </a:ln>
        </p:spPr>
      </p:pic>
      <p:pic>
        <p:nvPicPr>
          <p:cNvPr id="401" name="Объект 7" descr=""/>
          <p:cNvPicPr/>
          <p:nvPr/>
        </p:nvPicPr>
        <p:blipFill>
          <a:blip r:embed="rId2"/>
          <a:stretch/>
        </p:blipFill>
        <p:spPr>
          <a:xfrm>
            <a:off x="798480" y="276084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402" name="Объект 3" descr=""/>
          <p:cNvPicPr/>
          <p:nvPr/>
        </p:nvPicPr>
        <p:blipFill>
          <a:blip r:embed="rId3"/>
          <a:stretch/>
        </p:blipFill>
        <p:spPr>
          <a:xfrm>
            <a:off x="5124600" y="2693880"/>
            <a:ext cx="339084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542880" y="262080"/>
            <a:ext cx="7485120" cy="865080"/>
          </a:xfrm>
          <a:prstGeom prst="rect">
            <a:avLst/>
          </a:prstGeom>
          <a:ln w="0">
            <a:noFill/>
          </a:ln>
        </p:spPr>
      </p:pic>
      <p:pic>
        <p:nvPicPr>
          <p:cNvPr id="404" name="Объект 9" descr=""/>
          <p:cNvPicPr/>
          <p:nvPr/>
        </p:nvPicPr>
        <p:blipFill>
          <a:blip r:embed="rId2"/>
          <a:stretch/>
        </p:blipFill>
        <p:spPr>
          <a:xfrm>
            <a:off x="798480" y="2646360"/>
            <a:ext cx="3203640" cy="2631960"/>
          </a:xfrm>
          <a:prstGeom prst="rect">
            <a:avLst/>
          </a:prstGeom>
          <a:ln w="0">
            <a:noFill/>
          </a:ln>
        </p:spPr>
      </p:pic>
      <p:pic>
        <p:nvPicPr>
          <p:cNvPr id="405" name="Объект 5" descr=""/>
          <p:cNvPicPr/>
          <p:nvPr/>
        </p:nvPicPr>
        <p:blipFill>
          <a:blip r:embed="rId3"/>
          <a:stretch/>
        </p:blipFill>
        <p:spPr>
          <a:xfrm>
            <a:off x="4686480" y="23623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7467480" cy="1352520"/>
          </a:xfrm>
          <a:prstGeom prst="rect">
            <a:avLst/>
          </a:prstGeom>
          <a:ln w="0">
            <a:noFill/>
          </a:ln>
        </p:spPr>
      </p:pic>
      <p:pic>
        <p:nvPicPr>
          <p:cNvPr id="407" name="Объект 8" descr=""/>
          <p:cNvPicPr/>
          <p:nvPr/>
        </p:nvPicPr>
        <p:blipFill>
          <a:blip r:embed="rId2"/>
          <a:stretch/>
        </p:blipFill>
        <p:spPr>
          <a:xfrm>
            <a:off x="798480" y="2630520"/>
            <a:ext cx="3203640" cy="2663640"/>
          </a:xfrm>
          <a:prstGeom prst="rect">
            <a:avLst/>
          </a:prstGeom>
          <a:ln w="0">
            <a:noFill/>
          </a:ln>
        </p:spPr>
      </p:pic>
      <p:pic>
        <p:nvPicPr>
          <p:cNvPr id="408" name="Объект 9" descr=""/>
          <p:cNvPicPr/>
          <p:nvPr/>
        </p:nvPicPr>
        <p:blipFill>
          <a:blip r:embed="rId3"/>
          <a:stretch/>
        </p:blipFill>
        <p:spPr>
          <a:xfrm>
            <a:off x="4859280" y="3213000"/>
            <a:ext cx="24494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457200" y="768240"/>
            <a:ext cx="7467480" cy="1005120"/>
          </a:xfrm>
          <a:prstGeom prst="rect">
            <a:avLst/>
          </a:prstGeom>
          <a:ln w="0">
            <a:noFill/>
          </a:ln>
        </p:spPr>
      </p:pic>
      <p:pic>
        <p:nvPicPr>
          <p:cNvPr id="410" name="Объект 4" descr=""/>
          <p:cNvPicPr/>
          <p:nvPr/>
        </p:nvPicPr>
        <p:blipFill>
          <a:blip r:embed="rId2"/>
          <a:stretch/>
        </p:blipFill>
        <p:spPr>
          <a:xfrm>
            <a:off x="798480" y="2717640"/>
            <a:ext cx="3203640" cy="2489400"/>
          </a:xfrm>
          <a:prstGeom prst="rect">
            <a:avLst/>
          </a:prstGeom>
          <a:ln w="0">
            <a:noFill/>
          </a:ln>
        </p:spPr>
      </p:pic>
      <p:pic>
        <p:nvPicPr>
          <p:cNvPr id="411" name="Объект 5" descr=""/>
          <p:cNvPicPr/>
          <p:nvPr/>
        </p:nvPicPr>
        <p:blipFill>
          <a:blip r:embed="rId3"/>
          <a:stretch/>
        </p:blipFill>
        <p:spPr>
          <a:xfrm>
            <a:off x="4648320" y="233352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7467480" cy="1785960"/>
          </a:xfrm>
          <a:prstGeom prst="rect">
            <a:avLst/>
          </a:prstGeom>
          <a:ln w="0">
            <a:noFill/>
          </a:ln>
        </p:spPr>
      </p:pic>
      <p:pic>
        <p:nvPicPr>
          <p:cNvPr id="413" name="Объект 11" descr=""/>
          <p:cNvPicPr/>
          <p:nvPr/>
        </p:nvPicPr>
        <p:blipFill>
          <a:blip r:embed="rId2"/>
          <a:stretch/>
        </p:blipFill>
        <p:spPr>
          <a:xfrm>
            <a:off x="304920" y="239076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414" name="Объект 9" descr=""/>
          <p:cNvPicPr/>
          <p:nvPr/>
        </p:nvPicPr>
        <p:blipFill>
          <a:blip r:embed="rId3"/>
          <a:stretch/>
        </p:blipFill>
        <p:spPr>
          <a:xfrm>
            <a:off x="4648320" y="233352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cp:lastPrinted>2013-04-01T13:57:49Z</cp:lastPrinted>
  <dcterms:modified xsi:type="dcterms:W3CDTF">2013-04-01T18:31:57Z</dcterms:modified>
  <cp:revision>16</cp:revision>
  <dc:subject/>
  <dc:title> Патриотическое воспитание дошкольников на примере создания мини - музея.</dc:title>
</cp:coreProperties>
</file>