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551-740A-42CD-BD63-69174A08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314-743B-4D6F-9827-4C43D3E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F7BF7-8E19-4A52-8B97-43AD6FC1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C98F-084D-48B3-8390-2208CB8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466C2-0A74-46E9-895E-C0B5E916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14DF0-5CC9-4A24-8F59-F98EF59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C1CD0-5D22-4468-95C3-5659EB6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4F03E-EEC5-4829-A7DC-72F6258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ADF4-DA5A-4E48-8341-D00067D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7614-A23E-463F-8FEC-ACBE07B2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D753-8DFB-41BB-AE66-17D0DAB8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FD7-F7A6-40AD-B186-CC7FEE0B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50E-4480-4162-A279-D0950B27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0004-4950-4CB9-B95D-0462D629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66A-B3DA-4B5A-B92C-07DB8903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0712-6518-4542-BC8D-7C2E86BE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E2B-1B22-479B-8074-F15423C0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1C1-BA03-46B8-AAC2-534165E0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5B17-D90F-4794-947B-525E3B21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447-44C5-41C8-9190-32CB7C93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73A-F693-4E9F-8BC3-973CC055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89F-7D5B-4E02-BB4F-C6A3B410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B0A-6AC1-4623-BBEE-F932181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3535-E849-4BB8-92D1-1A67C857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225B-284E-4B73-B5F7-18257517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4736-BACE-4491-A530-9615EC0B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D2C39-3A8B-44B1-B780-14E69689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1FBF-C9C7-4A10-88AD-1A62B74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3689-A013-4993-8FF0-B8B35BE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5395-6DD5-4F12-9876-1A13CA7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92D4-CB53-4277-83C9-0CACD12C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917-34C6-44B1-8773-6B9AE06A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7C8F-C372-40D2-8F22-B720E265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584E-8615-4235-8BE3-4207461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A35F-CEFB-4AA9-8DC6-BE1166D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3885-CE5D-4D88-88BC-DECA6FE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A5D9-D2C2-4599-A004-99647D0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BA2C-FC39-4450-AF2B-DAC7FCBE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7760-067C-4820-85D7-600ED8E3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FA73-64ED-46E7-8524-4F13168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F688-6A56-4142-8B15-7874D8F4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F2FE-E6D4-43BB-B70D-1FA357EF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951-0423-4FC4-94A7-79C2FF0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CF4E-A9BC-41E1-92F7-D363C7E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D458-8C9F-4183-AFE5-97F7ED0A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012B-C0C6-4E94-AA0C-BFD59F3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9246-2A83-4957-96CF-2AC7236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EBC9-D7F5-41C1-97CB-6BDCE04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94F9-5135-4630-ABC5-5EE14DA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E288-C5DE-48A0-AC1C-5D7B9C4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DA692-2E9D-452F-B9D2-929A33F8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58D6-EFD1-41BF-B21C-D5BCDCB8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C259-6876-4842-9DEB-A6606EA1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B69-0402-4F1C-AB3B-6BB6682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BB8D-127A-4644-96DD-E951BA01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B5DE-0224-4CCF-90DF-AD34A46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79DF0-7807-476F-B619-FCF73C46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5ADE-C4C9-4DA3-9E3B-56D53187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3BE2-FD03-4A67-81F8-6C03D576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F7BB-E41E-4054-8496-D94D930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BAF5-1DBA-421E-A817-6D70BD5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657D-5EFE-49F5-A0E1-8B3408E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F962-D157-49AB-8BBE-A571502F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7070-7881-492E-9DDB-C7CF7D43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42F-91E7-40A1-AB73-2FF8E90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0464-B90D-4031-81CF-72224AB0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D8BA-A964-4044-9D19-F9385B81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12965-DF19-45CF-9100-FE334AF1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595D-3EBE-4152-9F0B-1096DD3B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8948-30C4-4319-A150-69EDC3B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0163-2ACC-4707-A3F4-CAD7F80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5EEC7-A44F-4208-8BEE-80AD0AA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A3E7-C39F-4132-BF5B-BF9DBA6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5D76-F40E-483F-84C6-9D02828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F396-9194-494F-9209-463EE71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DD4-8943-4C53-9B97-BF3D5EB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EA96-26C6-4AEE-B6DD-76B8337D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E41E-B187-4495-B72F-3B224437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57BAD-610C-4B8C-9E76-FA38A6B9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9BF0-BF0C-4B7D-AB0F-75FC2E59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CF2BD-8F60-4977-9B0C-7B1A753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426C-2E2F-4131-9FF9-9A5B3C85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DD3B-C544-4237-9BD9-FD9FCEB9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E31F-AACE-47F1-83F1-D112AC0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7BDE2-DBCB-4A99-8B48-562DAA07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A2BB1-00E5-4FAF-A155-CA964D0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8FB-0699-4D6B-98BB-682070E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C4D16-1A14-4282-9C00-641CEA7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6ADBE-973F-4167-995C-370AA92B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8C7C-CEDB-489D-9781-0E2FDBF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11EB3-1A0D-4DB2-A20B-D705687C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A7D6-086F-4162-B495-11A87F49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A7600-A840-4F24-B68B-95C011D0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0284-FC5C-411A-BAC0-DE7C69D4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F85B-BB63-4C27-A04F-A013B191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DEC8C-11A2-4CFB-BBA8-CE9BCB1E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D155-9804-4F20-B639-D93FE81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A90-7173-4D97-ADE5-ECCE3FC9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E23B-AEA2-4ABB-B940-22A6463E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30484-7710-414F-9772-80CCAC67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89985-5EAA-448D-AA39-B24C587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A4144-E435-4091-8347-43AE5CA6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5DAB7-D979-4A62-A4AB-B53C924F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B0F0-18FB-485D-9459-5FA957D9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ED52-0FA8-46F7-A7B7-D9727BE9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3E984-FB1C-4BAD-A973-93B047BB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954BB-6501-45DA-A041-9A9BD7CF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2B25-F768-4906-BBA0-A23E3837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7FB9-A3F1-4187-A4F3-220EF4C0AF88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FBE-DE2C-4543-A681-0C5B98A8BCB6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3AD1-594D-4792-8394-42E349A70096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3A3-83CD-46A9-831C-00C82D5FC825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CA0-2852-4282-94DE-6329BDD4BC6E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D0B6-EB57-4FA2-8797-81848CF15A8A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0D0-7F0D-4D93-8F7E-235045A72A52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04F-12E0-4272-894D-9ADC1146957F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1F2-6361-4F0B-8F6D-9EE327A4B774}" type="slidenum">
              <a:rPr b="0" lang="ru-RU" sz="1200" spc="-1" strike="noStrike">
                <a:solidFill>
                  <a:srgbClr val="d38e27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63920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998720"/>
          </a:xfrm>
          <a:prstGeom prst="rect">
            <a:avLst/>
          </a:prstGeom>
          <a:ln w="0">
            <a:noFill/>
          </a:ln>
        </p:spPr>
      </p:pic>
      <p:pic>
        <p:nvPicPr>
          <p:cNvPr id="401" name="Объект 7" descr=""/>
          <p:cNvPicPr/>
          <p:nvPr/>
        </p:nvPicPr>
        <p:blipFill>
          <a:blip r:embed="rId2"/>
          <a:stretch/>
        </p:blipFill>
        <p:spPr>
          <a:xfrm>
            <a:off x="798480" y="27608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402" name="Объект 3" descr=""/>
          <p:cNvPicPr/>
          <p:nvPr/>
        </p:nvPicPr>
        <p:blipFill>
          <a:blip r:embed="rId3"/>
          <a:stretch/>
        </p:blipFill>
        <p:spPr>
          <a:xfrm>
            <a:off x="5124600" y="2693880"/>
            <a:ext cx="33908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748512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Объект 9" descr=""/>
          <p:cNvPicPr/>
          <p:nvPr/>
        </p:nvPicPr>
        <p:blipFill>
          <a:blip r:embed="rId2"/>
          <a:stretch/>
        </p:blipFill>
        <p:spPr>
          <a:xfrm>
            <a:off x="798480" y="2646360"/>
            <a:ext cx="3203640" cy="2631960"/>
          </a:xfrm>
          <a:prstGeom prst="rect">
            <a:avLst/>
          </a:prstGeom>
          <a:ln w="0">
            <a:noFill/>
          </a:ln>
        </p:spPr>
      </p:pic>
      <p:pic>
        <p:nvPicPr>
          <p:cNvPr id="405" name="Объект 5" descr=""/>
          <p:cNvPicPr/>
          <p:nvPr/>
        </p:nvPicPr>
        <p:blipFill>
          <a:blip r:embed="rId3"/>
          <a:stretch/>
        </p:blipFill>
        <p:spPr>
          <a:xfrm>
            <a:off x="4686480" y="23623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352520"/>
          </a:xfrm>
          <a:prstGeom prst="rect">
            <a:avLst/>
          </a:prstGeom>
          <a:ln w="0">
            <a:noFill/>
          </a:ln>
        </p:spPr>
      </p:pic>
      <p:pic>
        <p:nvPicPr>
          <p:cNvPr id="407" name="Объект 8" descr=""/>
          <p:cNvPicPr/>
          <p:nvPr/>
        </p:nvPicPr>
        <p:blipFill>
          <a:blip r:embed="rId2"/>
          <a:stretch/>
        </p:blipFill>
        <p:spPr>
          <a:xfrm>
            <a:off x="798480" y="2630520"/>
            <a:ext cx="3203640" cy="2663640"/>
          </a:xfrm>
          <a:prstGeom prst="rect">
            <a:avLst/>
          </a:prstGeom>
          <a:ln w="0">
            <a:noFill/>
          </a:ln>
        </p:spPr>
      </p:pic>
      <p:pic>
        <p:nvPicPr>
          <p:cNvPr id="408" name="Объект 9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2449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768240"/>
            <a:ext cx="7467480" cy="100512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"/>
          <p:cNvPicPr/>
          <p:nvPr/>
        </p:nvPicPr>
        <p:blipFill>
          <a:blip r:embed="rId2"/>
          <a:stretch/>
        </p:blipFill>
        <p:spPr>
          <a:xfrm>
            <a:off x="798480" y="2717640"/>
            <a:ext cx="3203640" cy="2489400"/>
          </a:xfrm>
          <a:prstGeom prst="rect">
            <a:avLst/>
          </a:prstGeom>
          <a:ln w="0">
            <a:noFill/>
          </a:ln>
        </p:spPr>
      </p:pic>
      <p:pic>
        <p:nvPicPr>
          <p:cNvPr id="411" name="Объект 5" descr=""/>
          <p:cNvPicPr/>
          <p:nvPr/>
        </p:nvPicPr>
        <p:blipFill>
          <a:blip r:embed="rId3"/>
          <a:stretch/>
        </p:blipFill>
        <p:spPr>
          <a:xfrm>
            <a:off x="4648320" y="23335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785960"/>
          </a:xfrm>
          <a:prstGeom prst="rect">
            <a:avLst/>
          </a:prstGeom>
          <a:ln w="0">
            <a:noFill/>
          </a:ln>
        </p:spPr>
      </p:pic>
      <p:pic>
        <p:nvPicPr>
          <p:cNvPr id="413" name="Объект 11" descr=""/>
          <p:cNvPicPr/>
          <p:nvPr/>
        </p:nvPicPr>
        <p:blipFill>
          <a:blip r:embed="rId2"/>
          <a:stretch/>
        </p:blipFill>
        <p:spPr>
          <a:xfrm>
            <a:off x="304920" y="239076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414" name="Объект 9" descr=""/>
          <p:cNvPicPr/>
          <p:nvPr/>
        </p:nvPicPr>
        <p:blipFill>
          <a:blip r:embed="rId3"/>
          <a:stretch/>
        </p:blipFill>
        <p:spPr>
          <a:xfrm>
            <a:off x="4648320" y="23335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3-04-01T13:57:49Z</cp:lastPrinted>
  <dcterms:modified xsi:type="dcterms:W3CDTF">2013-04-01T18:31:57Z</dcterms:modified>
  <cp:revision>16</cp:revision>
  <dc:subject/>
  <dc:title> Патриотическое воспитание дошкольников на примере создания мини - музея.</dc:title>
</cp:coreProperties>
</file>