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recycle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60C-91E7-4048-8AC6-58F36F12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5767-1230-4D8D-B54C-0E93B90E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AC4-78AE-4B77-A6AA-CD84E571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60A-E413-4D57-8FEA-10B7E55F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E4AD-A0BC-445C-B6DE-E690E447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1A0F-A0ED-483A-A7DF-E4AB7790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13CB-8C8A-4973-88AA-DF94A4CB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94A6-375E-4014-93C8-F330400D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4268-4733-4165-B5D4-E573449C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0FF0-24EB-4BF9-87CB-E5A1AE14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3931-9F3A-49FD-982E-005CCB64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4C5-4E54-4A3D-82E0-8C291326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B8F7-3399-4813-9454-1A0376DD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F556-124A-429C-9A6D-ED276D92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0C01-81F5-461E-94B0-EEDF15B7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F5EF-CDA1-43E9-B19F-EA626D4B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0FA6-61AB-43FB-B1D8-C8FB7F5C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5700-3AA6-41E1-9FCF-A48E0A57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8B8C-1EC9-4402-B7A6-DCFEE96E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847-E88B-4A7B-9716-FA649244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86E-473C-4D0B-913D-0F9CA43C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F8BB-77D9-45A1-B9B0-70F19BC4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626-B800-4ED1-89B6-AB340A37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AF4-C67F-44F5-8062-8C70B867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A7C8-5396-4FB6-ABDC-7E315CE213D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05DF-C0F0-4D66-9471-078E13FE5F7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1484280"/>
            <a:ext cx="8640720" cy="4176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600" spc="-1" strike="noStrike">
                <a:solidFill>
                  <a:srgbClr val="ff0000"/>
                </a:solidFill>
                <a:latin typeface="Monotype Corsiva"/>
              </a:rPr>
              <a:t>Разряды наречий</a:t>
            </a:r>
            <a:endParaRPr b="0" lang="en-US" sz="136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I групп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0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я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ойдёмте здесь. Ты, мама, помнишь, какая эта комнат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0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юбовь Андреевна (радостно, сквозь слёзы)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етская, конечно ж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0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арлотта (Пищику)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оя собака и орехи куша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80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щик (удивлённо)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ы подумайт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6870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II групп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Женя заглянула в соседнюю комнату. Здесь стоял письменный стол, на нём чернильный прибор, пепельница, небольшое зеркало. Справа, возле кожаных перчаток, лежал старый ободранный револьвер. Тут же у стола, в облупленных и исцарапанных ножнах, стояла кривая турецкая сабл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III групп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Шурику стало хорошо-хорошо, словно кто-то подошёл сзади и ласково обнял его за плечи. Так же хорошо бывает ещё, когда пригладит волосы неожиданный тёплый ветер или когда с закрытыми глазами лежишь на траве и солнце мягкими лучами щекочет лиц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IV групп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Индии растёт дерево баньян. Оно поражает прежде всего размерами. В его благодатной тени можно легко спрятать десятка два автомобилей. Сотни человек в состоянии расположиться здесь без боязни, что кто-то окажется на жарком солнц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V групп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ссоль села, начав шить. Между тем как её голова мурлыкала песенку жизни маленькие руки работали прилежно и ловко; откусывая нитку, она смотрела далеко перед собой, но это не мешало ей ровно подвёртывать рубец и класть петельный шов с отчётливостью швейной маши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-299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765000"/>
            <a:ext cx="6985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Times New Roman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формировать умение определять принадлежность наречия к той или иной смысловой групп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вести диагностику умения находить наречия в тексте, определять те части речи, к которым может присоединяться нареч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наблюдать за употреблением наречий и их ролью в текстах различного сти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6870600" cy="86364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Образа и способа действ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696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Как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Каким образ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2852640"/>
            <a:ext cx="8056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Торжественн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на землю сходит ноч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А.Н.Толсто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еры и степе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696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Скольк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Сколько раз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Во сколько раз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На скольк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3573360"/>
            <a:ext cx="7696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тро такое милое, ясное, но мне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немножечк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грус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М.Горьки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687060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ес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6960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Где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Куда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Откуда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3357720"/>
            <a:ext cx="7696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Издалек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доносилась заунывная песня ямщ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А.П.Чех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реме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6960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Когда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Как долго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2852640"/>
            <a:ext cx="7696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3357720"/>
            <a:ext cx="748044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Тепер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небо походило на взволно-ванное мо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(М.Горьки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ичин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6960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Почему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Отчего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По какой причине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3357720"/>
            <a:ext cx="7696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епан Прокофьевич едва втиснулся и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оневол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остановился в задних ряд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В.Кожевник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Лингвистическая размин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771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йти дом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сужда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тречать гост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а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ходить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оди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ержать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тупа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иде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овори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09800" y="980640"/>
            <a:ext cx="3771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Шёпото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светл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слепу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врем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ружес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спеш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-детс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вдалек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елеустремлён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отем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Лингвистическая размин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771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йти дом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сужда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тречать гост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а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ходить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оди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ержать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тупа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иде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овори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980640"/>
            <a:ext cx="3772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светл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-детс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ружес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елеустремлён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вдалек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слепу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отем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спеш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врем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Шёпото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8:50:09Z</dcterms:created>
  <dc:creator>Инна Викторовна</dc:creator>
  <dc:description/>
  <dc:language>en-US</dc:language>
  <cp:lastModifiedBy>Alex</cp:lastModifiedBy>
  <dcterms:modified xsi:type="dcterms:W3CDTF">2006-12-13T07:36:34Z</dcterms:modified>
  <cp:revision>25</cp:revision>
  <dc:subject/>
  <dc:title>ЭРУДИТ</dc:title>
</cp:coreProperties>
</file>