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ecycl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B0C-B63E-4F27-A2AC-189E418E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ABC-970A-4B79-9FB2-2A438C74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C40-8A31-43B9-8EFB-8A54A20A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DAA-94F1-425C-8A45-5BC16EDA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68F-E02F-471B-A6A8-B93AADBD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44C-72BA-4F85-BA25-DC916CDB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662C-01F2-443E-A854-31B04B86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3825-BC68-4128-A75E-2DB5F4F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DB8-B94D-4B69-8E74-3E79225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5031-A06F-4D1B-B2ED-B00A2F32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F439-1C67-464E-9F8E-A49338F8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B9C-79CF-4DDC-9BBA-0F7B4C8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F95-475A-4E51-8698-7EDA8D1D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7824-26B8-440B-A0BA-6E1885D1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8E2-8CD7-4EEB-8026-D6D24AD2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7B4D-6BBA-4495-B15A-5C70E478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23A9-C11F-4A60-96DF-768FB1E4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542-068C-42ED-B295-CB0253C9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558-BE65-4EBF-9A53-E363A21A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5B4-BE82-41B4-87BB-DCCF56AA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74C-0184-4143-9E88-FB7F1352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58D-3DF9-4461-A1E2-7B382930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CCE-CFB4-4AC2-B5B1-6C30AA19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97F-E943-4455-9F76-D9F86EC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FD15-74C8-48E5-9558-A3B067233B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7FEA-0932-4243-B4C0-5A189BDCFA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640720" cy="417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ff0000"/>
                </a:solidFill>
                <a:latin typeface="Monotype Corsiva"/>
              </a:rPr>
              <a:t>Разряды наречий</a:t>
            </a:r>
            <a:endParaRPr b="0" lang="en-US" sz="1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I групп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я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йдёмте здесь. Ты, мама, помнишь, какая эта комна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вь Андреевна (радостно, сквозь слёзы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тская, конечно ж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рлотта (Пищику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я собака и орехи куш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щик (удивлённо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 подумай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II групп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еня заглянула в соседнюю комнату. Здесь стоял письменный стол, на нём чернильный прибор, пепельница, небольшое зеркало. Справа, возле кожаных перчаток, лежал старый ободранный револьвер. Тут же у стола, в облупленных и исцарапанных ножнах, стояла кривая турецкая саб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II групп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урику стало хорошо-хорошо, словно кто-то подошёл сзади и ласково обнял его за плечи. Так же хорошо бывает ещё, когда пригладит волосы неожиданный тёплый ветер или когда с закрытыми глазами лежишь на траве и солнце мягкими лучами щекочет лиц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V групп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Индии растёт дерево баньян. Оно поражает прежде всего размерами. В его благодатной тени можно легко спрятать десятка два автомобилей. Сотни человек в состоянии расположиться здесь без боязни, что кто-то окажется на жарком солн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V групп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ль села, начав шить. Между тем как её голова мурлыкала песенку жизни маленькие руки работали прилежно и ловко; откусывая нитку, она смотрела далеко перед собой, но это не мешало ей ровно подвёртывать рубец и класть петельный шов с отчётливостью швейной маши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765000"/>
            <a:ext cx="69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Times New Roman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формировать умение определять принадлежность наречия к той или иной смысловой 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вести диагностику умения находить наречия в тексте, определять те части речи, к которым может присоединяться нареч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наблюдать за употреблением наречий и их ролью в текстах различного сти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Образа и способа действ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Каким образ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2852640"/>
            <a:ext cx="805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Торжественн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на землю сходит ноч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А.Н.Толсто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еры и степ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Скольк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Сколько раз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о сколько раз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На скольк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57336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тро такое милое, ясное, но мне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немножечк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гр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М.Горь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Гд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Куд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куд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357720"/>
            <a:ext cx="7696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Издале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доносилась заунывная песня ямщ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А.П.Чех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рем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Когд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Как долго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3357720"/>
            <a:ext cx="748044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Тепер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бо походило на взволно-ванное м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М.Горь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ч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96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чег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о какой причин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357720"/>
            <a:ext cx="7696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епан Прокофьевич едва втиснулся и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оневол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становился в задних ряд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В.Кожевник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Лингвистическая разми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йти до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ужд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речать го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ходи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д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ержа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туп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овор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9800" y="980640"/>
            <a:ext cx="3771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ёпот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свет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лепу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врем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руже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спеш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-дет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вдале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еустремлён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тем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Лингвистическая разми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йти до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ужд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речать го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ходи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д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ержа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туп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овор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980640"/>
            <a:ext cx="3772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свет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-дет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руже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еустремлён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вдале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лепу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тем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спеш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врем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ёпот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8:50:09Z</dcterms:created>
  <dc:creator>Инна Викторовна</dc:creator>
  <dc:description/>
  <dc:language>en-US</dc:language>
  <cp:lastModifiedBy>Alex</cp:lastModifiedBy>
  <dcterms:modified xsi:type="dcterms:W3CDTF">2006-12-13T07:36:34Z</dcterms:modified>
  <cp:revision>25</cp:revision>
  <dc:subject/>
  <dc:title>ЭРУДИТ</dc:title>
</cp:coreProperties>
</file>