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C00-0CD0-4913-8F93-3B9260D4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A91-B68F-4B57-B4FD-8304BDE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E12-DCE6-44F4-AF8A-79F9CB40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DAC-BDB7-4FA1-9B84-307DE1D9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B0E0-75CD-4076-B89A-185D5929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6185-8346-4BFA-812F-577B0B5F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C8D-D38E-4FB8-B60E-9C0FB35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3BE7-048D-4C77-8417-0A00798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219-4F97-4149-9D76-9809F406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9B96-4028-40B8-9C86-D01FB09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73E-4DFA-4201-95D9-017E4DB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7CE-2377-4D60-A9BA-7676CB1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B61B-1962-4622-87E0-C47D8B6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A65-3BE2-428D-BAA7-FA86210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E28-F47D-4790-920E-3F669266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0B2-A033-4729-80E2-C56FF6DD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6074-40E2-47BF-8388-9B838E4A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D0F-B8A2-4B7E-88DE-372354B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47A-35D4-440D-AC06-EC9D8CB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9C3-4FBF-43BC-A329-C528C324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7B5-6CE2-4991-AFFD-6743665C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0ED-92A8-4629-B106-0D12762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DA6-1F25-4C60-8E79-C6FDC1D1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CAD-360F-4D10-A876-4796A6EA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7B4B-6DCE-4C0C-84AA-DDDA9DBC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084-B55A-402D-8E5A-BCAAE9D84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22560" y="0"/>
            <a:ext cx="6121440" cy="907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ша школьная жиз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2420640"/>
            <a:ext cx="8748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и: Семенихин Владисла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дригайлов Олег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ковенко Алексе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каров Алекс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2916360" y="5877000"/>
            <a:ext cx="3384360" cy="79200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ы - патрио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 rot="775200">
            <a:off x="1643040" y="857160"/>
            <a:ext cx="2714760" cy="2035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 rot="20644800">
            <a:off x="4857840" y="785520"/>
            <a:ext cx="2763720" cy="2071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2857680" cy="228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6429240" y="2928960"/>
            <a:ext cx="2714760" cy="2146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5"/>
          <a:stretch/>
        </p:blipFill>
        <p:spPr>
          <a:xfrm>
            <a:off x="3214800" y="4000680"/>
            <a:ext cx="2954160" cy="2214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4000" y="333360"/>
            <a:ext cx="4640040" cy="105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569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На уроках                             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Конк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На      перемен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Вечер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Спор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340000" y="2421000"/>
            <a:ext cx="504720" cy="431640"/>
          </a:xfrm>
          <a:prstGeom prst="pie">
            <a:avLst/>
          </a:prstGeom>
          <a:gradFill rotWithShape="0">
            <a:gsLst>
              <a:gs pos="0">
                <a:srgbClr val="703dff"/>
              </a:gs>
              <a:gs pos="50000">
                <a:srgbClr val="341c76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3429000"/>
            <a:ext cx="504720" cy="43164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8172360" y="3933720"/>
            <a:ext cx="505080" cy="4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8172360" y="2421000"/>
            <a:ext cx="505080" cy="431640"/>
          </a:xfrm>
          <a:prstGeom prst="pie">
            <a:avLst/>
          </a:prstGeom>
          <a:gradFill rotWithShape="0">
            <a:gsLst>
              <a:gs pos="0">
                <a:srgbClr val="00b200"/>
              </a:gs>
              <a:gs pos="50000">
                <a:srgbClr val="005200"/>
              </a:gs>
              <a:gs pos="100000">
                <a:srgbClr val="00b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1763640" y="3933720"/>
            <a:ext cx="504720" cy="4320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9">
            <a:hlinkClick r:id="" action="ppaction://hlinkshowjump?jump=firstslide"/>
          </p:cNvPr>
          <p:cNvSpPr/>
          <p:nvPr/>
        </p:nvSpPr>
        <p:spPr>
          <a:xfrm>
            <a:off x="8028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10">
            <a:hlinkClick r:id="" action="ppaction://hlinkshowjump?jump=firstslide"/>
          </p:cNvPr>
          <p:cNvSpPr/>
          <p:nvPr/>
        </p:nvSpPr>
        <p:spPr>
          <a:xfrm>
            <a:off x="395280" y="5877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13206" y="3837"/>
                </a:moveTo>
                <a:lnTo>
                  <a:pt x="15782" y="6448"/>
                </a:ln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lnTo>
                  <a:pt x="20169" y="10800"/>
                </a:lnTo>
                <a:lnTo>
                  <a:pt x="18515" y="10800"/>
                </a:lnTo>
                <a:lnTo>
                  <a:pt x="18515" y="17989"/>
                </a:lnTo>
                <a:lnTo>
                  <a:pt x="7897" y="17989"/>
                </a:lnTo>
                <a:lnTo>
                  <a:pt x="7897" y="10800"/>
                </a:lnTo>
                <a:lnTo>
                  <a:pt x="6243" y="10800"/>
                </a:lnTo>
                <a:close/>
              </a:path>
              <a:path fill="darkenLess" w="26412" h="21600">
                <a:moveTo>
                  <a:pt x="15782" y="6448"/>
                </a:moveTo>
                <a:lnTo>
                  <a:pt x="15782" y="4707"/>
                </a:lnTo>
                <a:lnTo>
                  <a:pt x="17558" y="4707"/>
                </a:lnTo>
                <a:lnTo>
                  <a:pt x="17558" y="8224"/>
                </a:lnTo>
                <a:close/>
              </a:path>
              <a:path fill="darkenLess" w="26412" h="21600">
                <a:moveTo>
                  <a:pt x="12283" y="14299"/>
                </a:moveTo>
                <a:lnTo>
                  <a:pt x="14129" y="14299"/>
                </a:lnTo>
                <a:lnTo>
                  <a:pt x="14129" y="17989"/>
                </a:lnTo>
                <a:lnTo>
                  <a:pt x="18515" y="17989"/>
                </a:lnTo>
                <a:lnTo>
                  <a:pt x="18515" y="10800"/>
                </a:lnTo>
                <a:lnTo>
                  <a:pt x="7897" y="10800"/>
                </a:lnTo>
                <a:lnTo>
                  <a:pt x="7897" y="17989"/>
                </a:lnTo>
                <a:lnTo>
                  <a:pt x="12283" y="17989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Diagram 4"/>
          <p:cNvGrpSpPr/>
          <p:nvPr/>
        </p:nvGrpSpPr>
        <p:grpSpPr>
          <a:xfrm>
            <a:off x="-304920" y="-152280"/>
            <a:ext cx="9372240" cy="7086240"/>
            <a:chOff x="-304920" y="-152280"/>
            <a:chExt cx="9372240" cy="7086240"/>
          </a:xfrm>
        </p:grpSpPr>
        <p:sp>
          <p:nvSpPr>
            <p:cNvPr id="164" name="_s1028"/>
            <p:cNvSpPr/>
            <p:nvPr/>
          </p:nvSpPr>
          <p:spPr>
            <a:xfrm flipH="1" flipV="1">
              <a:off x="2125800" y="2504520"/>
              <a:ext cx="1126800" cy="44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29"/>
            <p:cNvSpPr/>
            <p:nvPr/>
          </p:nvSpPr>
          <p:spPr>
            <a:xfrm>
              <a:off x="-304920" y="1176480"/>
              <a:ext cx="2604600" cy="177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изкультурно-спортивная: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ФП и подвижные игры 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2-4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льные и спортивные танцы (1-4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Баскетбол (7-8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ини-футбол (5-7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олейбол (6-7 кл.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0"/>
            <p:cNvSpPr/>
            <p:nvPr/>
          </p:nvSpPr>
          <p:spPr>
            <a:xfrm flipH="1">
              <a:off x="2125800" y="3834360"/>
              <a:ext cx="1128240" cy="441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-303480" y="3834360"/>
              <a:ext cx="2604600" cy="1771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ультурологическая: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траны и континенты 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(9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формы и реформаторы (8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ОВ в искусстве (8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сновы православной культуры (5-6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а перекрестках истории (5 кл.)</a:t>
              </a:r>
              <a:endParaRPr b="0" lang="en-US" sz="1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4381560" y="4276440"/>
              <a:ext cx="1080" cy="885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3080160" y="5162400"/>
              <a:ext cx="2604240" cy="1771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Художественно-эстетическая: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родные танцы «Радуга»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(1-2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Флейта (4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Хор «Веселые нотки» (1,2,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увенир (1-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Живопись «Акварелька»  (2,4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Лепка «Умелые ручки» (1-2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спись по стеклу (5 кл.)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4"/>
            <p:cNvSpPr/>
            <p:nvPr/>
          </p:nvSpPr>
          <p:spPr>
            <a:xfrm>
              <a:off x="5509800" y="3833640"/>
              <a:ext cx="1127160" cy="44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6463080" y="3832560"/>
              <a:ext cx="2604240" cy="177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Военно-патриотическ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патриот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6-7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1036"/>
            <p:cNvSpPr/>
            <p:nvPr/>
          </p:nvSpPr>
          <p:spPr>
            <a:xfrm flipV="1">
              <a:off x="5508360" y="2504520"/>
              <a:ext cx="1128600" cy="442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_s1037"/>
            <p:cNvSpPr/>
            <p:nvPr/>
          </p:nvSpPr>
          <p:spPr>
            <a:xfrm>
              <a:off x="6461640" y="1175760"/>
              <a:ext cx="2604600" cy="177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Естественно-научн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Экологический кружок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5-8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физик (8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нимательная химия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10-11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1038"/>
            <p:cNvSpPr/>
            <p:nvPr/>
          </p:nvSpPr>
          <p:spPr>
            <a:xfrm flipV="1">
              <a:off x="4381560" y="1619640"/>
              <a:ext cx="0" cy="885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1039"/>
            <p:cNvSpPr/>
            <p:nvPr/>
          </p:nvSpPr>
          <p:spPr>
            <a:xfrm>
              <a:off x="3078720" y="-152280"/>
              <a:ext cx="2604600" cy="177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ая: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Занимательная математика (5-7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Юный чертежник (9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Компьютерная студия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(5-9 кл.)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40"/>
            <p:cNvSpPr/>
            <p:nvPr/>
          </p:nvSpPr>
          <p:spPr>
            <a:xfrm>
              <a:off x="3078720" y="2505240"/>
              <a:ext cx="2604600" cy="1771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Направленности дополнительного образования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360" y="189000"/>
            <a:ext cx="338472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уро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7956720" y="6093000"/>
            <a:ext cx="718920" cy="57600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56" h="21600">
                <a:moveTo>
                  <a:pt x="0" y="0"/>
                </a:moveTo>
                <a:lnTo>
                  <a:pt x="26956" y="0"/>
                </a:lnTo>
                <a:lnTo>
                  <a:pt x="26956" y="21600"/>
                </a:lnTo>
                <a:lnTo>
                  <a:pt x="0" y="21600"/>
                </a:lnTo>
                <a:close/>
              </a:path>
              <a:path fill="lightenLess" w="26956" h="21600">
                <a:moveTo>
                  <a:pt x="0" y="0"/>
                </a:moveTo>
                <a:lnTo>
                  <a:pt x="26956" y="0"/>
                </a:lnTo>
                <a:lnTo>
                  <a:pt x="25556" y="1400"/>
                </a:lnTo>
                <a:lnTo>
                  <a:pt x="1400" y="1400"/>
                </a:lnTo>
                <a:close/>
              </a:path>
              <a:path fill="darken" w="26956" h="21600">
                <a:moveTo>
                  <a:pt x="26956" y="0"/>
                </a:moveTo>
                <a:lnTo>
                  <a:pt x="26956" y="21600"/>
                </a:lnTo>
                <a:lnTo>
                  <a:pt x="25556" y="20200"/>
                </a:lnTo>
                <a:lnTo>
                  <a:pt x="25556" y="1400"/>
                </a:lnTo>
                <a:close/>
              </a:path>
              <a:path fill="darkenLess" w="26956" h="21600">
                <a:moveTo>
                  <a:pt x="26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6" y="20200"/>
                </a:lnTo>
                <a:close/>
              </a:path>
              <a:path fill="lighten" w="26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6" h="21600">
                <a:moveTo>
                  <a:pt x="6472" y="7493"/>
                </a:moveTo>
                <a:lnTo>
                  <a:pt x="9979" y="7493"/>
                </a:lnTo>
                <a:lnTo>
                  <a:pt x="9979" y="12828"/>
                </a:lnTo>
                <a:cubicBezTo>
                  <a:pt x="9979" y="13751"/>
                  <a:pt x="10780" y="14482"/>
                  <a:pt x="11816" y="14482"/>
                </a:cubicBezTo>
                <a:lnTo>
                  <a:pt x="13478" y="14482"/>
                </a:lnTo>
                <a:cubicBezTo>
                  <a:pt x="14514" y="14482"/>
                  <a:pt x="15315" y="13751"/>
                  <a:pt x="15315" y="12828"/>
                </a:cubicBezTo>
                <a:lnTo>
                  <a:pt x="15315" y="7493"/>
                </a:lnTo>
                <a:lnTo>
                  <a:pt x="13478" y="7493"/>
                </a:lnTo>
                <a:lnTo>
                  <a:pt x="16986" y="3985"/>
                </a:lnTo>
                <a:lnTo>
                  <a:pt x="20659" y="7493"/>
                </a:lnTo>
                <a:lnTo>
                  <a:pt x="18822" y="7493"/>
                </a:lnTo>
                <a:lnTo>
                  <a:pt x="18822" y="12828"/>
                </a:lnTo>
                <a:cubicBezTo>
                  <a:pt x="18822" y="15596"/>
                  <a:pt x="16246" y="18155"/>
                  <a:pt x="13478" y="18155"/>
                </a:cubicBezTo>
                <a:lnTo>
                  <a:pt x="11816" y="18155"/>
                </a:lnTo>
                <a:cubicBezTo>
                  <a:pt x="9048" y="18155"/>
                  <a:pt x="6472" y="15596"/>
                  <a:pt x="6472" y="128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304956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5000760" y="1643040"/>
            <a:ext cx="3335040" cy="25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1500120" y="3857760"/>
            <a:ext cx="3429000" cy="25700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216400" cy="1197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  круж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956720" y="5950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240000" cy="2428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500040" y="642960"/>
            <a:ext cx="3784680" cy="283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1285920" y="3500280"/>
            <a:ext cx="4097160" cy="3071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доп образование_Page000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4767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3276720" y="685800"/>
            <a:ext cx="27432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5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занятиях п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коративно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кладно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кусств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295600" y="0"/>
            <a:ext cx="3848040" cy="1054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88508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285840" y="0"/>
            <a:ext cx="4602240" cy="3071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002120" cy="300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428760" y="3071880"/>
            <a:ext cx="5000400" cy="3751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87600" y="-360"/>
            <a:ext cx="3056040" cy="981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7493"/>
                </a:moveTo>
                <a:lnTo>
                  <a:pt x="8489" y="7493"/>
                </a:lnTo>
                <a:lnTo>
                  <a:pt x="8489" y="12828"/>
                </a:lnTo>
                <a:cubicBezTo>
                  <a:pt x="8489" y="13751"/>
                  <a:pt x="9290" y="14482"/>
                  <a:pt x="10326" y="14482"/>
                </a:cubicBezTo>
                <a:lnTo>
                  <a:pt x="11988" y="14482"/>
                </a:lnTo>
                <a:cubicBezTo>
                  <a:pt x="13024" y="14482"/>
                  <a:pt x="13824" y="13751"/>
                  <a:pt x="13824" y="12828"/>
                </a:cubicBezTo>
                <a:lnTo>
                  <a:pt x="13824" y="7493"/>
                </a:lnTo>
                <a:lnTo>
                  <a:pt x="11988" y="7493"/>
                </a:lnTo>
                <a:lnTo>
                  <a:pt x="15496" y="3985"/>
                </a:lnTo>
                <a:lnTo>
                  <a:pt x="19169" y="7493"/>
                </a:lnTo>
                <a:lnTo>
                  <a:pt x="17332" y="7493"/>
                </a:lnTo>
                <a:lnTo>
                  <a:pt x="17332" y="12828"/>
                </a:lnTo>
                <a:cubicBezTo>
                  <a:pt x="17332" y="15596"/>
                  <a:pt x="14756" y="18155"/>
                  <a:pt x="11988" y="18155"/>
                </a:cubicBezTo>
                <a:lnTo>
                  <a:pt x="10326" y="18155"/>
                </a:lnTo>
                <a:cubicBezTo>
                  <a:pt x="7558" y="18155"/>
                  <a:pt x="4982" y="15596"/>
                  <a:pt x="4982" y="12828"/>
                </a:cubicBezTo>
                <a:close/>
              </a:path>
            </a:pathLst>
          </a:cu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57120" y="0"/>
            <a:ext cx="3786120" cy="2838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4214880" y="1000080"/>
            <a:ext cx="4071960" cy="30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571680" y="32148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4429080" y="32148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51600" y="-360"/>
            <a:ext cx="3992400" cy="765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еч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028000" y="595008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5" h="21600">
                <a:moveTo>
                  <a:pt x="5136" y="7493"/>
                </a:moveTo>
                <a:lnTo>
                  <a:pt x="8644" y="7493"/>
                </a:lnTo>
                <a:lnTo>
                  <a:pt x="8644" y="12828"/>
                </a:lnTo>
                <a:cubicBezTo>
                  <a:pt x="8644" y="13751"/>
                  <a:pt x="9444" y="14482"/>
                  <a:pt x="10480" y="14482"/>
                </a:cubicBezTo>
                <a:lnTo>
                  <a:pt x="12142" y="14482"/>
                </a:lnTo>
                <a:cubicBezTo>
                  <a:pt x="13178" y="14482"/>
                  <a:pt x="13979" y="13751"/>
                  <a:pt x="13979" y="12828"/>
                </a:cubicBezTo>
                <a:lnTo>
                  <a:pt x="13979" y="7493"/>
                </a:lnTo>
                <a:lnTo>
                  <a:pt x="12142" y="7493"/>
                </a:lnTo>
                <a:lnTo>
                  <a:pt x="15650" y="3985"/>
                </a:lnTo>
                <a:lnTo>
                  <a:pt x="19323" y="7493"/>
                </a:lnTo>
                <a:lnTo>
                  <a:pt x="17486" y="7493"/>
                </a:lnTo>
                <a:lnTo>
                  <a:pt x="17486" y="12828"/>
                </a:lnTo>
                <a:cubicBezTo>
                  <a:pt x="17486" y="15596"/>
                  <a:pt x="14910" y="18155"/>
                  <a:pt x="12142" y="18155"/>
                </a:cubicBezTo>
                <a:lnTo>
                  <a:pt x="10480" y="18155"/>
                </a:lnTo>
                <a:cubicBezTo>
                  <a:pt x="7712" y="18155"/>
                  <a:pt x="5136" y="15596"/>
                  <a:pt x="5136" y="12828"/>
                </a:cubicBez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356440" cy="4014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714920" y="1714680"/>
            <a:ext cx="4429080" cy="3321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42920" y="3500280"/>
            <a:ext cx="4929120" cy="331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5:11:35Z</dcterms:created>
  <dc:creator> ученики </dc:creator>
  <dc:description/>
  <dc:language>en-US</dc:language>
  <cp:lastModifiedBy>пользователь</cp:lastModifiedBy>
  <dcterms:modified xsi:type="dcterms:W3CDTF">2011-03-16T15:34:43Z</dcterms:modified>
  <cp:revision>12</cp:revision>
  <dc:subject/>
  <dc:title>Моя школьная жизнь</dc:title>
</cp:coreProperties>
</file>