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BE1E-413B-40B4-97F9-113060395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116C-7BB4-486A-B776-6F90FF18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0974-4D34-4DE0-89D9-E344F4823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5665-B99A-46D8-B710-1C6CC1470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4457-0AFD-4C49-ABB4-6102965F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D98C-3538-4108-9985-9E766AD9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54B2-7630-467A-ACC8-3EC736E9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DCF0-D346-4EE8-ACCA-9A853D22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D2F1-6E43-411C-B078-24351A4C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FC35-D8F8-4947-AA49-A7281D30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0669-A4B5-4C2B-9031-B65F563E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38D8-95B6-460F-BFD1-118E36D7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00E2-5309-4589-B6E0-C22A5DE8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0058-614A-4A9F-9D7B-F2020EB8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9951-F409-483A-B8E5-38EBD4BE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3687-6C3B-404C-B939-26F56EE95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A5CA-FC10-4BDF-937F-CA806850E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5BC2-70D6-48AB-A73C-89A38EFD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FBAB-5D89-4D29-9886-DC55EBBC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5312-6AAA-47D5-8468-153C607B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804E-831C-4F84-A9A2-13589A5C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3D5C-AFC9-49A0-8698-677EFD81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5D4D-AC5E-4D35-90DE-090D37E2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7F91-531A-4D7E-AE68-BD5CD6C6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9A46-E031-42F7-965F-EA571037D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3C21-46CD-4625-89A8-5F87AB674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7.xml"/><Relationship Id="rId3" Type="http://schemas.openxmlformats.org/officeDocument/2006/relationships/slide" Target="slide5.xml"/><Relationship Id="rId4" Type="http://schemas.openxmlformats.org/officeDocument/2006/relationships/slide" Target="slide9.xml"/><Relationship Id="rId5" Type="http://schemas.openxmlformats.org/officeDocument/2006/relationships/slide" Target="slide8.xm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22560" y="0"/>
            <a:ext cx="6121440" cy="9079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Наша школьная жизн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0" y="2420640"/>
            <a:ext cx="874872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полнили: Семенихин Владислав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дригайлов Олег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Яковенко Алексей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акаров Алекс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Oval 4"/>
          <p:cNvSpPr/>
          <p:nvPr/>
        </p:nvSpPr>
        <p:spPr>
          <a:xfrm>
            <a:off x="2916360" y="5877000"/>
            <a:ext cx="3384360" cy="792000"/>
          </a:xfrm>
          <a:prstGeom prst="ellipse">
            <a:avLst/>
          </a:prstGeom>
          <a:gradFill rotWithShape="0">
            <a:gsLst>
              <a:gs pos="0">
                <a:srgbClr val="cbcbcb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Содержа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70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ы - патриот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 rot="775200">
            <a:off x="1643040" y="857160"/>
            <a:ext cx="2714760" cy="2035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"/>
          <p:cNvPicPr/>
          <p:nvPr/>
        </p:nvPicPr>
        <p:blipFill>
          <a:blip r:embed="rId2"/>
          <a:stretch/>
        </p:blipFill>
        <p:spPr>
          <a:xfrm rot="20644800">
            <a:off x="4857840" y="785520"/>
            <a:ext cx="2763720" cy="2071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3"/>
          <a:stretch/>
        </p:blipFill>
        <p:spPr>
          <a:xfrm>
            <a:off x="214200" y="2928960"/>
            <a:ext cx="2857680" cy="2284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"/>
          <p:cNvPicPr/>
          <p:nvPr/>
        </p:nvPicPr>
        <p:blipFill>
          <a:blip r:embed="rId4"/>
          <a:stretch/>
        </p:blipFill>
        <p:spPr>
          <a:xfrm>
            <a:off x="6429240" y="2928960"/>
            <a:ext cx="2714760" cy="2146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"/>
          <p:cNvPicPr/>
          <p:nvPr/>
        </p:nvPicPr>
        <p:blipFill>
          <a:blip r:embed="rId5"/>
          <a:stretch/>
        </p:blipFill>
        <p:spPr>
          <a:xfrm>
            <a:off x="3214800" y="4000680"/>
            <a:ext cx="2954160" cy="22143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24000" y="333360"/>
            <a:ext cx="4640040" cy="1052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Содержание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323640" y="2420640"/>
            <a:ext cx="85690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На уроках                                        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Конкурс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На      перемена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Вечер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Comic Sans MS"/>
                <a:hlinkClick r:id="rId5" action="ppaction://hlinksldjump"/>
              </a:rPr>
              <a:t>Спор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2340000" y="2421000"/>
            <a:ext cx="504720" cy="431640"/>
          </a:xfrm>
          <a:prstGeom prst="pie">
            <a:avLst/>
          </a:prstGeom>
          <a:gradFill rotWithShape="0">
            <a:gsLst>
              <a:gs pos="0">
                <a:srgbClr val="703dff"/>
              </a:gs>
              <a:gs pos="50000">
                <a:srgbClr val="341c76"/>
              </a:gs>
              <a:gs pos="100000">
                <a:srgbClr val="703d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3780000" y="3429000"/>
            <a:ext cx="504720" cy="431640"/>
          </a:xfrm>
          <a:prstGeom prst="pi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8172360" y="3933720"/>
            <a:ext cx="505080" cy="432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8172360" y="2421000"/>
            <a:ext cx="505080" cy="431640"/>
          </a:xfrm>
          <a:prstGeom prst="pie">
            <a:avLst/>
          </a:prstGeom>
          <a:gradFill rotWithShape="0">
            <a:gsLst>
              <a:gs pos="0">
                <a:srgbClr val="00b200"/>
              </a:gs>
              <a:gs pos="50000">
                <a:srgbClr val="005200"/>
              </a:gs>
              <a:gs pos="100000">
                <a:srgbClr val="00b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1763640" y="3933720"/>
            <a:ext cx="504720" cy="432000"/>
          </a:xfrm>
          <a:prstGeom prst="pie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AutoShape 9">
            <a:hlinkClick r:id="" action="ppaction://hlinkshowjump?jump=firstslide"/>
          </p:cNvPr>
          <p:cNvSpPr/>
          <p:nvPr/>
        </p:nvSpPr>
        <p:spPr>
          <a:xfrm>
            <a:off x="8028000" y="587700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7493"/>
                </a:moveTo>
                <a:lnTo>
                  <a:pt x="8519" y="7493"/>
                </a:lnTo>
                <a:lnTo>
                  <a:pt x="8519" y="12828"/>
                </a:lnTo>
                <a:cubicBezTo>
                  <a:pt x="8519" y="13751"/>
                  <a:pt x="9320" y="14482"/>
                  <a:pt x="10356" y="14482"/>
                </a:cubicBezTo>
                <a:lnTo>
                  <a:pt x="12018" y="14482"/>
                </a:lnTo>
                <a:cubicBezTo>
                  <a:pt x="13054" y="14482"/>
                  <a:pt x="13854" y="13751"/>
                  <a:pt x="13854" y="12828"/>
                </a:cubicBezTo>
                <a:lnTo>
                  <a:pt x="13854" y="7493"/>
                </a:lnTo>
                <a:lnTo>
                  <a:pt x="12018" y="7493"/>
                </a:lnTo>
                <a:lnTo>
                  <a:pt x="15526" y="3985"/>
                </a:lnTo>
                <a:lnTo>
                  <a:pt x="19199" y="7493"/>
                </a:lnTo>
                <a:lnTo>
                  <a:pt x="17362" y="7493"/>
                </a:lnTo>
                <a:lnTo>
                  <a:pt x="17362" y="12828"/>
                </a:lnTo>
                <a:cubicBezTo>
                  <a:pt x="17362" y="15596"/>
                  <a:pt x="14786" y="18155"/>
                  <a:pt x="12018" y="18155"/>
                </a:cubicBezTo>
                <a:lnTo>
                  <a:pt x="10356" y="18155"/>
                </a:lnTo>
                <a:cubicBezTo>
                  <a:pt x="7588" y="18155"/>
                  <a:pt x="5012" y="15596"/>
                  <a:pt x="5012" y="12828"/>
                </a:cubicBezTo>
                <a:close/>
              </a:path>
            </a:pathLst>
          </a:cu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AutoShape 10">
            <a:hlinkClick r:id="" action="ppaction://hlinkshowjump?jump=firstslide"/>
          </p:cNvPr>
          <p:cNvSpPr/>
          <p:nvPr/>
        </p:nvSpPr>
        <p:spPr>
          <a:xfrm>
            <a:off x="395280" y="587700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13206" y="3837"/>
                </a:moveTo>
                <a:lnTo>
                  <a:pt x="15782" y="6448"/>
                </a:lnTo>
                <a:lnTo>
                  <a:pt x="15782" y="4707"/>
                </a:lnTo>
                <a:lnTo>
                  <a:pt x="17558" y="4707"/>
                </a:lnTo>
                <a:lnTo>
                  <a:pt x="17558" y="8224"/>
                </a:lnTo>
                <a:lnTo>
                  <a:pt x="20169" y="10800"/>
                </a:lnTo>
                <a:lnTo>
                  <a:pt x="18515" y="10800"/>
                </a:lnTo>
                <a:lnTo>
                  <a:pt x="18515" y="17989"/>
                </a:lnTo>
                <a:lnTo>
                  <a:pt x="7897" y="17989"/>
                </a:lnTo>
                <a:lnTo>
                  <a:pt x="7897" y="10800"/>
                </a:lnTo>
                <a:lnTo>
                  <a:pt x="6243" y="10800"/>
                </a:lnTo>
                <a:close/>
              </a:path>
              <a:path fill="darkenLess" w="26412" h="21600">
                <a:moveTo>
                  <a:pt x="15782" y="6448"/>
                </a:moveTo>
                <a:lnTo>
                  <a:pt x="15782" y="4707"/>
                </a:lnTo>
                <a:lnTo>
                  <a:pt x="17558" y="4707"/>
                </a:lnTo>
                <a:lnTo>
                  <a:pt x="17558" y="8224"/>
                </a:lnTo>
                <a:close/>
              </a:path>
              <a:path fill="darkenLess" w="26412" h="21600">
                <a:moveTo>
                  <a:pt x="12283" y="14299"/>
                </a:moveTo>
                <a:lnTo>
                  <a:pt x="14129" y="14299"/>
                </a:lnTo>
                <a:lnTo>
                  <a:pt x="14129" y="17989"/>
                </a:lnTo>
                <a:lnTo>
                  <a:pt x="18515" y="17989"/>
                </a:lnTo>
                <a:lnTo>
                  <a:pt x="18515" y="10800"/>
                </a:lnTo>
                <a:lnTo>
                  <a:pt x="7897" y="10800"/>
                </a:lnTo>
                <a:lnTo>
                  <a:pt x="7897" y="17989"/>
                </a:lnTo>
                <a:lnTo>
                  <a:pt x="12283" y="17989"/>
                </a:lnTo>
                <a:close/>
              </a:path>
            </a:pathLst>
          </a:cu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Diagram 4"/>
          <p:cNvGrpSpPr/>
          <p:nvPr/>
        </p:nvGrpSpPr>
        <p:grpSpPr>
          <a:xfrm>
            <a:off x="-304920" y="-152280"/>
            <a:ext cx="9372240" cy="7086240"/>
            <a:chOff x="-304920" y="-152280"/>
            <a:chExt cx="9372240" cy="7086240"/>
          </a:xfrm>
        </p:grpSpPr>
        <p:sp>
          <p:nvSpPr>
            <p:cNvPr id="164" name="_s1028"/>
            <p:cNvSpPr/>
            <p:nvPr/>
          </p:nvSpPr>
          <p:spPr>
            <a:xfrm flipH="1" flipV="1">
              <a:off x="2125800" y="2504520"/>
              <a:ext cx="1126800" cy="443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_s1029"/>
            <p:cNvSpPr/>
            <p:nvPr/>
          </p:nvSpPr>
          <p:spPr>
            <a:xfrm>
              <a:off x="-304920" y="1176480"/>
              <a:ext cx="2604600" cy="177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Физкультурно-спортивная: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ОФП и подвижные игры 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(2-4 кл.)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Бальные и спортивные танцы (1-4 кл.)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Баскетбол (7-8кл.)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Мини-футбол (5-7 кл.)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Волейбол (6-7 кл.)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_s1030"/>
            <p:cNvSpPr/>
            <p:nvPr/>
          </p:nvSpPr>
          <p:spPr>
            <a:xfrm flipH="1">
              <a:off x="2125800" y="3834360"/>
              <a:ext cx="1128240" cy="441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_s1031"/>
            <p:cNvSpPr/>
            <p:nvPr/>
          </p:nvSpPr>
          <p:spPr>
            <a:xfrm>
              <a:off x="-303480" y="3834360"/>
              <a:ext cx="2604600" cy="1771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Культурологическая: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траны и континенты 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(9 кл.)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Реформы и реформаторы (8 кл.)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ВОВ в искусстве (8 кл.)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сновы православной культуры (5-6 кл.)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На перекрестках истории (5 кл.)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_s1032"/>
            <p:cNvSpPr/>
            <p:nvPr/>
          </p:nvSpPr>
          <p:spPr>
            <a:xfrm>
              <a:off x="4381560" y="4276440"/>
              <a:ext cx="1080" cy="885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_s1033"/>
            <p:cNvSpPr/>
            <p:nvPr/>
          </p:nvSpPr>
          <p:spPr>
            <a:xfrm>
              <a:off x="3080160" y="5162400"/>
              <a:ext cx="2604240" cy="17715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Художественно-эстетическая: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Народные танцы «Радуга»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(1-2 кл.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Флейта (4 кл.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Хор «Веселые нотки» (1,2,5 кл.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Сувенир (1-5 кл.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Живопись «Акварелька»  (2,4 кл.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Лепка «Умелые ручки» (1-2 кл.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Роспись по стеклу (5 кл.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_s1034"/>
            <p:cNvSpPr/>
            <p:nvPr/>
          </p:nvSpPr>
          <p:spPr>
            <a:xfrm>
              <a:off x="5509800" y="3833640"/>
              <a:ext cx="1127160" cy="442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_s1035"/>
            <p:cNvSpPr/>
            <p:nvPr/>
          </p:nvSpPr>
          <p:spPr>
            <a:xfrm>
              <a:off x="6463080" y="3832560"/>
              <a:ext cx="2604240" cy="177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Военно-патриотическая: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Юный патриот 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(6-7 кл.)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_s1036"/>
            <p:cNvSpPr/>
            <p:nvPr/>
          </p:nvSpPr>
          <p:spPr>
            <a:xfrm flipV="1">
              <a:off x="5508360" y="2504520"/>
              <a:ext cx="1128600" cy="442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_s1037"/>
            <p:cNvSpPr/>
            <p:nvPr/>
          </p:nvSpPr>
          <p:spPr>
            <a:xfrm>
              <a:off x="6461640" y="1175760"/>
              <a:ext cx="2604600" cy="177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Естественно-научная: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Экологический кружок 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(5-8 кл.)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Юный физик (8 кл.)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Занимательная химия 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(10-11 кл.)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_s1038"/>
            <p:cNvSpPr/>
            <p:nvPr/>
          </p:nvSpPr>
          <p:spPr>
            <a:xfrm flipV="1">
              <a:off x="4381560" y="1619640"/>
              <a:ext cx="0" cy="885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_s1039"/>
            <p:cNvSpPr/>
            <p:nvPr/>
          </p:nvSpPr>
          <p:spPr>
            <a:xfrm>
              <a:off x="3078720" y="-152280"/>
              <a:ext cx="2604600" cy="177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Научно-техническая: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Занимательная математика (5-7 кл.)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Юный чертежник (9 кл.)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Компьютерная студия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(5-9 кл.)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_s1040"/>
            <p:cNvSpPr/>
            <p:nvPr/>
          </p:nvSpPr>
          <p:spPr>
            <a:xfrm>
              <a:off x="3078720" y="2505240"/>
              <a:ext cx="2604600" cy="17719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Направленности дополнительного образования 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32360" y="189000"/>
            <a:ext cx="3384720" cy="1008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На уроках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7956720" y="6093000"/>
            <a:ext cx="718920" cy="57600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6956" h="21600">
                <a:moveTo>
                  <a:pt x="0" y="0"/>
                </a:moveTo>
                <a:lnTo>
                  <a:pt x="26956" y="0"/>
                </a:lnTo>
                <a:lnTo>
                  <a:pt x="26956" y="21600"/>
                </a:lnTo>
                <a:lnTo>
                  <a:pt x="0" y="21600"/>
                </a:lnTo>
                <a:close/>
              </a:path>
              <a:path fill="lightenLess" w="26956" h="21600">
                <a:moveTo>
                  <a:pt x="0" y="0"/>
                </a:moveTo>
                <a:lnTo>
                  <a:pt x="26956" y="0"/>
                </a:lnTo>
                <a:lnTo>
                  <a:pt x="25556" y="1400"/>
                </a:lnTo>
                <a:lnTo>
                  <a:pt x="1400" y="1400"/>
                </a:lnTo>
                <a:close/>
              </a:path>
              <a:path fill="darken" w="26956" h="21600">
                <a:moveTo>
                  <a:pt x="26956" y="0"/>
                </a:moveTo>
                <a:lnTo>
                  <a:pt x="26956" y="21600"/>
                </a:lnTo>
                <a:lnTo>
                  <a:pt x="25556" y="20200"/>
                </a:lnTo>
                <a:lnTo>
                  <a:pt x="25556" y="1400"/>
                </a:lnTo>
                <a:close/>
              </a:path>
              <a:path fill="darkenLess" w="26956" h="21600">
                <a:moveTo>
                  <a:pt x="269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6" y="20200"/>
                </a:lnTo>
                <a:close/>
              </a:path>
              <a:path fill="lighten" w="269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6" h="21600">
                <a:moveTo>
                  <a:pt x="6472" y="7493"/>
                </a:moveTo>
                <a:lnTo>
                  <a:pt x="9979" y="7493"/>
                </a:lnTo>
                <a:lnTo>
                  <a:pt x="9979" y="12828"/>
                </a:lnTo>
                <a:cubicBezTo>
                  <a:pt x="9979" y="13751"/>
                  <a:pt x="10780" y="14482"/>
                  <a:pt x="11816" y="14482"/>
                </a:cubicBezTo>
                <a:lnTo>
                  <a:pt x="13478" y="14482"/>
                </a:lnTo>
                <a:cubicBezTo>
                  <a:pt x="14514" y="14482"/>
                  <a:pt x="15315" y="13751"/>
                  <a:pt x="15315" y="12828"/>
                </a:cubicBezTo>
                <a:lnTo>
                  <a:pt x="15315" y="7493"/>
                </a:lnTo>
                <a:lnTo>
                  <a:pt x="13478" y="7493"/>
                </a:lnTo>
                <a:lnTo>
                  <a:pt x="16986" y="3985"/>
                </a:lnTo>
                <a:lnTo>
                  <a:pt x="20659" y="7493"/>
                </a:lnTo>
                <a:lnTo>
                  <a:pt x="18822" y="7493"/>
                </a:lnTo>
                <a:lnTo>
                  <a:pt x="18822" y="12828"/>
                </a:lnTo>
                <a:cubicBezTo>
                  <a:pt x="18822" y="15596"/>
                  <a:pt x="16246" y="18155"/>
                  <a:pt x="13478" y="18155"/>
                </a:cubicBezTo>
                <a:lnTo>
                  <a:pt x="11816" y="18155"/>
                </a:lnTo>
                <a:cubicBezTo>
                  <a:pt x="9048" y="18155"/>
                  <a:pt x="6472" y="15596"/>
                  <a:pt x="6472" y="12828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1357200" y="1143000"/>
            <a:ext cx="3049560" cy="2286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"/>
          <p:cNvPicPr/>
          <p:nvPr/>
        </p:nvPicPr>
        <p:blipFill>
          <a:blip r:embed="rId2"/>
          <a:stretch/>
        </p:blipFill>
        <p:spPr>
          <a:xfrm>
            <a:off x="5000760" y="1643040"/>
            <a:ext cx="3335040" cy="2500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"/>
          <p:cNvPicPr/>
          <p:nvPr/>
        </p:nvPicPr>
        <p:blipFill>
          <a:blip r:embed="rId3"/>
          <a:stretch/>
        </p:blipFill>
        <p:spPr>
          <a:xfrm>
            <a:off x="1500120" y="3857760"/>
            <a:ext cx="3429000" cy="25700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564000" y="-360"/>
            <a:ext cx="5216400" cy="1197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На  кружках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7956720" y="595008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7493"/>
                </a:moveTo>
                <a:lnTo>
                  <a:pt x="8489" y="7493"/>
                </a:lnTo>
                <a:lnTo>
                  <a:pt x="8489" y="12828"/>
                </a:lnTo>
                <a:cubicBezTo>
                  <a:pt x="8489" y="13751"/>
                  <a:pt x="9290" y="14482"/>
                  <a:pt x="10326" y="14482"/>
                </a:cubicBezTo>
                <a:lnTo>
                  <a:pt x="11988" y="14482"/>
                </a:lnTo>
                <a:cubicBezTo>
                  <a:pt x="13024" y="14482"/>
                  <a:pt x="13824" y="13751"/>
                  <a:pt x="13824" y="12828"/>
                </a:cubicBezTo>
                <a:lnTo>
                  <a:pt x="13824" y="7493"/>
                </a:lnTo>
                <a:lnTo>
                  <a:pt x="11988" y="7493"/>
                </a:lnTo>
                <a:lnTo>
                  <a:pt x="15496" y="3985"/>
                </a:lnTo>
                <a:lnTo>
                  <a:pt x="19169" y="7493"/>
                </a:lnTo>
                <a:lnTo>
                  <a:pt x="17332" y="7493"/>
                </a:lnTo>
                <a:lnTo>
                  <a:pt x="17332" y="12828"/>
                </a:lnTo>
                <a:cubicBezTo>
                  <a:pt x="17332" y="15596"/>
                  <a:pt x="14756" y="18155"/>
                  <a:pt x="11988" y="18155"/>
                </a:cubicBezTo>
                <a:lnTo>
                  <a:pt x="10326" y="18155"/>
                </a:lnTo>
                <a:cubicBezTo>
                  <a:pt x="7558" y="18155"/>
                  <a:pt x="4982" y="15596"/>
                  <a:pt x="4982" y="12828"/>
                </a:cubicBez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5143680" y="1071720"/>
            <a:ext cx="3240000" cy="24285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"/>
          <p:cNvPicPr/>
          <p:nvPr/>
        </p:nvPicPr>
        <p:blipFill>
          <a:blip r:embed="rId2"/>
          <a:stretch/>
        </p:blipFill>
        <p:spPr>
          <a:xfrm>
            <a:off x="500040" y="642960"/>
            <a:ext cx="3784680" cy="2836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"/>
          <p:cNvPicPr/>
          <p:nvPr/>
        </p:nvPicPr>
        <p:blipFill>
          <a:blip r:embed="rId3"/>
          <a:stretch/>
        </p:blipFill>
        <p:spPr>
          <a:xfrm>
            <a:off x="1285920" y="3500280"/>
            <a:ext cx="4097160" cy="30718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доп образование_Page000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476760"/>
          </a:xfrm>
          <a:prstGeom prst="rect">
            <a:avLst/>
          </a:prstGeom>
          <a:ln w="0">
            <a:noFill/>
          </a:ln>
        </p:spPr>
      </p:pic>
      <p:sp>
        <p:nvSpPr>
          <p:cNvPr id="188" name="WordArt 3"/>
          <p:cNvSpPr txBox="1"/>
          <p:nvPr/>
        </p:nvSpPr>
        <p:spPr>
          <a:xfrm>
            <a:off x="3276720" y="685800"/>
            <a:ext cx="274320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56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 занятиях п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екоративно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кладном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скусств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295600" y="0"/>
            <a:ext cx="3848040" cy="1054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Конкурс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7885080" y="595008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4988" y="7493"/>
                </a:moveTo>
                <a:lnTo>
                  <a:pt x="8495" y="7493"/>
                </a:lnTo>
                <a:lnTo>
                  <a:pt x="8495" y="12828"/>
                </a:lnTo>
                <a:cubicBezTo>
                  <a:pt x="8495" y="13751"/>
                  <a:pt x="9296" y="14482"/>
                  <a:pt x="10332" y="14482"/>
                </a:cubicBezTo>
                <a:lnTo>
                  <a:pt x="11994" y="14482"/>
                </a:lnTo>
                <a:cubicBezTo>
                  <a:pt x="13030" y="14482"/>
                  <a:pt x="13830" y="13751"/>
                  <a:pt x="13830" y="12828"/>
                </a:cubicBezTo>
                <a:lnTo>
                  <a:pt x="13830" y="7493"/>
                </a:lnTo>
                <a:lnTo>
                  <a:pt x="11994" y="7493"/>
                </a:lnTo>
                <a:lnTo>
                  <a:pt x="15502" y="3985"/>
                </a:lnTo>
                <a:lnTo>
                  <a:pt x="19175" y="7493"/>
                </a:lnTo>
                <a:lnTo>
                  <a:pt x="17338" y="7493"/>
                </a:lnTo>
                <a:lnTo>
                  <a:pt x="17338" y="12828"/>
                </a:lnTo>
                <a:cubicBezTo>
                  <a:pt x="17338" y="15596"/>
                  <a:pt x="14762" y="18155"/>
                  <a:pt x="11994" y="18155"/>
                </a:cubicBezTo>
                <a:lnTo>
                  <a:pt x="10332" y="18155"/>
                </a:lnTo>
                <a:cubicBezTo>
                  <a:pt x="7564" y="18155"/>
                  <a:pt x="4988" y="15596"/>
                  <a:pt x="4988" y="12828"/>
                </a:cubicBez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285840" y="0"/>
            <a:ext cx="4602240" cy="3071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2"/>
          <a:stretch/>
        </p:blipFill>
        <p:spPr>
          <a:xfrm>
            <a:off x="4572000" y="1143000"/>
            <a:ext cx="4002120" cy="3000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"/>
          <p:cNvPicPr/>
          <p:nvPr/>
        </p:nvPicPr>
        <p:blipFill>
          <a:blip r:embed="rId3"/>
          <a:stretch/>
        </p:blipFill>
        <p:spPr>
          <a:xfrm>
            <a:off x="428760" y="3071880"/>
            <a:ext cx="5000400" cy="37512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87600" y="-360"/>
            <a:ext cx="3056040" cy="981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Спор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7956720" y="587700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7493"/>
                </a:moveTo>
                <a:lnTo>
                  <a:pt x="8489" y="7493"/>
                </a:lnTo>
                <a:lnTo>
                  <a:pt x="8489" y="12828"/>
                </a:lnTo>
                <a:cubicBezTo>
                  <a:pt x="8489" y="13751"/>
                  <a:pt x="9290" y="14482"/>
                  <a:pt x="10326" y="14482"/>
                </a:cubicBezTo>
                <a:lnTo>
                  <a:pt x="11988" y="14482"/>
                </a:lnTo>
                <a:cubicBezTo>
                  <a:pt x="13024" y="14482"/>
                  <a:pt x="13824" y="13751"/>
                  <a:pt x="13824" y="12828"/>
                </a:cubicBezTo>
                <a:lnTo>
                  <a:pt x="13824" y="7493"/>
                </a:lnTo>
                <a:lnTo>
                  <a:pt x="11988" y="7493"/>
                </a:lnTo>
                <a:lnTo>
                  <a:pt x="15496" y="3985"/>
                </a:lnTo>
                <a:lnTo>
                  <a:pt x="19169" y="7493"/>
                </a:lnTo>
                <a:lnTo>
                  <a:pt x="17332" y="7493"/>
                </a:lnTo>
                <a:lnTo>
                  <a:pt x="17332" y="12828"/>
                </a:lnTo>
                <a:cubicBezTo>
                  <a:pt x="17332" y="15596"/>
                  <a:pt x="14756" y="18155"/>
                  <a:pt x="11988" y="18155"/>
                </a:cubicBezTo>
                <a:lnTo>
                  <a:pt x="10326" y="18155"/>
                </a:lnTo>
                <a:cubicBezTo>
                  <a:pt x="7558" y="18155"/>
                  <a:pt x="4982" y="15596"/>
                  <a:pt x="4982" y="12828"/>
                </a:cubicBezTo>
                <a:close/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357120" y="0"/>
            <a:ext cx="3786120" cy="2838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"/>
          <p:cNvPicPr/>
          <p:nvPr/>
        </p:nvPicPr>
        <p:blipFill>
          <a:blip r:embed="rId2"/>
          <a:stretch/>
        </p:blipFill>
        <p:spPr>
          <a:xfrm>
            <a:off x="4214880" y="1000080"/>
            <a:ext cx="4071960" cy="3052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"/>
          <p:cNvPicPr/>
          <p:nvPr/>
        </p:nvPicPr>
        <p:blipFill>
          <a:blip r:embed="rId3"/>
          <a:stretch/>
        </p:blipFill>
        <p:spPr>
          <a:xfrm>
            <a:off x="571680" y="321480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"/>
          <p:cNvPicPr/>
          <p:nvPr/>
        </p:nvPicPr>
        <p:blipFill>
          <a:blip r:embed="rId4"/>
          <a:stretch/>
        </p:blipFill>
        <p:spPr>
          <a:xfrm>
            <a:off x="4429080" y="32148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151600" y="-360"/>
            <a:ext cx="3992400" cy="765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Вече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8028000" y="595008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7493"/>
                </a:moveTo>
                <a:lnTo>
                  <a:pt x="8644" y="7493"/>
                </a:lnTo>
                <a:lnTo>
                  <a:pt x="8644" y="12828"/>
                </a:lnTo>
                <a:cubicBezTo>
                  <a:pt x="8644" y="13751"/>
                  <a:pt x="9444" y="14482"/>
                  <a:pt x="10480" y="14482"/>
                </a:cubicBezTo>
                <a:lnTo>
                  <a:pt x="12142" y="14482"/>
                </a:lnTo>
                <a:cubicBezTo>
                  <a:pt x="13178" y="14482"/>
                  <a:pt x="13979" y="13751"/>
                  <a:pt x="13979" y="12828"/>
                </a:cubicBezTo>
                <a:lnTo>
                  <a:pt x="13979" y="7493"/>
                </a:lnTo>
                <a:lnTo>
                  <a:pt x="12142" y="7493"/>
                </a:lnTo>
                <a:lnTo>
                  <a:pt x="15650" y="3985"/>
                </a:lnTo>
                <a:lnTo>
                  <a:pt x="19323" y="7493"/>
                </a:lnTo>
                <a:lnTo>
                  <a:pt x="17486" y="7493"/>
                </a:lnTo>
                <a:lnTo>
                  <a:pt x="17486" y="12828"/>
                </a:lnTo>
                <a:cubicBezTo>
                  <a:pt x="17486" y="15596"/>
                  <a:pt x="14910" y="18155"/>
                  <a:pt x="12142" y="18155"/>
                </a:cubicBezTo>
                <a:lnTo>
                  <a:pt x="10480" y="18155"/>
                </a:lnTo>
                <a:cubicBezTo>
                  <a:pt x="7712" y="18155"/>
                  <a:pt x="5136" y="15596"/>
                  <a:pt x="5136" y="12828"/>
                </a:cubicBez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5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5356440" cy="4014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"/>
          <p:cNvPicPr/>
          <p:nvPr/>
        </p:nvPicPr>
        <p:blipFill>
          <a:blip r:embed="rId2"/>
          <a:stretch/>
        </p:blipFill>
        <p:spPr>
          <a:xfrm>
            <a:off x="4714920" y="1714680"/>
            <a:ext cx="4429080" cy="3321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42920" y="3500280"/>
            <a:ext cx="4929120" cy="33134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5:11:35Z</dcterms:created>
  <dc:creator> ученики </dc:creator>
  <dc:description/>
  <dc:language>en-US</dc:language>
  <cp:lastModifiedBy>пользователь</cp:lastModifiedBy>
  <dcterms:modified xsi:type="dcterms:W3CDTF">2011-03-16T15:34:43Z</dcterms:modified>
  <cp:revision>12</cp:revision>
  <dc:subject/>
  <dc:title>Моя школьная жизнь</dc:title>
</cp:coreProperties>
</file>