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camera.wav" ContentType="audio/x-wav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833-B941-41DA-82CF-4DE5ECA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752-EBB9-4024-A552-537697B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561-A92E-4D4A-90F2-E7F6B653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B5E-7CD8-41F4-BB03-4E10718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5828-81E6-4314-B992-F1AEE99A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21AE-E628-4BE6-9EC8-8DBC423B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6A8-46AE-48BE-ACDB-C9D7D892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54A-0612-4D1F-A716-835875C2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B263-09F3-487C-95A2-261A323D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359-1DC8-43C2-BD16-6B2331EF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D9A-9880-49D9-B6CB-464080E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147-593C-414A-8E77-3A705F0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A97-85CA-4C04-84DC-72B019C6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BF05-FEAA-4430-A1D1-769E071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F63-98FD-4904-B4CD-4D78345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31AC-E3D7-4F2B-A9E2-AACE1721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6A2-D3E2-4358-9F3E-91624797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B193-0017-481A-ADE5-FFA880B7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4D01-0390-4901-B843-0EDF0C7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CF12-7DFE-4678-B012-106862EA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45EE-6E93-47AC-B9D1-FDD5B15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5BB6-FD96-4273-8AC9-6C0797A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15E-4F28-4918-9E01-774822B5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8144-1F78-4C44-8A57-454F965D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31E7-20D6-4C75-BC65-936AA2B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29FB-178A-4F97-82DD-042A07B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0C27-D428-46B5-B034-36F0A102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E8F1-578D-4753-BA67-3C427DC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F6EA-5B09-499E-8EEC-20FC76D9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7CE5-8CEB-40D4-913E-99326CD8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2BD9-8B3F-4996-97AD-3B8BEBDC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44BA-42D6-45AB-B321-717BA33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32AA-B28B-4078-83BA-F60F8A5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D2D-080A-4B88-AA03-A25112CC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A3F1-9257-4B0D-B461-27E80B00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031F-884C-45E5-B0F9-7F5D3D0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7AA0-E608-4392-9C83-FB25FC4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1074-1F38-4AB9-B583-1BFB4B8E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1743-BACE-4A33-BC94-F1D42B4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EDCE-DACA-4AAE-9341-F75FFF3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9E0F-13E7-45B1-A9A6-0797A1A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D5D9-11B0-4C1E-99AA-B2F4A016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BCC3-9703-4E91-9C0C-D649D6F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EE32-213B-4DE7-8971-DAB4201F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EA1-0683-4F7A-A91B-3758F39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FFE7-98E5-4E4F-B6CC-CC66BEDA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B739-F028-40B0-B35B-7A0EAA1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FBE9-4876-4768-A2D9-4922C9E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2D7D-A37E-47DB-8157-AF8C700C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1B9E-F35A-4F25-8F9E-EA542B0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4A1E-91D3-4094-8E2B-F9B3CB4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6294-E0C0-4607-8980-84DC720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4007-0F88-472E-B0A3-FE49FC8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2B6B-15D3-4041-A8B5-ABCD07F1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5DDA-1E08-4DDA-A7D4-EBDA399D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CE8-AC4C-4043-B15B-60BE30B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E232-6DDF-4904-8E2C-2F32378E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D992-A948-4680-B3FA-75A4EBEC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DCC49-7B1E-4A20-B130-0BC04555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DCFCF-C949-4B92-92C9-73B429E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D614-FABD-494F-B3A0-B6CF6E30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BBD4D-735F-469E-8310-FE08503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FAF3-11CC-4CEF-81B8-C10EB13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FFD0B-496C-4AC4-B363-BDF3DF0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DA16-32BA-44D7-8111-EB5382D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1DBE-9B8F-4AD9-875E-45DE645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4D0-628F-4EE5-A643-54130F79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0D95-2C83-486B-A1B3-74C4CD5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D9F8-898C-4F69-AC22-9827F407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18F9-0AA3-4989-9B0E-5CF3FD38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2F93-95D1-4097-A5B7-97C8EA1E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8A3C9-CC9C-406B-9AD5-1537FBD8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E47B-D700-48EF-BFDA-B38BD055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C4EA-F2EB-4587-8CAF-166DC40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EE48C-BFE3-42F6-9B65-27C8FD7E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43B5-2CF5-4440-9886-4C35560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8604-1DDD-4FAD-B4F2-22E9BA8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BD6-BBAC-40CC-BFA8-A024DB80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26DCB-BFF8-4F22-B79D-7F2F098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9C88-2294-415B-9FCF-3238C20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5F934-CCC0-4DC5-94E9-C5DFA7F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20101-93FE-48A4-8A5B-0B31D116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9D226-3166-4DFF-BF1B-6B2CFFA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D950-44DD-46C2-88F5-C35C3495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FB4E3-8FA6-4CF8-B59C-1FC523F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5FCBF-1105-42A7-B4FE-85D2F4D6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6F7F3-C4F1-4929-B20E-32C52FD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42F8F-AF5C-4775-B9DE-DA858609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96B-204B-483C-8065-26CE38D9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5894-1355-40FB-82B1-AC4DDF58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14F5-28CF-4D20-834C-F1E5E6AF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92872-3F61-49D2-A087-720989F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620D8-6E3D-4C1F-BF40-1C1ECC7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FBAEE-7E3F-41B6-87A2-ACBFC113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49F6-2D0A-447E-B5F0-A722B69F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2401E-014C-4343-92F6-3F3DA79D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6BD8-6D03-4892-B9D1-609DC68B71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DCF5-945E-41EF-A4EA-82D6E3C857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BE29-C608-4D76-A9CC-986663206B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A968-525C-4655-80BE-E815AA2EF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FE95-789C-466A-A631-D80BF0C5C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3FD-C3C6-4098-8266-E8827B5BA4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BAD-EA7B-404B-A523-0E2F8C88B4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1329-E289-4664-95EF-5294347CD0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914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Ситуативные задачи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для 5 класс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Arial"/>
              </a:rPr>
              <a:t>Классный руководитель: О.В.Лебедев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Мама попросила дочку убрать со стола и с плиты пищевые продукты, сына – вывести на прогулку собаку, сама стала обрабатывать ядовитыми веществами помещение, надев на себя марлевую повязк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 Папа с сыном обрабатывали раствором ядохимикатов деревья и кустарники в саду от насекомых-вредителей, у них остался раствор. Чтобы не отравиться, они вылили его в пруд. Опаздывая на автобус, они не успели переодеться и поехали домой в той же одежде, в которой проводили обработк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Вася знает порядок включения электроприборов в сеть – шнур он сначала подключает к прибору, а затем к с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Лампа светила очень ярко. Таня взяла лист цветной бумаги и приложила к плафону лампы. Свет стал мягким, удобно было выполнять уро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Вова, посмотри, пожалуйста, нагревается ли электрочайник? – попросила бабушка. Вова открыл крышку и сунул палец в воду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Валя мыла посуду и вспомнила, что уже начинается её любимая передача «Сам себе режиссёр». Бегом побежала она вставлять вилку в штепсельную розетку мокрыми рука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Женя запаивал кастрюлю, а его сестра гладила простыни. Они ставили свои электроприборы на специальные несгораемые подстав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 Алла, подтекает холодильник, протри, пожалуйста, воду около лампочки, а то она перегорит, - попросила мама дочку. Алла взяла тряпку и стала вытирать капли воды на лампе, возле лампы и переключателя холод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 соседей сын очень трудолюбивый. С вечера и до рассвета что-то колотит, забивает, строгает, пилит. Грохот, стук раздаются по всем близко находящимся квартира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льчик каждую субботу выбивает ковёр в специально отведённом месте, в дневное время, никому не мешая. Чистота в доме – залог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Девочка – будущая хозяюшка -  помогает маме всегда. Она вытряхивает пыльную тряпку по направлению ветра, где у соседей вывешено бельё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Папа делал стрижку сыну. Сын поблагодарил отца, подмёл и аккуратно собрал волосы, вышел на улицу и в безлюдном месте вытряхнул салфетку, которой накрывался во время стриж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На нижнем этаже хозяйка моет окна. Жильцы с верхнего этажа вытряхивают пыльные одеяла, подушки. Все заняты полезным делом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Что полезного вы извлекли из анализа ситуаций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зменились ли какие-то ваши мнения и суждения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6:27:38Z</dcterms:created>
  <dc:creator>fenix-130</dc:creator>
  <dc:description/>
  <dc:language>en-US</dc:language>
  <cp:lastModifiedBy>Lebedev</cp:lastModifiedBy>
  <dcterms:modified xsi:type="dcterms:W3CDTF">2013-04-01T18:09:52Z</dcterms:modified>
  <cp:revision>6</cp:revision>
  <dc:subject/>
  <dc:title>Охрана безопасности труда</dc:title>
</cp:coreProperties>
</file>