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camera.wav" ContentType="audio/x-wav"/>
  <Override PartName="/ppt/media/image11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F45-453A-482D-935F-6FF88EC6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D4E-FAC9-47B8-90A5-66C9AE05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A55-41C1-4765-8CE8-F84CC261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46B-2280-41C4-A8B9-842A6C8D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D8AC-3298-4C7E-A059-FC688A72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10F3-5CAD-4E5E-8F73-C79DFB06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C4DA-8B2C-4C02-85BB-AD36BD40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3FE-1A77-4E83-B4B2-42E2C4FA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0D0B-8A55-4015-A65F-1C9F8486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B7E9-BAB0-43DC-A7A6-8F833168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6E20-5F77-4227-8459-A228CF6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BF5-9908-4AC0-9709-B5FB3B08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7653-85C0-4100-9F27-89A1CF4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6263-A27C-4405-A1BE-031359F4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C6C3-75C9-4650-B590-A2DF7B8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3968-4B47-4755-BBAD-CF522240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7318-0A01-45BB-B3DB-D404A44F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3F33-3725-41EF-B707-9B9B3BC3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E4DE7-5A7F-4710-86FE-60750EB2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F839-AA4A-4561-8BC7-C7938DF5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2CBD-1089-419A-81C5-59DBB851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BDC6-AA48-4AC2-9A41-C24972A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BE8-28B3-4302-8FFD-720D363F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77B4-8E6D-438D-9277-F7B02CE5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10EC-23C0-4861-8BB8-13DC70D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F2A1-1A3D-468C-8FEB-749745A9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8CCF-34AA-486B-817B-690E00FC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66DC-8CCA-466A-A455-7FB11F9E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33A1-10CB-4DB4-AA76-AB194C1D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11DF0-C9AD-4E29-9BB5-3AC608FF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52883-EE4E-4895-89D6-D5C5FF1F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16BB2-DDDB-4754-85DB-92745719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5B8A0-2F81-4D6D-A114-71D95053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C38-BAE2-49D0-BDCC-B8FF6357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3B3AF-1C19-4AC3-97F1-9EB2399E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9DFD-7E63-4995-B228-A7A27165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223F-3E0D-404E-90A7-E9C161DE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0BF7-F43A-4E7A-8FF1-972DE80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4C133-FA78-40AE-88FF-9FD2E6D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EFAC-ED4F-42A8-8C8A-A0AFC133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B5B6-B0B2-4AA6-B5DC-FA6B4ED5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ACDF-A861-419D-9DFD-5DBBD4EB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82766-2840-4E2D-84AE-D4408AA9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F2E87-BEBF-4495-A080-28F7A3B5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4BF-0F21-4B2D-8E1A-09772441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F7EDD-8AD3-42FE-A9DE-FC2A7F3A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EA094-073C-4925-8F14-3F29D50E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2B68D-06F6-42CE-85D0-3EAD09F8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5A26-2686-4F5A-80F8-616CBDF1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89116-D748-4F0A-8704-EA66A6EE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27461-81EB-44DB-8AEC-1EE4F2E8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88D98-6585-42CA-8A37-2C908700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0F351-89EF-403F-8C35-2F66967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1035-BE69-477E-A034-943C3EAE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A2B8D-1280-40F7-A608-E6FF397A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D2A-6C35-4853-B2EB-95B03A7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AFFE-0BC2-47A2-A733-6FDF0197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153DE-E30A-4726-A75F-81DA4A57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F942-573B-4AB8-A8F1-3E5C5213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5A96D-D0D5-472A-A0B0-08699BB3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3C6F-8135-469A-AF82-694CB12C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EFC1-C8A8-4A39-A18B-6B9F5ABF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4BFAD-95CF-47FF-92F6-196FE8DD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3EDFB-31EA-4B28-BBED-49D72E81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9041D-EDB2-434D-8C54-B280F3B2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80A60-BFEF-4503-96D8-53C186F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223-6B66-4B23-99A6-245D415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3ECED-70A1-43A2-99D2-EE3D6DD0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B4BD2-5C63-4FD6-8E71-FFB77767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3A1A-AF89-42FA-B68D-B5742237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B069-A3FB-49A7-9C57-04E17993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7EDDF-9CA4-4A64-B7F6-70F4AF8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46CFD-BCD5-454D-ACB5-B01D4C0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E1679-D026-4A7F-B789-3606BAB4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58DBD-213A-45D6-B1C6-E1746EF1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67A0-4A3A-4A4D-B0CA-21881BB5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121EB-7609-440B-B9B6-C2A084D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BBD-E071-416F-9509-FF9A8222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816CF-1C13-4CD4-9E41-1B688D7C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AA88-5131-489C-8FFD-943300DD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1C716-E0FE-44B0-9637-3AFF49D0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A662-AC65-46E9-B1B2-A96ECD39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CB869-1B11-4162-9106-E592C240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64481-4C2F-42C2-93FC-28727353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279DE-242D-4435-A3F9-1BE4AC9B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D95C-10A8-4B07-BC7F-1D66813B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00359-A3EB-4A0C-A859-3632B08C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71A2-CAA0-4690-ADFF-041A4B6E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C6A-B362-4197-AA95-B82F023E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E54F-79C4-41A9-83F0-EC45311A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E0BEF-EC0E-4906-9D6D-6F846446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00478-F7C7-4FB0-95D0-E454366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D17DC-3149-441E-98C6-0F13644E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10D5C-518F-461A-BBC1-55ADFBCD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203B5-126F-4DEE-BB56-DB5E53E2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D77F7-EC9B-4252-BD57-1AB41DCA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068-95E3-4BC6-9536-972FF04F33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A87-9001-4834-A03B-1607BE4AA5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7340-6D81-4D40-BBD7-5E77448610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4689-2A4C-4567-A00C-25A7C303C2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099D-37EC-4B70-A610-28B517DC61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EF31-4C8D-4E0A-9843-2EF55AE02F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A925-C997-499F-AF9C-69569BB992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3216-C454-42FD-96F7-7EB5ED0B02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914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64646"/>
                </a:solidFill>
                <a:latin typeface="Lucida Sans Unicode"/>
              </a:rPr>
              <a:t>Ситуативные задачи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64646"/>
                </a:solidFill>
                <a:latin typeface="Lucida Sans Unicode"/>
              </a:rPr>
              <a:t>для 5 класс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64646"/>
                </a:solidFill>
                <a:latin typeface="Arial"/>
              </a:rPr>
              <a:t>Классный руководитель: О.В.Лебедев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1. Мама попросила дочку убрать со стола и с плиты пищевые продукты, сына – вывести на прогулку собаку, сама стала обрабатывать ядовитыми веществами помещение, надев на себя марлевую повязк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. Папа с сыном обрабатывали раствором ядохимикатов деревья и кустарники в саду от насекомых-вредителей, у них остался раствор. Чтобы не отравиться, они вылили его в пруд. Опаздывая на автобус, они не успели переодеться и поехали домой в той же одежде, в которой проводили обработк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Вася знает порядок включения электроприборов в сеть – шнур он сначала подключает к прибору, а затем к с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Лампа светила очень ярко. Таня взяла лист цветной бумаги и приложила к плафону лампы. Свет стал мягким, удобно было выполнять уро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Вова, посмотри, пожалуйста, нагревается ли электрочайник? – попросила бабушка. Вова открыл крышку и сунул палец в воду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Валя мыла посуду и вспомнила, что уже начинается её любимая передача «Сам себе режиссёр». Бегом побежала она вставлять вилку в штепсельную розетку мокрыми рукам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Женя запаивал кастрюлю, а его сестра гладила простыни. Они ставили свои электроприборы на специальные несгораемые подставк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 Алла, подтекает холодильник, протри, пожалуйста, воду около лампочки, а то она перегорит, - попросила мама дочку. Алла взяла тряпку и стала вытирать капли воды на лампе, возле лампы и переключателя холода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У соседей сын очень трудолюбивый. С вечера и до рассвета что-то колотит, забивает, строгает, пилит. Грохот, стук раздаются по всем близко находящимся квартира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альчик каждую субботу выбивает ковёр в специально отведённом месте, в дневное время, никому не мешая. Чистота в доме – залог здоровь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Девочка – будущая хозяюшка -  помогает маме всегда. Она вытряхивает пыльную тряпку по направлению ветра, где у соседей вывешено бельё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Папа делал стрижку сыну. Сын поблагодарил отца, подмёл и аккуратно собрал волосы, вышел на улицу и в безлюдном месте вытряхнул салфетку, которой накрывался во время стрижк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На нижнем этаже хозяйка моет окна. Жильцы с верхнего этажа вытряхивают пыльные одеяла, подушки. Все заняты полезным делом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Что полезного вы извлекли из анализа ситуаций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Изменились ли какие-то ваши мнения и суждения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6:27:38Z</dcterms:created>
  <dc:creator>fenix-130</dc:creator>
  <dc:description/>
  <dc:language>en-US</dc:language>
  <cp:lastModifiedBy>Lebedev</cp:lastModifiedBy>
  <dcterms:modified xsi:type="dcterms:W3CDTF">2013-04-01T18:09:52Z</dcterms:modified>
  <cp:revision>6</cp:revision>
  <dc:subject/>
  <dc:title>Охрана безопасности труда</dc:title>
</cp:coreProperties>
</file>