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133D-1375-4D93-9412-7EC96C8D23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FB5-B026-44E4-A770-BABBFC537C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D09-919C-4E0C-92FE-211F70D4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8B0-519F-4240-A990-5274FA3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509-6CFE-4A1A-BB00-4C209F59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1CF-B833-40E1-9145-242F2C99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DF7-0EE0-4112-8D94-EC234BED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BA79-7A0A-4B8A-98C5-BEA762A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93D-F6FB-491A-B7DB-1C337BF1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4C8-004E-43C6-BE7C-2FBF9F2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FDF-D5DB-4DFB-893C-64B7329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D86-0843-434C-AECA-717FB26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C64-7BBB-468B-AEE8-FCC8814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AD6-754A-40A8-9B18-FA6A1F7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BE0-B335-43AD-A41C-94BE26B55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зи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ротозо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amoeba histoly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окализация паразита в организме челове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толстый кишечник, возможно попадание с током крови в печень и другие внутренние орг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тогенное действ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Токсико-аллергическ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Продукты метаболизма отравляют организм человека и вызывают аллерг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.Механическое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ая вегетативная форма разрушает слизистую оболочку толстой кишки с помощью протеолитических ферментов. У больного развиваются кровоточащие язвы. Питается эритроцит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Осложне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При разрушении стенки кишечника возможно проникновение большой вегетативной формы во внутренние органы с  помощью тока крови. Внекишечная локализация приводит к абцессу - гнойному воспалению тка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мптомы заболе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результате интоксикации у больного развиваются слабость, вялость, повышение температуры, головная боль, аллергические реак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стый жидкий стул с примесью крови и слизи, боли в живо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перфорации кишечника развивается перитон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агностик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одят копрологический анализ. В острый период обнаруживают в мазках большую вегетативную форму, при цистоносительстве и периодах ремиссии – цис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филактика: личная – соблюдение правил личной гигие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щественная – устройство канализации, компостирование нечистот, благоустройство населенных пунктов, систематический санитарный надзор за питанием и водоснабжением. Медицинский контроль за состоянием здоровья работников пищевых объек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кроскопическая картина стула при амебной дизенте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081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вичный амебный менингоэнцефалит — это заболевание, вызываемое свободноживущими амебами рода Naegleria или Acanthamoeba. Факультативные паразиты человека, поражающий нервную систему, вызывающий первичный амёбный менингоэнцефалит (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гл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). Заражение происходит во время куп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286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и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линические проявления: Naegleria fowleri вызывает острый, быстро прогрессирующий фатальный менингоэнцефалит, поражающий детей и подростков. Ранними симптомами является сильная головная боль, лихорадка и иногда ринит. Эти симптомы прогрессируют, сопровождаясь рвотой, ригидностью затылочных мышц, спутанностью сознания и бредом. Кома, судорожные припадки и смерть наступают спустя 2—12 д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ямблия кишечная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- жгутики; 2 – базальные гранулы; 3 – цитоплазма; 4 – ядра; 5 – медиальные тела; 6 – опорная нить (аксостиль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63760" y="1600200"/>
            <a:ext cx="261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рфологические формы лямбл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зненный цикл  лямбл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57680" y="1706400"/>
            <a:ext cx="3429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67000" y="1900080"/>
            <a:ext cx="4410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описания параз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боле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еографическое распростран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пидемиологическая характеристик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нвазионная форм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пособы и пути зараж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окализация паразита в организме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тогенная фор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тогенное действ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импто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tamoeba histolytic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малая вегетативная форма 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 minuta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б – циста; в – большая вегетативная форма 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 magna</a:t>
            </a:r>
            <a:br>
              <a:rPr sz="18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14680" y="1428840"/>
            <a:ext cx="5214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иста дизентерийной амеб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-незрелой цисты ; 2- зрелой цист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572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унки с живого объ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зентерийная амеба с заглоченными эритроци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81280" y="2738520"/>
            <a:ext cx="3781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Жизненный цикл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4-х ядерные цисты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4-е молодые форм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а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переходящая в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na 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7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цисты с разным кол-вом  ядер, созревающие цисты;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8,9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незрелые цисты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зрелая циста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малая вегетавная ил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ma 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na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ли большая вегетативная форма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большая вегетативная форма, превращающаяся при лечении в малую вегетативную форму 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, либо выходящая наружу, в окружающуюся среду 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4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зненный цикл Амебы дизентерий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146320" y="1600200"/>
            <a:ext cx="485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рактеристика параз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левание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мебиаз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графическое распространение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овсеместн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пидемиологическая характеристик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тропоноз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енные формы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лая вегетативная или форм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большая вегетативная или форм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gna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форма цис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тогенная форм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 mag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азионная форм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циста (4-х ядерна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 зараже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через ро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ть заражения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лиментарный (через грязные руки, зараженную воду и пищу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6:56:58Z</dcterms:created>
  <dc:creator>Пакшина Н. С.</dc:creator>
  <dc:description/>
  <dc:language>en-US</dc:language>
  <cp:lastModifiedBy>Наташа</cp:lastModifiedBy>
  <dcterms:modified xsi:type="dcterms:W3CDTF">2012-03-12T15:34:13Z</dcterms:modified>
  <cp:revision>32</cp:revision>
  <dc:subject/>
  <dc:title>Паразитология</dc:title>
</cp:coreProperties>
</file>