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7AE9-8235-425D-A310-3E6BDA213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99F5-21A6-40E7-8320-290944EA27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BBD-7E9F-41A6-9FE9-4BD3ADCD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19C-97E2-4089-8913-F550A186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5EE-CAF2-406B-9E64-574A12CC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12B-6AB6-44B6-87F6-5603A3BB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8C8-14BC-403E-94D8-6FA1632C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625-4D44-4CA4-9EA0-F83E58D8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97E-B4C0-4143-A540-3D793F85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02B-20DB-47D6-A6D8-ABDE7AE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4C4-C7BF-4EDA-B60B-CB5BB445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D85-62C3-4D49-8CE5-B68706F5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C57-0DD3-4E82-B30D-82DE9C48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483-3678-4BA1-AAEE-8DD08CD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3682-270D-4CCD-AF73-F091AC810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азит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ротозо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amoeba histoly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окализация паразита в организме челове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толстый кишечник, возможно попадание с током крови в печень и другие внутренние орга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тогенное действи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Токсико-аллергическ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Продукты метаболизма отравляют организм человека и вызывают аллерг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.Механическое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ольшая вегетативная форма разрушает слизистую оболочку толстой кишки с помощью протеолитических ферментов. У больного развиваются кровоточащие язвы. Питается эритроцит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Осложнен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При разрушении стенки кишечника возможно проникновение большой вегетативной формы во внутренние органы с  помощью тока крови. Внекишечная локализация приводит к абцессу - гнойному воспалению тка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имптомы заболе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результате интоксикации у больного развиваются слабость, вялость, повышение температуры, головная боль, аллергические реак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астый жидкий стул с примесью крови и слизи, боли в живо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 перфорации кишечника развивается перитони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иагностик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водят копрологический анализ. В острый период обнаруживают в мазках большую вегетативную форму, при цистоносительстве и периодах ремиссии – цис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филактика: личная – соблюдение правил личной гигиен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щественная – устройство канализации, компостирование нечистот, благоустройство населенных пунктов, систематический санитарный надзор за питанием и водоснабжением. Медицинский контроль за состоянием здоровья работников пищевых объек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кроскопическая картина стула при амебной дизенте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50817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вичный амебный менингоэнцефалит — это заболевание, вызываемое свободноживущими амебами рода Naegleria или Acanthamoeba. Факультативные паразиты человека, поражающий нервную систему, вызывающий первичный амёбный менингоэнцефалит (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нгл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). Заражение происходит во время купа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286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и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линические проявления: Naegleria fowleri вызывает острый, быстро прогрессирующий фатальный менингоэнцефалит, поражающий детей и подростков. Ранними симптомами является сильная головная боль, лихорадка и иногда ринит. Эти симптомы прогрессируют, сопровождаясь рвотой, ригидностью затылочных мышц, спутанностью сознания и бредом. Кома, судорожные припадки и смерть наступают спустя 2—12 дн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ямблия кишечная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- жгутики; 2 – базальные гранулы; 3 – цитоплазма; 4 – ядра; 5 – медиальные тела; 6 – опорная нить (аксостиль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263760" y="1600200"/>
            <a:ext cx="261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рфологические формы лямбл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зненный цикл  лямбл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857680" y="1706400"/>
            <a:ext cx="34290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67000" y="1900080"/>
            <a:ext cx="4410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описания параз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болева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Географическое распростран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Эпидемиологическая характеристик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нвазионная форм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пособы и пути зараж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окализация паразита в организме челове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атогенная форм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атогенное действ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имптом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tamoeba histolytic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малая вегетативная форма ил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 minuta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; б – циста; в – большая вегетативная форма ил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 magna</a:t>
            </a:r>
            <a:br>
              <a:rPr sz="18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14680" y="1428840"/>
            <a:ext cx="5214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иста дизентерийной амеб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-незрелой цисты ; 2- зрелой цист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572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сунки с живого объ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1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изентерийная амеба с заглоченными эритроцит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81280" y="2738520"/>
            <a:ext cx="37814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Жизненный цикл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2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4-х ядерные цисты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4-е молодые форм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nut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рма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nut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переходящая в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gna (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-7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цисты с разным кол-вом  ядер, созревающие цисты;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8,9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незрелые цисты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зрелая циста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малая вегетавная ил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ma minut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gna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ли большая вегетативная форма;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большая вегетативная форма, превращающаяся при лечении в малую вегетативную форму 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, либо выходящая наружу, в окружающуюся среду 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64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изненный цикл Амебы дизентерий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146320" y="1600200"/>
            <a:ext cx="485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рактеристика параз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болевание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амебиаз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графическое распространение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повсеместно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пидемиологическая характеристика: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тропоноз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зненные формы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лая вегетативная или форм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nuta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большая вегетативная или форм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gna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форма цис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тогенная форма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 mag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азионная форм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циста (4-х ядерная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 заражен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через ро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ть заражения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алиментарный (через грязные руки, зараженную воду и пищу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6:56:58Z</dcterms:created>
  <dc:creator>Пакшина Н. С.</dc:creator>
  <dc:description/>
  <dc:language>en-US</dc:language>
  <cp:lastModifiedBy>Наташа</cp:lastModifiedBy>
  <dcterms:modified xsi:type="dcterms:W3CDTF">2012-03-12T15:34:13Z</dcterms:modified>
  <cp:revision>32</cp:revision>
  <dc:subject/>
  <dc:title>Паразитология</dc:title>
</cp:coreProperties>
</file>