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gif" ContentType="image/gif"/>
  <Override PartName="/ppt/media/image6.wmf" ContentType="image/x-wmf"/>
  <Override PartName="/ppt/media/image5.wmf" ContentType="image/x-wmf"/>
  <Override PartName="/ppt/media/image7.wmf" ContentType="image/x-wmf"/>
  <Override PartName="/ppt/media/image8.gif" ContentType="image/gi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0A4E-BC41-427C-BCDA-71FDC0EB9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E61A-8F0B-44AD-BC9B-4B2D5FC2C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A1C4-1AC9-4B22-ABC9-43F2F91BC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3C62-135B-4EB9-A32C-9FA1887C7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566BD-88F2-4440-A491-A3B57E6B2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C2218-6AEE-4467-8076-C3A05C2A0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1F646-8BD8-4B58-96A1-DA49DD9E4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EEEEE-0CCB-4B5B-80FC-0A687C0B7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60C8E-1570-4CB7-801D-CCBF0E570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5F4EE-D482-4668-8875-5051B0E42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14771-C936-4174-9EC6-BCE3344A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ED71-93F1-440E-B988-38FCF55AD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06FBE-39D5-45AD-83C0-CCE62BD8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81BA7-3943-4E2A-88BA-0203913E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3C414-8590-4647-8D97-1F4AABCB5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46384-A1D2-496A-BBBA-BC4F6BE20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7ECB0-546C-4DDA-8B7C-2C94E2102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FF02-0A61-41D8-BB66-5FD5FC75C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B432-A29A-478D-9B56-2D04AFE08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57B7-8C9D-4F1D-9488-6F13E4CC2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9980-FBFF-415A-ADF6-D185FB259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D651-56BD-4979-A53F-FDE7A2A9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FAC9-DE04-41AE-B474-F7301C87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753A-1A50-469F-8A84-1BFEC8EB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C0493-192A-4557-9056-5D351966D0C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19F2C-2FFA-41AE-8842-A176B1B9014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4" descr="Копия SDC10988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0" name="Text Box 2"/>
          <p:cNvGrpSpPr/>
          <p:nvPr/>
        </p:nvGrpSpPr>
        <p:grpSpPr>
          <a:xfrm>
            <a:off x="-6480" y="566640"/>
            <a:ext cx="9156960" cy="2243160"/>
            <a:chOff x="-6480" y="566640"/>
            <a:chExt cx="9156960" cy="2243160"/>
          </a:xfrm>
        </p:grpSpPr>
        <p:pic>
          <p:nvPicPr>
            <p:cNvPr id="101" name="Text Box 2" descr=""/>
            <p:cNvPicPr/>
            <p:nvPr/>
          </p:nvPicPr>
          <p:blipFill>
            <a:blip r:embed="rId2"/>
            <a:stretch/>
          </p:blipFill>
          <p:spPr>
            <a:xfrm>
              <a:off x="-6480" y="566640"/>
              <a:ext cx="915696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0" y="571680"/>
              <a:ext cx="9144000" cy="22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884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884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 Black"/>
                  <a:ea typeface="Arial"/>
                </a:rPr>
                <a:t>ЦЕНТР ОБРАЗОВАНИЯ МОСКОВСКОГО РАЙОН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884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884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 Black"/>
                  <a:ea typeface="Arial"/>
                </a:rPr>
                <a:t>603079, Московское шоссе, д. 161, </a:t>
              </a:r>
              <a:r>
                <a:rPr b="1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ru-RU" sz="1800" spc="-1" strike="noStrike">
                  <a:solidFill>
                    <a:srgbClr val="ffffff"/>
                  </a:solidFill>
                  <a:latin typeface="Arial Black"/>
                  <a:ea typeface="Arial"/>
                </a:rPr>
                <a:t>т. (факс) 279-03-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884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Black"/>
                  <a:ea typeface="Arial"/>
                </a:rPr>
                <a:t>www.moucomrnn.narod.r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884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884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8842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66ff"/>
                </a:solidFill>
                <a:latin typeface="Times New Roman"/>
              </a:rPr>
              <a:t>Уровень обученности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187280" y="1916280"/>
          <a:ext cx="7272360" cy="453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916280"/>
                    <a:ext cx="727236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684360" y="2852640"/>
            <a:ext cx="835164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хнологии обучения слабоуспевающих учащихся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4"/>
          <p:cNvSpPr txBox="1"/>
          <p:nvPr/>
        </p:nvSpPr>
        <p:spPr>
          <a:xfrm>
            <a:off x="3492360" y="1773360"/>
            <a:ext cx="5254920" cy="38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0000"/>
                    </a:gs>
                    <a:gs pos="100000">
                      <a:srgbClr val="00ff00"/>
                    </a:gs>
                  </a:gsLst>
                  <a:lin ang="18900000"/>
                </a:gradFill>
                <a:latin typeface="Arial"/>
              </a:rPr>
              <a:t>Все дети могу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189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0000"/>
                    </a:gs>
                    <a:gs pos="100000">
                      <a:srgbClr val="00ff00"/>
                    </a:gs>
                  </a:gsLst>
                  <a:lin ang="18900000"/>
                </a:gradFill>
                <a:latin typeface="Arial"/>
              </a:rPr>
              <a:t>успешно учиться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189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0000"/>
                    </a:gs>
                    <a:gs pos="100000">
                      <a:srgbClr val="00ff00"/>
                    </a:gs>
                  </a:gsLst>
                  <a:lin ang="18900000"/>
                </a:gradFill>
                <a:latin typeface="Arial"/>
              </a:rPr>
              <a:t>если школ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189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0000"/>
                    </a:gs>
                    <a:gs pos="100000">
                      <a:srgbClr val="00ff00"/>
                    </a:gs>
                  </a:gsLst>
                  <a:lin ang="18900000"/>
                </a:gradFill>
                <a:latin typeface="Arial"/>
              </a:rPr>
              <a:t>умеет учить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189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189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0000"/>
                    </a:gs>
                    <a:gs pos="100000">
                      <a:srgbClr val="00ff00"/>
                    </a:gs>
                  </a:gsLst>
                  <a:lin ang="18900000"/>
                </a:gradFill>
                <a:latin typeface="Arial"/>
              </a:rPr>
              <a:t>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0000"/>
                    </a:gs>
                    <a:gs pos="100000">
                      <a:srgbClr val="00ff00"/>
                    </a:gs>
                  </a:gsLst>
                  <a:lin ang="18900000"/>
                </a:gradFill>
                <a:latin typeface="Arial"/>
              </a:rPr>
              <a:t>Д.Г. Левита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18900000"/>
              </a:gradFill>
              <a:latin typeface="Arial"/>
              <a:ea typeface="Arial"/>
            </a:endParaRPr>
          </a:p>
        </p:txBody>
      </p:sp>
      <p:pic>
        <p:nvPicPr>
          <p:cNvPr id="134" name="Picture 5" descr="Мальчик"/>
          <p:cNvPicPr/>
          <p:nvPr/>
        </p:nvPicPr>
        <p:blipFill>
          <a:blip r:embed="rId1"/>
          <a:stretch/>
        </p:blipFill>
        <p:spPr>
          <a:xfrm>
            <a:off x="971640" y="3141720"/>
            <a:ext cx="1727280" cy="35859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476360" y="2133720"/>
            <a:ext cx="6696000" cy="31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учение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лабоуспевающих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чащихся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 различных этапах урока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692000" y="1599840"/>
            <a:ext cx="6994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 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здание атмосферы особой доброжелательности при опросе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нижение темпа опрос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дложение плана отве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нцентрация внимания на главных вопросах и типичных ошибка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имулирование, создание ситуации успе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32000" y="260280"/>
            <a:ext cx="65530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нтроль за подготовленностью учащихся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 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менение мер поддержания интереса у слабоуспевающих вопросами, выясняющими степень понимания ими учебного материал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ступный для слабоуспевающих темп излож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нцентрация внимания на главных моментах новой тем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актический метод изложения материал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пользование наглядности, ТС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332000" y="333360"/>
            <a:ext cx="6985080" cy="95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и изложении нового материала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 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971280" y="1600200"/>
            <a:ext cx="771516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бивка заданий на дозы, этапы, выделение в сложных заданиях ряда просты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казание на необходимость актуализировать то или иное правил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имулирование самостоятельных действ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перативная помощь в ходе самостоятельной работ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щательный  контроль за  деятельностью уча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547640" y="404640"/>
            <a:ext cx="5904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ходе закрепления материала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пользование рациональной системы упражн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чет темпа работы слабоуспевающих ученик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пользование карточек – консультаций, карточек с направляющим планом действ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042920" y="549360"/>
            <a:ext cx="7632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и организации самостоятельной работы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птимальный объе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лжно включать работу над ошибка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язательный инструктаж о выполнении, предупреждение затрудн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бор индивидуальных зад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124000" y="404640"/>
            <a:ext cx="5400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машнее задание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Times New Roman"/>
              </a:rPr>
              <a:t>Особенности обуче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актическая направленность об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глядно-действенный мет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стематические сопутствующие упражнения по развитию ре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бота по алгорит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стема щадящего контро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100836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«Повышение качества образования через внедрение в практику работы технологий обучения адаптивной школ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979640" y="1341360"/>
            <a:ext cx="648000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дагогический совет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Times New Roman"/>
              </a:rPr>
              <a:t>Требования к заданиям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дания должны соответствовать познавательным возможностям, способностям, а также состояниям и темпам обучения каждого конкретного ученика и создавать предпосылки для появления у каждого ребенка чувства успешности своей учебн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1008360" cy="10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Оптимизация процесса обучения </a:t>
            </a:r>
            <a:br>
              <a:rPr sz="2400"/>
            </a:b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слабоуспевающих учащихся</a:t>
            </a:r>
            <a:br>
              <a:rPr sz="2400"/>
            </a:b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55700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 ходе проверки домашнего задания излагать лишь главное, отвечать по плану или по вопрос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читывая динамику работоспособности школьников, начинать уроки с объяснения нового, больше привлекать нагляд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и объяснении   подчеркивать главное, делать краткие записи, возвращаться к главному неоднократно по ходу уро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 ходу урока работать над типичными ошибк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Экономить время на всех этапах урока, увеличивая его на закрепление нов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читывая низкую работоспособность учащихся в конце урока, особо продумывать формы обобщ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делить особое внимание инструктированию учеников о порядке и затруднениях при выполнении домашнего задания, которое давать после объяснения нового материа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е ставить слабоуспевающего в ситуацию неожиданного вопроса и не требовать быстрого ответа на него, давать ученику достаточно времени на обдумывание и подготовк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Желательно, чтобы ответ был не в устной, а в письменной форм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Формировать у таких учеников уверенность в своих силах, в своих знаниях, в возможности учитьс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ледует осторожнее оценивать неудачи ученика, ведь он сам очень болезненно к ним относи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ледует в минимальной степени отвлекать ученика, стараться не переключать его внимание, создавать спокойную, не нервозную обстановк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нять и принять  любого ребен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3300"/>
                </a:solidFill>
                <a:latin typeface="Times New Roman"/>
              </a:rPr>
              <a:t>Роль педагог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916360" y="1557000"/>
            <a:ext cx="55432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Тру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Творчеств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Талан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332000" y="3284640"/>
            <a:ext cx="647640" cy="9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260360" y="1557360"/>
            <a:ext cx="647640" cy="9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332000" y="4869000"/>
            <a:ext cx="647640" cy="9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768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768" fill="hold"/>
                                        <p:tgtEl>
                                          <p:spTgt spid="1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768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768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Times New Roman"/>
              </a:rPr>
              <a:t>Решение </a:t>
            </a:r>
            <a:br>
              <a:rPr sz="4200"/>
            </a:br>
            <a:r>
              <a:rPr b="1" lang="en-US" sz="4200" spc="-1" strike="noStrike">
                <a:solidFill>
                  <a:srgbClr val="ff0000"/>
                </a:solidFill>
                <a:latin typeface="Times New Roman"/>
              </a:rPr>
              <a:t>педагогического совета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15640" y="1483920"/>
            <a:ext cx="77230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ям-предметникам повысить эффективность уроков через внедрение в практику работы технологий обучения адаптивной школ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ководителям ШМО провести заседания МО в форме мастер-класса, анализа открытых уроков по обмену опытом использования технологий обучения слабоуспевающих уча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м. директора по УВР доложить о результатах тематического контроля за системой преподавания и методической учебой на следующем педсове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768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0" dur="768" fill="hold"/>
                                        <p:tgtEl>
                                          <p:spTgt spid="1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2" dur="768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4" dur="768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54900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Дети, имеющие трудности в обучении и социальной адаптации</a:t>
            </a:r>
            <a:r>
              <a:rPr b="1" lang="en-US" sz="38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2491920"/>
            <a:ext cx="777240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дагогически запущенные д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сформированы приемы учеб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достаточно сформированы психические процес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изкая учебная мотив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изкий уровень интеллектуального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476360" y="620640"/>
            <a:ext cx="7448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66ff"/>
                </a:solidFill>
                <a:latin typeface="Monotype Corsiva"/>
              </a:rPr>
              <a:t>Дойти до каждого ученика и помочь ему осознать собственные возможности – вот приоритеты современного учителя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00000" y="333360"/>
            <a:ext cx="1224000" cy="1079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Times New Roman"/>
              </a:rPr>
              <a:t>Классы социально-педагогической поддержк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олняемость - 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10-14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дивидуальный под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ррекционно-развивающие зан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циальное медико-психолого-педагогическое сопровождение УВ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ный воспит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Times New Roman"/>
              </a:rPr>
              <a:t>Цель организации классов реабилитации -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для детей, испытывающих затруднения в освоении общеобразовательных программ, адекватных их особенностям условий воспитания и обучения, позволяющих предупредить дезадаптацию в условиях массовой шко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970200" y="333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Задачи: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довлетворение образовательных потребностей обучающих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квидация пробелов в знания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умения учиться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филактика асоциального поведения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личностного потенци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9144000" y="2362320"/>
          <a:ext cx="90000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0" y="2362320"/>
                    <a:ext cx="90000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99"/>
                </a:solidFill>
                <a:latin typeface="Times New Roman"/>
              </a:rPr>
              <a:t>Центр образования Московского район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476360" y="1600200"/>
          <a:ext cx="6648480" cy="453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600200"/>
                    <a:ext cx="664848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ff"/>
                </a:solidFill>
                <a:latin typeface="Times New Roman"/>
              </a:rPr>
              <a:t>Уровень социальной адаптации обучающихся классов реабилитации</a:t>
            </a:r>
            <a:endParaRPr b="0" lang="en-US" sz="25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847880" y="1638360"/>
          <a:ext cx="6611760" cy="495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7880" y="1638360"/>
                    <a:ext cx="661176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7T07:12:02Z</dcterms:created>
  <dc:creator>1</dc:creator>
  <dc:description/>
  <dc:language>en-US</dc:language>
  <cp:lastModifiedBy>Света</cp:lastModifiedBy>
  <dcterms:modified xsi:type="dcterms:W3CDTF">2013-04-01T17:27:45Z</dcterms:modified>
  <cp:revision>32</cp:revision>
  <dc:subject/>
  <dc:title>Проведение уроков с учетом индивидуально-личностного подхода  </dc:title>
</cp:coreProperties>
</file>