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gif" ContentType="image/gif"/>
  <Override PartName="/ppt/media/image6.wmf" ContentType="image/x-wmf"/>
  <Override PartName="/ppt/media/image5.wmf" ContentType="image/x-wmf"/>
  <Override PartName="/ppt/media/image7.wmf" ContentType="image/x-wmf"/>
  <Override PartName="/ppt/media/image8.gif" ContentType="image/gi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3D60-3062-45CD-85A0-D77C3B39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5AD7-543E-4431-AAE4-D346B75D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ED18-151B-4811-86EB-D078D65F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70C8-5025-4E5A-B4B0-88FED068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3EF4-66B6-44F0-AC11-43859090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CE90-EE1A-411E-8010-11D304CE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F07B-983C-4CF7-93AD-04C5CA9C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8E5F-A118-4411-9E24-A20429CA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ADD4-80A6-4434-9D23-AC952E5A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473C-7BDC-40E4-BB9A-4ED182B8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216A-FC4D-487D-9218-5744C9E3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014D-D91C-48AB-B195-C9640D1F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C7EF-2518-4E6A-9ADC-DD59ACCB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39AB-573D-43EE-8320-18FDF28B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38CD-F73B-4282-8E2E-403FB2DF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2DF1-747F-45A7-AB2F-74655772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2380-1B45-4B96-9491-AFC3EBD3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8BA9-8C82-4DA5-B2FB-C7AA56AE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8C5D-27C9-45E0-97E6-7B3E9123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B674-F8FF-408C-90E9-673EA370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E766-2EF1-4827-B6BC-BCDBF601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FDB8-808F-4248-B4DA-DC3D43C3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DBB5-2C62-4EF0-B6CC-66588911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75A6-3AEB-4D7F-A4CC-5135100C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E762-CDB4-41C2-ADDC-AAF6694712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C2E8-A51B-4EE2-9531-13448D2B53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4" descr="Копия SDC10988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Text Box 2"/>
          <p:cNvGrpSpPr/>
          <p:nvPr/>
        </p:nvGrpSpPr>
        <p:grpSpPr>
          <a:xfrm>
            <a:off x="-6480" y="566640"/>
            <a:ext cx="9156960" cy="2243160"/>
            <a:chOff x="-6480" y="566640"/>
            <a:chExt cx="9156960" cy="2243160"/>
          </a:xfrm>
        </p:grpSpPr>
        <p:pic>
          <p:nvPicPr>
            <p:cNvPr id="101" name="Text Box 2" descr=""/>
            <p:cNvPicPr/>
            <p:nvPr/>
          </p:nvPicPr>
          <p:blipFill>
            <a:blip r:embed="rId2"/>
            <a:stretch/>
          </p:blipFill>
          <p:spPr>
            <a:xfrm>
              <a:off x="-6480" y="566640"/>
              <a:ext cx="915696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0" y="571680"/>
              <a:ext cx="9144000" cy="22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884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884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ЦЕНТР ОБРАЗОВАНИЯ МОСКОВСКОГО РАЙО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884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884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603079, Московское шоссе, д. 161,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т. (факс) 279-03-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884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www.moucomrnn.narod.r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884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884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884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ff"/>
                </a:solidFill>
                <a:latin typeface="Times New Roman"/>
              </a:rPr>
              <a:t>Уровень обученности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187280" y="1916280"/>
          <a:ext cx="727236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16280"/>
                    <a:ext cx="727236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4360" y="2852640"/>
            <a:ext cx="83516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хнологии обучения слабоуспевающих учащихся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3492360" y="1773360"/>
            <a:ext cx="525492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0000"/>
                    </a:gs>
                    <a:gs pos="100000">
                      <a:srgbClr val="00ff00"/>
                    </a:gs>
                  </a:gsLst>
                  <a:lin ang="18900000"/>
                </a:gradFill>
                <a:latin typeface="Arial"/>
              </a:rPr>
              <a:t>Все дети могу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9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0000"/>
                    </a:gs>
                    <a:gs pos="100000">
                      <a:srgbClr val="00ff00"/>
                    </a:gs>
                  </a:gsLst>
                  <a:lin ang="18900000"/>
                </a:gradFill>
                <a:latin typeface="Arial"/>
              </a:rPr>
              <a:t>успешно учиться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9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0000"/>
                    </a:gs>
                    <a:gs pos="100000">
                      <a:srgbClr val="00ff00"/>
                    </a:gs>
                  </a:gsLst>
                  <a:lin ang="18900000"/>
                </a:gradFill>
                <a:latin typeface="Arial"/>
              </a:rPr>
              <a:t>если школ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9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0000"/>
                    </a:gs>
                    <a:gs pos="100000">
                      <a:srgbClr val="00ff00"/>
                    </a:gs>
                  </a:gsLst>
                  <a:lin ang="18900000"/>
                </a:gradFill>
                <a:latin typeface="Arial"/>
              </a:rPr>
              <a:t>умеет учит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9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9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0000"/>
                    </a:gs>
                    <a:gs pos="100000">
                      <a:srgbClr val="00ff00"/>
                    </a:gs>
                  </a:gsLst>
                  <a:lin ang="18900000"/>
                </a:grad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0000"/>
                    </a:gs>
                    <a:gs pos="100000">
                      <a:srgbClr val="00ff00"/>
                    </a:gs>
                  </a:gsLst>
                  <a:lin ang="18900000"/>
                </a:gradFill>
                <a:latin typeface="Arial"/>
              </a:rPr>
              <a:t>Д.Г. Левита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pic>
        <p:nvPicPr>
          <p:cNvPr id="134" name="Picture 5" descr="Мальчик"/>
          <p:cNvPicPr/>
          <p:nvPr/>
        </p:nvPicPr>
        <p:blipFill>
          <a:blip r:embed="rId1"/>
          <a:stretch/>
        </p:blipFill>
        <p:spPr>
          <a:xfrm>
            <a:off x="971640" y="3141720"/>
            <a:ext cx="1727280" cy="3585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76360" y="2133720"/>
            <a:ext cx="669600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учение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абоуспевающих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ащихся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различных этапах урок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92000" y="1599840"/>
            <a:ext cx="69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 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атмосферы особой доброжелательности при опрос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ижение темпа опрос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ложение плана отве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центрация внимания на главных вопросах и типичных ошибк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имулирование, создание ситуации успе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32000" y="260280"/>
            <a:ext cx="6553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троль за подготовленностью учащихся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 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нение мер поддержания интереса у слабоуспевающих вопросами, выясняющими степень понимания ими учебного материа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ступный для слабоуспевающих темп изло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центрация внимания на главных моментах новой тем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ктический метод изложения материа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ование наглядности, ТС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332000" y="333360"/>
            <a:ext cx="6985080" cy="9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 изложении нового материал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 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71280" y="1600200"/>
            <a:ext cx="77151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бивка заданий на дозы, этапы, выделение в сложных заданиях ряда прост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казание на необходимость актуализировать то или иное правил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имулирование самостоятельных дейст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еративная помощь в ходе самостоятельной рабо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щательный  контроль за  деятельностью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547640" y="404640"/>
            <a:ext cx="5904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ходе закрепления материал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ование рациональной системы упражн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ет темпа работы слабоуспевающих уче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ование карточек – консультаций, карточек с направляющим планом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42920" y="549360"/>
            <a:ext cx="763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 организации самостоятельной работ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тимальный объ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лжно включать работу над ошиб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язательный инструктаж о выполнении, предупреждение затрудн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бор индивидуальных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124000" y="404640"/>
            <a:ext cx="540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е задани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Особенности обуч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ктическая направленность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глядно-действен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тические сопутствующие упражнения по развитию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 по алгорит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 щадящего контр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008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«Повышение качества образования через внедрение в практику работы технологий обучения адаптивной школ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979640" y="1341360"/>
            <a:ext cx="648000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дагогический совет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Требования к задания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ния должны соответствовать познавательным возможностям, способностям, а также состояниям и темпам обучения каждого конкретного ученика и создавать предпосылки для появления у каждого ребенка чувства успешности своей учеб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00836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Оптимизация процесса обучения </a:t>
            </a:r>
            <a:br>
              <a:rPr sz="2400"/>
            </a:b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слабоуспевающих учащихся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57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ходе проверки домашнего задания излагать лишь главное, отвечать по плану или по вопрос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итывая динамику работоспособности школьников, начинать уроки с объяснения нового, больше привлекать нагляд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 объяснении   подчеркивать главное, делать краткие записи, возвращаться к главному неоднократно по ходу уро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ходу урока работать над типичными ошиб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кономить время на всех этапах урока, увеличивая его на закрепление нов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итывая низкую работоспособность учащихся в конце урока, особо продумывать формы обобщ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делить особое внимание инструктированию учеников о порядке и затруднениях при выполнении домашнего задания, которое давать после объяснения нового матери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 ставить слабоуспевающего в ситуацию неожиданного вопроса и не требовать быстрого ответа на него, давать ученику достаточно времени на обдумывание и подготов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Желательно, чтобы ответ был не в устной, а в письменной форм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ормировать у таких учеников уверенность в своих силах, в своих знаниях, в возможности учитьс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ледует осторожнее оценивать неудачи ученика, ведь он сам очень болезненно к ним относ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ледует в минимальной степени отвлекать ученика, стараться не переключать его внимание, создавать спокойную, не нервозную обстанов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нять и принять  любого ребе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imes New Roman"/>
              </a:rPr>
              <a:t>Роль педагог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916360" y="1557000"/>
            <a:ext cx="55432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Тру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Творчеств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Талан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332000" y="3284640"/>
            <a:ext cx="64764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60360" y="1557360"/>
            <a:ext cx="64764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332000" y="4869000"/>
            <a:ext cx="64764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68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68" fill="hold"/>
                                        <p:tgtEl>
                                          <p:spTgt spid="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68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68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Решение </a:t>
            </a:r>
            <a:br>
              <a:rPr sz="4200"/>
            </a:b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педагогического совет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5640" y="1483920"/>
            <a:ext cx="77230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ям-предметникам повысить эффективность уроков через внедрение в практику работы технологий обучения адаптивной шк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ководителям ШМО провести заседания МО в форме мастер-класса, анализа открытых уроков по обмену опытом использования технологий обучения слабоуспевающих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. директора по УВР доложить о результатах тематического контроля за системой преподавания и методической учебой на следующем педсов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768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768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2" dur="768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4" dur="768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Дети, имеющие трудности в обучении и социальной адаптации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2491920"/>
            <a:ext cx="77724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дагогически запущенные 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сформированы приемы учеб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достаточно сформированы психические проце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зкая учебная 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зкий уровень интеллектуаль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476360" y="620640"/>
            <a:ext cx="7448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ff"/>
                </a:solidFill>
                <a:latin typeface="Monotype Corsiva"/>
              </a:rPr>
              <a:t>Дойти до каждого ученика и помочь ему осознать собственные возможности – вот приоритеты современного учителя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1224000" cy="1079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Times New Roman"/>
              </a:rPr>
              <a:t>Классы социально-педагогической поддержк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олняемость - 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10-1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ый под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екционно-развивающие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е медико-психолого-педагогическое сопровождение УВ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ный воспит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Times New Roman"/>
              </a:rPr>
              <a:t>Цель организации классов реабилитации -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для детей, испытывающих затруднения в освоении общеобразовательных программ, адекватных их особенностям условий воспитания и обучения, позволяющих предупредить дезадаптацию в условиях массовой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овлетворение образовательных потребностей обучаю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квидация пробелов в знан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умения учиться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илактика асоциального поведения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личностного потенц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144000" y="2362320"/>
          <a:ext cx="90000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0" y="2362320"/>
                    <a:ext cx="9000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99"/>
                </a:solidFill>
                <a:latin typeface="Times New Roman"/>
              </a:rPr>
              <a:t>Центр образования Московского район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476360" y="1600200"/>
          <a:ext cx="6648480" cy="453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600200"/>
                    <a:ext cx="66484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ff"/>
                </a:solidFill>
                <a:latin typeface="Times New Roman"/>
              </a:rPr>
              <a:t>Уровень социальной адаптации обучающихся классов реабилитации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847880" y="1638360"/>
          <a:ext cx="6611760" cy="495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1638360"/>
                    <a:ext cx="66117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07:12:02Z</dcterms:created>
  <dc:creator>1</dc:creator>
  <dc:description/>
  <dc:language>en-US</dc:language>
  <cp:lastModifiedBy>Света</cp:lastModifiedBy>
  <dcterms:modified xsi:type="dcterms:W3CDTF">2013-04-01T17:27:45Z</dcterms:modified>
  <cp:revision>32</cp:revision>
  <dc:subject/>
  <dc:title>Проведение уроков с учетом индивидуально-личностного подхода  </dc:title>
</cp:coreProperties>
</file>