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F5E-9549-41B8-A7E0-7AF49B97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E82-6140-454E-9B79-5AF6393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AB5-CAF4-4738-9AAA-054000DB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E6E-BCA5-4E27-B60B-9F35C13B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D97-BE1B-464A-AC04-D5DEED2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BF3-2626-468A-A544-9B0212B5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8C7-68E6-4737-83D2-2349C370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394-7F91-435D-8E6A-E441F2C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488-6170-44AF-9E6D-D61B139B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627-2E9C-4CC5-A799-A0ECFF8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291-F477-4472-8F4A-8068325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03C-76D8-46D6-987B-B5C3655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8E4-99E1-4498-B966-5292872F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761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ощадь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составных фиг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2920" y="5084640"/>
            <a:ext cx="43196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ва Л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ООШ №7 города Бе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ме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3384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771640" y="3573000"/>
            <a:ext cx="363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8-6=2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5х2=10(см2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9х6=54(см2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10+54=64(см2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64см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24000" y="765000"/>
            <a:ext cx="4505040" cy="2576520"/>
            <a:chOff x="2124000" y="765000"/>
            <a:chExt cx="4505040" cy="2576520"/>
          </a:xfrm>
        </p:grpSpPr>
        <p:grpSp>
          <p:nvGrpSpPr>
            <p:cNvPr id="46" name=""/>
            <p:cNvGrpSpPr/>
            <p:nvPr/>
          </p:nvGrpSpPr>
          <p:grpSpPr>
            <a:xfrm>
              <a:off x="3120840" y="1311120"/>
              <a:ext cx="2310480" cy="1516320"/>
              <a:chOff x="3120840" y="1311120"/>
              <a:chExt cx="2310480" cy="1516320"/>
            </a:xfrm>
          </p:grpSpPr>
          <p:cxnSp>
            <p:nvCxnSpPr>
              <p:cNvPr id="47" name=""/>
              <p:cNvCxnSpPr/>
              <p:nvPr/>
            </p:nvCxnSpPr>
            <p:spPr>
              <a:xfrm flipH="1">
                <a:off x="3120840" y="1311480"/>
                <a:ext cx="24120" cy="1516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" name=""/>
              <p:cNvCxnSpPr/>
              <p:nvPr/>
            </p:nvCxnSpPr>
            <p:spPr>
              <a:xfrm>
                <a:off x="3144600" y="2826720"/>
                <a:ext cx="22852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" name=""/>
              <p:cNvCxnSpPr/>
              <p:nvPr/>
            </p:nvCxnSpPr>
            <p:spPr>
              <a:xfrm>
                <a:off x="3145680" y="1311120"/>
                <a:ext cx="2285280" cy="520200"/>
              </a:xfrm>
              <a:prstGeom prst="bentConnector3">
                <a:avLst>
                  <a:gd name="adj1" fmla="val 42776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0" name=""/>
              <p:cNvCxnSpPr/>
              <p:nvPr/>
            </p:nvCxnSpPr>
            <p:spPr>
              <a:xfrm>
                <a:off x="5430240" y="1830960"/>
                <a:ext cx="144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1" name=""/>
              <p:cNvCxnSpPr/>
              <p:nvPr/>
            </p:nvCxnSpPr>
            <p:spPr>
              <a:xfrm flipV="1">
                <a:off x="5430240" y="1831320"/>
                <a:ext cx="1440" cy="995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52" name=""/>
            <p:cNvSpPr/>
            <p:nvPr/>
          </p:nvSpPr>
          <p:spPr>
            <a:xfrm>
              <a:off x="3289680" y="765000"/>
              <a:ext cx="8834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24000" y="1691640"/>
              <a:ext cx="8830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45960" y="1951200"/>
              <a:ext cx="88308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2320" y="2957400"/>
              <a:ext cx="8830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132000" y="1844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34136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341360"/>
            <a:ext cx="10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1341360"/>
            <a:ext cx="0" cy="5032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2852640"/>
            <a:ext cx="23036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844640"/>
            <a:ext cx="0" cy="10080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268280"/>
            <a:ext cx="10083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844640"/>
            <a:ext cx="2303640" cy="100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220500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292428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198900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90792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1844640"/>
            <a:ext cx="0" cy="100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87640" y="1700280"/>
            <a:ext cx="2519280" cy="1657080"/>
            <a:chOff x="2987640" y="1700280"/>
            <a:chExt cx="2519280" cy="1657080"/>
          </a:xfrm>
        </p:grpSpPr>
        <p:sp>
          <p:nvSpPr>
            <p:cNvPr id="72" name=""/>
            <p:cNvSpPr/>
            <p:nvPr/>
          </p:nvSpPr>
          <p:spPr>
            <a:xfrm>
              <a:off x="2987640" y="1700280"/>
              <a:ext cx="187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9280" y="1700280"/>
              <a:ext cx="0" cy="86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59280" y="2565360"/>
              <a:ext cx="64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06920" y="256536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987640" y="3357360"/>
              <a:ext cx="251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1700280"/>
              <a:ext cx="0" cy="165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564000" y="3500280"/>
            <a:ext cx="934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134136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232000" y="231300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5256000" y="281628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63640" y="4005360"/>
            <a:ext cx="5183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-6=9 (см)-ширина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х9=108 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Х6=96 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 прямо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8+96=204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игуры равна 204 с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1700280"/>
            <a:ext cx="0" cy="865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608360" y="202392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700280"/>
            <a:ext cx="187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56536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2565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256536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-0.27569 0.00533 E">
                                      <p:cBhvr>
                                        <p:cTn id="6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1125360"/>
            <a:ext cx="1871640" cy="172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1125360"/>
            <a:ext cx="1513080" cy="1729080"/>
          </a:xfrm>
          <a:prstGeom prst="rtTriangl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292428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008000" y="195264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1280" y="292428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3573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5х5=25(см2)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вадра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(5х4):2=10(см2)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реугольни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5+10=35(см2)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фигуры 35см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6360" y="4076280"/>
            <a:ext cx="51832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5=5(см)-сторон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+5):2=5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х5=10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+10=15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игуры равна 15 с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1628640"/>
            <a:ext cx="1871640" cy="1729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1628640"/>
            <a:ext cx="1513080" cy="1729080"/>
          </a:xfrm>
          <a:prstGeom prst="rtTriangl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1368360" y="252684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3500280"/>
            <a:ext cx="934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1628640"/>
            <a:ext cx="0" cy="172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134136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311280" y="231300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1628640"/>
            <a:ext cx="187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0.20469 4.07407E-006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0.00382 0.25208 E">
                                      <p:cBhvr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 площадь фиг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2124000" y="1483560"/>
            <a:ext cx="3889440" cy="1800360"/>
          </a:xfrm>
          <a:custGeom>
            <a:avLst/>
            <a:gdLst>
              <a:gd name="textAreaLeft" fmla="*/ 855360 w 3889440"/>
              <a:gd name="textAreaRight" fmla="*/ 3034080 w 38894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148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484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148428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35772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24000" y="4005360"/>
            <a:ext cx="5183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6=4(см)-стороны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:2=2(см)- сторон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х6=36(см2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х2):2=6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ног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6+6х2=48(см2)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ей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игуры равна 48 см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3284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3284640"/>
            <a:ext cx="100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429000"/>
            <a:ext cx="9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335772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2852640"/>
            <a:ext cx="934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3:48:26Z</dcterms:created>
  <dc:creator>1</dc:creator>
  <dc:description/>
  <dc:language>en-US</dc:language>
  <cp:lastModifiedBy>1</cp:lastModifiedBy>
  <dcterms:modified xsi:type="dcterms:W3CDTF">2013-04-01T12:58:07Z</dcterms:modified>
  <cp:revision>10</cp:revision>
  <dc:subject/>
  <dc:title>Площадь составных фигур</dc:title>
</cp:coreProperties>
</file>