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A6B-E846-4016-8B49-359835E6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64E-D9D9-49C7-B8BF-5470DB7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82E-234C-4DE0-98A1-32004DA0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67A-DE54-4853-AF29-13C85351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FAF-0E64-45C9-BD01-D5986A71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7B0-4E17-45AD-9ABF-E1C5CA7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24A-F324-4440-9A47-DC937855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A70-B78F-45E2-B19D-32A053A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420-F3AB-4A24-9CE2-6407323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483-29CD-4FB9-8662-B01903ED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DE8-871B-4FC7-BEE0-8339771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3AD-5AAD-4895-86D6-94E542E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730-8847-4243-A2E5-0C67E4B14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80880" y="2133720"/>
            <a:ext cx="8458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неклассное мероприятие "Географический альпинизм.</a:t>
            </a:r>
            <a:endParaRPr b="1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корение вершины Знаний" </a:t>
            </a:r>
            <a:endParaRPr b="1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 ЗАРЕЧНЕВА О.И.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ВУК БЕЗ КАТЕГОР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Қостанай қаласы әкімдігінің білім бөлімінің №22 орта мектеп» ММ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 «Средняя школа №22 отдела образования акимата города Коста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6. Высота пятая «Штур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просы зачитываются в течение одной мину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аксимальное число очков-150, за каждый правильный ответ-10 очко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 время слабым детям (усталому альпинисту) предложить отдельное задание: выбрать из перечисленного списка животных гор: (максимум - 50 очков, за каждый правильный ответ -10 оч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ар, снежный барс, орел, горный козел, тюлень, лось, ящерица, хомяк, антилопа, кондор, каб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е ответы: архар, снежный барс, орел, горный козел, конд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066000"/>
        </p:xfrm>
        <a:graphic>
          <a:graphicData uri="http://schemas.openxmlformats.org/drawingml/2006/table">
            <a:tbl>
              <a:tblPr/>
              <a:tblGrid>
                <a:gridCol w="4816440"/>
                <a:gridCol w="4327560"/>
              </a:tblGrid>
              <a:tr h="60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вокупность неровностей земной поверхност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льеф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олны, вызываемые землетрясением и извержением подводных вулка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Цун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Что расположено в центре Земл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др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луостров России, где много вулканов и гейзер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мчат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агорье, которое именуют «крышей мир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и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Люди, изучающие землетряс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ейсмолог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Выходы фундамента, сложенного кристаллическими пород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Щи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Горы юга Сибир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лта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Горы Камча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инный хре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оры Камча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рединный хребе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Подвижные участки земной коры называются …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кладчатыми поясам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Чашеобразное углубление на вершине вулкан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ратер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Горы, которые являются границей между Европой и Азие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альск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ченый, изучающий пеще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леоло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копление пресного льда на су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едни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амый высокий вулкан Ро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лючевская Сопк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Горы, которые являются границей между Европой и Ази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ральские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ыхлые глинистые ледниковые отлож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рен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9. Горы, между Черным и Каспийским мо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вказ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Модель Зем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лобус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Устойчивые участки земной ко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латформ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Наиболе распространенные полезные ископаемые го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уд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вном количестве очков - дополнительный вопро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 списке гор лишн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нь-Ша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ала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диль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ордильеры- в Северной Амер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едение итогов.(награждение побед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роприятие можно закончить словами Омара Хайя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щим древищем ставши – достигнешь высо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дце в кровь изодравши – достигнешь высо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ь пустые мечты о великих свершеньях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с собой совладавши – достигнешь высо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знавательного и географического мышления, коммуникативных навыков общ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тие интереса к предмету географии и любви к прир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ая карта мира, Казахста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чки-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тные фла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вычертить контур горы с обозначением вершины знаний и «перевалов» с обозначением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делится на две команды. Выбирается старший «альпинис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. Сборы в дор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брать из данного списка географические приб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вели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рогра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коп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т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лет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г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пермет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быстрее и правильнее ответит на этот вопрос, получает -3 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781680" y="1371600"/>
            <a:ext cx="236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авильные 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рм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ивели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омп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игрогра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улет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аромет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люг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емо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. Первая высо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о 10 баллов за каждый правильный ответ, максимум - 50 очков). Каждая покоренная высота отмечается флаж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анды отвечают по оч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высокая вершина мира. (Эверес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я высокая гора Казахстана. (Хан-Тенгр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длинные горы на Земле. (Анд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е длинные горы России. (Ура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конечная вершина. (Пи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бное место для перехода в горах. (Перева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высокая часть горы. (Вершин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но вытянутое горное сооружение со склонами, наклоненными в противоположные стороны (Горный хребе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горы, холма. (Подошв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недышащая гора (Вулка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89154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3. Вторая высот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50 очков, по 10 очков за каждый правильный ответ и объясн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ом сложено очень много пословиц и поговорок о го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 данных слов сложить 5 пословиц и объяснить их смысл. Задание одинаковое для обеих команд. Кто быстрее справится с зад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леч, за, горами, обойдет, дела, идут, в, гору, умный, не, как, гора, пойдет, кр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авильные отв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гора с пле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т, как г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за го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 идут в го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 в гору не пойдет, умный гору обой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ые очки получит та команда, которая вспомнит другие поговорки о г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сли гора е идет к Магомеду, то Магомед сам пойдет к горе; С горы видней; Встать горой за кого-то; Гора с горою не сходится, а человек с человеком сходитс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8320" y="457200"/>
            <a:ext cx="54126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. Высота трет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00 оч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отнеси горы, вершины и их местонахож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дание первой коман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905120"/>
          <a:ext cx="4495680" cy="1981080"/>
        </p:xfrm>
        <a:graphic>
          <a:graphicData uri="http://schemas.openxmlformats.org/drawingml/2006/table">
            <a:tbl>
              <a:tblPr/>
              <a:tblGrid>
                <a:gridCol w="1650960"/>
                <a:gridCol w="1471680"/>
                <a:gridCol w="137304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у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к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бк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лас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ьб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б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81"/>
          <p:cNvSpPr/>
          <p:nvPr/>
        </p:nvSpPr>
        <p:spPr>
          <a:xfrm>
            <a:off x="839160" y="419040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дание второй коман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4724280"/>
          <a:ext cx="5361120" cy="1739880"/>
        </p:xfrm>
        <a:graphic>
          <a:graphicData uri="http://schemas.openxmlformats.org/drawingml/2006/table">
            <a:tbl>
              <a:tblPr/>
              <a:tblGrid>
                <a:gridCol w="1503360"/>
                <a:gridCol w="1646280"/>
                <a:gridCol w="2211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ная Аме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диль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а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молун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жная Аме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ала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нкагу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31840" y="-76680"/>
            <a:ext cx="6086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5. Четвертая высота.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120очков, по 20 очков за каждый правильный отв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8"/>
          <p:cNvSpPr/>
          <p:nvPr/>
        </p:nvSpPr>
        <p:spPr>
          <a:xfrm>
            <a:off x="152280" y="68580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горы «Алтай» называют золотыми горами? Ответ обосну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а горных реках Казахстана строят больше всего ГЭ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горы Казахстана являются «родиной» ябло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Казахстана, расположенные на полуостр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лезные ископаемые встречаются в хребте Карата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горах создан Маркакольский заповед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ы Казахстана богатые на месторождения драгоценных кам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высокая вершина Заилийского Алатау(Талгар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став какой горной системы входят Чу-Илийские горы (Тянь-шан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старших альпинис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120 очков, по 20 за каждый угаданный терм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акие шесть терминов к теме «Литосфера» зашифрованы в головоломке. Формы рельефа не только на суше, но и дна океана. Читать только под прямы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Желоб, котловина, вулкан, отмель, гора, хреб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Горная дуэль. Капитаны по очереди называют названия гор. Побеждает тот, кто назовет послед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00-очков победителю,80- проигравше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055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655560"/>
                <a:gridCol w="711000"/>
                <a:gridCol w="660600"/>
                <a:gridCol w="649080"/>
                <a:gridCol w="700200"/>
                <a:gridCol w="6620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4-01T13:19:0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