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56A-94C2-436B-A6F4-08CF5D4F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151-4B11-4237-9664-2E3259C6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DCB-FE4B-4D9F-8562-51B03297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B5F-2540-4F4E-AE0D-C37BDCEF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4FB-FCBB-4C40-9666-17C257DF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52C-EF79-464E-9154-8E36689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ADC-D575-48BC-89E9-0CC3D3C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4E6-0274-4C0C-BE76-465294E6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BFB-7528-4B7D-B82C-11DDED3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D1F-5C9E-49E1-AF0B-C03AD502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740-0FFF-4C1E-8D5D-7D78E84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8C5-8165-4D76-81C8-6383939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2DB-9983-45D2-A2A3-3D3CAB8E1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2133720"/>
            <a:ext cx="8458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неклассное мероприятие "Географический альпинизм.</a:t>
            </a:r>
            <a:endParaRPr b="1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корение вершины Знаний" </a:t>
            </a:r>
            <a:endParaRPr b="1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 ЗАРЕЧНЕВА О.И.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ВУК БЕЗ КАТЕГОР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Қостанай қаласы әкімдігінің білім бөлімінің №22 орта мектеп» ММ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 «Средняя школа №22 отдела образования акимата города Коста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6. Высота пятая «Штур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просы зачитываются в течение одной мину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аксимальное число очков-150, за каждый правильный ответ-10 очко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 время слабым детям (усталому альпинисту) предложить отдельное задание: выбрать из перечисленного списка животных гор: (максимум - 50 очков, за каждый правильный ответ -10 оч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р, снежный барс, орел, горный козел, тюлень, лось, ящерица, хомяк, антилопа, кондор, каб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е ответы: архар, снежный барс, орел, горный козел, конд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066000"/>
        </p:xfrm>
        <a:graphic>
          <a:graphicData uri="http://schemas.openxmlformats.org/drawingml/2006/table">
            <a:tbl>
              <a:tblPr/>
              <a:tblGrid>
                <a:gridCol w="4816440"/>
                <a:gridCol w="4327560"/>
              </a:tblGrid>
              <a:tr h="606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вокупность неровностей земной поверх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льеф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олны, вызываемые землетрясением и извержением подводных вулка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Цун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Что расположено в центре Земл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др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луостров России, где много вулканов и гейзе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мчатк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Нагорье, которое именуют «крышей мир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иб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Люди, изучающие землетряс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ейсмолог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Выходы фундамента, сложенного кристаллическими пород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Щи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Горы юга Сибир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лта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Горы Камча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рединный хреб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оры Камча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рединный хреб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Подвижные участки земной коры называются …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кладчатыми пояс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Чашеобразное углубление на вершине вулкан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ратер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Горы, которые являются границей между Европой и Ази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ральск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ченый, изучающий пеще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леоло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копление пресного льда на суш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едни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амый высокий вулкан Ро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лючевская Сопк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Горы, которые являются границей между Европой и Ази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ральск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ыхлые глинистые ледниковые отло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рен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9. Горы, между Черным и Каспийским мо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вказ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Модель Зем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обус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Устойчивые участки земной ко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тформ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Наиболе распространенные полезные ископаемые го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уд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вном количестве очков - дополнительный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 списке гор лишн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нь-Ша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ала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диль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ордильеры- в Северной Амер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едение итогов.(награждение побед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роприятие можно закончить словами Омара Хайя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щим древищем ставши – достигнешь высо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дце в кровь изодравши – достигнешь выс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ь пустые мечты о великих свершеньях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с собой совладавши – достигнешь высо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 географического мышления, коммуникативных навыков общ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тие интереса к предмету географии и любви к прир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ая карта мира, Казахста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чки- зад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нитные фла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вычертить контур горы с обозначением вершины знаний и «перевалов» с обозначением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делится на две команды. Выбирается старший «альпинис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. Сборы в дор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брать из данного списка географические приб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вели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рогра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коп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т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лет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г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пермет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быстрее и правильнее ответит на этот вопрос, получает -3 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781680" y="1371600"/>
            <a:ext cx="236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авильные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рм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ивели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мп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игрогра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улет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ар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люг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е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. Первая высо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о 10 баллов за каждый правильный ответ, максимум - 50 очков). Каждая покоренная высота отмечается флаж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анды отвечают по оч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высокая вершина мира. (Эверес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высокая гора Казахстана. (Хан-Тенгр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е длинные горы на Земле. (Анд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е длинные горы России. (Ура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оконечная вершина. (Пи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бное место для перехода в горах. (Перева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высокая часть горы. (Вершин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но вытянутое горное сооружение со склонами, наклоненными в противоположные стороны (Горный хребе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горы, холма. (Подошв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недышащая гора (Вулка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9154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3. Вторая высот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50 очков, по 10 очков за каждый правильный ответ и объяс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ом сложено очень много пословиц и поговорок о го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 данных слов сложить 5 пословиц и объяснить их смысл. Задание одинаковое для обеих команд. Кто быстрее справится с зад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леч, за, горами, обойдет, дела, идут, в, гору, умный, не, как, гора, пойдет, кр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ьные 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гора с пле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т, как г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 го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 идут в го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ый в гору не пойдет, умный гору обойд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ые очки получит та команда, которая вспомнит другие поговорки о г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сли гора е идет к Магомеду, то Магомед сам пойдет к горе; С горы видней; Встать горой за кого-то; Гора с горою не сходится, а человек с человеком сходит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8320" y="457200"/>
            <a:ext cx="54126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. Высота трет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100 очк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отнеси горы, вершины и их местонахо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дание первой коман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905120"/>
          <a:ext cx="4495680" cy="1981080"/>
        </p:xfrm>
        <a:graphic>
          <a:graphicData uri="http://schemas.openxmlformats.org/drawingml/2006/table">
            <a:tbl>
              <a:tblPr/>
              <a:tblGrid>
                <a:gridCol w="1650960"/>
                <a:gridCol w="1471680"/>
                <a:gridCol w="137304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к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бк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с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ьб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б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81"/>
          <p:cNvSpPr/>
          <p:nvPr/>
        </p:nvSpPr>
        <p:spPr>
          <a:xfrm>
            <a:off x="839160" y="41904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дание второй коман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4724280"/>
          <a:ext cx="5361120" cy="1739880"/>
        </p:xfrm>
        <a:graphic>
          <a:graphicData uri="http://schemas.openxmlformats.org/drawingml/2006/table">
            <a:tbl>
              <a:tblPr/>
              <a:tblGrid>
                <a:gridCol w="1503360"/>
                <a:gridCol w="1646280"/>
                <a:gridCol w="2211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Аме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диль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молун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ая Аме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ала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онкагу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31840" y="-76680"/>
            <a:ext cx="6086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5. Четвертая высота.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120очков, по 20 очков за каждый правильный отв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8"/>
          <p:cNvSpPr/>
          <p:nvPr/>
        </p:nvSpPr>
        <p:spPr>
          <a:xfrm>
            <a:off x="152280" y="68580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горы «Алтай» называют золотыми горами? Ответ обосну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а горных реках Казахстана строят больше всего ГЭ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горы Казахстана являются «родиной» ябло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Казахстана, расположенные на полуостр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олезные ископаемые встречаются в хребте Карата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горах создан Маркакольский заповед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Казахстана богатые на месторождения драгоценных кам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высокая вершина Заилийского Алатау(Талга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какой горной системы входят Чу-Илийские горы (Тянь-ша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старших альпин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120 очков, по 20 за каждый угаданный терм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акие шесть терминов к теме «Литосфера» зашифрованы в головоломке. Формы рельефа не только на суше, но и дна океана. Читать только под прям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Желоб, котловина, вулкан, отмель, гора, хреб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Горная дуэль. Капитаны по очереди называют названия гор. Побеждает тот, кто назовет послед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00-очков победителю,80- проигравше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055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655560"/>
                <a:gridCol w="711000"/>
                <a:gridCol w="660600"/>
                <a:gridCol w="649080"/>
                <a:gridCol w="700200"/>
                <a:gridCol w="6620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4-01T13:1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