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DDA-A4F0-4346-9758-AE3D4991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1EC-4321-47AF-8C5A-26A0BD25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60F-111A-4453-B951-73A075B3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978-8AFF-49B7-A435-E5978AC5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235-C221-4E47-B193-79C0CF2E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C6D-FBD5-4AA7-B824-0CDB294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865-B724-4125-9306-81B8535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975-6A07-4A9F-8319-92D29411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BF6-ABAC-4088-9416-F090D534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A87-00EA-41B9-852F-F15F079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A75-58CD-4C99-8056-B43E518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02D-A9E4-4AB8-BA4A-AEF008B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678-1E08-4554-ACFF-A603ADD0A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789000"/>
            <a:ext cx="777384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Lucida Calligraphy"/>
              </a:rPr>
              <a:t>Портрет  композитора </a:t>
            </a:r>
            <a:br>
              <a:rPr sz="5400"/>
            </a:br>
            <a:r>
              <a:rPr b="1" i="1" lang="en-US" sz="5400" spc="-1" strike="noStrike">
                <a:solidFill>
                  <a:srgbClr val="ff0000"/>
                </a:solidFill>
                <a:latin typeface="Lucida Calligraphy"/>
              </a:rPr>
              <a:t>в  литературе  и  ки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2851200" cy="3529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2646360" cy="352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ртрет  любого  деятеля  культуры и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скусства  создают  прежде  всего его  произведения:  музыка,  картины, скульптуры  и  пр., —  а  также  его  письма,  воспоминания  современников  и художественны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изведения  о  нем, возникшие  в  последующие  эпо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Вселенная  Моцарта»  так  называется  одна  из  книг  о  жизни  и  творчестве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</a:rPr>
              <a:t>Вольфганга  Амадея  Моцарт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(1756—1799),  австрийского  композитора,  автора  бессмертных  музыкальных  сочинений  —  Симфонии  №  40,  «Маленькой ночной  серенады»,  «Рондо  в  турецком стиле»,  «Реквиема».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551664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звестный худож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А. Моц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56868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200" spc="-1" strike="noStrike">
                <a:solidFill>
                  <a:srgbClr val="333399"/>
                </a:solidFill>
                <a:latin typeface="Times New Roman"/>
              </a:rPr>
              <a:t>Почему  музыка Моцарта  сравнивается  со  Вселенной?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идимо, потому, что в ней разнообразно  и  глубоко  раскрываются  различные  явления  жизни,  ее  вечные  темы: добро  и  зло,  любовь  и  ненависть, жизнь  и  смерть,  прекрасное  и  безобразное.  Контрасты  образов,  ситуаций составляют  главную  движущую  силу его  музыки,  которая  помогает  слушателям  понять  его  жизненное  кредо: «На  любимой  земле  несравненно  прекрасна  жизнь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2249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91200" y="98100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Смоктун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ь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292720" y="3284640"/>
            <a:ext cx="3646440" cy="23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27640" y="573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. Врубель. Иллюстрация к трагедии А. Пушкина «Моцарт и Саль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360" y="836280"/>
            <a:ext cx="4181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рагическая  кончин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царта  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озрасте  35  лет  породила  множество предположений  о  смерти  композитора,  находящегося  в  расцвете  творческих  си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дно  из  них  —  отрав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оцарта  его  современником, признанным в обществе придворным композитором  Антонио  Сальери  (1750 —1825), легло  в  основу  маленькой  трагедии А. Пушкина  «Моцарт  и Сальери»,  оперы  Н. Римского-Корсакова,  современных  кинофильмов  и  драматических спектак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2746440" cy="4105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7080" y="515772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 Шаляпин в роли Саль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602160" cy="473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76720" y="5589720"/>
            <a:ext cx="35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ег  Табаков – Сальер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 Безруков – Моц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265040"/>
            <a:ext cx="453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ую  трактовку  взаимоотношений двух  композиторов  дает  зрителям кинорежиссер  М. Форман  создатель фильма  «Амадей»,  удостоенного пяти  премий  «Оскар»  Американской киноакадемии:  обезумевший  старик Сальери,  которого  спасают  после попытки  самоубийства,  на  исповеди рассказывает  священнику  о  своих чувствах  и  переживаниях,  которые он испытывал, наблюдая  за расцветом таланта  Моцарта.  В  заключительной части  фильма  запечатлены  моменты постановки  оперы  «Волшебная  флейта»  и  создания  «Реквием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13Z</dcterms:created>
  <dc:creator>User</dc:creator>
  <dc:description/>
  <dc:language>en-US</dc:language>
  <cp:lastModifiedBy>User</cp:lastModifiedBy>
  <dcterms:modified xsi:type="dcterms:W3CDTF">2011-11-14T17:27:21Z</dcterms:modified>
  <cp:revision>3</cp:revision>
  <dc:subject/>
  <dc:title>Портрет  композитора  в  литературе  и  кино</dc:title>
</cp:coreProperties>
</file>