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5B8B-3293-4801-96F1-494F623D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3AC-D943-4A02-8AD0-06B23217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BED-D413-4502-8F5C-CA261CCB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196-C18A-46E9-9D88-29655827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256-21C6-408D-8BB1-E73EEF55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EAD-4A89-4B40-871F-7DEE8481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CDF-0105-44BD-B037-B54CABDE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E75-26F6-4A2E-A5A2-2AE34446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5CC-99A6-43DF-B91F-48610F4E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A05-6C27-4BD7-85E5-8C9CFB53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066-AF1C-4CC2-AC79-464BFB1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D5F-006C-4710-9A1D-1FFBEEB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27A5-E403-4E0C-BBD6-B8C2BCFF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789000"/>
            <a:ext cx="777384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Lucida Calligraphy"/>
              </a:rPr>
              <a:t>Портрет  композитора </a:t>
            </a:r>
            <a:br>
              <a:rPr sz="5400"/>
            </a:br>
            <a:r>
              <a:rPr b="1" i="1" lang="en-US" sz="5400" spc="-1" strike="noStrike">
                <a:solidFill>
                  <a:srgbClr val="ff0000"/>
                </a:solidFill>
                <a:latin typeface="Lucida Calligraphy"/>
              </a:rPr>
              <a:t>в  литературе  и  ки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2851200" cy="352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19640" y="620640"/>
            <a:ext cx="2646360" cy="352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604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ртрет  любого  деятеля  культуры и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скусства  создают  прежде  всего его  произведения:  музыка,  картины, скульптуры  и  пр., —  а  также  его  письма,  воспоминания  современников  и художественные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изведения  о  нем, возникшие  в  последующие  эпо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«Вселенная  Моцарта»  так  называется  одна  из  книг  о  жизни  и  творчестве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Вольфганга  Амадея  Моцарта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(1756—1799),  австрийского  композитора,  автора  бессмертных  музыкальных  сочинений  —  Симфонии  №  40,  «Маленькой ночной  серенады»,  «Рондо  в  турецком стиле»,  «Реквиема»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551664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звестный худож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А. Моц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568680" cy="381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i="1" lang="ru-RU" sz="2200" spc="-1" strike="noStrike">
                <a:solidFill>
                  <a:srgbClr val="333399"/>
                </a:solidFill>
                <a:latin typeface="Times New Roman"/>
              </a:rPr>
              <a:t>Почему  музыка Моцарта  сравнивается  со  Вселенной?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Видимо, потому, что в ней разнообразно  и  глубоко  раскрываются  различные  явления  жизни,  ее  вечные  темы: добро  и  зло,  любовь  и  ненависть, жизнь  и  смерть,  прекрасное  и  безобразное.  Контрасты  образов,  ситуаций составляют  главную  движущую  силу его  музыки,  которая  помогает  слушателям  понять  его  жизненное  кредо: «На  любимой  земле  несравненно  прекрасна  жизнь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224964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991200" y="981000"/>
            <a:ext cx="21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Смоктун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292720" y="3284640"/>
            <a:ext cx="3646440" cy="234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27640" y="573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. Врубель. Иллюстрация к трагедии А. Пушкина «Моцарт и Саль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0360" y="836280"/>
            <a:ext cx="4181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рагическая  кончина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Моцарта  в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возрасте  35  лет  породила  множество предположений  о  смерти  композитора,  находящегося  в  расцвете  творческих  си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дно  из  них  —  отравл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Моцарта  его  современником, признанным в обществе придворным композитором  Антонио  Сальери  (1750 —1825), легло  в  основу  маленькой  трагедии А. Пушкина  «Моцарт  и Сальери»,  оперы  Н. Римского-Корсакова,  современных  кинофильмов  и  драматических спектак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2746440" cy="4105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7080" y="515772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 Шаляпин в роли Саль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602160" cy="473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76720" y="5589720"/>
            <a:ext cx="35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ег  Табаков – Сальер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 Безруков – Моц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265040"/>
            <a:ext cx="453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ую  трактовку  взаимоотношений двух  композиторов  дает  зрителям кинорежиссер  М. Форман  создатель фильма  «Амадей»,  удостоенного пяти  премий  «Оскар»  Американской киноакадемии:  обезумевший  старик Сальери,  которого  спасают  после попытки  самоубийства,  на  исповеди рассказывает  священнику  о  своих чувствах  и  переживаниях,  которые он испытывал, наблюдая  за расцветом таланта  Моцарта.  В  заключительной части  фильма  запечатлены  моменты постановки  оперы  «Волшебная  флейта»  и  создания  «Реквиема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8:13Z</dcterms:created>
  <dc:creator>User</dc:creator>
  <dc:description/>
  <dc:language>en-US</dc:language>
  <cp:lastModifiedBy>User</cp:lastModifiedBy>
  <dcterms:modified xsi:type="dcterms:W3CDTF">2011-11-14T17:27:21Z</dcterms:modified>
  <cp:revision>3</cp:revision>
  <dc:subject/>
  <dc:title>Портрет  композитора  в  литературе  и  кино</dc:title>
</cp:coreProperties>
</file>