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D6C5-26A5-48D0-9FF0-492CDF0890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улу для ячей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2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мотри на следующем слай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23=3, т.к. количество вопросов здесь равно тре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9E8-D4BF-4D04-8E57-1096838D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476-1D69-4572-8048-79081410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3AC-A244-4354-8912-0A7ADDC5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FEF-5242-46D7-B5C9-05D73D60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1FD-3AC9-45B4-8866-DFCC9475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88E-44A8-4720-B86E-D8F22BC3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41F-F68A-4197-A8B3-A2FAECC3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419-7DD5-4C73-B13F-A7CB88F9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2C9-6FB5-45E4-98AD-B49FAD81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73B-EAE7-4F14-8577-45C77B25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F8A-89D2-4EEE-B6CF-9BD405B1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9D5-08ED-48AF-9BB5-E70FC7C0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2192-6426-44CE-8500-C2C4E94804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189000"/>
            <a:ext cx="88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оздание теста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 основе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лектронных табли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68360" y="5546880"/>
            <a:ext cx="777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ОУ Смышляевская ООШ №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м. р. Волжский Самарской обла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учитель математики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Уркина Светлана Николае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476360" y="4221000"/>
            <a:ext cx="2700360" cy="2025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627280" y="3789360"/>
            <a:ext cx="266400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24360" y="342900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148360" y="3141720"/>
            <a:ext cx="2590560" cy="19429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берите текст зад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образц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907272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ите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е ячейку для форму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ите формулу, начиная со знака «=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едитесь, что клавиатура находится в режиме ввода латинских симво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мите на клавиш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9840" y="52560"/>
            <a:ext cx="9074160" cy="68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ула для подсчета всех отв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ячейку в столб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5 ячеек ниже последнего ответа на последний вопрос, выделите е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у начните со знака  «=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ерете «СУММ(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кните левой кнопкой мыши на ячей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редложенный отве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ерите «: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кните левой кнопкой мыши на ячей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19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ний предложенный ответ), закройте скобку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чет правильных отве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е ячейку С23. Введите в нее формулу, начиная со знака «=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ленно выделяя ячейки с правильными ответами складывайте и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шью выберите первый правильный ответ, ячейка В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ьте знак «+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мышью следующую ячейку В13 с правильным ответом. Добавьте знак «+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огично проделайте со всеми правильными отве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чите ввод формулы клавише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чейке появится результат, а формулы в ячейке видно не буде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9840" y="52560"/>
            <a:ext cx="9074160" cy="68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2720" cy="6804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949800" y="4869000"/>
            <a:ext cx="123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лист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ктронные таблиц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S Excel 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 создания тестов для проверки знаний учащихся учителе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ля самостоятельной работ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63640" y="3573360"/>
            <a:ext cx="2700360" cy="2025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75480" y="5578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21800" y="4941720"/>
            <a:ext cx="12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лист </a:t>
            </a:r>
            <a:r>
              <a:rPr b="0" lang="ru-RU" sz="60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8960" y="3716280"/>
            <a:ext cx="495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ерии оценок в данном прим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х можно менять по желанию учителя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5» - 80-100%, «4» - 60-79%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3» - 40-59%, «2» - 0-3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2700360" cy="2025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059280" y="350028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021800" y="4941720"/>
            <a:ext cx="12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лист </a:t>
            </a:r>
            <a:r>
              <a:rPr b="0" lang="ru-RU" sz="60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2700360" cy="2025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059280" y="350028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427640" y="306864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950520" y="4941720"/>
            <a:ext cx="12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лист </a:t>
            </a:r>
            <a:r>
              <a:rPr b="0" lang="ru-RU" sz="60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2808000" cy="2106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2700360" cy="2025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059280" y="350028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427640" y="3068640"/>
            <a:ext cx="2663640" cy="19987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796000" y="2781360"/>
            <a:ext cx="2590920" cy="1942920"/>
          </a:xfrm>
          <a:prstGeom prst="rect">
            <a:avLst/>
          </a:prstGeom>
          <a:ln w="31680">
            <a:solidFill>
              <a:srgbClr val="3399ff"/>
            </a:solidFill>
            <a:miter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21800" y="4941720"/>
            <a:ext cx="12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лист </a:t>
            </a:r>
            <a:r>
              <a:rPr b="0" lang="ru-RU" sz="60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81800" y="1052640"/>
            <a:ext cx="557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то надо знат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щита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у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Отметьте ячейки, где будет разрешен ввод данн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ыберите Формат-Ячейки-Защита и очистите окно Защищаемая ячей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вторите эти операции для других областей, где ввод данных должен быть разреше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Сервис-Защита-Защитить лист. Введите, если нужно, паро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Убрать защиту можно командой Сервис-защита-Снять защиту ли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презентаци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чь учителю-предметни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здании проверочных тест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преподаваемому предме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крыть форму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ыбрать ячейку, где будет скрыта форму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Формат ячеек - Защита, поставить  галочку Скрыть форму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ервис – Защита - Защитить лист. Введите, если нужно, паро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атирование таблиц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 ячейки или диапазона изменяется командой Формат – Ячей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лкните на ячейке или выделите диапазон, где нужно изменить форм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ите категорию формата, который нужно применить (числовой, процентный или др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данной таблице применяется в ячейке результат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2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бы изменить ширину столбца, нужно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вести курсор к правой границе заголовка столбца, курсор при этом принимает форму вертикальной палочки со стрелками в разные стороны. После этого можно перетащить границу между столбцами влево или вправо, устанавливая новую ширину на «глазок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бы поместить текст в нескольких столбцах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ведите текст в самый левый столбец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метьте диапазон, в центр которого нужно поместить текст, начиная с ячейки, где он находи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Формат – Ячейки - Выравнивание – Объединение ячее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чем нужна строка форму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е мышью ячейку с заданной формул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роке формул формула будет видна, а в ячейке будет только результа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корректности тес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все вопросы с ответами и формулы будут внесены в таблицу, необходимо проверить тест  на правильность всех формул, меняя количество правильных и неправильных ответов, наблюдая за результатами и оценк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хранение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79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Файл выберите Сохранить как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ерите Папку для сохран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ле  Имя файла введите имя фай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Щелкните мышью на кнопке Сохрани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288360" cy="6967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18160" y="1557360"/>
            <a:ext cx="751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амопроверка тест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чащимис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ые ответы учителем заносятся в любой свободный столбец в виде цифры 1 и скрываются от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полнения задания правильные ответы учителем открываются для самостоятельной проверки учащими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170028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3440" y="595008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Times New Roman"/>
              </a:rPr>
              <a:t>2009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ководство к действ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аем автоматическую проверку знаний на примере тестового задания с тремя вопросами и четырьмя вариантами ответов, один из которых правильный (количество вопросов и ответов можно менять, внеся изменения в  формулы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д рабо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тестовых зад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од заданий в таблиц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 Exc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ение таблицы формул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форму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табл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корректности те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ение те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товка тестовых зад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овые задания можно составить самостоятельно или воспользоваться готов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правильных ответов может быть более одн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63640" y="2060640"/>
            <a:ext cx="59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устите программ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 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8360" cy="6967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02436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ne</cp:lastModifiedBy>
  <dcterms:modified xsi:type="dcterms:W3CDTF">2009-08-25T19:31:00Z</dcterms:modified>
  <cp:revision>12</cp:revision>
  <dc:subject/>
  <dc:title>PowerPoint Presentation</dc:title>
</cp:coreProperties>
</file>