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39906-7101-429D-8CC5-185AA2D8186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улу для ячейк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2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мотри на следующем слайд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23=3, т.к. количество вопросов здесь равно тре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6644-17F4-4329-94B8-FB3C32499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4A75-D783-4B01-8F1B-A9C800449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B8E4-F735-454B-B727-3408CD42E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092E-0EDF-47EC-8F64-5A25F2B37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C304-B2C3-4508-988E-4C893858E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5303-67B5-4F2D-BD9A-20BB4FC5E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3E7C-7FA0-4006-87F0-4227F463E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4043-7AE8-4760-B907-48DA7F367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2733-415A-4680-B19D-D75BC206F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226D-5B56-4BED-BD14-DD7D8BD7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78FB-C795-49C4-920A-ACAEFFF5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C58E-5AD0-48E3-9F67-D7E9CD00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FE040-3FCE-47B9-B6EE-616B64B652B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88360" cy="6967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4000" y="189000"/>
            <a:ext cx="882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Создание теста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на основе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электронных таблиц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68360" y="5546880"/>
            <a:ext cx="7775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МОУ Смышляевская ООШ №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м. р. Волжский Самарской области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учитель математики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Уркина Светлана Николаев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68360" y="4653000"/>
            <a:ext cx="2663640" cy="1998720"/>
          </a:xfrm>
          <a:prstGeom prst="rect">
            <a:avLst/>
          </a:prstGeom>
          <a:ln w="31680">
            <a:solidFill>
              <a:srgbClr val="3399ff"/>
            </a:solidFill>
            <a:miter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476360" y="4221000"/>
            <a:ext cx="2700360" cy="2025720"/>
          </a:xfrm>
          <a:prstGeom prst="rect">
            <a:avLst/>
          </a:prstGeom>
          <a:ln w="31680">
            <a:solidFill>
              <a:srgbClr val="3399ff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2627280" y="3789360"/>
            <a:ext cx="2664000" cy="1998720"/>
          </a:xfrm>
          <a:prstGeom prst="rect">
            <a:avLst/>
          </a:prstGeom>
          <a:ln w="31680">
            <a:solidFill>
              <a:srgbClr val="3399ff"/>
            </a:solidFill>
            <a:miter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3924360" y="3429000"/>
            <a:ext cx="2663640" cy="1998720"/>
          </a:xfrm>
          <a:prstGeom prst="rect">
            <a:avLst/>
          </a:prstGeom>
          <a:ln w="31680">
            <a:solidFill>
              <a:srgbClr val="3399ff"/>
            </a:solidFill>
            <a:miter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5148360" y="3141720"/>
            <a:ext cx="2590560" cy="1942920"/>
          </a:xfrm>
          <a:prstGeom prst="rect">
            <a:avLst/>
          </a:prstGeom>
          <a:ln w="31680">
            <a:solidFill>
              <a:srgbClr val="3399ff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0"/>
                            </p:stCondLst>
                            <p:childTnLst>
                              <p:par>
                                <p:cTn id="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7000"/>
                            </p:stCondLst>
                            <p:childTnLst>
                              <p:par>
                                <p:cTn id="52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" dur="indefinite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indefinite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436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берите текст задания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 образц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1280" y="0"/>
            <a:ext cx="9072720" cy="68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ведите формул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делите ячейку для формул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ведите формулу, начиная со знака «=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бедитесь, что клавиатура находится в режиме ввода латинских символ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жмите на клавишу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9840" y="52560"/>
            <a:ext cx="9074160" cy="68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ормула для подсчета всех ответ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берите ячейку в столбц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5 ячеек ниже последнего ответа на последний вопрос, выделите е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улу начните со знака  «=»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берете «СУММ(»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Щелкните левой кнопкой мыши на ячейк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ый предложенный ответ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берите «:»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Щелкните левой кнопкой мыши на ячейк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19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дний предложенный ответ), закройте скобку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жмит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дсчет правильных ответ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10920" y="220500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елите ячейку С23. Введите в нее формулу, начиная со знака «=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ленно выделяя ячейки с правильными ответами складывайте и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шью выберите первый правильный ответ, ячейка В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авьте знак «+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берите мышью следующую ячейку В13 с правильным ответом. Добавьте знак «+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огично проделайте со всеми правильными ответ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ончите ввод формулы клавише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ячейке появится результат, а формулы в ячейке видно не будет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9840" y="52560"/>
            <a:ext cx="9074160" cy="68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72720" cy="6804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949800" y="4869000"/>
            <a:ext cx="123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лист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60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лектронные таблицы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S Excel -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а создания тестов для проверки знаний учащихся учителем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для самостоятельной работы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ащихс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88360" cy="69674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95280" y="3860640"/>
            <a:ext cx="3024360" cy="2268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763640" y="3573360"/>
            <a:ext cx="2700360" cy="2025720"/>
          </a:xfrm>
          <a:prstGeom prst="rect">
            <a:avLst/>
          </a:prstGeom>
          <a:ln w="31680">
            <a:solidFill>
              <a:srgbClr val="3399ff"/>
            </a:solidFill>
            <a:miter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675480" y="5578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21800" y="4941720"/>
            <a:ext cx="1221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лист </a:t>
            </a:r>
            <a:r>
              <a:rPr b="0" lang="ru-RU" sz="60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18960" y="3716280"/>
            <a:ext cx="4952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итерии оценок в данном пример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их можно менять по желанию учителя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5» - 80-100%, «4» - 60-79%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3» - 40-59%, «2» - 0-3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88360" cy="69674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24000" y="4221000"/>
            <a:ext cx="3024000" cy="2268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763640" y="3933720"/>
            <a:ext cx="2700360" cy="2025720"/>
          </a:xfrm>
          <a:prstGeom prst="rect">
            <a:avLst/>
          </a:prstGeom>
          <a:ln w="31680">
            <a:solidFill>
              <a:srgbClr val="3399ff"/>
            </a:solidFill>
            <a:miter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059280" y="3500280"/>
            <a:ext cx="2663640" cy="1998720"/>
          </a:xfrm>
          <a:prstGeom prst="rect">
            <a:avLst/>
          </a:prstGeom>
          <a:ln w="31680">
            <a:solidFill>
              <a:srgbClr val="3399ff"/>
            </a:solidFill>
            <a:miter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021800" y="4941720"/>
            <a:ext cx="1221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лист </a:t>
            </a:r>
            <a:r>
              <a:rPr b="0" lang="ru-RU" sz="60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88360" cy="69674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4000" y="4221000"/>
            <a:ext cx="3024000" cy="2268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763640" y="3933720"/>
            <a:ext cx="2700360" cy="2025720"/>
          </a:xfrm>
          <a:prstGeom prst="rect">
            <a:avLst/>
          </a:prstGeom>
          <a:ln w="31680">
            <a:solidFill>
              <a:srgbClr val="3399ff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3059280" y="3500280"/>
            <a:ext cx="2663640" cy="1998720"/>
          </a:xfrm>
          <a:prstGeom prst="rect">
            <a:avLst/>
          </a:prstGeom>
          <a:ln w="31680">
            <a:solidFill>
              <a:srgbClr val="3399ff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4427640" y="3068640"/>
            <a:ext cx="2663640" cy="1998720"/>
          </a:xfrm>
          <a:prstGeom prst="rect">
            <a:avLst/>
          </a:prstGeom>
          <a:ln w="31680">
            <a:solidFill>
              <a:srgbClr val="3399ff"/>
            </a:solidFill>
            <a:miter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950520" y="4941720"/>
            <a:ext cx="1221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лист </a:t>
            </a:r>
            <a:r>
              <a:rPr b="0" lang="ru-RU" sz="60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88360" cy="6967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24000" y="4221000"/>
            <a:ext cx="2808000" cy="2106720"/>
          </a:xfrm>
          <a:prstGeom prst="rect">
            <a:avLst/>
          </a:prstGeom>
          <a:ln w="31680">
            <a:solidFill>
              <a:srgbClr val="3399ff"/>
            </a:solidFill>
            <a:miter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763640" y="3933720"/>
            <a:ext cx="2700360" cy="2025720"/>
          </a:xfrm>
          <a:prstGeom prst="rect">
            <a:avLst/>
          </a:prstGeom>
          <a:ln w="31680">
            <a:solidFill>
              <a:srgbClr val="3399ff"/>
            </a:solidFill>
            <a:miter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3059280" y="3500280"/>
            <a:ext cx="2663640" cy="1998720"/>
          </a:xfrm>
          <a:prstGeom prst="rect">
            <a:avLst/>
          </a:prstGeom>
          <a:ln w="31680">
            <a:solidFill>
              <a:srgbClr val="3399ff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4427640" y="3068640"/>
            <a:ext cx="2663640" cy="1998720"/>
          </a:xfrm>
          <a:prstGeom prst="rect">
            <a:avLst/>
          </a:prstGeom>
          <a:ln w="31680">
            <a:solidFill>
              <a:srgbClr val="3399ff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6"/>
          <a:stretch/>
        </p:blipFill>
        <p:spPr>
          <a:xfrm>
            <a:off x="5796000" y="2781360"/>
            <a:ext cx="2590920" cy="1942920"/>
          </a:xfrm>
          <a:prstGeom prst="rect">
            <a:avLst/>
          </a:prstGeom>
          <a:ln w="31680">
            <a:solidFill>
              <a:srgbClr val="3399ff"/>
            </a:solidFill>
            <a:miter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021800" y="4941720"/>
            <a:ext cx="1221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лист </a:t>
            </a:r>
            <a:r>
              <a:rPr b="0" lang="ru-RU" sz="60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88360" cy="69674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981800" y="1052640"/>
            <a:ext cx="557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Это надо знат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щита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орму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Отметьте ячейки, где будет разрешен ввод данны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Выберите Формат-Ячейки-Защита и очистите окно Защищаемая ячей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Повторите эти операции для других областей, где ввод данных должен быть разреше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Сервис-Защита-Защитить лист. Введите, если нужно, парол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Убрать защиту можно командой Сервис-защита-Снять защиту лист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 презентации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5564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мочь учителю-предметник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оздании проверочных тесто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преподаваемому предмет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скрыть формул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Выбрать ячейку, где будет скрыта формул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Формат ячеек - Защита, поставить  галочку Скрыть формул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Сервис – Защита - Защитить лист. Введите, если нужно, парол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орматирование таблиц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ат ячейки или диапазона изменяется командой Формат – Ячей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Щелкните на ячейке или выделите диапазон, где нужно изменить форма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берите категорию формата, который нужно применить (числовой, процентный или др.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В данной таблице применяется в ячейке результато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23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бы изменить ширину столбца, нужно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вести курсор к правой границе заголовка столбца, курсор при этом принимает форму вертикальной палочки со стрелками в разные стороны. После этого можно перетащить границу между столбцами влево или вправо, устанавливая новую ширину на «глазок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128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тобы поместить текст в нескольких столбцах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4360" y="242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Введите текст в самый левый столбец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Отметьте диапазон, в центр которого нужно поместить текст, начиная с ячейки, где он находитс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Формат – Ячейки - Выравнивание – Объединение ячеек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чем нужна строка форму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делите мышью ячейку с заданной формуло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троке формул формула будет видна, а в ячейке будет только результа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верка корректности тест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гда все вопросы с ответами и формулы будут внесены в таблицу, необходимо проверить тест  на правильность всех формул, меняя количество правильных и неправильных ответов, наблюдая за результатами и оценка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хранение тес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640" y="2276640"/>
            <a:ext cx="798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еню Файл выберите Сохранить как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берите Папку для сохранени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оле  Имя файла введите имя файл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Щелкните мышью на кнопке Сохранит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288360" cy="69674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118160" y="1557360"/>
            <a:ext cx="7511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Самопроверка тест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учащимис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3716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ильные ответы учителем заносятся в любой свободный столбец в виде цифры 1 и скрываются от учащихс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 выполнения задания правильные ответы учителем открываются для самостоятельной проверки учащимис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88360" cy="69674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68360" y="1700280"/>
            <a:ext cx="867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13440" y="5950080"/>
            <a:ext cx="106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Times New Roman"/>
              </a:rPr>
              <a:t>2009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уководство к действи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0000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работаем автоматическую проверку знаний на примере тестового задания с тремя вопросами и четырьмя вариантами ответов, один из которых правильный (количество вопросов и ответов можно менять, внеся изменения в  формулы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од работы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ка тестовых задан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вод заданий в таблицу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S Exc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олнение таблицы формула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щита форму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атирование таблиц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рка корректности тес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хранение тес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дготовка тестовых зада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128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стовые задания можно составить самостоятельно или воспользоваться готовы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ичество правильных ответов может быть более одног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763640" y="2060640"/>
            <a:ext cx="59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пустите программу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S Exc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88360" cy="69674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95280" y="3860640"/>
            <a:ext cx="3024360" cy="22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one</cp:lastModifiedBy>
  <dcterms:modified xsi:type="dcterms:W3CDTF">2009-08-25T19:31:00Z</dcterms:modified>
  <cp:revision>12</cp:revision>
  <dc:subject/>
  <dc:title>PowerPoint Presentation</dc:title>
</cp:coreProperties>
</file>