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1D7-DD19-45BB-A3F7-2B16C2A5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88C-F875-41CB-BAA7-71A87942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DF0-6AB6-42FD-9728-34D65186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4A3-9624-427C-9C62-BF676E5B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6D04-FBA7-43D8-B13E-E32ECE5C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3AE9-0EDC-4E21-A159-B9C68FDF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642A-D8FC-4550-8EFF-2550F3A2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5395-897B-4192-952A-62FD74AD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A013-4E89-438D-BB47-E26CC310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5FF4-E988-41DE-80E3-17A97193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B12C-E6FC-4DB6-8281-55755E78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DA0-1C06-43BF-A997-B173B194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C6F2-55C0-414B-82E1-4F6AD492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E291-7096-4E6C-8347-0AB0CB22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2620-CE63-4C12-BE8D-A732B643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2DDF-F62A-41EA-B9A8-7DF2AD1B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FC5A-D063-44D2-8382-F4211EF8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0B2-E888-4670-863E-15272F5B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AD7-08A5-4DBA-8BF1-4A745F8D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E76-E250-40F0-AA43-AAE211D3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D90-61F0-4C09-97C7-79D40AD9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D8D-DBA5-42D7-9952-FE0918F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CF0-22AA-4702-A480-B05EA6FF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68E-C4C0-4C3C-989D-E491ECC2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7DE8-7219-483B-8E74-F950B1D9B76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324A-C971-4DCA-BF11-DFC099B1C3F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araoke.ru/user/orchideya" TargetMode="External"/><Relationship Id="rId2" Type="http://schemas.openxmlformats.org/officeDocument/2006/relationships/hyperlink" Target="http://viki.rdf.ru/item/300" TargetMode="External"/><Relationship Id="rId3" Type="http://schemas.openxmlformats.org/officeDocument/2006/relationships/hyperlink" Target="http://blogs.mail.ru/mail/asteri80/7CB037FA1ED7299B.html" TargetMode="External"/><Relationship Id="rId4" Type="http://schemas.openxmlformats.org/officeDocument/2006/relationships/hyperlink" Target="http://www.photoshare.ru/photo714241.html" TargetMode="External"/><Relationship Id="rId5" Type="http://schemas.openxmlformats.org/officeDocument/2006/relationships/hyperlink" Target="http://perkovsky.ru/musik/vals.../03.mp3" TargetMode="External"/><Relationship Id="rId6" Type="http://schemas.openxmlformats.org/officeDocument/2006/relationships/hyperlink" Target="http://perkovsky.ru/musik/vals.../03.mp3" TargetMode="External"/><Relationship Id="rId7" Type="http://schemas.openxmlformats.org/officeDocument/2006/relationships/hyperlink" Target="http://perkovsky.ru/musik/vals.../03.mp3" TargetMode="External"/><Relationship Id="rId8" Type="http://schemas.openxmlformats.org/officeDocument/2006/relationships/hyperlink" Target="http://perkovsky.ru/musik/vals.../03.mp3" TargetMode="External"/><Relationship Id="rId9" Type="http://schemas.openxmlformats.org/officeDocument/2006/relationships/hyperlink" Target="http://perkovsky.ru/musik/vals.../03.mp3" TargetMode="External"/><Relationship Id="rId10" Type="http://schemas.openxmlformats.org/officeDocument/2006/relationships/hyperlink" Target="http://perkovsky.ru/musik/vals.../03.mp3" TargetMode="External"/><Relationship Id="rId11" Type="http://schemas.openxmlformats.org/officeDocument/2006/relationships/hyperlink" Target="http://perkovsky.ru/musik/vals.../03.mp3" TargetMode="External"/><Relationship Id="rId12" Type="http://schemas.openxmlformats.org/officeDocument/2006/relationships/hyperlink" Target="http://perkovsky.ru/musik/vals.../03.mp3" TargetMode="External"/><Relationship Id="rId13" Type="http://schemas.openxmlformats.org/officeDocument/2006/relationships/hyperlink" Target="http://perkovsky.ru/musik/vals.../03.mp3" TargetMode="External"/><Relationship Id="rId14" Type="http://schemas.openxmlformats.org/officeDocument/2006/relationships/hyperlink" Target="http://perkovsky.ru/musik/vals.../03.mp3" TargetMode="External"/><Relationship Id="rId15" Type="http://schemas.openxmlformats.org/officeDocument/2006/relationships/hyperlink" Target="http://perkovsky.ru/musik/vals.../03.mp3" TargetMode="External"/><Relationship Id="rId16" Type="http://schemas.openxmlformats.org/officeDocument/2006/relationships/hyperlink" Target="http://perkovsky.ru/musik/vals.../03.mp3" TargetMode="External"/><Relationship Id="rId17" Type="http://schemas.openxmlformats.org/officeDocument/2006/relationships/hyperlink" Target="http://d143.musichere.org/ferry/downlond/DqT5gVPMGXxdmRTGIc" TargetMode="External"/><Relationship Id="rId18" Type="http://schemas.openxmlformats.org/officeDocument/2006/relationships/hyperlink" Target="http://d143.musichere.org/ferry/downlond/DqT5gVPMGXxdmRTGIc" TargetMode="External"/><Relationship Id="rId19" Type="http://schemas.openxmlformats.org/officeDocument/2006/relationships/hyperlink" Target="http://d143.musichere.org/ferry/downlond/DqT5gVPMGXxdmRTGIc" TargetMode="External"/><Relationship Id="rId20" Type="http://schemas.openxmlformats.org/officeDocument/2006/relationships/hyperlink" Target="http://d143.musichere.org/ferry/downlond/DqT5gVPMGXxdmRTGIc" TargetMode="External"/><Relationship Id="rId21" Type="http://schemas.openxmlformats.org/officeDocument/2006/relationships/hyperlink" Target="http://d143.musichere.org/ferry/downlond/DqT5gVPMGXxdmRTGIc" TargetMode="External"/><Relationship Id="rId22" Type="http://schemas.openxmlformats.org/officeDocument/2006/relationships/hyperlink" Target="http://d143.musichere.org/ferry/downlond/DqT5gVPMGXxdmRTGIc" TargetMode="External"/><Relationship Id="rId23" Type="http://schemas.openxmlformats.org/officeDocument/2006/relationships/hyperlink" Target="http://d143.musichere.org/ferry/downlond/DqT5gVPMGXxdmRTGIc" TargetMode="External"/><Relationship Id="rId24" Type="http://schemas.openxmlformats.org/officeDocument/2006/relationships/hyperlink" Target="http://d143.musichere.org/ferry/downlond/DqT5gVPMGXxdmRTGIc" TargetMode="External"/><Relationship Id="rId25" Type="http://schemas.openxmlformats.org/officeDocument/2006/relationships/hyperlink" Target="http://d143.musichere.org/ferry/downlond/DqT5gVPMGXxdmRTGIc" TargetMode="External"/><Relationship Id="rId26" Type="http://schemas.openxmlformats.org/officeDocument/2006/relationships/hyperlink" Target="http://d143.musichere.org/ferry/downlond/DqT5gVPMGXxdmRTGIc" TargetMode="External"/><Relationship Id="rId27" Type="http://schemas.openxmlformats.org/officeDocument/2006/relationships/hyperlink" Target="http://d143.musichere.org/ferry/downlond/DqT5gVPMGXxdmRTGIc" TargetMode="External"/><Relationship Id="rId28" Type="http://schemas.openxmlformats.org/officeDocument/2006/relationships/hyperlink" Target="http://d143.musichere.org/ferry/downlond/DqT5gVPMGXxdmRTGIc" TargetMode="External"/><Relationship Id="rId29" Type="http://schemas.openxmlformats.org/officeDocument/2006/relationships/hyperlink" Target="http://d143.musichere.org/ferry/downlond/DqT5gVPMGXxdmRTGIc" TargetMode="External"/><Relationship Id="rId30" Type="http://schemas.openxmlformats.org/officeDocument/2006/relationships/hyperlink" Target="http://d143.musichere.org/ferry/downlond/DqT5gVPMGXxdmRTGIc" TargetMode="External"/><Relationship Id="rId31" Type="http://schemas.openxmlformats.org/officeDocument/2006/relationships/hyperlink" Target="http://d143.musichere.org/ferry/downlond/DqT5gVPMGXxdmRTGIc" TargetMode="Externa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00040" y="2714760"/>
            <a:ext cx="8346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неклассное мероприят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 Потому что мама ряд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мама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928800" y="642960"/>
            <a:ext cx="6858000" cy="5537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785880" y="142920"/>
            <a:ext cx="77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ому что мама рядо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571680" y="285840"/>
            <a:ext cx="671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акие руки у мамы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акое сердце у мамы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 голос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Рисунок 2" descr="мама2.jpg"/>
          <p:cNvPicPr/>
          <p:nvPr/>
        </p:nvPicPr>
        <p:blipFill>
          <a:blip r:embed="rId1"/>
          <a:stretch/>
        </p:blipFill>
        <p:spPr>
          <a:xfrm>
            <a:off x="3857760" y="2286000"/>
            <a:ext cx="3714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136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и солнышке тепло, а при матери добр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ез матери нет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ся гордость мира от матер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рино сердце в дет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Рисунок 2" descr="мама3.jpg"/>
          <p:cNvPicPr/>
          <p:nvPr/>
        </p:nvPicPr>
        <p:blipFill>
          <a:blip r:embed="rId1"/>
          <a:stretch/>
        </p:blipFill>
        <p:spPr>
          <a:xfrm>
            <a:off x="2857680" y="3071880"/>
            <a:ext cx="6048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1"/>
          <p:cNvGrpSpPr/>
          <p:nvPr/>
        </p:nvGrpSpPr>
        <p:grpSpPr>
          <a:xfrm>
            <a:off x="378000" y="658800"/>
            <a:ext cx="8632800" cy="1706400"/>
            <a:chOff x="378000" y="658800"/>
            <a:chExt cx="8632800" cy="1706400"/>
          </a:xfrm>
        </p:grpSpPr>
        <p:pic>
          <p:nvPicPr>
            <p:cNvPr id="90" name="Rectangle 1" descr=""/>
            <p:cNvPicPr/>
            <p:nvPr/>
          </p:nvPicPr>
          <p:blipFill>
            <a:blip r:embed="rId1"/>
            <a:stretch/>
          </p:blipFill>
          <p:spPr>
            <a:xfrm>
              <a:off x="378000" y="658800"/>
              <a:ext cx="86328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28760" y="682560"/>
              <a:ext cx="8215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Составьте предложение со словами: доброта, любовь, радость, красота.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2" name="Рисунок 2" descr="мама 4.jpg"/>
          <p:cNvPicPr/>
          <p:nvPr/>
        </p:nvPicPr>
        <p:blipFill>
          <a:blip r:embed="rId2"/>
          <a:stretch/>
        </p:blipFill>
        <p:spPr>
          <a:xfrm>
            <a:off x="1500120" y="2428920"/>
            <a:ext cx="62866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506880" y="5000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imes New Roman"/>
              </a:rPr>
              <a:t>Ссы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45360" y="24120"/>
            <a:ext cx="92772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Картин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"/>
              </a:rPr>
              <a:t>http://www.karaoke.ru/user/orchide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"/>
              </a:rPr>
              <a:t>http://viki.rdf.ru/item/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"/>
              </a:rPr>
              <a:t>http://blogs.mail.ru/mail/asteri80/7CB037FA1ED7299B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4"/>
              </a:rPr>
              <a:t>http://www.photoshare.ru/photo71424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Музы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6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7"/>
              </a:rPr>
              <a:t>perkovsky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1"/>
              </a:rPr>
              <a:t>musik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3"/>
              </a:rPr>
              <a:t>vals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4"/>
              </a:rPr>
              <a:t>.../03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5"/>
              </a:rPr>
              <a:t>m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6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7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8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9"/>
              </a:rPr>
              <a:t>d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0"/>
              </a:rPr>
              <a:t>143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1"/>
              </a:rPr>
              <a:t>musichere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2"/>
              </a:rPr>
              <a:t>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3"/>
              </a:rPr>
              <a:t>org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5"/>
              </a:rPr>
              <a:t>ferry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6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7"/>
              </a:rPr>
              <a:t>downlond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8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9"/>
              </a:rPr>
              <a:t>DqT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0"/>
              </a:rPr>
              <a:t>5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1"/>
              </a:rPr>
              <a:t>gVPMGXxdmRT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KKre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-6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n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...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ru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magukov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http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://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reklamgarant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com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www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:…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esa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mp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9:52:19Z</dcterms:created>
  <dc:creator>user</dc:creator>
  <dc:description/>
  <dc:language>en-US</dc:language>
  <cp:lastModifiedBy>Катя</cp:lastModifiedBy>
  <dcterms:modified xsi:type="dcterms:W3CDTF">2013-02-18T18:50:21Z</dcterms:modified>
  <cp:revision>10</cp:revision>
  <dc:subject/>
  <dc:title>Слайд 1</dc:title>
</cp:coreProperties>
</file>