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FF14-ECF0-4BFF-B22F-9638E136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8B48-1A38-4382-B259-89D92F05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E59D-5D83-4752-98FC-58E31918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C2AB-D8D9-4D2D-B1F7-83C24CD0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C391-85C2-4892-B251-1D23C896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D7BF-B0A3-4949-A225-F1BBC0C5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C620-E091-4E31-945D-ECE4DCD7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0604-2C05-4720-B320-BFEE8355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0586-39C8-410E-8BAA-6E4EB7FD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AC64-AFA4-4D71-869B-E2CCD2EC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3B68-BD2F-48C7-81B5-62092892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237B-5FD5-43EE-BEF6-F199DC57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9F16-C601-4D55-8179-10F12EFF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569D-747F-48B5-B6A2-9291BD04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9FA5-1167-46D1-9A59-45EED58C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4AF9-CE9D-4FA8-9051-4F878D5B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347A-ADE9-47E4-8765-16D914A5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8464-26B7-4C4F-A135-96CACA71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32F4-38DB-4323-AFE9-4AB35400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8EFE-B8A3-4561-A329-D4271BB3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26C7-EC47-4F82-8ECF-C4F2C961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B50D-B8D5-4387-8430-CBD91EA1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10AB-AD6C-45DD-9888-7CC7982A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7329-8748-49D4-81EB-74C03281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8EEC-17E2-4FAC-A9A4-31E63B85594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9743-A513-481F-ABC5-8C99C063040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araoke.ru/user/orchideya" TargetMode="External"/><Relationship Id="rId2" Type="http://schemas.openxmlformats.org/officeDocument/2006/relationships/hyperlink" Target="http://viki.rdf.ru/item/300" TargetMode="External"/><Relationship Id="rId3" Type="http://schemas.openxmlformats.org/officeDocument/2006/relationships/hyperlink" Target="http://blogs.mail.ru/mail/asteri80/7CB037FA1ED7299B.html" TargetMode="External"/><Relationship Id="rId4" Type="http://schemas.openxmlformats.org/officeDocument/2006/relationships/hyperlink" Target="http://www.photoshare.ru/photo714241.html" TargetMode="External"/><Relationship Id="rId5" Type="http://schemas.openxmlformats.org/officeDocument/2006/relationships/hyperlink" Target="http://perkovsky.ru/musik/vals.../03.mp3" TargetMode="External"/><Relationship Id="rId6" Type="http://schemas.openxmlformats.org/officeDocument/2006/relationships/hyperlink" Target="http://perkovsky.ru/musik/vals.../03.mp3" TargetMode="External"/><Relationship Id="rId7" Type="http://schemas.openxmlformats.org/officeDocument/2006/relationships/hyperlink" Target="http://perkovsky.ru/musik/vals.../03.mp3" TargetMode="External"/><Relationship Id="rId8" Type="http://schemas.openxmlformats.org/officeDocument/2006/relationships/hyperlink" Target="http://perkovsky.ru/musik/vals.../03.mp3" TargetMode="External"/><Relationship Id="rId9" Type="http://schemas.openxmlformats.org/officeDocument/2006/relationships/hyperlink" Target="http://perkovsky.ru/musik/vals.../03.mp3" TargetMode="External"/><Relationship Id="rId10" Type="http://schemas.openxmlformats.org/officeDocument/2006/relationships/hyperlink" Target="http://perkovsky.ru/musik/vals.../03.mp3" TargetMode="External"/><Relationship Id="rId11" Type="http://schemas.openxmlformats.org/officeDocument/2006/relationships/hyperlink" Target="http://perkovsky.ru/musik/vals.../03.mp3" TargetMode="External"/><Relationship Id="rId12" Type="http://schemas.openxmlformats.org/officeDocument/2006/relationships/hyperlink" Target="http://perkovsky.ru/musik/vals.../03.mp3" TargetMode="External"/><Relationship Id="rId13" Type="http://schemas.openxmlformats.org/officeDocument/2006/relationships/hyperlink" Target="http://perkovsky.ru/musik/vals.../03.mp3" TargetMode="External"/><Relationship Id="rId14" Type="http://schemas.openxmlformats.org/officeDocument/2006/relationships/hyperlink" Target="http://perkovsky.ru/musik/vals.../03.mp3" TargetMode="External"/><Relationship Id="rId15" Type="http://schemas.openxmlformats.org/officeDocument/2006/relationships/hyperlink" Target="http://perkovsky.ru/musik/vals.../03.mp3" TargetMode="External"/><Relationship Id="rId16" Type="http://schemas.openxmlformats.org/officeDocument/2006/relationships/hyperlink" Target="http://perkovsky.ru/musik/vals.../03.mp3" TargetMode="External"/><Relationship Id="rId17" Type="http://schemas.openxmlformats.org/officeDocument/2006/relationships/hyperlink" Target="http://d143.musichere.org/ferry/downlond/DqT5gVPMGXxdmRTGIc" TargetMode="External"/><Relationship Id="rId18" Type="http://schemas.openxmlformats.org/officeDocument/2006/relationships/hyperlink" Target="http://d143.musichere.org/ferry/downlond/DqT5gVPMGXxdmRTGIc" TargetMode="External"/><Relationship Id="rId19" Type="http://schemas.openxmlformats.org/officeDocument/2006/relationships/hyperlink" Target="http://d143.musichere.org/ferry/downlond/DqT5gVPMGXxdmRTGIc" TargetMode="External"/><Relationship Id="rId20" Type="http://schemas.openxmlformats.org/officeDocument/2006/relationships/hyperlink" Target="http://d143.musichere.org/ferry/downlond/DqT5gVPMGXxdmRTGIc" TargetMode="External"/><Relationship Id="rId21" Type="http://schemas.openxmlformats.org/officeDocument/2006/relationships/hyperlink" Target="http://d143.musichere.org/ferry/downlond/DqT5gVPMGXxdmRTGIc" TargetMode="External"/><Relationship Id="rId22" Type="http://schemas.openxmlformats.org/officeDocument/2006/relationships/hyperlink" Target="http://d143.musichere.org/ferry/downlond/DqT5gVPMGXxdmRTGIc" TargetMode="External"/><Relationship Id="rId23" Type="http://schemas.openxmlformats.org/officeDocument/2006/relationships/hyperlink" Target="http://d143.musichere.org/ferry/downlond/DqT5gVPMGXxdmRTGIc" TargetMode="External"/><Relationship Id="rId24" Type="http://schemas.openxmlformats.org/officeDocument/2006/relationships/hyperlink" Target="http://d143.musichere.org/ferry/downlond/DqT5gVPMGXxdmRTGIc" TargetMode="External"/><Relationship Id="rId25" Type="http://schemas.openxmlformats.org/officeDocument/2006/relationships/hyperlink" Target="http://d143.musichere.org/ferry/downlond/DqT5gVPMGXxdmRTGIc" TargetMode="External"/><Relationship Id="rId26" Type="http://schemas.openxmlformats.org/officeDocument/2006/relationships/hyperlink" Target="http://d143.musichere.org/ferry/downlond/DqT5gVPMGXxdmRTGIc" TargetMode="External"/><Relationship Id="rId27" Type="http://schemas.openxmlformats.org/officeDocument/2006/relationships/hyperlink" Target="http://d143.musichere.org/ferry/downlond/DqT5gVPMGXxdmRTGIc" TargetMode="External"/><Relationship Id="rId28" Type="http://schemas.openxmlformats.org/officeDocument/2006/relationships/hyperlink" Target="http://d143.musichere.org/ferry/downlond/DqT5gVPMGXxdmRTGIc" TargetMode="External"/><Relationship Id="rId29" Type="http://schemas.openxmlformats.org/officeDocument/2006/relationships/hyperlink" Target="http://d143.musichere.org/ferry/downlond/DqT5gVPMGXxdmRTGIc" TargetMode="External"/><Relationship Id="rId30" Type="http://schemas.openxmlformats.org/officeDocument/2006/relationships/hyperlink" Target="http://d143.musichere.org/ferry/downlond/DqT5gVPMGXxdmRTGIc" TargetMode="External"/><Relationship Id="rId31" Type="http://schemas.openxmlformats.org/officeDocument/2006/relationships/hyperlink" Target="http://d143.musichere.org/ferry/downlond/DqT5gVPMGXxdmRTGIc" TargetMode="External"/><Relationship Id="rId3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500040" y="2714760"/>
            <a:ext cx="83469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неклассное мероприят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 Потому что мама рядом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2" descr="мама.jpg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928800" y="642960"/>
            <a:ext cx="6858000" cy="553716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785880" y="142920"/>
            <a:ext cx="776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тому что мама рядом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571680" y="285840"/>
            <a:ext cx="671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Какие руки у мамы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Какое сердце у мамы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А голос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Рисунок 2" descr="мама2.jpg"/>
          <p:cNvPicPr/>
          <p:nvPr/>
        </p:nvPicPr>
        <p:blipFill>
          <a:blip r:embed="rId1"/>
          <a:stretch/>
        </p:blipFill>
        <p:spPr>
          <a:xfrm>
            <a:off x="3857760" y="2286000"/>
            <a:ext cx="37144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0" y="136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и солнышке тепло, а при матери добр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ез матери нет челове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ся гордость мира от матер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атерино сердце в детя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Рисунок 2" descr="мама3.jpg"/>
          <p:cNvPicPr/>
          <p:nvPr/>
        </p:nvPicPr>
        <p:blipFill>
          <a:blip r:embed="rId1"/>
          <a:stretch/>
        </p:blipFill>
        <p:spPr>
          <a:xfrm>
            <a:off x="2857680" y="3071880"/>
            <a:ext cx="60483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1"/>
          <p:cNvGrpSpPr/>
          <p:nvPr/>
        </p:nvGrpSpPr>
        <p:grpSpPr>
          <a:xfrm>
            <a:off x="378000" y="658800"/>
            <a:ext cx="8632800" cy="1706400"/>
            <a:chOff x="378000" y="658800"/>
            <a:chExt cx="8632800" cy="1706400"/>
          </a:xfrm>
        </p:grpSpPr>
        <p:pic>
          <p:nvPicPr>
            <p:cNvPr id="90" name="Rectangle 1" descr=""/>
            <p:cNvPicPr/>
            <p:nvPr/>
          </p:nvPicPr>
          <p:blipFill>
            <a:blip r:embed="rId1"/>
            <a:stretch/>
          </p:blipFill>
          <p:spPr>
            <a:xfrm>
              <a:off x="378000" y="658800"/>
              <a:ext cx="863280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28760" y="682560"/>
              <a:ext cx="8215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Составьте предложение со словами: доброта, любовь, радость, красота.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2" name="Рисунок 2" descr="мама 4.jpg"/>
          <p:cNvPicPr/>
          <p:nvPr/>
        </p:nvPicPr>
        <p:blipFill>
          <a:blip r:embed="rId2"/>
          <a:stretch/>
        </p:blipFill>
        <p:spPr>
          <a:xfrm>
            <a:off x="1500120" y="2428920"/>
            <a:ext cx="628668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506880" y="5000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Times New Roman"/>
              </a:rPr>
              <a:t>Ссыл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45360" y="24120"/>
            <a:ext cx="927720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Картин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"/>
              </a:rPr>
              <a:t>http://www.karaoke.ru/user/orchide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"/>
              </a:rPr>
              <a:t>http://viki.rdf.ru/item/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3"/>
              </a:rPr>
              <a:t>http://blogs.mail.ru/mail/asteri80/7CB037FA1ED7299B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4"/>
              </a:rPr>
              <a:t>http://www.photoshare.ru/photo714241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Музы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6"/>
              </a:rPr>
              <a:t>://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7"/>
              </a:rPr>
              <a:t>perkovsky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8"/>
              </a:rPr>
              <a:t>.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9"/>
              </a:rPr>
              <a:t>ru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1"/>
              </a:rPr>
              <a:t>musik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2"/>
              </a:rPr>
              <a:t>/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3"/>
              </a:rPr>
              <a:t>vals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4"/>
              </a:rPr>
              <a:t>.../03.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5"/>
              </a:rPr>
              <a:t>mp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6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7"/>
              </a:rPr>
              <a:t>http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8"/>
              </a:rPr>
              <a:t>://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9"/>
              </a:rPr>
              <a:t>d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0"/>
              </a:rPr>
              <a:t>143.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1"/>
              </a:rPr>
              <a:t>musichere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2"/>
              </a:rPr>
              <a:t>.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3"/>
              </a:rPr>
              <a:t>org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4"/>
              </a:rPr>
              <a:t>/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5"/>
              </a:rPr>
              <a:t>ferry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6"/>
              </a:rPr>
              <a:t>/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7"/>
              </a:rPr>
              <a:t>downlond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8"/>
              </a:rPr>
              <a:t>/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9"/>
              </a:rPr>
              <a:t>DqT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30"/>
              </a:rPr>
              <a:t>5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31"/>
              </a:rPr>
              <a:t>gVPMGXxdmRT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http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://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KKre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-6.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n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....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ru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magukov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http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://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reklamgarant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com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www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:…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esa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mp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09:52:19Z</dcterms:created>
  <dc:creator>user</dc:creator>
  <dc:description/>
  <dc:language>en-US</dc:language>
  <cp:lastModifiedBy>Катя</cp:lastModifiedBy>
  <dcterms:modified xsi:type="dcterms:W3CDTF">2013-02-18T18:50:21Z</dcterms:modified>
  <cp:revision>10</cp:revision>
  <dc:subject/>
  <dc:title>Слайд 1</dc:title>
</cp:coreProperties>
</file>