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6B0-06B4-4B4C-88DF-8486724E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515-B77F-4561-8279-445006DC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443-8032-4893-96E7-1B99132B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032-45EC-466A-9B7F-AF887064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0F24-3885-41FC-9270-A5797154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BCCD-0716-40B5-8A34-A2694CCE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2E74-26DF-4C89-A913-288BA175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04D3-1072-4C9A-8391-DB8EB5D1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DF02-0C0E-42A1-8D84-1AC2C623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EBF3-621E-44AB-8FB2-FEDDA154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261E-C527-4827-B7CB-24BDE8CD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0F2-65C6-487F-810D-6338FE5A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ECCB-1032-4F33-AE02-C9A7F0E4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EDAA-0E9A-43EF-A6BB-B73D7CB5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4C30-A32A-4F24-ABB5-A9311AA0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8B3B-AF8D-487C-896B-D6BBD461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74FF-0D25-4133-A45D-61A81ADA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1F8-E151-4121-839C-854E6E41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2F7-2855-4BBE-9235-92B18E39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52C-1F1C-48DC-8119-5DA46264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393-8616-41AC-A2DB-2B093D43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698-8ABD-4FC8-A807-945AD2D6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0EE-06CC-4F46-AF0C-96712A89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999-9773-422C-878D-028D5F36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C48E-2B7A-4823-97F5-9DCFEA0364E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89A7-6C6C-446A-8DCF-5AD0F4F0C7C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araoke.ru/user/orchideya" TargetMode="External"/><Relationship Id="rId2" Type="http://schemas.openxmlformats.org/officeDocument/2006/relationships/hyperlink" Target="http://viki.rdf.ru/item/300" TargetMode="External"/><Relationship Id="rId3" Type="http://schemas.openxmlformats.org/officeDocument/2006/relationships/hyperlink" Target="http://blogs.mail.ru/mail/asteri80/7CB037FA1ED7299B.html" TargetMode="External"/><Relationship Id="rId4" Type="http://schemas.openxmlformats.org/officeDocument/2006/relationships/hyperlink" Target="http://www.photoshare.ru/photo714241.html" TargetMode="External"/><Relationship Id="rId5" Type="http://schemas.openxmlformats.org/officeDocument/2006/relationships/hyperlink" Target="http://perkovsky.ru/musik/vals.../03.mp3" TargetMode="External"/><Relationship Id="rId6" Type="http://schemas.openxmlformats.org/officeDocument/2006/relationships/hyperlink" Target="http://perkovsky.ru/musik/vals.../03.mp3" TargetMode="External"/><Relationship Id="rId7" Type="http://schemas.openxmlformats.org/officeDocument/2006/relationships/hyperlink" Target="http://perkovsky.ru/musik/vals.../03.mp3" TargetMode="External"/><Relationship Id="rId8" Type="http://schemas.openxmlformats.org/officeDocument/2006/relationships/hyperlink" Target="http://perkovsky.ru/musik/vals.../03.mp3" TargetMode="External"/><Relationship Id="rId9" Type="http://schemas.openxmlformats.org/officeDocument/2006/relationships/hyperlink" Target="http://perkovsky.ru/musik/vals.../03.mp3" TargetMode="External"/><Relationship Id="rId10" Type="http://schemas.openxmlformats.org/officeDocument/2006/relationships/hyperlink" Target="http://perkovsky.ru/musik/vals.../03.mp3" TargetMode="External"/><Relationship Id="rId11" Type="http://schemas.openxmlformats.org/officeDocument/2006/relationships/hyperlink" Target="http://perkovsky.ru/musik/vals.../03.mp3" TargetMode="External"/><Relationship Id="rId12" Type="http://schemas.openxmlformats.org/officeDocument/2006/relationships/hyperlink" Target="http://perkovsky.ru/musik/vals.../03.mp3" TargetMode="External"/><Relationship Id="rId13" Type="http://schemas.openxmlformats.org/officeDocument/2006/relationships/hyperlink" Target="http://perkovsky.ru/musik/vals.../03.mp3" TargetMode="External"/><Relationship Id="rId14" Type="http://schemas.openxmlformats.org/officeDocument/2006/relationships/hyperlink" Target="http://perkovsky.ru/musik/vals.../03.mp3" TargetMode="External"/><Relationship Id="rId15" Type="http://schemas.openxmlformats.org/officeDocument/2006/relationships/hyperlink" Target="http://perkovsky.ru/musik/vals.../03.mp3" TargetMode="External"/><Relationship Id="rId16" Type="http://schemas.openxmlformats.org/officeDocument/2006/relationships/hyperlink" Target="http://perkovsky.ru/musik/vals.../03.mp3" TargetMode="External"/><Relationship Id="rId17" Type="http://schemas.openxmlformats.org/officeDocument/2006/relationships/hyperlink" Target="http://d143.musichere.org/ferry/downlond/DqT5gVPMGXxdmRTGIc" TargetMode="External"/><Relationship Id="rId18" Type="http://schemas.openxmlformats.org/officeDocument/2006/relationships/hyperlink" Target="http://d143.musichere.org/ferry/downlond/DqT5gVPMGXxdmRTGIc" TargetMode="External"/><Relationship Id="rId19" Type="http://schemas.openxmlformats.org/officeDocument/2006/relationships/hyperlink" Target="http://d143.musichere.org/ferry/downlond/DqT5gVPMGXxdmRTGIc" TargetMode="External"/><Relationship Id="rId20" Type="http://schemas.openxmlformats.org/officeDocument/2006/relationships/hyperlink" Target="http://d143.musichere.org/ferry/downlond/DqT5gVPMGXxdmRTGIc" TargetMode="External"/><Relationship Id="rId21" Type="http://schemas.openxmlformats.org/officeDocument/2006/relationships/hyperlink" Target="http://d143.musichere.org/ferry/downlond/DqT5gVPMGXxdmRTGIc" TargetMode="External"/><Relationship Id="rId22" Type="http://schemas.openxmlformats.org/officeDocument/2006/relationships/hyperlink" Target="http://d143.musichere.org/ferry/downlond/DqT5gVPMGXxdmRTGIc" TargetMode="External"/><Relationship Id="rId23" Type="http://schemas.openxmlformats.org/officeDocument/2006/relationships/hyperlink" Target="http://d143.musichere.org/ferry/downlond/DqT5gVPMGXxdmRTGIc" TargetMode="External"/><Relationship Id="rId24" Type="http://schemas.openxmlformats.org/officeDocument/2006/relationships/hyperlink" Target="http://d143.musichere.org/ferry/downlond/DqT5gVPMGXxdmRTGIc" TargetMode="External"/><Relationship Id="rId25" Type="http://schemas.openxmlformats.org/officeDocument/2006/relationships/hyperlink" Target="http://d143.musichere.org/ferry/downlond/DqT5gVPMGXxdmRTGIc" TargetMode="External"/><Relationship Id="rId26" Type="http://schemas.openxmlformats.org/officeDocument/2006/relationships/hyperlink" Target="http://d143.musichere.org/ferry/downlond/DqT5gVPMGXxdmRTGIc" TargetMode="External"/><Relationship Id="rId27" Type="http://schemas.openxmlformats.org/officeDocument/2006/relationships/hyperlink" Target="http://d143.musichere.org/ferry/downlond/DqT5gVPMGXxdmRTGIc" TargetMode="External"/><Relationship Id="rId28" Type="http://schemas.openxmlformats.org/officeDocument/2006/relationships/hyperlink" Target="http://d143.musichere.org/ferry/downlond/DqT5gVPMGXxdmRTGIc" TargetMode="External"/><Relationship Id="rId29" Type="http://schemas.openxmlformats.org/officeDocument/2006/relationships/hyperlink" Target="http://d143.musichere.org/ferry/downlond/DqT5gVPMGXxdmRTGIc" TargetMode="External"/><Relationship Id="rId30" Type="http://schemas.openxmlformats.org/officeDocument/2006/relationships/hyperlink" Target="http://d143.musichere.org/ferry/downlond/DqT5gVPMGXxdmRTGIc" TargetMode="External"/><Relationship Id="rId31" Type="http://schemas.openxmlformats.org/officeDocument/2006/relationships/hyperlink" Target="http://d143.musichere.org/ferry/downlond/DqT5gVPMGXxdmRTGIc" TargetMode="External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00040" y="2714760"/>
            <a:ext cx="8346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неклассное мероприят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 Потому что мама ряд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мама.jpg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928800" y="642960"/>
            <a:ext cx="6858000" cy="5537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785880" y="142920"/>
            <a:ext cx="77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тому что мама рядо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571680" y="285840"/>
            <a:ext cx="671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Какие руки у мамы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Какое сердце у мамы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А голос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Рисунок 2" descr="мама2.jpg"/>
          <p:cNvPicPr/>
          <p:nvPr/>
        </p:nvPicPr>
        <p:blipFill>
          <a:blip r:embed="rId1"/>
          <a:stretch/>
        </p:blipFill>
        <p:spPr>
          <a:xfrm>
            <a:off x="3857760" y="2286000"/>
            <a:ext cx="3714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136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и солнышке тепло, а при матери добр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ез матери нет че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ся гордость мира от матер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рино сердце в дет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Рисунок 2" descr="мама3.jpg"/>
          <p:cNvPicPr/>
          <p:nvPr/>
        </p:nvPicPr>
        <p:blipFill>
          <a:blip r:embed="rId1"/>
          <a:stretch/>
        </p:blipFill>
        <p:spPr>
          <a:xfrm>
            <a:off x="2857680" y="3071880"/>
            <a:ext cx="60483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1"/>
          <p:cNvGrpSpPr/>
          <p:nvPr/>
        </p:nvGrpSpPr>
        <p:grpSpPr>
          <a:xfrm>
            <a:off x="378000" y="658800"/>
            <a:ext cx="8632800" cy="1706400"/>
            <a:chOff x="378000" y="658800"/>
            <a:chExt cx="8632800" cy="1706400"/>
          </a:xfrm>
        </p:grpSpPr>
        <p:pic>
          <p:nvPicPr>
            <p:cNvPr id="90" name="Rectangle 1" descr=""/>
            <p:cNvPicPr/>
            <p:nvPr/>
          </p:nvPicPr>
          <p:blipFill>
            <a:blip r:embed="rId1"/>
            <a:stretch/>
          </p:blipFill>
          <p:spPr>
            <a:xfrm>
              <a:off x="378000" y="658800"/>
              <a:ext cx="86328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28760" y="682560"/>
              <a:ext cx="8215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Составьте предложение со словами: доброта, любовь, радость, красота.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2" name="Рисунок 2" descr="мама 4.jpg"/>
          <p:cNvPicPr/>
          <p:nvPr/>
        </p:nvPicPr>
        <p:blipFill>
          <a:blip r:embed="rId2"/>
          <a:stretch/>
        </p:blipFill>
        <p:spPr>
          <a:xfrm>
            <a:off x="1500120" y="2428920"/>
            <a:ext cx="62866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506880" y="5000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imes New Roman"/>
              </a:rPr>
              <a:t>Ссыл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45360" y="24120"/>
            <a:ext cx="927720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Картин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"/>
              </a:rPr>
              <a:t>http://www.karaoke.ru/user/orchide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"/>
              </a:rPr>
              <a:t>http://viki.rdf.ru/item/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3"/>
              </a:rPr>
              <a:t>http://blogs.mail.ru/mail/asteri80/7CB037FA1ED7299B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4"/>
              </a:rPr>
              <a:t>http://www.photoshare.ru/photo714241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Музы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6"/>
              </a:rPr>
              <a:t>:/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7"/>
              </a:rPr>
              <a:t>perkovsky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1"/>
              </a:rPr>
              <a:t>musik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3"/>
              </a:rPr>
              <a:t>vals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4"/>
              </a:rPr>
              <a:t>.../03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5"/>
              </a:rPr>
              <a:t>mp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6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7"/>
              </a:rPr>
              <a:t>http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8"/>
              </a:rPr>
              <a:t>:/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9"/>
              </a:rPr>
              <a:t>d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0"/>
              </a:rPr>
              <a:t>143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1"/>
              </a:rPr>
              <a:t>musichere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2"/>
              </a:rPr>
              <a:t>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3"/>
              </a:rPr>
              <a:t>org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5"/>
              </a:rPr>
              <a:t>ferry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6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7"/>
              </a:rPr>
              <a:t>downlond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8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9"/>
              </a:rPr>
              <a:t>DqT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30"/>
              </a:rPr>
              <a:t>5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31"/>
              </a:rPr>
              <a:t>gVPMGXxdmRT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http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:/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KKre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-6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n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....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ru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magukov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http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://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reklamgarant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com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www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:…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esa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mp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9:52:19Z</dcterms:created>
  <dc:creator>user</dc:creator>
  <dc:description/>
  <dc:language>en-US</dc:language>
  <cp:lastModifiedBy>Катя</cp:lastModifiedBy>
  <dcterms:modified xsi:type="dcterms:W3CDTF">2013-02-18T18:50:21Z</dcterms:modified>
  <cp:revision>10</cp:revision>
  <dc:subject/>
  <dc:title>Слайд 1</dc:title>
</cp:coreProperties>
</file>