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533D-EF0A-4570-985B-4D3E617A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B77-63AC-4D3E-97DA-2718041D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756B-A5BA-435C-9D7C-0270FD57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D226-36C5-4495-AF6D-38208C3D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3B66-FA9D-4D1B-8DEE-07A789A9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0950-664D-4E49-A5A2-B9C98DE9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674E-B217-48C6-A2E7-0A2DEE48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B287-D315-4278-A3BE-9CE27C2E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B406-BCC4-433C-9481-31510023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8031-05A9-4370-99CA-02480728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BB91-FFF0-4BAE-9B1C-2219A915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B4FD-FFE3-4A8C-B67F-8A85AAC8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4AFF-4BE3-48A9-8BF8-955A6DBA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82A8-8253-4A71-A4EC-50BA215C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FA46-E274-431B-8A79-21D442C6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03D4-BD84-4A78-A5DD-F3DE4ED7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8FFE-58D7-4D4E-BE30-2AAECFFA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BE36-478B-47B4-9DBC-667E8A7B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458F-018F-4C34-AE87-8F1681D9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7EBB-59D3-4731-9F39-B20329F0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CD40-763E-4EF3-AED8-978995CA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602-F90E-490D-A452-1C769F48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64DB-4F92-49F2-A6C1-3ACD6D19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6D9E-C0E1-4769-B4D6-F7DB7777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92EF-3C44-4196-AE17-CC0329A2017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99F5-3F31-4A85-95F6-5D5D29025B1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araoke.ru/user/orchideya" TargetMode="External"/><Relationship Id="rId2" Type="http://schemas.openxmlformats.org/officeDocument/2006/relationships/hyperlink" Target="http://viki.rdf.ru/item/300" TargetMode="External"/><Relationship Id="rId3" Type="http://schemas.openxmlformats.org/officeDocument/2006/relationships/hyperlink" Target="http://blogs.mail.ru/mail/asteri80/7CB037FA1ED7299B.html" TargetMode="External"/><Relationship Id="rId4" Type="http://schemas.openxmlformats.org/officeDocument/2006/relationships/hyperlink" Target="http://www.photoshare.ru/photo714241.html" TargetMode="External"/><Relationship Id="rId5" Type="http://schemas.openxmlformats.org/officeDocument/2006/relationships/hyperlink" Target="http://perkovsky.ru/musik/vals.../03.mp3" TargetMode="External"/><Relationship Id="rId6" Type="http://schemas.openxmlformats.org/officeDocument/2006/relationships/hyperlink" Target="http://perkovsky.ru/musik/vals.../03.mp3" TargetMode="External"/><Relationship Id="rId7" Type="http://schemas.openxmlformats.org/officeDocument/2006/relationships/hyperlink" Target="http://perkovsky.ru/musik/vals.../03.mp3" TargetMode="External"/><Relationship Id="rId8" Type="http://schemas.openxmlformats.org/officeDocument/2006/relationships/hyperlink" Target="http://perkovsky.ru/musik/vals.../03.mp3" TargetMode="External"/><Relationship Id="rId9" Type="http://schemas.openxmlformats.org/officeDocument/2006/relationships/hyperlink" Target="http://perkovsky.ru/musik/vals.../03.mp3" TargetMode="External"/><Relationship Id="rId10" Type="http://schemas.openxmlformats.org/officeDocument/2006/relationships/hyperlink" Target="http://perkovsky.ru/musik/vals.../03.mp3" TargetMode="External"/><Relationship Id="rId11" Type="http://schemas.openxmlformats.org/officeDocument/2006/relationships/hyperlink" Target="http://perkovsky.ru/musik/vals.../03.mp3" TargetMode="External"/><Relationship Id="rId12" Type="http://schemas.openxmlformats.org/officeDocument/2006/relationships/hyperlink" Target="http://perkovsky.ru/musik/vals.../03.mp3" TargetMode="External"/><Relationship Id="rId13" Type="http://schemas.openxmlformats.org/officeDocument/2006/relationships/hyperlink" Target="http://perkovsky.ru/musik/vals.../03.mp3" TargetMode="External"/><Relationship Id="rId14" Type="http://schemas.openxmlformats.org/officeDocument/2006/relationships/hyperlink" Target="http://perkovsky.ru/musik/vals.../03.mp3" TargetMode="External"/><Relationship Id="rId15" Type="http://schemas.openxmlformats.org/officeDocument/2006/relationships/hyperlink" Target="http://perkovsky.ru/musik/vals.../03.mp3" TargetMode="External"/><Relationship Id="rId16" Type="http://schemas.openxmlformats.org/officeDocument/2006/relationships/hyperlink" Target="http://perkovsky.ru/musik/vals.../03.mp3" TargetMode="External"/><Relationship Id="rId17" Type="http://schemas.openxmlformats.org/officeDocument/2006/relationships/hyperlink" Target="http://d143.musichere.org/ferry/downlond/DqT5gVPMGXxdmRTGIc" TargetMode="External"/><Relationship Id="rId18" Type="http://schemas.openxmlformats.org/officeDocument/2006/relationships/hyperlink" Target="http://d143.musichere.org/ferry/downlond/DqT5gVPMGXxdmRTGIc" TargetMode="External"/><Relationship Id="rId19" Type="http://schemas.openxmlformats.org/officeDocument/2006/relationships/hyperlink" Target="http://d143.musichere.org/ferry/downlond/DqT5gVPMGXxdmRTGIc" TargetMode="External"/><Relationship Id="rId20" Type="http://schemas.openxmlformats.org/officeDocument/2006/relationships/hyperlink" Target="http://d143.musichere.org/ferry/downlond/DqT5gVPMGXxdmRTGIc" TargetMode="External"/><Relationship Id="rId21" Type="http://schemas.openxmlformats.org/officeDocument/2006/relationships/hyperlink" Target="http://d143.musichere.org/ferry/downlond/DqT5gVPMGXxdmRTGIc" TargetMode="External"/><Relationship Id="rId22" Type="http://schemas.openxmlformats.org/officeDocument/2006/relationships/hyperlink" Target="http://d143.musichere.org/ferry/downlond/DqT5gVPMGXxdmRTGIc" TargetMode="External"/><Relationship Id="rId23" Type="http://schemas.openxmlformats.org/officeDocument/2006/relationships/hyperlink" Target="http://d143.musichere.org/ferry/downlond/DqT5gVPMGXxdmRTGIc" TargetMode="External"/><Relationship Id="rId24" Type="http://schemas.openxmlformats.org/officeDocument/2006/relationships/hyperlink" Target="http://d143.musichere.org/ferry/downlond/DqT5gVPMGXxdmRTGIc" TargetMode="External"/><Relationship Id="rId25" Type="http://schemas.openxmlformats.org/officeDocument/2006/relationships/hyperlink" Target="http://d143.musichere.org/ferry/downlond/DqT5gVPMGXxdmRTGIc" TargetMode="External"/><Relationship Id="rId26" Type="http://schemas.openxmlformats.org/officeDocument/2006/relationships/hyperlink" Target="http://d143.musichere.org/ferry/downlond/DqT5gVPMGXxdmRTGIc" TargetMode="External"/><Relationship Id="rId27" Type="http://schemas.openxmlformats.org/officeDocument/2006/relationships/hyperlink" Target="http://d143.musichere.org/ferry/downlond/DqT5gVPMGXxdmRTGIc" TargetMode="External"/><Relationship Id="rId28" Type="http://schemas.openxmlformats.org/officeDocument/2006/relationships/hyperlink" Target="http://d143.musichere.org/ferry/downlond/DqT5gVPMGXxdmRTGIc" TargetMode="External"/><Relationship Id="rId29" Type="http://schemas.openxmlformats.org/officeDocument/2006/relationships/hyperlink" Target="http://d143.musichere.org/ferry/downlond/DqT5gVPMGXxdmRTGIc" TargetMode="External"/><Relationship Id="rId30" Type="http://schemas.openxmlformats.org/officeDocument/2006/relationships/hyperlink" Target="http://d143.musichere.org/ferry/downlond/DqT5gVPMGXxdmRTGIc" TargetMode="External"/><Relationship Id="rId31" Type="http://schemas.openxmlformats.org/officeDocument/2006/relationships/hyperlink" Target="http://d143.musichere.org/ferry/downlond/DqT5gVPMGXxdmRTGIc" TargetMode="External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500040" y="2714760"/>
            <a:ext cx="83469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неклассное мероприят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 Потому что мама рядом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2" descr="мама.jpg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928800" y="642960"/>
            <a:ext cx="6858000" cy="553716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785880" y="142920"/>
            <a:ext cx="776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тому что мама рядом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571680" y="285840"/>
            <a:ext cx="671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Какие руки у мамы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Какое сердце у мамы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А голос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Рисунок 2" descr="мама2.jpg"/>
          <p:cNvPicPr/>
          <p:nvPr/>
        </p:nvPicPr>
        <p:blipFill>
          <a:blip r:embed="rId1"/>
          <a:stretch/>
        </p:blipFill>
        <p:spPr>
          <a:xfrm>
            <a:off x="3857760" y="2286000"/>
            <a:ext cx="37144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136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и солнышке тепло, а при матери добр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ез матери нет челове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ся гордость мира от матер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терино сердце в детя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Рисунок 2" descr="мама3.jpg"/>
          <p:cNvPicPr/>
          <p:nvPr/>
        </p:nvPicPr>
        <p:blipFill>
          <a:blip r:embed="rId1"/>
          <a:stretch/>
        </p:blipFill>
        <p:spPr>
          <a:xfrm>
            <a:off x="2857680" y="3071880"/>
            <a:ext cx="60483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1"/>
          <p:cNvGrpSpPr/>
          <p:nvPr/>
        </p:nvGrpSpPr>
        <p:grpSpPr>
          <a:xfrm>
            <a:off x="378000" y="658800"/>
            <a:ext cx="8632800" cy="1706400"/>
            <a:chOff x="378000" y="658800"/>
            <a:chExt cx="8632800" cy="1706400"/>
          </a:xfrm>
        </p:grpSpPr>
        <p:pic>
          <p:nvPicPr>
            <p:cNvPr id="90" name="Rectangle 1" descr=""/>
            <p:cNvPicPr/>
            <p:nvPr/>
          </p:nvPicPr>
          <p:blipFill>
            <a:blip r:embed="rId1"/>
            <a:stretch/>
          </p:blipFill>
          <p:spPr>
            <a:xfrm>
              <a:off x="378000" y="658800"/>
              <a:ext cx="863280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28760" y="682560"/>
              <a:ext cx="8215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Составьте предложение со словами: доброта, любовь, радость, красота.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2" name="Рисунок 2" descr="мама 4.jpg"/>
          <p:cNvPicPr/>
          <p:nvPr/>
        </p:nvPicPr>
        <p:blipFill>
          <a:blip r:embed="rId2"/>
          <a:stretch/>
        </p:blipFill>
        <p:spPr>
          <a:xfrm>
            <a:off x="1500120" y="2428920"/>
            <a:ext cx="628668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506880" y="5000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Times New Roman"/>
              </a:rPr>
              <a:t>Ссыл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45360" y="24120"/>
            <a:ext cx="927720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Картин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"/>
              </a:rPr>
              <a:t>http://www.karaoke.ru/user/orchide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"/>
              </a:rPr>
              <a:t>http://viki.rdf.ru/item/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3"/>
              </a:rPr>
              <a:t>http://blogs.mail.ru/mail/asteri80/7CB037FA1ED7299B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4"/>
              </a:rPr>
              <a:t>http://www.photoshare.ru/photo714241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Музы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6"/>
              </a:rPr>
              <a:t>:/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7"/>
              </a:rPr>
              <a:t>perkovsky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8"/>
              </a:rPr>
              <a:t>.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9"/>
              </a:rPr>
              <a:t>ru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1"/>
              </a:rPr>
              <a:t>musik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2"/>
              </a:rPr>
              <a:t>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3"/>
              </a:rPr>
              <a:t>vals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4"/>
              </a:rPr>
              <a:t>.../03.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5"/>
              </a:rPr>
              <a:t>mp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6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7"/>
              </a:rPr>
              <a:t>http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8"/>
              </a:rPr>
              <a:t>:/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19"/>
              </a:rPr>
              <a:t>d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0"/>
              </a:rPr>
              <a:t>143.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1"/>
              </a:rPr>
              <a:t>musichere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2"/>
              </a:rPr>
              <a:t>.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3"/>
              </a:rPr>
              <a:t>org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4"/>
              </a:rPr>
              <a:t>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5"/>
              </a:rPr>
              <a:t>ferry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6"/>
              </a:rPr>
              <a:t>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7"/>
              </a:rPr>
              <a:t>downlond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8"/>
              </a:rPr>
              <a:t>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29"/>
              </a:rPr>
              <a:t>DqT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30"/>
              </a:rPr>
              <a:t>5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  <a:hlinkClick r:id="rId31"/>
              </a:rPr>
              <a:t>gVPMGXxdmRT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http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://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KKre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-6.</a:t>
            </a:r>
            <a:r>
              <a:rPr b="0" lang="en-US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n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ea typeface="Times New Roman"/>
              </a:rPr>
              <a:t>....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ru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magukov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http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://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reklamgarant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com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www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:…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esa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mp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09:52:19Z</dcterms:created>
  <dc:creator>user</dc:creator>
  <dc:description/>
  <dc:language>en-US</dc:language>
  <cp:lastModifiedBy>Катя</cp:lastModifiedBy>
  <dcterms:modified xsi:type="dcterms:W3CDTF">2013-02-18T18:50:21Z</dcterms:modified>
  <cp:revision>10</cp:revision>
  <dc:subject/>
  <dc:title>Слайд 1</dc:title>
</cp:coreProperties>
</file>