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6106-D963-4471-8A0A-94351A5E7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1CD1-BA14-4BE2-ABA2-152FB764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3A80-4692-43EB-AF8A-FB6F343E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88FB-EC18-4718-9707-D00748120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141C-994B-4971-B276-9EF8B571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782E-00DA-44E2-8D72-3CB3E75E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7C71-C5DD-42E3-8949-B55E584F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6545-E3D0-4C07-94DE-6CB550C2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EB55-58C8-4A9E-9A1E-F9798879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F361-3924-4B91-B700-C7C81CE1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617E-9711-4EA0-8F52-A8E64031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F8D4-8A3F-40B2-8D01-FB5D5691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500E-BD8B-4533-AD2C-2FCF770E4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-340920" y="-686520"/>
            <a:ext cx="9889200" cy="7173720"/>
            <a:chOff x="-340920" y="-686520"/>
            <a:chExt cx="9889200" cy="717372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rcRect l="19780" t="0" r="15244" b="-1685"/>
            <a:stretch/>
          </p:blipFill>
          <p:spPr>
            <a:xfrm rot="4849800">
              <a:off x="1703160" y="-1639800"/>
              <a:ext cx="5800680" cy="908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2403360" y="1341360"/>
              <a:ext cx="1152360" cy="7192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7720" y="3716280"/>
              <a:ext cx="1079640" cy="7923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07407E-006 L 1.12604 -0.17847 E">
                                      <p:cBhvr>
                                        <p:cTn id="302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4360" y="765000"/>
              <a:ext cx="431640" cy="792360"/>
            </a:xfrm>
            <a:custGeom>
              <a:avLst/>
              <a:gdLst>
                <a:gd name="textAreaLeft" fmla="*/ 177840 w 431640"/>
                <a:gd name="textAreaRight" fmla="*/ 253800 w 431640"/>
                <a:gd name="textAreaTop" fmla="*/ 326520 h 792360"/>
                <a:gd name="textAreaBottom" fmla="*/ 465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1280" y="620640"/>
              <a:ext cx="720720" cy="936720"/>
            </a:xfrm>
            <a:custGeom>
              <a:avLst/>
              <a:gdLst>
                <a:gd name="textAreaLeft" fmla="*/ 297000 w 720720"/>
                <a:gd name="textAreaRight" fmla="*/ 423720 w 72072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1280" y="5445000"/>
              <a:ext cx="504720" cy="360360"/>
            </a:xfrm>
            <a:custGeom>
              <a:avLst/>
              <a:gdLst>
                <a:gd name="textAreaLeft" fmla="*/ 208080 w 504720"/>
                <a:gd name="textAreaRight" fmla="*/ 296640 w 504720"/>
                <a:gd name="textAreaTop" fmla="*/ 148320 h 360360"/>
                <a:gd name="textAreaBottom" fmla="*/ 21204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84360" y="278136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27640" y="1773360"/>
              <a:ext cx="648000" cy="863640"/>
            </a:xfrm>
            <a:custGeom>
              <a:avLst/>
              <a:gdLst>
                <a:gd name="textAreaLeft" fmla="*/ 267120 w 648000"/>
                <a:gd name="textAreaRight" fmla="*/ 380880 w 64800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92720" y="450864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51640" y="371628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horizontalScroll">
            <a:avLst>
              <a:gd name="adj" fmla="val 50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148428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59280" y="981000"/>
            <a:ext cx="23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СХОД ТОПЛИВА ЗА 1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84720" y="1125360"/>
            <a:ext cx="230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ЩЕЕ КОЛ-ВО ТОПЛ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335772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3 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9640" y="335772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27 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39640" y="981000"/>
            <a:ext cx="8209080" cy="3527640"/>
            <a:chOff x="539640" y="981000"/>
            <a:chExt cx="8209080" cy="3527640"/>
          </a:xfrm>
        </p:grpSpPr>
        <p:sp>
          <p:nvSpPr>
            <p:cNvPr id="137" name=""/>
            <p:cNvSpPr/>
            <p:nvPr/>
          </p:nvSpPr>
          <p:spPr>
            <a:xfrm>
              <a:off x="539640" y="981000"/>
              <a:ext cx="8136000" cy="352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2720" y="2781360"/>
              <a:ext cx="8136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71640" y="981000"/>
              <a:ext cx="0" cy="352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80000" y="981000"/>
              <a:ext cx="0" cy="352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516720" y="342900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100 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4360" y="765000"/>
              <a:ext cx="431640" cy="792360"/>
            </a:xfrm>
            <a:custGeom>
              <a:avLst/>
              <a:gdLst>
                <a:gd name="textAreaLeft" fmla="*/ 177840 w 431640"/>
                <a:gd name="textAreaRight" fmla="*/ 253800 w 431640"/>
                <a:gd name="textAreaTop" fmla="*/ 326520 h 792360"/>
                <a:gd name="textAreaBottom" fmla="*/ 465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51280" y="620640"/>
              <a:ext cx="720720" cy="936720"/>
            </a:xfrm>
            <a:custGeom>
              <a:avLst/>
              <a:gdLst>
                <a:gd name="textAreaLeft" fmla="*/ 297000 w 720720"/>
                <a:gd name="textAreaRight" fmla="*/ 423720 w 72072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1280" y="5445000"/>
              <a:ext cx="504720" cy="360360"/>
            </a:xfrm>
            <a:custGeom>
              <a:avLst/>
              <a:gdLst>
                <a:gd name="textAreaLeft" fmla="*/ 208080 w 504720"/>
                <a:gd name="textAreaRight" fmla="*/ 296640 w 504720"/>
                <a:gd name="textAreaTop" fmla="*/ 148320 h 360360"/>
                <a:gd name="textAreaBottom" fmla="*/ 21204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84360" y="278136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27640" y="1773360"/>
              <a:ext cx="648000" cy="863640"/>
            </a:xfrm>
            <a:custGeom>
              <a:avLst/>
              <a:gdLst>
                <a:gd name="textAreaLeft" fmla="*/ 267120 w 648000"/>
                <a:gd name="textAreaRight" fmla="*/ 380880 w 64800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92720" y="450864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51640" y="371628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84360" y="1341360"/>
            <a:ext cx="7705440" cy="1440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9 + 17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● 3 – 4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-2844720" y="508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826920" y="4076640"/>
            <a:ext cx="7705800" cy="1440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9 + 17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● 3 – 4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40360" y="407664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00360" y="4076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19640" y="4076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4360" y="765000"/>
              <a:ext cx="431640" cy="792360"/>
            </a:xfrm>
            <a:custGeom>
              <a:avLst/>
              <a:gdLst>
                <a:gd name="textAreaLeft" fmla="*/ 177840 w 431640"/>
                <a:gd name="textAreaRight" fmla="*/ 253800 w 431640"/>
                <a:gd name="textAreaTop" fmla="*/ 326520 h 792360"/>
                <a:gd name="textAreaBottom" fmla="*/ 465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51280" y="620640"/>
              <a:ext cx="720720" cy="936720"/>
            </a:xfrm>
            <a:custGeom>
              <a:avLst/>
              <a:gdLst>
                <a:gd name="textAreaLeft" fmla="*/ 297000 w 720720"/>
                <a:gd name="textAreaRight" fmla="*/ 423720 w 72072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1280" y="5445000"/>
              <a:ext cx="504720" cy="360360"/>
            </a:xfrm>
            <a:custGeom>
              <a:avLst/>
              <a:gdLst>
                <a:gd name="textAreaLeft" fmla="*/ 208080 w 504720"/>
                <a:gd name="textAreaRight" fmla="*/ 296640 w 504720"/>
                <a:gd name="textAreaTop" fmla="*/ 148320 h 360360"/>
                <a:gd name="textAreaBottom" fmla="*/ 21204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84360" y="278136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27640" y="1773360"/>
              <a:ext cx="648000" cy="863640"/>
            </a:xfrm>
            <a:custGeom>
              <a:avLst/>
              <a:gdLst>
                <a:gd name="textAreaLeft" fmla="*/ 267120 w 648000"/>
                <a:gd name="textAreaRight" fmla="*/ 380880 w 64800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92720" y="450864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51640" y="371628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755640" y="4076640"/>
            <a:ext cx="7705800" cy="1440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54 – 26 + 38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●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35640" y="4076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4076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40360" y="407664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1700280"/>
            <a:ext cx="7705800" cy="1439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54 – 26 + 38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●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4360" y="765000"/>
              <a:ext cx="431640" cy="792360"/>
            </a:xfrm>
            <a:custGeom>
              <a:avLst/>
              <a:gdLst>
                <a:gd name="textAreaLeft" fmla="*/ 177840 w 431640"/>
                <a:gd name="textAreaRight" fmla="*/ 253800 w 431640"/>
                <a:gd name="textAreaTop" fmla="*/ 326520 h 792360"/>
                <a:gd name="textAreaBottom" fmla="*/ 465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51280" y="620640"/>
              <a:ext cx="720720" cy="936720"/>
            </a:xfrm>
            <a:custGeom>
              <a:avLst/>
              <a:gdLst>
                <a:gd name="textAreaLeft" fmla="*/ 297000 w 720720"/>
                <a:gd name="textAreaRight" fmla="*/ 423720 w 72072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1280" y="5445000"/>
              <a:ext cx="504720" cy="360360"/>
            </a:xfrm>
            <a:custGeom>
              <a:avLst/>
              <a:gdLst>
                <a:gd name="textAreaLeft" fmla="*/ 208080 w 504720"/>
                <a:gd name="textAreaRight" fmla="*/ 296640 w 504720"/>
                <a:gd name="textAreaTop" fmla="*/ 148320 h 360360"/>
                <a:gd name="textAreaBottom" fmla="*/ 21204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84360" y="278136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27640" y="1773360"/>
              <a:ext cx="648000" cy="863640"/>
            </a:xfrm>
            <a:custGeom>
              <a:avLst/>
              <a:gdLst>
                <a:gd name="textAreaLeft" fmla="*/ 267120 w 648000"/>
                <a:gd name="textAreaRight" fmla="*/ 380880 w 64800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92720" y="450864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51640" y="371628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55640" y="1628640"/>
            <a:ext cx="7705800" cy="1440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8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60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2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00000" y="4437000"/>
            <a:ext cx="7705800" cy="1440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8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60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2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60720" y="4437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4437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95640" y="4437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4360" y="765000"/>
              <a:ext cx="431640" cy="792360"/>
            </a:xfrm>
            <a:custGeom>
              <a:avLst/>
              <a:gdLst>
                <a:gd name="textAreaLeft" fmla="*/ 177840 w 431640"/>
                <a:gd name="textAreaRight" fmla="*/ 253800 w 431640"/>
                <a:gd name="textAreaTop" fmla="*/ 326520 h 792360"/>
                <a:gd name="textAreaBottom" fmla="*/ 465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51280" y="620640"/>
              <a:ext cx="720720" cy="936720"/>
            </a:xfrm>
            <a:custGeom>
              <a:avLst/>
              <a:gdLst>
                <a:gd name="textAreaLeft" fmla="*/ 297000 w 720720"/>
                <a:gd name="textAreaRight" fmla="*/ 423720 w 72072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1280" y="5445000"/>
              <a:ext cx="504720" cy="360360"/>
            </a:xfrm>
            <a:custGeom>
              <a:avLst/>
              <a:gdLst>
                <a:gd name="textAreaLeft" fmla="*/ 208080 w 504720"/>
                <a:gd name="textAreaRight" fmla="*/ 296640 w 504720"/>
                <a:gd name="textAreaTop" fmla="*/ 148320 h 360360"/>
                <a:gd name="textAreaBottom" fmla="*/ 21204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84360" y="278136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27640" y="1773360"/>
              <a:ext cx="648000" cy="863640"/>
            </a:xfrm>
            <a:custGeom>
              <a:avLst/>
              <a:gdLst>
                <a:gd name="textAreaLeft" fmla="*/ 267120 w 648000"/>
                <a:gd name="textAreaRight" fmla="*/ 380880 w 64800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92720" y="450864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451640" y="371628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9640" y="1989000"/>
            <a:ext cx="7705800" cy="1440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(19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● 5 - 5)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30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1280" y="4076640"/>
            <a:ext cx="7705800" cy="1440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(19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● 5 - 5)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30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71640" y="4076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80000" y="407664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32360" y="4076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7236000" y="5516640"/>
            <a:ext cx="1908000" cy="1341360"/>
          </a:xfrm>
          <a:custGeom>
            <a:avLst/>
            <a:gdLst>
              <a:gd name="textAreaLeft" fmla="*/ 86760 w 1908000"/>
              <a:gd name="textAreaRight" fmla="*/ 1821240 w 1908000"/>
              <a:gd name="textAreaTop" fmla="*/ 86760 h 1341360"/>
              <a:gd name="textAreaBottom" fmla="*/ 1254600 h 1341360"/>
            </a:gdLst>
            <a:ahLst/>
            <a:rect l="textAreaLeft" t="textAreaTop" r="textAreaRight" b="textAreaBottom"/>
            <a:pathLst>
              <a:path w="30722" h="21600">
                <a:moveTo>
                  <a:pt x="0" y="0"/>
                </a:moveTo>
                <a:lnTo>
                  <a:pt x="30722" y="0"/>
                </a:lnTo>
                <a:lnTo>
                  <a:pt x="30722" y="21600"/>
                </a:lnTo>
                <a:lnTo>
                  <a:pt x="0" y="21600"/>
                </a:lnTo>
                <a:close/>
              </a:path>
              <a:path fill="lightenLess" w="30722" h="21600">
                <a:moveTo>
                  <a:pt x="0" y="0"/>
                </a:moveTo>
                <a:lnTo>
                  <a:pt x="30722" y="0"/>
                </a:lnTo>
                <a:lnTo>
                  <a:pt x="29322" y="1400"/>
                </a:lnTo>
                <a:lnTo>
                  <a:pt x="1400" y="1400"/>
                </a:lnTo>
                <a:close/>
              </a:path>
              <a:path fill="darken" w="30722" h="21600">
                <a:moveTo>
                  <a:pt x="30722" y="0"/>
                </a:moveTo>
                <a:lnTo>
                  <a:pt x="30722" y="21600"/>
                </a:lnTo>
                <a:lnTo>
                  <a:pt x="29322" y="20200"/>
                </a:lnTo>
                <a:lnTo>
                  <a:pt x="29322" y="1400"/>
                </a:lnTo>
                <a:close/>
              </a:path>
              <a:path fill="darkenLess" w="30722" h="21600">
                <a:moveTo>
                  <a:pt x="307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22" y="20200"/>
                </a:lnTo>
                <a:close/>
              </a:path>
              <a:path fill="lighten" w="307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4360" y="765000"/>
              <a:ext cx="431640" cy="792360"/>
            </a:xfrm>
            <a:custGeom>
              <a:avLst/>
              <a:gdLst>
                <a:gd name="textAreaLeft" fmla="*/ 177840 w 431640"/>
                <a:gd name="textAreaRight" fmla="*/ 253800 w 431640"/>
                <a:gd name="textAreaTop" fmla="*/ 326520 h 792360"/>
                <a:gd name="textAreaBottom" fmla="*/ 465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51280" y="620640"/>
              <a:ext cx="720720" cy="936720"/>
            </a:xfrm>
            <a:custGeom>
              <a:avLst/>
              <a:gdLst>
                <a:gd name="textAreaLeft" fmla="*/ 297000 w 720720"/>
                <a:gd name="textAreaRight" fmla="*/ 423720 w 72072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1280" y="5445000"/>
              <a:ext cx="504720" cy="360360"/>
            </a:xfrm>
            <a:custGeom>
              <a:avLst/>
              <a:gdLst>
                <a:gd name="textAreaLeft" fmla="*/ 208080 w 504720"/>
                <a:gd name="textAreaRight" fmla="*/ 296640 w 504720"/>
                <a:gd name="textAreaTop" fmla="*/ 148320 h 360360"/>
                <a:gd name="textAreaBottom" fmla="*/ 21204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84360" y="278136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27640" y="1773360"/>
              <a:ext cx="648000" cy="863640"/>
            </a:xfrm>
            <a:custGeom>
              <a:avLst/>
              <a:gdLst>
                <a:gd name="textAreaLeft" fmla="*/ 267120 w 648000"/>
                <a:gd name="textAreaRight" fmla="*/ 380880 w 64800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292720" y="450864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51640" y="371628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755640" y="3933720"/>
            <a:ext cx="7705800" cy="1440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6 :1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- 0●9 - 2 ● 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3933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3933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51640" y="393372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3933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88000" y="393372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26920" y="1773360"/>
            <a:ext cx="7705800" cy="1439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6 :1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- 0●9 - 2 ● 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rId1" action="ppaction://hlinksldjump"/>
          </p:cNvPr>
          <p:cNvSpPr/>
          <p:nvPr/>
        </p:nvSpPr>
        <p:spPr>
          <a:xfrm>
            <a:off x="4067280" y="5445000"/>
            <a:ext cx="5076720" cy="1413000"/>
          </a:xfrm>
          <a:custGeom>
            <a:avLst/>
            <a:gdLst>
              <a:gd name="textAreaLeft" fmla="*/ 91440 w 5076720"/>
              <a:gd name="textAreaRight" fmla="*/ 4985280 w 5076720"/>
              <a:gd name="textAreaTop" fmla="*/ 91440 h 1413000"/>
              <a:gd name="textAreaBottom" fmla="*/ 1321560 h 1413000"/>
            </a:gdLst>
            <a:ahLst/>
            <a:rect l="textAreaLeft" t="textAreaTop" r="textAreaRight" b="textAreaBottom"/>
            <a:pathLst>
              <a:path w="77592" h="21600">
                <a:moveTo>
                  <a:pt x="0" y="0"/>
                </a:moveTo>
                <a:lnTo>
                  <a:pt x="77592" y="0"/>
                </a:lnTo>
                <a:lnTo>
                  <a:pt x="77592" y="21600"/>
                </a:lnTo>
                <a:lnTo>
                  <a:pt x="0" y="21600"/>
                </a:lnTo>
                <a:close/>
              </a:path>
              <a:path fill="lightenLess" w="77592" h="21600">
                <a:moveTo>
                  <a:pt x="0" y="0"/>
                </a:moveTo>
                <a:lnTo>
                  <a:pt x="77592" y="0"/>
                </a:lnTo>
                <a:lnTo>
                  <a:pt x="76192" y="1400"/>
                </a:lnTo>
                <a:lnTo>
                  <a:pt x="1400" y="1400"/>
                </a:lnTo>
                <a:close/>
              </a:path>
              <a:path fill="darken" w="77592" h="21600">
                <a:moveTo>
                  <a:pt x="77592" y="0"/>
                </a:moveTo>
                <a:lnTo>
                  <a:pt x="77592" y="21600"/>
                </a:lnTo>
                <a:lnTo>
                  <a:pt x="76192" y="20200"/>
                </a:lnTo>
                <a:lnTo>
                  <a:pt x="76192" y="1400"/>
                </a:lnTo>
                <a:close/>
              </a:path>
              <a:path fill="darkenLess" w="77592" h="21600">
                <a:moveTo>
                  <a:pt x="77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192" y="20200"/>
                </a:lnTo>
                <a:close/>
              </a:path>
              <a:path fill="lighten" w="77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2" action="ppaction://hlinksldjump"/>
          </p:cNvPr>
          <p:cNvSpPr/>
          <p:nvPr/>
        </p:nvSpPr>
        <p:spPr>
          <a:xfrm>
            <a:off x="6372360" y="5445000"/>
            <a:ext cx="2987640" cy="1629000"/>
          </a:xfrm>
          <a:custGeom>
            <a:avLst/>
            <a:gdLst>
              <a:gd name="textAreaLeft" fmla="*/ 105480 w 2987640"/>
              <a:gd name="textAreaRight" fmla="*/ 2882160 w 2987640"/>
              <a:gd name="textAreaTop" fmla="*/ 105480 h 1629000"/>
              <a:gd name="textAreaBottom" fmla="*/ 1523520 h 1629000"/>
            </a:gdLst>
            <a:ahLst/>
            <a:rect l="textAreaLeft" t="textAreaTop" r="textAreaRight" b="textAreaBottom"/>
            <a:pathLst>
              <a:path w="39611" h="21600">
                <a:moveTo>
                  <a:pt x="0" y="0"/>
                </a:moveTo>
                <a:lnTo>
                  <a:pt x="39611" y="0"/>
                </a:lnTo>
                <a:lnTo>
                  <a:pt x="39611" y="21600"/>
                </a:lnTo>
                <a:lnTo>
                  <a:pt x="0" y="21600"/>
                </a:lnTo>
                <a:close/>
              </a:path>
              <a:path fill="lightenLess" w="39611" h="21600">
                <a:moveTo>
                  <a:pt x="0" y="0"/>
                </a:moveTo>
                <a:lnTo>
                  <a:pt x="39611" y="0"/>
                </a:lnTo>
                <a:lnTo>
                  <a:pt x="38211" y="1400"/>
                </a:lnTo>
                <a:lnTo>
                  <a:pt x="1400" y="1400"/>
                </a:lnTo>
                <a:close/>
              </a:path>
              <a:path fill="darken" w="39611" h="21600">
                <a:moveTo>
                  <a:pt x="39611" y="0"/>
                </a:moveTo>
                <a:lnTo>
                  <a:pt x="39611" y="21600"/>
                </a:lnTo>
                <a:lnTo>
                  <a:pt x="38211" y="20200"/>
                </a:lnTo>
                <a:lnTo>
                  <a:pt x="38211" y="1400"/>
                </a:lnTo>
                <a:close/>
              </a:path>
              <a:path fill="darkenLess" w="39611" h="21600">
                <a:moveTo>
                  <a:pt x="39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1" y="20200"/>
                </a:lnTo>
                <a:close/>
              </a:path>
              <a:path fill="lighten" w="39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1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4360" y="765000"/>
              <a:ext cx="431640" cy="792360"/>
            </a:xfrm>
            <a:custGeom>
              <a:avLst/>
              <a:gdLst>
                <a:gd name="textAreaLeft" fmla="*/ 177840 w 431640"/>
                <a:gd name="textAreaRight" fmla="*/ 253800 w 431640"/>
                <a:gd name="textAreaTop" fmla="*/ 326520 h 792360"/>
                <a:gd name="textAreaBottom" fmla="*/ 465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51280" y="620640"/>
              <a:ext cx="720720" cy="936720"/>
            </a:xfrm>
            <a:custGeom>
              <a:avLst/>
              <a:gdLst>
                <a:gd name="textAreaLeft" fmla="*/ 297000 w 720720"/>
                <a:gd name="textAreaRight" fmla="*/ 423720 w 72072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1280" y="5445000"/>
              <a:ext cx="504720" cy="360360"/>
            </a:xfrm>
            <a:custGeom>
              <a:avLst/>
              <a:gdLst>
                <a:gd name="textAreaLeft" fmla="*/ 208080 w 504720"/>
                <a:gd name="textAreaRight" fmla="*/ 296640 w 504720"/>
                <a:gd name="textAreaTop" fmla="*/ 148320 h 360360"/>
                <a:gd name="textAreaBottom" fmla="*/ 21204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84360" y="278136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27640" y="1773360"/>
              <a:ext cx="648000" cy="863640"/>
            </a:xfrm>
            <a:custGeom>
              <a:avLst/>
              <a:gdLst>
                <a:gd name="textAreaLeft" fmla="*/ 267120 w 648000"/>
                <a:gd name="textAreaRight" fmla="*/ 380880 w 64800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92720" y="450864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51640" y="371628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826920" y="1844640"/>
            <a:ext cx="7705800" cy="1440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00 +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(4 - 4) ● 8 – 9 ●9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71640" y="4149720"/>
            <a:ext cx="7705800" cy="1440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00 +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(4 - 4) ● 8 – 9 ●9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421080" y="4149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45080" y="4149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8000" y="4149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13080" y="4149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24360" y="4149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6948360" y="5516640"/>
            <a:ext cx="2195640" cy="1341360"/>
          </a:xfrm>
          <a:custGeom>
            <a:avLst/>
            <a:gdLst>
              <a:gd name="textAreaLeft" fmla="*/ 86760 w 2195640"/>
              <a:gd name="textAreaRight" fmla="*/ 2108880 w 2195640"/>
              <a:gd name="textAreaTop" fmla="*/ 86760 h 1341360"/>
              <a:gd name="textAreaBottom" fmla="*/ 1254600 h 1341360"/>
            </a:gdLst>
            <a:ahLst/>
            <a:rect l="textAreaLeft" t="textAreaTop" r="textAreaRight" b="textAreaBottom"/>
            <a:pathLst>
              <a:path w="35353" h="21600">
                <a:moveTo>
                  <a:pt x="0" y="0"/>
                </a:moveTo>
                <a:lnTo>
                  <a:pt x="35353" y="0"/>
                </a:lnTo>
                <a:lnTo>
                  <a:pt x="35353" y="21600"/>
                </a:lnTo>
                <a:lnTo>
                  <a:pt x="0" y="21600"/>
                </a:lnTo>
                <a:close/>
              </a:path>
              <a:path fill="lightenLess" w="35353" h="21600">
                <a:moveTo>
                  <a:pt x="0" y="0"/>
                </a:moveTo>
                <a:lnTo>
                  <a:pt x="35353" y="0"/>
                </a:lnTo>
                <a:lnTo>
                  <a:pt x="33953" y="1400"/>
                </a:lnTo>
                <a:lnTo>
                  <a:pt x="1400" y="1400"/>
                </a:lnTo>
                <a:close/>
              </a:path>
              <a:path fill="darken" w="35353" h="21600">
                <a:moveTo>
                  <a:pt x="35353" y="0"/>
                </a:moveTo>
                <a:lnTo>
                  <a:pt x="35353" y="21600"/>
                </a:lnTo>
                <a:lnTo>
                  <a:pt x="33953" y="20200"/>
                </a:lnTo>
                <a:lnTo>
                  <a:pt x="33953" y="1400"/>
                </a:lnTo>
                <a:close/>
              </a:path>
              <a:path fill="darkenLess" w="35353" h="21600">
                <a:moveTo>
                  <a:pt x="35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53" y="20200"/>
                </a:lnTo>
                <a:close/>
              </a:path>
              <a:path fill="lighten" w="35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3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4360" y="765000"/>
              <a:ext cx="431640" cy="792360"/>
            </a:xfrm>
            <a:custGeom>
              <a:avLst/>
              <a:gdLst>
                <a:gd name="textAreaLeft" fmla="*/ 177840 w 431640"/>
                <a:gd name="textAreaRight" fmla="*/ 253800 w 431640"/>
                <a:gd name="textAreaTop" fmla="*/ 326520 h 792360"/>
                <a:gd name="textAreaBottom" fmla="*/ 465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51280" y="620640"/>
              <a:ext cx="720720" cy="936720"/>
            </a:xfrm>
            <a:custGeom>
              <a:avLst/>
              <a:gdLst>
                <a:gd name="textAreaLeft" fmla="*/ 297000 w 720720"/>
                <a:gd name="textAreaRight" fmla="*/ 423720 w 72072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1280" y="5445000"/>
              <a:ext cx="504720" cy="360360"/>
            </a:xfrm>
            <a:custGeom>
              <a:avLst/>
              <a:gdLst>
                <a:gd name="textAreaLeft" fmla="*/ 208080 w 504720"/>
                <a:gd name="textAreaRight" fmla="*/ 296640 w 504720"/>
                <a:gd name="textAreaTop" fmla="*/ 148320 h 360360"/>
                <a:gd name="textAreaBottom" fmla="*/ 21204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84360" y="278136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27640" y="1773360"/>
              <a:ext cx="648000" cy="863640"/>
            </a:xfrm>
            <a:custGeom>
              <a:avLst/>
              <a:gdLst>
                <a:gd name="textAreaLeft" fmla="*/ 267120 w 648000"/>
                <a:gd name="textAreaRight" fmla="*/ 380880 w 64800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92720" y="450864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51640" y="371628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826920" y="4581360"/>
            <a:ext cx="7705800" cy="1440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(24 :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3 + 8 ● 8)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3 ●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24000" y="45100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40360" y="458136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581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64000" y="4581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227640" y="4581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5640" y="1916280"/>
            <a:ext cx="7705800" cy="1439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(24 :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3 + 8 ● 8)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3 ●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6948360" y="5877000"/>
            <a:ext cx="2195640" cy="981000"/>
          </a:xfrm>
          <a:custGeom>
            <a:avLst/>
            <a:gdLst>
              <a:gd name="textAreaLeft" fmla="*/ 63360 w 2195640"/>
              <a:gd name="textAreaRight" fmla="*/ 2132280 w 219564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48335" h="21600">
                <a:moveTo>
                  <a:pt x="0" y="0"/>
                </a:moveTo>
                <a:lnTo>
                  <a:pt x="48335" y="0"/>
                </a:lnTo>
                <a:lnTo>
                  <a:pt x="48335" y="21600"/>
                </a:lnTo>
                <a:lnTo>
                  <a:pt x="0" y="21600"/>
                </a:lnTo>
                <a:close/>
              </a:path>
              <a:path fill="lightenLess" w="48335" h="21600">
                <a:moveTo>
                  <a:pt x="0" y="0"/>
                </a:moveTo>
                <a:lnTo>
                  <a:pt x="48335" y="0"/>
                </a:lnTo>
                <a:lnTo>
                  <a:pt x="46935" y="1400"/>
                </a:lnTo>
                <a:lnTo>
                  <a:pt x="1400" y="1400"/>
                </a:lnTo>
                <a:close/>
              </a:path>
              <a:path fill="darken" w="48335" h="21600">
                <a:moveTo>
                  <a:pt x="48335" y="0"/>
                </a:moveTo>
                <a:lnTo>
                  <a:pt x="48335" y="21600"/>
                </a:lnTo>
                <a:lnTo>
                  <a:pt x="46935" y="20200"/>
                </a:lnTo>
                <a:lnTo>
                  <a:pt x="46935" y="1400"/>
                </a:lnTo>
                <a:close/>
              </a:path>
              <a:path fill="darkenLess" w="48335" h="21600">
                <a:moveTo>
                  <a:pt x="48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35" y="20200"/>
                </a:lnTo>
                <a:close/>
              </a:path>
              <a:path fill="lighten" w="48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2" action="ppaction://hlinksldjump"/>
          </p:cNvPr>
          <p:cNvSpPr/>
          <p:nvPr/>
        </p:nvSpPr>
        <p:spPr>
          <a:xfrm>
            <a:off x="7236000" y="5950080"/>
            <a:ext cx="1908000" cy="907920"/>
          </a:xfrm>
          <a:custGeom>
            <a:avLst/>
            <a:gdLst>
              <a:gd name="textAreaLeft" fmla="*/ 58680 w 1908000"/>
              <a:gd name="textAreaRight" fmla="*/ 1849320 w 190800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45383" h="21600">
                <a:moveTo>
                  <a:pt x="0" y="0"/>
                </a:moveTo>
                <a:lnTo>
                  <a:pt x="45383" y="0"/>
                </a:lnTo>
                <a:lnTo>
                  <a:pt x="45383" y="21600"/>
                </a:lnTo>
                <a:lnTo>
                  <a:pt x="0" y="21600"/>
                </a:lnTo>
                <a:close/>
              </a:path>
              <a:path fill="lightenLess" w="45383" h="21600">
                <a:moveTo>
                  <a:pt x="0" y="0"/>
                </a:moveTo>
                <a:lnTo>
                  <a:pt x="45383" y="0"/>
                </a:lnTo>
                <a:lnTo>
                  <a:pt x="43983" y="1400"/>
                </a:lnTo>
                <a:lnTo>
                  <a:pt x="1400" y="1400"/>
                </a:lnTo>
                <a:close/>
              </a:path>
              <a:path fill="darken" w="45383" h="21600">
                <a:moveTo>
                  <a:pt x="45383" y="0"/>
                </a:moveTo>
                <a:lnTo>
                  <a:pt x="45383" y="21600"/>
                </a:lnTo>
                <a:lnTo>
                  <a:pt x="43983" y="20200"/>
                </a:lnTo>
                <a:lnTo>
                  <a:pt x="43983" y="1400"/>
                </a:lnTo>
                <a:close/>
              </a:path>
              <a:path fill="darkenLess" w="45383" h="21600">
                <a:moveTo>
                  <a:pt x="4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983" y="20200"/>
                </a:lnTo>
                <a:close/>
              </a:path>
              <a:path fill="lighten" w="4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4360" y="765000"/>
              <a:ext cx="431640" cy="792360"/>
            </a:xfrm>
            <a:custGeom>
              <a:avLst/>
              <a:gdLst>
                <a:gd name="textAreaLeft" fmla="*/ 177840 w 431640"/>
                <a:gd name="textAreaRight" fmla="*/ 253800 w 431640"/>
                <a:gd name="textAreaTop" fmla="*/ 326520 h 792360"/>
                <a:gd name="textAreaBottom" fmla="*/ 465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51280" y="620640"/>
              <a:ext cx="720720" cy="936720"/>
            </a:xfrm>
            <a:custGeom>
              <a:avLst/>
              <a:gdLst>
                <a:gd name="textAreaLeft" fmla="*/ 297000 w 720720"/>
                <a:gd name="textAreaRight" fmla="*/ 423720 w 72072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1280" y="5445000"/>
              <a:ext cx="504720" cy="360360"/>
            </a:xfrm>
            <a:custGeom>
              <a:avLst/>
              <a:gdLst>
                <a:gd name="textAreaLeft" fmla="*/ 208080 w 504720"/>
                <a:gd name="textAreaRight" fmla="*/ 296640 w 504720"/>
                <a:gd name="textAreaTop" fmla="*/ 148320 h 360360"/>
                <a:gd name="textAreaBottom" fmla="*/ 21204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84360" y="278136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27640" y="1773360"/>
              <a:ext cx="648000" cy="863640"/>
            </a:xfrm>
            <a:custGeom>
              <a:avLst/>
              <a:gdLst>
                <a:gd name="textAreaLeft" fmla="*/ 267120 w 648000"/>
                <a:gd name="textAreaRight" fmla="*/ 380880 w 64800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292720" y="450864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51640" y="371628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-2844720" y="508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763640" y="836640"/>
            <a:ext cx="5329440" cy="5329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92360" y="836640"/>
            <a:ext cx="0" cy="53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292720" y="836640"/>
            <a:ext cx="0" cy="53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835280" y="2565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35280" y="436572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050920" y="1052640"/>
            <a:ext cx="11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3300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2781360"/>
            <a:ext cx="129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3300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651640" y="4581360"/>
            <a:ext cx="115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3300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80000" y="2781360"/>
            <a:ext cx="12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3300"/>
                </a:solidFill>
                <a:latin typeface="Arial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124000" y="2781360"/>
            <a:ext cx="11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33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24000" y="4653000"/>
            <a:ext cx="11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3300"/>
                </a:solidFill>
                <a:latin typeface="Arial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580000" y="1052640"/>
            <a:ext cx="11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330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51280" y="1052640"/>
            <a:ext cx="115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3300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51280" y="4653000"/>
            <a:ext cx="115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3300"/>
                </a:solidFill>
                <a:latin typeface="Arial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3" dur="1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8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evt="onNext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" dur="1" fill="hold"/>
                                  <p:tgtEl>
                                    <p:spTgt spid="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9" dur="19787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651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4" dur="1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-5427720"/>
            <a:ext cx="2284560" cy="43196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-2341440" y="2708280"/>
            <a:ext cx="1606320" cy="12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61111E-006 -1.11111E-006 L 0.68229 1.3125 E">
                                      <p:cBhvr>
                                        <p:cTn id="660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2" dur="1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8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4360" y="765000"/>
              <a:ext cx="431640" cy="792360"/>
            </a:xfrm>
            <a:custGeom>
              <a:avLst/>
              <a:gdLst>
                <a:gd name="textAreaLeft" fmla="*/ 177840 w 431640"/>
                <a:gd name="textAreaRight" fmla="*/ 253800 w 431640"/>
                <a:gd name="textAreaTop" fmla="*/ 326520 h 792360"/>
                <a:gd name="textAreaBottom" fmla="*/ 465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51280" y="620640"/>
              <a:ext cx="720720" cy="936720"/>
            </a:xfrm>
            <a:custGeom>
              <a:avLst/>
              <a:gdLst>
                <a:gd name="textAreaLeft" fmla="*/ 297000 w 720720"/>
                <a:gd name="textAreaRight" fmla="*/ 423720 w 72072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1280" y="5445000"/>
              <a:ext cx="504720" cy="360360"/>
            </a:xfrm>
            <a:custGeom>
              <a:avLst/>
              <a:gdLst>
                <a:gd name="textAreaLeft" fmla="*/ 208080 w 504720"/>
                <a:gd name="textAreaRight" fmla="*/ 296640 w 504720"/>
                <a:gd name="textAreaTop" fmla="*/ 148320 h 360360"/>
                <a:gd name="textAreaBottom" fmla="*/ 21204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84360" y="278136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27640" y="1773360"/>
              <a:ext cx="648000" cy="863640"/>
            </a:xfrm>
            <a:custGeom>
              <a:avLst/>
              <a:gdLst>
                <a:gd name="textAreaLeft" fmla="*/ 267120 w 648000"/>
                <a:gd name="textAreaRight" fmla="*/ 380880 w 64800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92720" y="450864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51640" y="3716280"/>
              <a:ext cx="647640" cy="863640"/>
            </a:xfrm>
            <a:custGeom>
              <a:avLst/>
              <a:gdLst>
                <a:gd name="textAreaLeft" fmla="*/ 266760 w 647640"/>
                <a:gd name="textAreaRight" fmla="*/ 380880 w 647640"/>
                <a:gd name="textAreaTop" fmla="*/ 355680 h 863640"/>
                <a:gd name="textAreaBottom" fmla="*/ 5079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-2844720" y="508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8" dur="1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21320" t="0" r="0" b="0"/>
          <a:stretch/>
        </p:blipFill>
        <p:spPr>
          <a:xfrm>
            <a:off x="0" y="1484280"/>
            <a:ext cx="4383000" cy="5732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859280" y="333360"/>
            <a:ext cx="3889440" cy="6264360"/>
          </a:xfrm>
          <a:prstGeom prst="verticalScroll">
            <a:avLst>
              <a:gd name="adj" fmla="val 8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80000" y="765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● 5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80000" y="1413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● 8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80000" y="1989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2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0000" y="2565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5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645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● 7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80000" y="3141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4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80000" y="4076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9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0000" y="4653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● 7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5157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● 4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80000" y="57340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● 3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93080" y="692280"/>
            <a:ext cx="865080" cy="649080"/>
          </a:xfrm>
          <a:custGeom>
            <a:avLst/>
            <a:gdLst>
              <a:gd name="textAreaLeft" fmla="*/ 197280 w 865080"/>
              <a:gd name="textAreaRight" fmla="*/ 667800 w 865080"/>
              <a:gd name="textAreaTop" fmla="*/ 147960 h 649080"/>
              <a:gd name="textAreaBottom" fmla="*/ 501120 h 64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93080" y="1341360"/>
            <a:ext cx="865080" cy="574920"/>
          </a:xfrm>
          <a:custGeom>
            <a:avLst/>
            <a:gdLst>
              <a:gd name="textAreaLeft" fmla="*/ 197280 w 865080"/>
              <a:gd name="textAreaRight" fmla="*/ 667800 w 865080"/>
              <a:gd name="textAreaTop" fmla="*/ 131040 h 574920"/>
              <a:gd name="textAreaBottom" fmla="*/ 443880 h 57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93080" y="1989000"/>
            <a:ext cx="865080" cy="576360"/>
          </a:xfrm>
          <a:custGeom>
            <a:avLst/>
            <a:gdLst>
              <a:gd name="textAreaLeft" fmla="*/ 197280 w 865080"/>
              <a:gd name="textAreaRight" fmla="*/ 667800 w 86508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93080" y="2565360"/>
            <a:ext cx="865080" cy="576360"/>
          </a:xfrm>
          <a:custGeom>
            <a:avLst/>
            <a:gdLst>
              <a:gd name="textAreaLeft" fmla="*/ 197280 w 865080"/>
              <a:gd name="textAreaRight" fmla="*/ 667800 w 86508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93080" y="3068640"/>
            <a:ext cx="865080" cy="647640"/>
          </a:xfrm>
          <a:custGeom>
            <a:avLst/>
            <a:gdLst>
              <a:gd name="textAreaLeft" fmla="*/ 197280 w 865080"/>
              <a:gd name="textAreaRight" fmla="*/ 667800 w 86508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93080" y="3645000"/>
            <a:ext cx="865080" cy="647640"/>
          </a:xfrm>
          <a:custGeom>
            <a:avLst/>
            <a:gdLst>
              <a:gd name="textAreaLeft" fmla="*/ 197280 w 865080"/>
              <a:gd name="textAreaRight" fmla="*/ 667800 w 86508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93080" y="4149720"/>
            <a:ext cx="865080" cy="647640"/>
          </a:xfrm>
          <a:custGeom>
            <a:avLst/>
            <a:gdLst>
              <a:gd name="textAreaLeft" fmla="*/ 197280 w 865080"/>
              <a:gd name="textAreaRight" fmla="*/ 667800 w 86508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93080" y="4653000"/>
            <a:ext cx="865080" cy="647640"/>
          </a:xfrm>
          <a:custGeom>
            <a:avLst/>
            <a:gdLst>
              <a:gd name="textAreaLeft" fmla="*/ 197280 w 865080"/>
              <a:gd name="textAreaRight" fmla="*/ 667800 w 86508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93080" y="5157720"/>
            <a:ext cx="865080" cy="647640"/>
          </a:xfrm>
          <a:custGeom>
            <a:avLst/>
            <a:gdLst>
              <a:gd name="textAreaLeft" fmla="*/ 197280 w 865080"/>
              <a:gd name="textAreaRight" fmla="*/ 667800 w 86508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93080" y="5734080"/>
            <a:ext cx="865080" cy="647640"/>
          </a:xfrm>
          <a:custGeom>
            <a:avLst/>
            <a:gdLst>
              <a:gd name="textAreaLeft" fmla="*/ 197280 w 865080"/>
              <a:gd name="textAreaRight" fmla="*/ 667800 w 86508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-1765440" y="3645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11734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9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3654360" cy="6912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-2341440" y="2708280"/>
            <a:ext cx="1606320" cy="12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3.61111E-006 -3.7037E-006 L 0.52847 -1.36504 E">
                                      <p:cBhvr>
                                        <p:cTn id="167" dur="5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-2844720" y="508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4" nodeType="with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2103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0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-2233440" y="-2116080"/>
            <a:ext cx="2233440" cy="2116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9144000" y="-2259000"/>
            <a:ext cx="1728720" cy="1638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-2700360" y="476280"/>
            <a:ext cx="1548000" cy="1467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2987640" y="-3556080"/>
            <a:ext cx="2233800" cy="211608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-4140360" y="2060640"/>
            <a:ext cx="2233800" cy="4836600"/>
            <a:chOff x="-4140360" y="2060640"/>
            <a:chExt cx="2233800" cy="4836600"/>
          </a:xfrm>
        </p:grpSpPr>
        <p:pic>
          <p:nvPicPr>
            <p:cNvPr id="81" name="" descr=""/>
            <p:cNvPicPr/>
            <p:nvPr/>
          </p:nvPicPr>
          <p:blipFill>
            <a:blip r:embed="rId6"/>
            <a:stretch/>
          </p:blipFill>
          <p:spPr>
            <a:xfrm>
              <a:off x="-4140360" y="2060640"/>
              <a:ext cx="2233800" cy="21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-3637080" y="2781360"/>
              <a:ext cx="1081080" cy="41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Arial"/>
                </a:rPr>
                <a:t>63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                              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-2844720" y="508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771 -0.32615 L 1.19688 1.43125 E">
                                      <p:cBhvr>
                                        <p:cTn id="190" dur="5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49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5902 -0.14398 L 0.06702 1.70417 E">
                                      <p:cBhvr>
                                        <p:cTn id="192" dur="5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44444E-006 3.7037E-006 L -1.16145 1.52893 E">
                                      <p:cBhvr>
                                        <p:cTn id="194" dur="3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22222E-006 1.85185E-006 L 1.42535 0.13657 E">
                                      <p:cBhvr>
                                        <p:cTn id="196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25625 -0.05972 L 1.13768 -0.03866 E">
                                      <p:cBhvr>
                                        <p:cTn id="198" dur="3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10117080" y="1557360"/>
            <a:ext cx="1728720" cy="4619160"/>
            <a:chOff x="10117080" y="1557360"/>
            <a:chExt cx="1728720" cy="4619160"/>
          </a:xfrm>
        </p:grpSpPr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10117080" y="1557360"/>
              <a:ext cx="172872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10476000" y="2060640"/>
              <a:ext cx="1081080" cy="41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Arial"/>
                </a:rPr>
                <a:t>24                              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-2268360" y="2852640"/>
            <a:ext cx="1547640" cy="4691880"/>
            <a:chOff x="-2268360" y="2852640"/>
            <a:chExt cx="1547640" cy="4691880"/>
          </a:xfrm>
        </p:grpSpPr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-2268360" y="2852640"/>
              <a:ext cx="1547640" cy="14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-2052720" y="3428640"/>
              <a:ext cx="1081080" cy="41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Arial"/>
                </a:rPr>
                <a:t>36                              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-3051000"/>
            <a:ext cx="2233440" cy="4834800"/>
            <a:chOff x="0" y="-3051000"/>
            <a:chExt cx="2233440" cy="4834800"/>
          </a:xfrm>
        </p:grpSpPr>
        <p:pic>
          <p:nvPicPr>
            <p:cNvPr id="93" name="" descr=""/>
            <p:cNvPicPr/>
            <p:nvPr/>
          </p:nvPicPr>
          <p:blipFill>
            <a:blip r:embed="rId4"/>
            <a:stretch/>
          </p:blipFill>
          <p:spPr>
            <a:xfrm>
              <a:off x="0" y="-3051000"/>
              <a:ext cx="2233440" cy="21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11280" y="-2332080"/>
              <a:ext cx="1081080" cy="41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Arial"/>
                </a:rPr>
                <a:t>8                              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9756720" y="-2116080"/>
            <a:ext cx="2233800" cy="4836600"/>
            <a:chOff x="9756720" y="-2116080"/>
            <a:chExt cx="2233800" cy="4836600"/>
          </a:xfrm>
        </p:grpSpPr>
        <p:pic>
          <p:nvPicPr>
            <p:cNvPr id="96" name="" descr=""/>
            <p:cNvPicPr/>
            <p:nvPr/>
          </p:nvPicPr>
          <p:blipFill>
            <a:blip r:embed="rId5"/>
            <a:stretch/>
          </p:blipFill>
          <p:spPr>
            <a:xfrm>
              <a:off x="9756720" y="-2116080"/>
              <a:ext cx="2233800" cy="21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0333080" y="-1395360"/>
              <a:ext cx="1081080" cy="41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Arial"/>
                </a:rPr>
                <a:t>6                              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508720" y="-2692440"/>
            <a:ext cx="2233440" cy="4765320"/>
            <a:chOff x="5508720" y="-2692440"/>
            <a:chExt cx="2233440" cy="4765320"/>
          </a:xfrm>
        </p:grpSpPr>
        <p:pic>
          <p:nvPicPr>
            <p:cNvPr id="99" name="" descr=""/>
            <p:cNvPicPr/>
            <p:nvPr/>
          </p:nvPicPr>
          <p:blipFill>
            <a:blip r:embed="rId6"/>
            <a:stretch/>
          </p:blipFill>
          <p:spPr>
            <a:xfrm>
              <a:off x="5508720" y="-2692440"/>
              <a:ext cx="2233440" cy="21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084720" y="-2043000"/>
              <a:ext cx="1081080" cy="41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Arial"/>
                </a:rPr>
                <a:t>5                              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7956720" y="6308640"/>
            <a:ext cx="1187280" cy="549360"/>
          </a:xfrm>
          <a:custGeom>
            <a:avLst/>
            <a:gdLst>
              <a:gd name="textAreaLeft" fmla="*/ 35280 w 1187280"/>
              <a:gd name="textAreaRight" fmla="*/ 1152000 w 1187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6666" h="21600">
                <a:moveTo>
                  <a:pt x="0" y="0"/>
                </a:moveTo>
                <a:lnTo>
                  <a:pt x="46666" y="0"/>
                </a:lnTo>
                <a:lnTo>
                  <a:pt x="46666" y="21600"/>
                </a:lnTo>
                <a:lnTo>
                  <a:pt x="0" y="21600"/>
                </a:lnTo>
                <a:close/>
              </a:path>
              <a:path fill="lightenLess" w="46666" h="21600">
                <a:moveTo>
                  <a:pt x="0" y="0"/>
                </a:moveTo>
                <a:lnTo>
                  <a:pt x="46666" y="0"/>
                </a:lnTo>
                <a:lnTo>
                  <a:pt x="45266" y="1400"/>
                </a:lnTo>
                <a:lnTo>
                  <a:pt x="1400" y="1400"/>
                </a:lnTo>
                <a:close/>
              </a:path>
              <a:path fill="darken" w="46666" h="21600">
                <a:moveTo>
                  <a:pt x="46666" y="0"/>
                </a:moveTo>
                <a:lnTo>
                  <a:pt x="46666" y="21600"/>
                </a:lnTo>
                <a:lnTo>
                  <a:pt x="45266" y="20200"/>
                </a:lnTo>
                <a:lnTo>
                  <a:pt x="45266" y="1400"/>
                </a:lnTo>
                <a:close/>
              </a:path>
              <a:path fill="darkenLess" w="46666" h="21600">
                <a:moveTo>
                  <a:pt x="46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66" y="20200"/>
                </a:lnTo>
                <a:close/>
              </a:path>
              <a:path fill="lighten" w="46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56702 1.08148 E">
                                      <p:cBhvr>
                                        <p:cTn id="204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48148E-006 L -1.0158 -0.09445 E">
                                      <p:cBhvr>
                                        <p:cTn id="213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73472E-018 L 0.93698 0.06296 E">
                                      <p:cBhvr>
                                        <p:cTn id="222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7.40741E-007 L 0.40156 0.73495 E">
                                      <p:cBhvr>
                                        <p:cTn id="231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7.40741E-006 L -0.45677 0.3676 E">
                                      <p:cBhvr>
                                        <p:cTn id="240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-404280" y="-686520"/>
            <a:ext cx="9889200" cy="7173720"/>
            <a:chOff x="-404280" y="-686520"/>
            <a:chExt cx="9889200" cy="717372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rcRect l="19780" t="0" r="15244" b="-1685"/>
            <a:stretch/>
          </p:blipFill>
          <p:spPr>
            <a:xfrm rot="4849800">
              <a:off x="1639800" y="-1639800"/>
              <a:ext cx="5800680" cy="908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362320" y="1552680"/>
              <a:ext cx="863640" cy="431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22680" y="3784680"/>
              <a:ext cx="647640" cy="647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3203640" y="14842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40000" y="11253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8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328464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9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68360" y="1628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8 М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27280" y="4076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81 М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40000" y="1413000"/>
            <a:ext cx="1008000" cy="718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27280" y="3573360"/>
            <a:ext cx="936720" cy="935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7344 0.15741 L -7.5E-006 1.85185E-006 E">
                                      <p:cBhvr>
                                        <p:cTn id="251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07:04:29Z</dcterms:created>
  <dc:creator>Анна</dc:creator>
  <dc:description/>
  <dc:language>en-US</dc:language>
  <cp:lastModifiedBy>Анна 1</cp:lastModifiedBy>
  <dcterms:modified xsi:type="dcterms:W3CDTF">2005-02-16T10:41:29Z</dcterms:modified>
  <cp:revision>23</cp:revision>
  <dc:subject/>
  <dc:title>Слайд 1</dc:title>
</cp:coreProperties>
</file>