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9FA-BFE9-483C-B0CC-8A9F3D46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E61-5AE6-4395-A7E1-14A37EA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1AE-8A40-4216-A5ED-3BEA296E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46E-9980-4696-B445-ECAED77B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2D3F-CB77-4892-B507-7F3DE330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193-E1B6-4DA3-AFE7-D24C620E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D7A-FE8F-449C-9F3B-F41D8E0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DCB-D275-46BD-8230-ACF29A5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244-2E60-41B5-B3AB-B5EA54A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984-B191-4ED0-965E-841ABCA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329-2493-413A-8FEB-324D867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1E4-06B7-4F03-BE10-E820B1A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BA49-8408-44EF-8004-778D4F8D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-340920" y="-686520"/>
            <a:ext cx="9889200" cy="7173720"/>
            <a:chOff x="-340920" y="-686520"/>
            <a:chExt cx="9889200" cy="71737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rcRect l="19780" t="0" r="15244" b="-1685"/>
            <a:stretch/>
          </p:blipFill>
          <p:spPr>
            <a:xfrm rot="4849800">
              <a:off x="1703160" y="-1639800"/>
              <a:ext cx="5800680" cy="90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403360" y="1341360"/>
              <a:ext cx="1152360" cy="719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7720" y="3716280"/>
              <a:ext cx="1079640" cy="792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1.12604 -0.17847 E">
                                      <p:cBhvr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5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48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981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ХОД ТОПЛИВА ЗА 1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2536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Е КОЛ-ВО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357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 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357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7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9640" y="981000"/>
            <a:ext cx="8209080" cy="3527640"/>
            <a:chOff x="539640" y="981000"/>
            <a:chExt cx="8209080" cy="3527640"/>
          </a:xfrm>
        </p:grpSpPr>
        <p:sp>
          <p:nvSpPr>
            <p:cNvPr id="137" name=""/>
            <p:cNvSpPr/>
            <p:nvPr/>
          </p:nvSpPr>
          <p:spPr>
            <a:xfrm>
              <a:off x="539640" y="981000"/>
              <a:ext cx="8136000" cy="352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2720" y="2781360"/>
              <a:ext cx="813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1640" y="981000"/>
              <a:ext cx="0" cy="35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0000" y="981000"/>
              <a:ext cx="0" cy="35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516720" y="3429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00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1341360"/>
            <a:ext cx="770544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 + 17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– 4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 + 17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– 4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5564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 – 26 + 3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70028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 – 26 + 3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55640" y="1628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60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43700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60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9640" y="198900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● 5 - 5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● 5 - 5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236000" y="5516640"/>
            <a:ext cx="1908000" cy="1341360"/>
          </a:xfrm>
          <a:custGeom>
            <a:avLst/>
            <a:gdLst>
              <a:gd name="textAreaLeft" fmla="*/ 86760 w 1908000"/>
              <a:gd name="textAreaRight" fmla="*/ 1821240 w 1908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30722" h="21600">
                <a:moveTo>
                  <a:pt x="0" y="0"/>
                </a:moveTo>
                <a:lnTo>
                  <a:pt x="30722" y="0"/>
                </a:lnTo>
                <a:lnTo>
                  <a:pt x="30722" y="21600"/>
                </a:lnTo>
                <a:lnTo>
                  <a:pt x="0" y="21600"/>
                </a:lnTo>
                <a:close/>
              </a:path>
              <a:path fill="lightenLess" w="30722" h="21600">
                <a:moveTo>
                  <a:pt x="0" y="0"/>
                </a:moveTo>
                <a:lnTo>
                  <a:pt x="30722" y="0"/>
                </a:lnTo>
                <a:lnTo>
                  <a:pt x="29322" y="1400"/>
                </a:lnTo>
                <a:lnTo>
                  <a:pt x="1400" y="1400"/>
                </a:lnTo>
                <a:close/>
              </a:path>
              <a:path fill="darken" w="30722" h="21600">
                <a:moveTo>
                  <a:pt x="30722" y="0"/>
                </a:moveTo>
                <a:lnTo>
                  <a:pt x="30722" y="21600"/>
                </a:lnTo>
                <a:lnTo>
                  <a:pt x="29322" y="20200"/>
                </a:lnTo>
                <a:lnTo>
                  <a:pt x="29322" y="1400"/>
                </a:lnTo>
                <a:close/>
              </a:path>
              <a:path fill="darkenLess" w="30722" h="21600">
                <a:moveTo>
                  <a:pt x="3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2" y="20200"/>
                </a:lnTo>
                <a:close/>
              </a:path>
              <a:path fill="lighten" w="3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55640" y="393372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 :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- 0●9 - 2 ●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393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93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77336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 :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- 0●9 - 2 ●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4067280" y="5445000"/>
            <a:ext cx="5076720" cy="1413000"/>
          </a:xfrm>
          <a:custGeom>
            <a:avLst/>
            <a:gdLst>
              <a:gd name="textAreaLeft" fmla="*/ 91440 w 5076720"/>
              <a:gd name="textAreaRight" fmla="*/ 4985280 w 507672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77592" h="21600">
                <a:moveTo>
                  <a:pt x="0" y="0"/>
                </a:moveTo>
                <a:lnTo>
                  <a:pt x="77592" y="0"/>
                </a:lnTo>
                <a:lnTo>
                  <a:pt x="77592" y="21600"/>
                </a:lnTo>
                <a:lnTo>
                  <a:pt x="0" y="21600"/>
                </a:lnTo>
                <a:close/>
              </a:path>
              <a:path fill="lightenLess" w="77592" h="21600">
                <a:moveTo>
                  <a:pt x="0" y="0"/>
                </a:moveTo>
                <a:lnTo>
                  <a:pt x="77592" y="0"/>
                </a:lnTo>
                <a:lnTo>
                  <a:pt x="76192" y="1400"/>
                </a:lnTo>
                <a:lnTo>
                  <a:pt x="1400" y="1400"/>
                </a:lnTo>
                <a:close/>
              </a:path>
              <a:path fill="darken" w="77592" h="21600">
                <a:moveTo>
                  <a:pt x="77592" y="0"/>
                </a:moveTo>
                <a:lnTo>
                  <a:pt x="77592" y="21600"/>
                </a:lnTo>
                <a:lnTo>
                  <a:pt x="76192" y="20200"/>
                </a:lnTo>
                <a:lnTo>
                  <a:pt x="76192" y="1400"/>
                </a:lnTo>
                <a:close/>
              </a:path>
              <a:path fill="darkenLess" w="77592" h="21600">
                <a:moveTo>
                  <a:pt x="77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192" y="20200"/>
                </a:lnTo>
                <a:close/>
              </a:path>
              <a:path fill="lighten" w="77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6372360" y="5445000"/>
            <a:ext cx="2987640" cy="1629000"/>
          </a:xfrm>
          <a:custGeom>
            <a:avLst/>
            <a:gdLst>
              <a:gd name="textAreaLeft" fmla="*/ 105480 w 2987640"/>
              <a:gd name="textAreaRight" fmla="*/ 2882160 w 2987640"/>
              <a:gd name="textAreaTop" fmla="*/ 105480 h 1629000"/>
              <a:gd name="textAreaBottom" fmla="*/ 1523520 h 1629000"/>
            </a:gdLst>
            <a:ahLst/>
            <a:rect l="textAreaLeft" t="textAreaTop" r="textAreaRight" b="textAreaBottom"/>
            <a:pathLst>
              <a:path w="39611" h="21600">
                <a:moveTo>
                  <a:pt x="0" y="0"/>
                </a:moveTo>
                <a:lnTo>
                  <a:pt x="39611" y="0"/>
                </a:lnTo>
                <a:lnTo>
                  <a:pt x="39611" y="21600"/>
                </a:lnTo>
                <a:lnTo>
                  <a:pt x="0" y="21600"/>
                </a:lnTo>
                <a:close/>
              </a:path>
              <a:path fill="lightenLess" w="39611" h="21600">
                <a:moveTo>
                  <a:pt x="0" y="0"/>
                </a:moveTo>
                <a:lnTo>
                  <a:pt x="39611" y="0"/>
                </a:lnTo>
                <a:lnTo>
                  <a:pt x="38211" y="1400"/>
                </a:lnTo>
                <a:lnTo>
                  <a:pt x="1400" y="1400"/>
                </a:lnTo>
                <a:close/>
              </a:path>
              <a:path fill="darken" w="39611" h="21600">
                <a:moveTo>
                  <a:pt x="39611" y="0"/>
                </a:moveTo>
                <a:lnTo>
                  <a:pt x="39611" y="21600"/>
                </a:lnTo>
                <a:lnTo>
                  <a:pt x="38211" y="20200"/>
                </a:lnTo>
                <a:lnTo>
                  <a:pt x="38211" y="1400"/>
                </a:lnTo>
                <a:close/>
              </a:path>
              <a:path fill="darkenLess" w="39611" h="21600">
                <a:moveTo>
                  <a:pt x="39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1" y="20200"/>
                </a:lnTo>
                <a:close/>
              </a:path>
              <a:path fill="lighten" w="39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26920" y="1844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 +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4 - 4) ● 8 – 9 ●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414972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 +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4 - 4) ● 8 – 9 ●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1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5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3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6948360" y="5516640"/>
            <a:ext cx="2195640" cy="1341360"/>
          </a:xfrm>
          <a:custGeom>
            <a:avLst/>
            <a:gdLst>
              <a:gd name="textAreaLeft" fmla="*/ 86760 w 2195640"/>
              <a:gd name="textAreaRight" fmla="*/ 2108880 w 219564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26920" y="458136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24 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+ 8 ● 8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45100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458136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400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764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191628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24 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+ 8 ● 8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6948360" y="5877000"/>
            <a:ext cx="2195640" cy="981000"/>
          </a:xfrm>
          <a:custGeom>
            <a:avLst/>
            <a:gdLst>
              <a:gd name="textAreaLeft" fmla="*/ 63360 w 2195640"/>
              <a:gd name="textAreaRight" fmla="*/ 2132280 w 219564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48335" h="21600">
                <a:moveTo>
                  <a:pt x="0" y="0"/>
                </a:moveTo>
                <a:lnTo>
                  <a:pt x="48335" y="0"/>
                </a:lnTo>
                <a:lnTo>
                  <a:pt x="48335" y="21600"/>
                </a:lnTo>
                <a:lnTo>
                  <a:pt x="0" y="21600"/>
                </a:lnTo>
                <a:close/>
              </a:path>
              <a:path fill="lightenLess" w="48335" h="21600">
                <a:moveTo>
                  <a:pt x="0" y="0"/>
                </a:moveTo>
                <a:lnTo>
                  <a:pt x="48335" y="0"/>
                </a:lnTo>
                <a:lnTo>
                  <a:pt x="46935" y="1400"/>
                </a:lnTo>
                <a:lnTo>
                  <a:pt x="1400" y="1400"/>
                </a:lnTo>
                <a:close/>
              </a:path>
              <a:path fill="darken" w="48335" h="21600">
                <a:moveTo>
                  <a:pt x="48335" y="0"/>
                </a:moveTo>
                <a:lnTo>
                  <a:pt x="48335" y="21600"/>
                </a:lnTo>
                <a:lnTo>
                  <a:pt x="46935" y="20200"/>
                </a:lnTo>
                <a:lnTo>
                  <a:pt x="46935" y="1400"/>
                </a:lnTo>
                <a:close/>
              </a:path>
              <a:path fill="darkenLess" w="48335" h="21600">
                <a:moveTo>
                  <a:pt x="4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35" y="20200"/>
                </a:lnTo>
                <a:close/>
              </a:path>
              <a:path fill="lighten" w="4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7236000" y="5950080"/>
            <a:ext cx="1908000" cy="907920"/>
          </a:xfrm>
          <a:custGeom>
            <a:avLst/>
            <a:gdLst>
              <a:gd name="textAreaLeft" fmla="*/ 58680 w 1908000"/>
              <a:gd name="textAreaRight" fmla="*/ 1849320 w 1908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45383" h="21600">
                <a:moveTo>
                  <a:pt x="0" y="0"/>
                </a:moveTo>
                <a:lnTo>
                  <a:pt x="45383" y="0"/>
                </a:lnTo>
                <a:lnTo>
                  <a:pt x="45383" y="21600"/>
                </a:lnTo>
                <a:lnTo>
                  <a:pt x="0" y="21600"/>
                </a:lnTo>
                <a:close/>
              </a:path>
              <a:path fill="lightenLess" w="45383" h="21600">
                <a:moveTo>
                  <a:pt x="0" y="0"/>
                </a:moveTo>
                <a:lnTo>
                  <a:pt x="45383" y="0"/>
                </a:lnTo>
                <a:lnTo>
                  <a:pt x="43983" y="1400"/>
                </a:lnTo>
                <a:lnTo>
                  <a:pt x="1400" y="1400"/>
                </a:lnTo>
                <a:close/>
              </a:path>
              <a:path fill="darken" w="45383" h="21600">
                <a:moveTo>
                  <a:pt x="45383" y="0"/>
                </a:moveTo>
                <a:lnTo>
                  <a:pt x="45383" y="21600"/>
                </a:lnTo>
                <a:lnTo>
                  <a:pt x="43983" y="20200"/>
                </a:lnTo>
                <a:lnTo>
                  <a:pt x="43983" y="1400"/>
                </a:lnTo>
                <a:close/>
              </a:path>
              <a:path fill="darkenLess" w="45383" h="21600">
                <a:moveTo>
                  <a:pt x="4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83" y="20200"/>
                </a:lnTo>
                <a:close/>
              </a:path>
              <a:path fill="lighten" w="4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836640"/>
            <a:ext cx="5329440" cy="532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836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92720" y="836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2565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36572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052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2781360"/>
            <a:ext cx="12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1640" y="458136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278136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24000" y="278136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465300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0000" y="1052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105264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465300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Next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9787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-5427720"/>
            <a:ext cx="2284560" cy="4319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-2341440" y="2708280"/>
            <a:ext cx="16063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1.11111E-006 L 0.68229 1.3125 E">
                                      <p:cBhvr>
                                        <p:cTn id="66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8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1320" t="0" r="0" b="0"/>
          <a:stretch/>
        </p:blipFill>
        <p:spPr>
          <a:xfrm>
            <a:off x="0" y="1484280"/>
            <a:ext cx="4383000" cy="573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333360"/>
            <a:ext cx="3889440" cy="6264360"/>
          </a:xfrm>
          <a:prstGeom prst="verticalScroll">
            <a:avLst>
              <a:gd name="adj" fmla="val 8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76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141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56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6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141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65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157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692280"/>
            <a:ext cx="865080" cy="64908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960 h 649080"/>
              <a:gd name="textAreaBottom" fmla="*/ 5011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3080" y="1341360"/>
            <a:ext cx="865080" cy="57492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040 h 574920"/>
              <a:gd name="textAreaBottom" fmla="*/ 443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98900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256536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306864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364500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414972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465300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15772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73408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176544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173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54360" cy="691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2341440" y="2708280"/>
            <a:ext cx="16063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61111E-006 -3.7037E-006 L 0.52847 -1.36504 E">
                                      <p:cBhvr>
                                        <p:cTn id="167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10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233440" y="-2116080"/>
            <a:ext cx="2233440" cy="211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0" y="-2259000"/>
            <a:ext cx="172872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2700360" y="476280"/>
            <a:ext cx="1548000" cy="146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-3556080"/>
            <a:ext cx="2233800" cy="21160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-4140360" y="2060640"/>
            <a:ext cx="2233800" cy="4836600"/>
            <a:chOff x="-4140360" y="2060640"/>
            <a:chExt cx="2233800" cy="4836600"/>
          </a:xfrm>
        </p:grpSpPr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-4140360" y="2060640"/>
              <a:ext cx="22338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-3637080" y="278136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63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-0.32615 L 1.19688 1.43125 E">
                                      <p:cBhvr>
                                        <p:cTn id="190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902 -0.14398 L 0.06702 1.70417 E">
                                      <p:cBhvr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3.7037E-006 L -1.16145 1.52893 E">
                                      <p:cBhvr>
                                        <p:cTn id="19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2222E-006 1.85185E-006 L 1.42535 0.13657 E">
                                      <p:cBhvr>
                                        <p:cTn id="19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5625 -0.05972 L 1.13768 -0.03866 E">
                                      <p:cBhvr>
                                        <p:cTn id="19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0117080" y="1557360"/>
            <a:ext cx="1728720" cy="4619160"/>
            <a:chOff x="10117080" y="1557360"/>
            <a:chExt cx="1728720" cy="46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0117080" y="1557360"/>
              <a:ext cx="17287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476000" y="206064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24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2268360" y="2852640"/>
            <a:ext cx="1547640" cy="4691880"/>
            <a:chOff x="-2268360" y="2852640"/>
            <a:chExt cx="1547640" cy="469188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-2268360" y="2852640"/>
              <a:ext cx="154764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2052720" y="342864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36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-3051000"/>
            <a:ext cx="2233440" cy="4834800"/>
            <a:chOff x="0" y="-3051000"/>
            <a:chExt cx="2233440" cy="4834800"/>
          </a:xfrm>
        </p:grpSpPr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0" y="-3051000"/>
              <a:ext cx="22334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1280" y="-233208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8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56720" y="-2116080"/>
            <a:ext cx="2233800" cy="4836600"/>
            <a:chOff x="9756720" y="-2116080"/>
            <a:chExt cx="2233800" cy="4836600"/>
          </a:xfrm>
        </p:grpSpPr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9756720" y="-2116080"/>
              <a:ext cx="22338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0333080" y="-139536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6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508720" y="-2692440"/>
            <a:ext cx="2233440" cy="4765320"/>
            <a:chOff x="5508720" y="-2692440"/>
            <a:chExt cx="2233440" cy="476532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508720" y="-2692440"/>
              <a:ext cx="22334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84720" y="-204300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5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56702 1.08148 E">
                                      <p:cBhvr>
                                        <p:cTn id="2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1.0158 -0.09445 E">
                                      <p:cBhvr>
                                        <p:cTn id="21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73472E-018 L 0.93698 0.06296 E">
                                      <p:cBhvr>
                                        <p:cTn id="2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40156 0.73495 E">
                                      <p:cBhvr>
                                        <p:cTn id="23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6 L -0.45677 0.3676 E">
                                      <p:cBhvr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-404280" y="-686520"/>
            <a:ext cx="9889200" cy="7173720"/>
            <a:chOff x="-404280" y="-686520"/>
            <a:chExt cx="9889200" cy="7173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19780" t="0" r="15244" b="-1685"/>
            <a:stretch/>
          </p:blipFill>
          <p:spPr>
            <a:xfrm rot="4849800">
              <a:off x="1639800" y="-1639800"/>
              <a:ext cx="5800680" cy="90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62320" y="1552680"/>
              <a:ext cx="863640" cy="43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2680" y="3784680"/>
              <a:ext cx="647640" cy="647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03640" y="1484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125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628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8 М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40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1 М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413000"/>
            <a:ext cx="1008000" cy="71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3573360"/>
            <a:ext cx="93672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7344 0.15741 L -7.5E-006 1.85185E-006 E">
                                      <p:cBhvr>
                                        <p:cTn id="25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7:04:29Z</dcterms:created>
  <dc:creator>Анна</dc:creator>
  <dc:description/>
  <dc:language>en-US</dc:language>
  <cp:lastModifiedBy>Анна 1</cp:lastModifiedBy>
  <dcterms:modified xsi:type="dcterms:W3CDTF">2005-02-16T10:41:29Z</dcterms:modified>
  <cp:revision>23</cp:revision>
  <dc:subject/>
  <dc:title>Слайд 1</dc:title>
</cp:coreProperties>
</file>