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099-33B5-4FA6-AD47-347219E1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DC1-014C-448F-B0D0-BECD6251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D39-B8CB-406D-97F6-494D986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2B4-D2B0-4318-9809-5894334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0C7-ACB9-493B-B800-A965A3A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3AD-BFDE-4797-93EC-81D2062E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14C-005F-416B-AFF8-A7EEC726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7FF-8072-4F1C-8056-64539AE9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148-9898-4AD5-9F37-40AF1EC3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4A9-6A1D-4781-B62A-FF903EB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BDF-38BC-4E1A-9AFA-2BD1328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786-DD96-4203-8570-71AA382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540-B617-4C7A-A807-4E08E1FD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Какая единица длины (расстояния) принята, как основная в международной системе единиц (С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ли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0501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зите расстояние, равные 0,5 км и 25 000 мм в метр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ли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832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овы будут значения длин, равных 4 м и 100 мм, если их выразить в сантиметра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8200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см и 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 см и 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 см и 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см и 1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а деления шкалы прибора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ок между цифрами обозначенными на ш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ервым и последним числом на шкале при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 измеряемой величины, соответствующее расстоянию между двумя ближайшими штрихами ш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ближайших чисел на шкале, деленная на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2627280"/>
            <a:ext cx="5688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Какова цена деления мензурки, изображенной на рисунк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,5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м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3162240" y="2133720"/>
            <a:ext cx="2313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ва погрешность измерения секундомером, показанным на рисунк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2673360" y="2133720"/>
            <a:ext cx="38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Почему каждому нужно знать физику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физика объясняет причины разных явлени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именно эта наука позволяет создавать новую, все более совершенную тех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физика даёт знания о самых общих законах природы, играющих большую роль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верны все пункты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6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11 - c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                                                                  7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12 - c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                                       8 - b                                       13 -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9 - b                                       14 -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 a                                                                 10 - a                                       15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http://www.amurpress.com/images/Aleks/picture_74573.jpg"/>
          <p:cNvPicPr/>
          <p:nvPr/>
        </p:nvPicPr>
        <p:blipFill>
          <a:blip r:embed="rId1"/>
          <a:stretch/>
        </p:blipFill>
        <p:spPr>
          <a:xfrm>
            <a:off x="2124000" y="2682720"/>
            <a:ext cx="5184720" cy="411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67880" y="3230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686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рабо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зучает физ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я, происходящие в неживой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ые, механические, звуковые, электрические и магнитные 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е изменения в окружающем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143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2476440"/>
            <a:ext cx="6588000" cy="438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тело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тверд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, который мы ви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свойства которого изучаются в физ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тело в окружающем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то, из чего состоят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их которых состоят предм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из чего состоят тела 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576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физическим телам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в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18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з названного относится к веществам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5545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http://www.stihi.ru/pics/2011/03/11/4282.jpg"/>
          <p:cNvPicPr/>
          <p:nvPr/>
        </p:nvPicPr>
        <p:blipFill>
          <a:blip r:embed="rId1"/>
          <a:stretch/>
        </p:blipFill>
        <p:spPr>
          <a:xfrm>
            <a:off x="1258920" y="2781360"/>
            <a:ext cx="6769080" cy="36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случаях вещество, из которого может быть изготовлено тело, указано неправильно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946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ка – пласт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а – 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ь – пласт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ка – тк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Когда ученику был задан вопрос «Какие он знает вещества?», тот среди других веществ назвал следующие: вода, железо, море, бумага. В каком случае он допустил ошибк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Что значит измерить физическую величи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её с другой велич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её с однородной физической величиной, принятой за еди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во сколько раз она меньше или больше величины, принятой за еди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337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1:18:52Z</dcterms:created>
  <dc:creator>Admin</dc:creator>
  <dc:description/>
  <dc:language>en-US</dc:language>
  <cp:lastModifiedBy>Admin</cp:lastModifiedBy>
  <dcterms:modified xsi:type="dcterms:W3CDTF">2013-02-17T08:15:30Z</dcterms:modified>
  <cp:revision>51</cp:revision>
  <dc:subject/>
  <dc:title>Слайд 1</dc:title>
</cp:coreProperties>
</file>