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831-6490-4E65-90E9-E1FEEAB0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178-5E10-4ED0-9DB7-C84DD372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FBD-A53B-4E9D-A801-42D46A9E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A99-F391-48DF-9634-877FF022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977-D780-48B3-BE9A-23E3FE57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8DE-0A4E-4BE4-ABED-D6D3762F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BF7-16D6-45DB-9EEB-9538E438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6B3-6667-47C6-A772-784E4B85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DEC-35B9-4E69-8AFF-37541D5D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C15-5D66-4CEC-8312-AED88D50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1E8-8583-4A92-962D-B51219D5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593-9A00-4AB0-9F74-FEECFC43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352A-AA09-429A-B9C9-4B8404273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Какая единица длины (расстояния) принята, как основная в международной системе единиц (СИ)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ти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л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ли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0501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зите расстояние, равные 0,5 км и 25 000 мм в метр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ти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л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ли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832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овы будут значения длин, равных 4 м и 100 мм, если их выразить в сантиметрах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0" y="1916280"/>
            <a:ext cx="882000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см и 1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0 см и 1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0 см и 1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см и 1 с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на деления шкалы прибора – это …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91440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ежуток между цифрами обозначенными на шка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ь между первым и последним числом на шкале при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 измеряемой величины, соответствующее расстоянию между двумя ближайшими штрихами шк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ь ближайших чисел на шкале, деленная на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79640" y="2627280"/>
            <a:ext cx="5688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Какова цена деления мензурки, изображенной на рисунке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м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,5 м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 м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 м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3162240" y="2133720"/>
            <a:ext cx="2313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ва погрешность измерения секундомером, показанным на рисунк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5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1"/>
          <a:stretch/>
        </p:blipFill>
        <p:spPr>
          <a:xfrm>
            <a:off x="2673360" y="2133720"/>
            <a:ext cx="38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Почему каждому нужно знать физику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у что физика объясняет причины разных явлений при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именно эта наука позволяет создавать новую, все более совершенную тех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у что физика даёт знания о самых общих законах природы, играющих большую роль в жизн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у что верны все пункты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09600" y="0"/>
            <a:ext cx="672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80" y="836280"/>
            <a:ext cx="8964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 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6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11 - c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                                                                   7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12 - c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                                       8 - b                                       13 -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9 - b                                       14 -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 a                                                                 10 - a                                       15 -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http://www.amurpress.com/images/Aleks/picture_74573.jpg"/>
          <p:cNvPicPr/>
          <p:nvPr/>
        </p:nvPicPr>
        <p:blipFill>
          <a:blip r:embed="rId1"/>
          <a:stretch/>
        </p:blipFill>
        <p:spPr>
          <a:xfrm>
            <a:off x="2124000" y="2682720"/>
            <a:ext cx="5184720" cy="4116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67880" y="3230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68600" y="323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работ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изучает физ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8000" y="1557360"/>
            <a:ext cx="885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ения, происходящие в неживой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вые, механические, звуковые, электрические и магнитные 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ые изменения в окружающем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ответов нет ве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61437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2000" y="2476440"/>
            <a:ext cx="6588000" cy="4381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ое тело – это …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твердое 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, который мы вид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, свойства которого изучаются в физ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тело в окружающем ми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о – это …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341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 то, из чего состоят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, их которых состоят предм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, из чего состоят тела на Зем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ответов нет ве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2565360"/>
            <a:ext cx="5761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из перечисленного относится к физическим телам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лов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р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185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из названного относится к веществам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89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2852640"/>
            <a:ext cx="5545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http://www.stihi.ru/pics/2011/03/11/4282.jpg"/>
          <p:cNvPicPr/>
          <p:nvPr/>
        </p:nvPicPr>
        <p:blipFill>
          <a:blip r:embed="rId1"/>
          <a:stretch/>
        </p:blipFill>
        <p:spPr>
          <a:xfrm>
            <a:off x="1258920" y="2781360"/>
            <a:ext cx="6769080" cy="3672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025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их случаях вещество, из которого может быть изготовлено тело, указано неправильно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0" y="1484280"/>
            <a:ext cx="946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дка – пластм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ша – мет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воздь – пласти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ка – тк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Когда ученику был задан вопрос «Какие он знает вещества?», тот среди других веществ назвал следующие: вода, железо, море, бумага. В каком случае он допустил ошибку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79280" y="134136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ез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689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Что значит измерить физическую величин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ь её с другой велич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ь её с однородной физической величиной, принятой за еди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нать, во сколько раз она меньше или больше величины, принятой за еди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ответов нет ве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633744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1:18:52Z</dcterms:created>
  <dc:creator>Admin</dc:creator>
  <dc:description/>
  <dc:language>en-US</dc:language>
  <cp:lastModifiedBy>Admin</cp:lastModifiedBy>
  <dcterms:modified xsi:type="dcterms:W3CDTF">2013-02-17T08:15:30Z</dcterms:modified>
  <cp:revision>51</cp:revision>
  <dc:subject/>
  <dc:title>Слайд 1</dc:title>
</cp:coreProperties>
</file>