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DB08-228C-4578-8C45-C5F074EDB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6ACD-3ABC-406A-9473-C4CD1DC3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9FEC-B6A2-4ECA-9592-D2E44B7DF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BC96-141D-4441-8F15-E6398BBA9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2F18-A21A-4F27-9C44-12255A89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C294-5DBC-476B-BA5A-0DCDCB38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23FC-83EB-47DA-9929-254E4396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E118-AE19-4BD8-940B-72EF5B7F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60EF-04D3-4FDC-BFBA-F4492DFF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FEEE-9882-49D4-9B7F-0A5D4F40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26E0-1C07-49CB-B6BE-77F685D2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22B0-5AF7-4DD5-A59E-BBF36F20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4968-098A-44FD-906E-507FBA5170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609480"/>
            <a:ext cx="79250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листы Лешуконского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юбительского народного хора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2743200"/>
            <a:ext cx="8153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Цель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Изучить биографию и творчество солистов Лешуконского любительского народного хо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- собрать сведения из истории хор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- выяснить, кто является солистами хора, познакомиться с их биографи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- показать роль солистов в истории хор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- выявить известность солистов среди лешуконце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0" y="228600"/>
            <a:ext cx="89438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ешуконский любительский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родный хор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952880" y="762120"/>
            <a:ext cx="3514680" cy="5257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33520" y="762120"/>
            <a:ext cx="3943080" cy="5257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52280" y="5638680"/>
            <a:ext cx="8610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6600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.Л. Шишова  с участницами хора.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6600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34120" y="762120"/>
            <a:ext cx="2238120" cy="5333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371600" y="685800"/>
            <a:ext cx="1935000" cy="5410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752480" y="5867280"/>
            <a:ext cx="5715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6600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.В.Фофанова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6600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600200" y="1447920"/>
            <a:ext cx="5715000" cy="4733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828800" y="685800"/>
            <a:ext cx="5334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6600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.П.Перечицкая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6600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746748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6979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0"/>
            <a:ext cx="7391520" cy="594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9T18:50:19Z</dcterms:created>
  <dc:creator>Александр</dc:creator>
  <dc:description/>
  <dc:language>en-US</dc:language>
  <cp:lastModifiedBy>Александр</cp:lastModifiedBy>
  <dcterms:modified xsi:type="dcterms:W3CDTF">2013-04-01T13:19:1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