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027-92AC-4137-8CF3-B80CA672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BAC-C44D-43C6-8A4E-E6938463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B02-D119-41EB-A722-4E2A0B8A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3A4-8F0A-4F3E-B310-FC458E14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ABC-809D-43EF-9ED6-A802F798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D88-E15A-46C2-A6C0-0A75DC19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ED9-57B6-4FEA-B973-690120E7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C4D-4B2B-4FBC-83EB-867CF2CB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DE1-7B04-400D-8B2D-70E8A261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2B8-76BF-420B-83A4-2F5DA1E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6BD-B487-434B-BE44-CA6B666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456-1B9A-4E76-ACA8-4477A911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028-5926-4884-A322-999B3CA879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609480"/>
            <a:ext cx="7925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исты Лешуконского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бительского народного хор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743200"/>
            <a:ext cx="8153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Изучить биографию и творчество солистов Лешуконского любительского народного х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- собрать сведения из истории х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- выяснить, кто является солистами хора, познакомиться с их биографи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- показать роль солистов в истории х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- выявить известность солистов среди лешуконц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228600"/>
            <a:ext cx="89438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шуконский любительски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родный х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3514680" cy="525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2280" y="5638680"/>
            <a:ext cx="8610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.Л. Шишова  с участницами хора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2238120" cy="5333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371600" y="685800"/>
            <a:ext cx="193500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752480" y="58672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.В.Фофанов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715000" cy="473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828800" y="685800"/>
            <a:ext cx="5334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.П.Перечицка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97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0"/>
            <a:ext cx="739152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8:50:19Z</dcterms:created>
  <dc:creator>Александр</dc:creator>
  <dc:description/>
  <dc:language>en-US</dc:language>
  <cp:lastModifiedBy>Александр</cp:lastModifiedBy>
  <dcterms:modified xsi:type="dcterms:W3CDTF">2013-04-01T13:19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