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c00000"/>
            </a:solidFill>
            <a:ln w="0">
              <a:solidFill>
                <a:srgbClr val="000000"/>
              </a:solidFill>
            </a:ln>
          </c:spPr>
          <c:explosion val="0"/>
          <c:cat>
            <c:strRef>
              <c:f>categories</c:f>
              <c:strCache>
                <c:ptCount val="0"/>
              </c:strCache>
            </c:strRef>
          </c:cat>
        </c:ser>
        <c:firstSliceAng val="0"/>
      </c:pieChart>
      <c:spPr>
        <a:solidFill>
          <a:srgbClr val="ffffff"/>
        </a:solidFill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  <a:ea typeface="DejaVu Sans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0070c0"/>
      </a:solidFill>
      <a:round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401480" y="914040"/>
            <a:ext cx="4049640" cy="31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4240" cy="34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4D39F-09CA-4C5D-99F9-228C343F80C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046160" y="4352400"/>
            <a:ext cx="476568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336F7-979C-43EC-B84C-6125B761936C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71400" y="503280"/>
            <a:ext cx="78026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9560" y="810360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0948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7560" y="190656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7140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0948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7560" y="8103600"/>
            <a:ext cx="251208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560" y="1906560"/>
            <a:ext cx="380736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71400" y="8103600"/>
            <a:ext cx="7802640" cy="56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92440" y="612720"/>
            <a:ext cx="54846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3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503280"/>
            <a:ext cx="78026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2640" cy="11864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7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3760" y="96840"/>
            <a:ext cx="8556480" cy="6643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0"/>
            <a:ext cx="77709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  <a:ea typeface="msmincho"/>
              </a:rPr>
              <a:t>Развитие эмоционально-волевой сферы детей 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00720" y="5445000"/>
            <a:ext cx="4390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Опыт работы педагога-психолога МБДОУ  МО г. Красно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«Детский сад № 22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msmincho"/>
              </a:rPr>
              <a:t>Никоновой А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181080"/>
            <a:ext cx="8737560" cy="6643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20720" y="360360"/>
            <a:ext cx="80215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55e00"/>
                </a:solidFill>
                <a:latin typeface="Calibri"/>
                <a:ea typeface="msmincho"/>
              </a:rPr>
              <a:t>ПРЕЗЕНТ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msmincho"/>
              </a:rPr>
              <a:t>Тема: «Развитие эмоционально-волевой сферы детей дошкольного возраста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9640" y="5548320"/>
            <a:ext cx="4390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msmincho"/>
              </a:rPr>
              <a:t>Воспитатель 1мл.гр.№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msmincho"/>
              </a:rPr>
              <a:t>МАХМУДОВА Н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2160" y="399960"/>
            <a:ext cx="9051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«Дружба начинаемся с улыбк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Сидящие в кругу берутся за руки, смотрят соседу в глаза и дарят ему молча самую добрую, какая есть, улыбку по оч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360360"/>
            <a:ext cx="7883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Цветочек и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Эта игра, в отличие от предыдущих, направлена на расслабление и стабилизацию эмоциональн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Дети садятся на корточки и обхватывают руками колени. Ведущий начинает рассказывать историю про цветочек и солнышко, а дети выполняют выразительные движения, иллюстрирующие историю. В качестве фона можно включить спокойную негромкую музы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1197000"/>
            <a:ext cx="83613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040" y="1573200"/>
            <a:ext cx="840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хотелось бы подвести итоги, что именно в игре целесообразно развивать эмоционально-волевую сферу ребенка-дошкольника, поскольку она является ведущим видом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59080" y="214200"/>
            <a:ext cx="46609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 u="sng">
                <a:solidFill>
                  <a:srgbClr val="008000"/>
                </a:solidFill>
                <a:uFillTx/>
                <a:latin typeface="Arial"/>
              </a:rPr>
              <a:t>ВЫВ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95280" y="720720"/>
          <a:ext cx="2844720" cy="521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88" name=""/>
          <p:cNvSpPr/>
          <p:nvPr/>
        </p:nvSpPr>
        <p:spPr>
          <a:xfrm>
            <a:off x="3419640" y="900000"/>
            <a:ext cx="572292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создание условий для самопознания ребенка, гармоничного его взаимодействия с миром, правильного эмоционального развития, пробуждения в нем добрых чувств, стремления к сотрудничеству и положительному самоутвержд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ля достижения данной цели поставили следу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Помочь детям приобрести опыт социально уверенного по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Развивать у детей в процессе общения, их социальные способности и навыки в соответствии с возрастными и индивидуальными особ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Воспитывать у своих воспитанников способности контролировать свои чувства, но не в смысле подавлять любые проявления эмоций, а научить не бояться их, проявлять даже негативные чувства и эмоции без вреда для окружающ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539640"/>
            <a:ext cx="30607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79640" y="539640"/>
            <a:ext cx="1550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МО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539640"/>
            <a:ext cx="1619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1260360"/>
            <a:ext cx="431964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й и дошкольный возраст — периоды, когда эмоциональная сфера играет особо важную роль в жизни человека, когд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чувства, эмо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подствуют над всеми другими сторонами его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моции и чув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грают важную роль в жизни ребенка. Они помогают воспринимать действительность и реагировать на нее. Эмоциональный мир ребенка гораздо богаче и колоритнее, чем у взрослого человека. Ребенок может радоваться и сердиться, переживать и грус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19640" y="1042920"/>
            <a:ext cx="392436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етские годы начинает формироваться регулирующая сторона сознания человека, способность к целенаправленным действиям и поступкам, связанным с преодолением препятств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го в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я не дана от рождения, она возникает,как результат жизненной практики, воспитания и самовоспитания. В раннем детстве формируются предпосылки волевого действия, возникают первые целенаправленные движения, предметно-орудийные действия, цепочка действ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65280" y="289404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65280" y="39607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65280" y="502776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65280" y="60930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0000" y="615960"/>
            <a:ext cx="73803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5000b"/>
                </a:solidFill>
                <a:latin typeface="Arial"/>
              </a:rPr>
              <a:t>Развитие эмоционально-волевой сферы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— процесс постепенный, и вместо того, чтобы наказывать ребенка, нужно научить его выражать негативные эмоции приемлемыми способами, регулировать свое эмоциональное состояние, снимать эмоциональное напряжение. Причем лучше всего делать это с помощью игры, ведь игра — это не только веселое времяпрепровождение, но и мощный воспитательный инстр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Именно в игре ребёнок проявляет присущие ему личностные качества и обнажает эмоциональные переживания. В игре он учится проявлять свои эмоции, учиться адекватному их выра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45000"/>
              <a:buFont typeface="Courier New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102d"/>
                </a:solidFill>
                <a:latin typeface="Courier New"/>
                <a:ea typeface="Courier New"/>
              </a:rPr>
              <a:t>10 базовых эмоц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57240" y="1600200"/>
            <a:ext cx="535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Интерес            Р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Удивление       Печа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Гнев          Отвра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Презрение          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omic Sans MS"/>
              </a:rPr>
              <a:t>Стыд                     В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001000" y="5143680"/>
            <a:ext cx="97488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57120" y="5000760"/>
            <a:ext cx="1103400" cy="1571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215200" y="2357280"/>
            <a:ext cx="773280" cy="14288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14200" y="214200"/>
            <a:ext cx="1476360" cy="1928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4214880" y="4929120"/>
            <a:ext cx="1128600" cy="178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429680" y="142920"/>
            <a:ext cx="1531800" cy="2017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7286760" y="3786120"/>
            <a:ext cx="893520" cy="1285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142920" y="2500200"/>
            <a:ext cx="1608120" cy="19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5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8" dur="800" fill="hold"/>
                                        <p:tgtEl>
                                          <p:spTgt spid="304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17" dur="800" fill="hold"/>
                                        <p:tgtEl>
                                          <p:spTgt spid="306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6" dur="800" fill="hold"/>
                                        <p:tgtEl>
                                          <p:spTgt spid="308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35" dur="800" fill="hold"/>
                                        <p:tgtEl>
                                          <p:spTgt spid="303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44" dur="800" fill="hold"/>
                                        <p:tgtEl>
                                          <p:spTgt spid="302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53" dur="800" fill="hold"/>
                                        <p:tgtEl>
                                          <p:spTgt spid="305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62" dur="800" fill="hold"/>
                                        <p:tgtEl>
                                          <p:spTgt spid="307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71" dur="800" fill="hold"/>
                                        <p:tgtEl>
                                          <p:spTgt spid="301"/>
                                        </p:tgtEl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9640" y="162864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176040"/>
            <a:ext cx="8820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 ГРУППЕ СОЗДАН УГОЛОК НАСТР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7120" y="785880"/>
            <a:ext cx="828036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1. ПЛАКАТ С ИЗОБРАЖЕНИЕМ РАЗНЫХ НАСТРОЕНИЙ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(ВЕСЁЛОЕ, ЗАДУМЧИВОЕ,ОЗОРНОЕ, ГРУСТНОЕ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ОТО  НАСТРО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ПОДБЕРИ ПА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ВЫРАЗИ ЭМОЦ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УГАДАЙ НАСТРО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СДЕЛАЙ КАК 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БЕЗОБИДНЫЕ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 «ПОДУШКИ ДРАЧУН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ЕШОЧЕК ДЛЯ ПЛОХОГО НАСТР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80"/>
                </a:solidFill>
                <a:latin typeface="Arial"/>
              </a:rPr>
              <a:t>«УХОДИ ЗЛОСТЬ,УХО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92400" y="3425760"/>
            <a:ext cx="4913640" cy="3438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dur="indefinite" fill="hold">
                      <p:stCondLst>
                        <p:cond delay="0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width"/>
                                          </p:val>
                                        </p:tav>
                                      </p:tavLst>
                                    </p:anim>
                                    <p:anim calcmode="lin" valueType="str">
                                      <p:cBhvr additive="repl">
                                        <p:cTn id="83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avLst>
                                        <p:tav tm="100000">
                                          <p:val>
                                            <p:strVal val="height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079640" y="204840"/>
            <a:ext cx="59403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Лото настроени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f24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f244d"/>
                </a:solidFill>
                <a:latin typeface="Arial"/>
              </a:rPr>
              <a:t>Развитие умения понимать эмоции других людей и выражать собственные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f244d"/>
                </a:solidFill>
                <a:latin typeface="Arial"/>
              </a:rPr>
              <a:t>На столе раскладываются картинкой вниз схематичные изображения эмоций. Ребенок берет одну карточку, не показывая ее никому. Затем ребенок должен узнать эмоцию и изобразить ее с помощью мимики, пантомимики, голосовых интонаций. Остальные отгадывают изображенную эмо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771640" y="1484280"/>
            <a:ext cx="395928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689040"/>
            <a:ext cx="903780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Обзыва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Обучение выплескиванию негативных эмоций, формирование навыка регуляции эмоционального состоя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Дети передают по кругу мяч, при этом называют друг друга разными необидными словами. Это могут быть (по договоренности с группой) названия деревьев, фруктов, мебели, грибов, овощей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Каждое обращение обязательно должно начинаться со слов «А ты...» и сопровождаться взглядом на партнера. Например: «А ты — морковка!». В заключительном круге играющие должны сказать соседу что-то приятное, например: «А ты — солнышк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Arial"/>
              </a:rPr>
              <a:t>После прохождения последнего круга необходимо обсудить, что было приятнее слушать и почему. Часто дети приходят к выводу, что приятнее говорить товарищу добрые слова, в этом случае и самому становилось хорошо. Кроме того, дети отмечают, что иногда даже необидное слово, если оно сказано грубым голосом или сопровождается угрожающими жестами, может быть неприятным для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9640" y="460440"/>
            <a:ext cx="835668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5000b"/>
                </a:solidFill>
                <a:latin typeface="Arial"/>
              </a:rPr>
              <a:t>Игра «ДА и 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витие умения контролировать импульсивные 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 ответе на вопросы слова «ДА» и «НЕТ» говорить нельз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ы девочка? Соль сладкая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тицы летают? Гуси мяукаю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ейчас зима? Кошка – это птиц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ячик квадратный? Зимой шуба гре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 тебя есть нос? Игрушки живы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