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139-6D06-453E-802A-0DF37791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048-4545-4969-B9F6-CCD7EBC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647-F753-4A85-9F54-144AD124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AED-6AAB-4749-9716-E4FBF61E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BA9-E319-4A14-AD24-B4694C13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3679-B50D-402A-9628-1234535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337-457F-474A-81C0-F567E805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2667-16BA-424D-8AC5-EC24B335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B545-AE20-41FD-8A02-CE6DF81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24F3-FC81-4E88-BE5A-6CF6945B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0957-DDD6-484B-8C36-251D179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F5D-AC57-47E7-B389-FBA0B716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DBEE-EE70-492F-933B-646B10F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1F1-5094-4272-8344-BE52BA6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889D-0A09-4F4D-802C-DB0CA079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A534-0861-47C0-8279-6821283C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A134-128E-4B15-982C-4B1666BA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1E7-15E5-4537-A88B-29991A9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405-ED7E-4F2D-88E4-6267ED3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977-0189-4883-B8D3-3B58B25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4C4-F6CB-4D56-8174-22BED91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BFF-B0EC-4955-A12F-9601DED5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99B-8098-450D-87E7-E93A19A4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3D7-C402-4532-9790-639F69C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B18-08A5-4100-8EFD-27A86063E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7F3-7300-4B4C-9A9C-5AFF8FD266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очему полезна каша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90560" y="55623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арембо Софья 4 «Б»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66becd4a95ae20b3c48d88bf8f9"/>
          <p:cNvPicPr/>
          <p:nvPr/>
        </p:nvPicPr>
        <p:blipFill>
          <a:blip r:embed="rId1"/>
          <a:stretch/>
        </p:blipFill>
        <p:spPr>
          <a:xfrm>
            <a:off x="838080" y="1295280"/>
            <a:ext cx="4176720" cy="3886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youtube_d71d96709b50307e8156ba6be105e8060"/>
          <p:cNvPicPr/>
          <p:nvPr/>
        </p:nvPicPr>
        <p:blipFill>
          <a:blip r:embed="rId2"/>
          <a:stretch/>
        </p:blipFill>
        <p:spPr>
          <a:xfrm>
            <a:off x="5105520" y="1295280"/>
            <a:ext cx="3735360" cy="3810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youtube_d71d96709b50307e8156ba6be105e8060"/>
          <p:cNvPicPr/>
          <p:nvPr/>
        </p:nvPicPr>
        <p:blipFill>
          <a:blip r:embed="rId3"/>
          <a:stretch/>
        </p:blipFill>
        <p:spPr>
          <a:xfrm>
            <a:off x="5105520" y="1371600"/>
            <a:ext cx="3733560" cy="3808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youtube_d71d96709b50307e8156ba6be105e8060"/>
          <p:cNvPicPr/>
          <p:nvPr/>
        </p:nvPicPr>
        <p:blipFill>
          <a:blip r:embed="rId4"/>
          <a:stretch/>
        </p:blipFill>
        <p:spPr>
          <a:xfrm>
            <a:off x="5392800" y="1523880"/>
            <a:ext cx="3378240" cy="3657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youtube_d71d96709b50307e8156ba6be105e8060"/>
          <p:cNvPicPr/>
          <p:nvPr/>
        </p:nvPicPr>
        <p:blipFill>
          <a:blip r:embed="rId5"/>
          <a:stretch/>
        </p:blipFill>
        <p:spPr>
          <a:xfrm>
            <a:off x="5257800" y="1447920"/>
            <a:ext cx="320364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Рисов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укрепляет нервную систему. Японские ученые сделали открытие: чем чаще ешь рис, тем лучше у тебя интеллект .Состав : витамины Е, В1, В2, аминокислоты, фолиевая  кисл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Гречневая каша -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содержит кальций, железо, цинк, медь и витамины. Полезна при болях в сердце и ожирении. Состав калий, кальций, магний, натрий, фтор, цинк, железо, йод, медь, кобальт, молибден, витамины В, 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ерлов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богата лизином- это аминокислота, которая помогает бороться с вирусами и микробами.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у кашу особенно любил царь Петр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9" descr="IMG_1770_s"/>
          <p:cNvPicPr/>
          <p:nvPr/>
        </p:nvPicPr>
        <p:blipFill>
          <a:blip r:embed="rId1"/>
          <a:stretch/>
        </p:blipFill>
        <p:spPr>
          <a:xfrm>
            <a:off x="7162920" y="457200"/>
            <a:ext cx="1123920" cy="83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bludo-14-b"/>
          <p:cNvPicPr/>
          <p:nvPr/>
        </p:nvPicPr>
        <p:blipFill>
          <a:blip r:embed="rId2"/>
          <a:stretch/>
        </p:blipFill>
        <p:spPr>
          <a:xfrm>
            <a:off x="7315200" y="1847880"/>
            <a:ext cx="228600" cy="1106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iрис.jpg"/>
          <p:cNvPicPr/>
          <p:nvPr/>
        </p:nvPicPr>
        <p:blipFill>
          <a:blip r:embed="rId3"/>
          <a:stretch/>
        </p:blipFill>
        <p:spPr>
          <a:xfrm>
            <a:off x="4844880" y="179280"/>
            <a:ext cx="3994200" cy="31734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ложка.jpg"/>
          <p:cNvPicPr/>
          <p:nvPr/>
        </p:nvPicPr>
        <p:blipFill>
          <a:blip r:embed="rId4"/>
          <a:stretch/>
        </p:blipFill>
        <p:spPr>
          <a:xfrm>
            <a:off x="4724280" y="3657600"/>
            <a:ext cx="411480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3392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зработала вопросы анкеты. Чтобы провести исследование, я выбрала групповой, анонимный анкетный опрос. Объяснила, как надо работать с бланком анкетного опроса, который помог бы мне определить, полезна ли каша и стоит ли ее ес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нкета состояла из 7 вопросов. В анкетировании приняли участие  18 учащихся 4 «Б» класса. Данные анкетного опроса детей показывают: мальчики и девочки проявляют по- разному  отношение к каша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роме этого я провела ряд химических исследований ка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IMG_8308"/>
          <p:cNvPicPr/>
          <p:nvPr/>
        </p:nvPicPr>
        <p:blipFill>
          <a:blip r:embed="rId1"/>
          <a:stretch/>
        </p:blipFill>
        <p:spPr>
          <a:xfrm>
            <a:off x="6629400" y="3352680"/>
            <a:ext cx="163836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работа.jpg"/>
          <p:cNvPicPr/>
          <p:nvPr/>
        </p:nvPicPr>
        <p:blipFill>
          <a:blip r:embed="rId2"/>
          <a:stretch/>
        </p:blipFill>
        <p:spPr>
          <a:xfrm>
            <a:off x="7010280" y="3295800"/>
            <a:ext cx="381240" cy="51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iиссл.jpg"/>
          <p:cNvPicPr/>
          <p:nvPr/>
        </p:nvPicPr>
        <p:blipFill>
          <a:blip r:embed="rId3"/>
          <a:stretch/>
        </p:blipFill>
        <p:spPr>
          <a:xfrm>
            <a:off x="7238880" y="3886200"/>
            <a:ext cx="37152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i портрет.jpg"/>
          <p:cNvPicPr/>
          <p:nvPr/>
        </p:nvPicPr>
        <p:blipFill>
          <a:blip r:embed="rId4"/>
          <a:stretch/>
        </p:blipFill>
        <p:spPr>
          <a:xfrm>
            <a:off x="6629400" y="3429000"/>
            <a:ext cx="1563840" cy="14256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i картин.jpg"/>
          <p:cNvPicPr/>
          <p:nvPr/>
        </p:nvPicPr>
        <p:blipFill>
          <a:blip r:embed="rId5"/>
          <a:stretch/>
        </p:blipFill>
        <p:spPr>
          <a:xfrm>
            <a:off x="4648320" y="1676520"/>
            <a:ext cx="416088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1733400" y="4800600"/>
            <a:ext cx="1847880" cy="1279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10552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Самой полезной кашей ребятами признан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речнев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, ее выбрали 10 мальчиков и 8 девочек( 18ч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 том, что каша полезна, знают всего 8 человека из 1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Самой популярной кашей у мальчиков                       (5ч.) и у девочек (3 ч.) стал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манн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.  Всего манную кашу выбрало 8челов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2 месте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всян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: мальчики (4.) и девочки(3ч.), всего - 7челов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3 месте -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гречнев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: мальчики                      (5ч.) и девочки (1ч.), 6 челов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4 месте -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исовая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каша: мальч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( 2ч.) и  девочки( 1ч.), всего 3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Ребята не любя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ерловую,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шённую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у любят только 2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Object 12" descr=""/>
          <p:cNvPicPr/>
          <p:nvPr/>
        </p:nvPicPr>
        <p:blipFill>
          <a:blip r:embed="rId2"/>
          <a:stretch/>
        </p:blipFill>
        <p:spPr>
          <a:xfrm>
            <a:off x="50760" y="1346040"/>
            <a:ext cx="3936960" cy="2592720"/>
          </a:xfrm>
          <a:prstGeom prst="rect">
            <a:avLst/>
          </a:prstGeom>
          <a:ln w="0">
            <a:noFill/>
          </a:ln>
        </p:spPr>
      </p:pic>
      <p:grpSp>
        <p:nvGrpSpPr>
          <p:cNvPr id="266" name="Organization Chart 13"/>
          <p:cNvGrpSpPr/>
          <p:nvPr/>
        </p:nvGrpSpPr>
        <p:grpSpPr>
          <a:xfrm>
            <a:off x="914400" y="838080"/>
            <a:ext cx="2361960" cy="1447560"/>
            <a:chOff x="914400" y="838080"/>
            <a:chExt cx="2361960" cy="1447560"/>
          </a:xfrm>
        </p:grpSpPr>
        <p:cxnSp>
          <p:nvCxnSpPr>
            <p:cNvPr id="267" name="_s1029"/>
            <p:cNvCxnSpPr>
              <a:stCxn id="268" idx="1"/>
              <a:endCxn id="269" idx="2"/>
            </p:cNvCxnSpPr>
            <p:nvPr/>
          </p:nvCxnSpPr>
          <p:spPr>
            <a:xfrm rot="10800000">
              <a:off x="1622160" y="1044720"/>
              <a:ext cx="236880" cy="113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9" idx="2"/>
            </p:cNvCxnSpPr>
            <p:nvPr/>
          </p:nvCxnSpPr>
          <p:spPr>
            <a:xfrm rot="10800000">
              <a:off x="1622160" y="1044000"/>
              <a:ext cx="236880" cy="82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9" idx="2"/>
            </p:cNvCxnSpPr>
            <p:nvPr/>
          </p:nvCxnSpPr>
          <p:spPr>
            <a:xfrm rot="10800000">
              <a:off x="1622160" y="1044000"/>
              <a:ext cx="236880" cy="51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1"/>
              <a:endCxn id="269" idx="2"/>
            </p:cNvCxnSpPr>
            <p:nvPr/>
          </p:nvCxnSpPr>
          <p:spPr>
            <a:xfrm rot="10800000">
              <a:off x="1622160" y="1044000"/>
              <a:ext cx="236880" cy="20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9" name="_s1033"/>
            <p:cNvSpPr/>
            <p:nvPr/>
          </p:nvSpPr>
          <p:spPr>
            <a:xfrm>
              <a:off x="914400" y="83808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аш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1859040" y="114804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.Манная – 20 человек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_s1035"/>
            <p:cNvSpPr/>
            <p:nvPr/>
          </p:nvSpPr>
          <p:spPr>
            <a:xfrm>
              <a:off x="1859040" y="145836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. Овсяная -18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_s1036"/>
            <p:cNvSpPr/>
            <p:nvPr/>
          </p:nvSpPr>
          <p:spPr>
            <a:xfrm>
              <a:off x="1859040" y="176868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.Гречневая – 15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_s1037"/>
            <p:cNvSpPr/>
            <p:nvPr/>
          </p:nvSpPr>
          <p:spPr>
            <a:xfrm>
              <a:off x="1859040" y="207900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.Рисовая- 6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6" name="Рисунок 5" descr="i_180.jpg"/>
          <p:cNvPicPr/>
          <p:nvPr/>
        </p:nvPicPr>
        <p:blipFill>
          <a:blip r:embed="rId3"/>
          <a:stretch/>
        </p:blipFill>
        <p:spPr>
          <a:xfrm>
            <a:off x="457200" y="3049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i_042.jpg"/>
          <p:cNvPicPr/>
          <p:nvPr/>
        </p:nvPicPr>
        <p:blipFill>
          <a:blip r:embed="rId4"/>
          <a:stretch/>
        </p:blipFill>
        <p:spPr>
          <a:xfrm>
            <a:off x="380880" y="3809880"/>
            <a:ext cx="41068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имическое исследование каш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ыт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капля спиртового раствора йода = синее окраши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в каше есть крахм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3" descr="фото0196.jpg"/>
          <p:cNvPicPr/>
          <p:nvPr/>
        </p:nvPicPr>
        <p:blipFill>
          <a:blip r:embed="rId1"/>
          <a:stretch/>
        </p:blipFill>
        <p:spPr>
          <a:xfrm>
            <a:off x="6324480" y="3733920"/>
            <a:ext cx="371520" cy="1981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фото0195.jpg"/>
          <p:cNvPicPr/>
          <p:nvPr/>
        </p:nvPicPr>
        <p:blipFill>
          <a:blip r:embed="rId2"/>
          <a:stretch/>
        </p:blipFill>
        <p:spPr>
          <a:xfrm>
            <a:off x="6172200" y="3886200"/>
            <a:ext cx="60156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фото0180.jpg"/>
          <p:cNvPicPr/>
          <p:nvPr/>
        </p:nvPicPr>
        <p:blipFill>
          <a:blip r:embed="rId3"/>
          <a:stretch/>
        </p:blipFill>
        <p:spPr>
          <a:xfrm>
            <a:off x="6492960" y="4191120"/>
            <a:ext cx="212760" cy="1066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фото0180.jpg"/>
          <p:cNvPicPr/>
          <p:nvPr/>
        </p:nvPicPr>
        <p:blipFill>
          <a:blip r:embed="rId4"/>
          <a:stretch/>
        </p:blipFill>
        <p:spPr>
          <a:xfrm>
            <a:off x="5181480" y="28954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ыт № 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капля концентрированной азотной кислоты = со временем получается желтое окраш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аше есть бе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3" descr="фото0181.jpg"/>
          <p:cNvPicPr/>
          <p:nvPr/>
        </p:nvPicPr>
        <p:blipFill>
          <a:blip r:embed="rId1"/>
          <a:stretch/>
        </p:blipFill>
        <p:spPr>
          <a:xfrm>
            <a:off x="5630760" y="3962520"/>
            <a:ext cx="46080" cy="60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фото0184.jpg"/>
          <p:cNvPicPr/>
          <p:nvPr/>
        </p:nvPicPr>
        <p:blipFill>
          <a:blip r:embed="rId2"/>
          <a:stretch/>
        </p:blipFill>
        <p:spPr>
          <a:xfrm>
            <a:off x="5638680" y="2971800"/>
            <a:ext cx="781200" cy="10414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фото0192.jpg"/>
          <p:cNvPicPr/>
          <p:nvPr/>
        </p:nvPicPr>
        <p:blipFill>
          <a:blip r:embed="rId3"/>
          <a:stretch/>
        </p:blipFill>
        <p:spPr>
          <a:xfrm>
            <a:off x="5079960" y="2590920"/>
            <a:ext cx="35686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ыт № 3 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837720"/>
            <a:ext cx="8534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раствор медного купоро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твор едкого калия = синий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греваем полученный синий раствор, появляется сначала желтый, а затем осадок красного цв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ше есть глюк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химические исследования показали, что в состав всех каш обязательно входят белки, крахмал и глюк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3" descr="фото0192.jpg"/>
          <p:cNvPicPr/>
          <p:nvPr/>
        </p:nvPicPr>
        <p:blipFill>
          <a:blip r:embed="rId1"/>
          <a:stretch/>
        </p:blipFill>
        <p:spPr>
          <a:xfrm>
            <a:off x="6400800" y="5156280"/>
            <a:ext cx="533520" cy="711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фото0184.jpg"/>
          <p:cNvPicPr/>
          <p:nvPr/>
        </p:nvPicPr>
        <p:blipFill>
          <a:blip r:embed="rId2"/>
          <a:stretch/>
        </p:blipFill>
        <p:spPr>
          <a:xfrm>
            <a:off x="3429000" y="34290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фото0196.jpg"/>
          <p:cNvPicPr/>
          <p:nvPr/>
        </p:nvPicPr>
        <p:blipFill>
          <a:blip r:embed="rId3"/>
          <a:stretch/>
        </p:blipFill>
        <p:spPr>
          <a:xfrm>
            <a:off x="6248520" y="34290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6" descr="фото0192.jpg"/>
          <p:cNvPicPr/>
          <p:nvPr/>
        </p:nvPicPr>
        <p:blipFill>
          <a:blip r:embed="rId4"/>
          <a:stretch/>
        </p:blipFill>
        <p:spPr>
          <a:xfrm>
            <a:off x="9372600" y="594360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7" descr="фото0181.jpg"/>
          <p:cNvPicPr/>
          <p:nvPr/>
        </p:nvPicPr>
        <p:blipFill>
          <a:blip r:embed="rId5"/>
          <a:stretch/>
        </p:blipFill>
        <p:spPr>
          <a:xfrm>
            <a:off x="762120" y="342900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здник у каш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7" descr="7378"/>
          <p:cNvPicPr/>
          <p:nvPr/>
        </p:nvPicPr>
        <p:blipFill>
          <a:blip r:embed="rId1"/>
          <a:stretch/>
        </p:blipFill>
        <p:spPr>
          <a:xfrm>
            <a:off x="5334120" y="4191120"/>
            <a:ext cx="3657600" cy="236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2"/>
          <a:stretch/>
        </p:blipFill>
        <p:spPr>
          <a:xfrm>
            <a:off x="6095880" y="762120"/>
            <a:ext cx="2819520" cy="3130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0"/>
          <p:cNvSpPr/>
          <p:nvPr/>
        </p:nvSpPr>
        <p:spPr>
          <a:xfrm>
            <a:off x="457200" y="914400"/>
            <a:ext cx="4724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казывается, у каши есть свой  народный праздник- он так и называется- Мирская каша. Отмечается в день Акулины- Гречишницы , 26 июня. За неделю до этого дня или через неделю после него по народным приметам нужно было сеять гречиху, что бы урожай был щедрым.  Первые горсти гречихи брали из мешочка, сшитого   в виде куклы. Собрав урожай, в деревнях устраивали угощение кашей для всей округи. А после уборочной мешочек, из которого делали куклу, вновь наполняли отборным зерном нового урожая и наряжали в куклу.  Зерновушку  бережно хранили на видном месте - в красном углу Она знак сытой жизни и достатка в семье. Эта особая кукла имеет несколько названий: Зернушка, Зерновушка, Крупеничка, Горошин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2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848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я гипотеза , что мои одноклассники мало знают о полезных свойствах каши и поэтому не едят ее, подтвердилась. В своем исследовании я доказал, что каша - сытное и полезное  блюдо и идеально здоровый завтрак, потому чт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о- первых, утренние каши повышают концентрацию внимания на целый д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о- вторых, каша не способствует ожирен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- третьих, люди, которые регулярно едят утром кашу на завтрак, способны лучше противостоять стрессам и находятся в хорошей физической фор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олученная в ходе исследования информация, позволяет сделать следующие вывод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. Убедить родителей привлекать детей к приготовлению  каши. Ведь то, что сварил сам, хочется съе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2. Привлечь классный актив 1-4 классов для организации  и проведения бесед с учащимися  1-4 классов по темам: « Почему полезна каша?», «Какая каша лучше?»,  и т.д. Такие беседы могут помочь разъяснить ценность каши для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2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за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191120" y="1356840"/>
            <a:ext cx="4724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ша  в России  всегда была особым блюдом: обрядовым, торжественным и одновременно первейшим блюдом на пирах или празднествах. Привычное, неприметное, но обладающее особым колоритом блюдо за пределами России стоит в одном ряду с борщом, русскими щами и квасом. Каша – это и национальная гордость, и марка нашей страны, но в первую очередь – вершина кулинарного искусства древней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Рус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8" descr="sk-027-kasha-iz-topora-01-a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1256274111_1600"/>
          <p:cNvPicPr/>
          <p:nvPr/>
        </p:nvPicPr>
        <p:blipFill>
          <a:blip r:embed="rId2"/>
          <a:stretch/>
        </p:blipFill>
        <p:spPr>
          <a:xfrm>
            <a:off x="380880" y="3537000"/>
            <a:ext cx="3733920" cy="2940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стория возникновения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данного исследова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гда я была младше я не понимала, почему мама иногда просто заставляет меня есть кашу. Она говорила, что кашу есть полезно.. Но иногда каша  казалась мне неаппетитной, и даже не пробуя её, я уже говорила, что она невкусная. Мама шла на всякие хитрости: когда готовила кашу, звала меня и я смотрела, как она варит кашу, из чего, а потом мы вместе придумали, какие ягоды и фрукты можно добавить в каш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495680" y="1338120"/>
            <a:ext cx="3962520" cy="3005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4343400" y="4495680"/>
            <a:ext cx="434340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полюбила кашу. Став школьницей, я обратила внимание, что  в школьной столовой, когда нам давали кашу, многие дети отказывались от нее и говорили, что она не полезна. Но так ли это на самом деле? Я задумалась: действительно ли каша полезна? Что такое каша? И какими бывают каш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9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Цель :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доказать , что каша - сытное и полезное блюдо и разработать рекомендации, повышающие популярность каши среди детей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IMG_8346"/>
          <p:cNvPicPr/>
          <p:nvPr/>
        </p:nvPicPr>
        <p:blipFill>
          <a:blip r:embed="rId1"/>
          <a:stretch/>
        </p:blipFill>
        <p:spPr>
          <a:xfrm>
            <a:off x="3505320" y="1981080"/>
            <a:ext cx="2369880" cy="147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IMG_8346"/>
          <p:cNvPicPr/>
          <p:nvPr/>
        </p:nvPicPr>
        <p:blipFill>
          <a:blip r:embed="rId2"/>
          <a:stretch/>
        </p:blipFill>
        <p:spPr>
          <a:xfrm>
            <a:off x="4267080" y="2057400"/>
            <a:ext cx="2057400" cy="1276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i_069.jpg"/>
          <p:cNvPicPr/>
          <p:nvPr/>
        </p:nvPicPr>
        <p:blipFill>
          <a:blip r:embed="rId3"/>
          <a:stretch/>
        </p:blipFill>
        <p:spPr>
          <a:xfrm>
            <a:off x="1676520" y="533520"/>
            <a:ext cx="578484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ипотеза :</a:t>
            </a: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предположим, что дети не знают о полезных свойствах каши и поэтому не хотят кушать многие разновидности каш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40985493_Mannayakasha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41907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5410080" y="380880"/>
            <a:ext cx="3429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ъектом исследования </a:t>
            </a: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является меню семей моих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едметом исследования-</a:t>
            </a: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каша как продукт питания</a:t>
            </a: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9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анализировать понятия «каша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знать, какая бывает каша и чем она полез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яснить, есть ли праздник у каш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вести изучение семейного меню на завтрак и мнений сверстников о кашах методом анкетного опро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00074303"/>
          <p:cNvPicPr/>
          <p:nvPr/>
        </p:nvPicPr>
        <p:blipFill>
          <a:blip r:embed="rId1"/>
          <a:stretch/>
        </p:blipFill>
        <p:spPr>
          <a:xfrm>
            <a:off x="5867280" y="762120"/>
            <a:ext cx="30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32449848_9742344_ingseyth00811"/>
          <p:cNvPicPr/>
          <p:nvPr/>
        </p:nvPicPr>
        <p:blipFill>
          <a:blip r:embed="rId2"/>
          <a:stretch/>
        </p:blipFill>
        <p:spPr>
          <a:xfrm>
            <a:off x="5791320" y="3962520"/>
            <a:ext cx="31240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з истории каш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91440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аша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традиционное блюдо русской кухни. Само слово «каша» означает кушанье, приготовленное из растертого зерна. В давние времена кашу  готовили в русской печи в глиняных горшках, и без нее не обходилось ни одно праздничное застолье на Руси. В России каша была частым горячим блюдом в арм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 – самое распространенное русское блюдо. На Руси каши делались в трех видах  в зависимости от состояния зерна и воды: крутые, размазни и кашицы (полужидкие). Приготовлялись они с добавками из рыбы, мяса, домашней птицы и дичи, грибов, овощей , ягод . В 10-14 веке каши приобрели значение массового ритуального блюда, которым начиналось и завершалось любое мероприятие Кашу подавали к столу и великим персонам  , так на пример кашу очень любил царь Пет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ей на  Руси считались все кушанья, сваренные из измельченных продуктов, упоминаются хлебные - из сухарей, рыбные, гороховые, морковные , реп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Grechnevaya-kasha"/>
          <p:cNvPicPr/>
          <p:nvPr/>
        </p:nvPicPr>
        <p:blipFill>
          <a:blip r:embed="rId1"/>
          <a:stretch/>
        </p:blipFill>
        <p:spPr>
          <a:xfrm>
            <a:off x="6315120" y="1066680"/>
            <a:ext cx="1457280" cy="7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IMG_2843s"/>
          <p:cNvPicPr/>
          <p:nvPr/>
        </p:nvPicPr>
        <p:blipFill>
          <a:blip r:embed="rId2"/>
          <a:stretch/>
        </p:blipFill>
        <p:spPr>
          <a:xfrm>
            <a:off x="6705720" y="160020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images"/>
          <p:cNvPicPr/>
          <p:nvPr/>
        </p:nvPicPr>
        <p:blipFill>
          <a:blip r:embed="rId3"/>
          <a:stretch/>
        </p:blipFill>
        <p:spPr>
          <a:xfrm>
            <a:off x="7086600" y="990720"/>
            <a:ext cx="660240" cy="90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6" descr="каша.jpg"/>
          <p:cNvPicPr/>
          <p:nvPr/>
        </p:nvPicPr>
        <p:blipFill>
          <a:blip r:embed="rId4"/>
          <a:stretch/>
        </p:blipFill>
        <p:spPr>
          <a:xfrm>
            <a:off x="5259240" y="914400"/>
            <a:ext cx="357984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ложка.jpg"/>
          <p:cNvPicPr/>
          <p:nvPr/>
        </p:nvPicPr>
        <p:blipFill>
          <a:blip r:embed="rId5"/>
          <a:stretch/>
        </p:blipFill>
        <p:spPr>
          <a:xfrm>
            <a:off x="5938920" y="4724280"/>
            <a:ext cx="2571840" cy="1752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ая бывает каша и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она полезн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з разных источников я узнала , что каша – это полезный , питательный, вкусный и недорогой продукт. Очень полезно есть кашу на завтрак. Начиная день с каши, вы насыщаете организм полезными веществ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 спросите меня: «Так какую же кашу выбрать? Ведь их так много».                     Да, разнообразие каш не знает границ: манная, овсяная, перловая, пшённая, рисовая, гречнева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Приведу примеры полезных свойств некоторых каш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193356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i_078.jpg"/>
          <p:cNvPicPr/>
          <p:nvPr/>
        </p:nvPicPr>
        <p:blipFill>
          <a:blip r:embed="rId2"/>
          <a:stretch/>
        </p:blipFill>
        <p:spPr>
          <a:xfrm>
            <a:off x="5257800" y="457200"/>
            <a:ext cx="3500280" cy="28954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i_118.jpg"/>
          <p:cNvPicPr/>
          <p:nvPr/>
        </p:nvPicPr>
        <p:blipFill>
          <a:blip r:embed="rId3"/>
          <a:stretch/>
        </p:blipFill>
        <p:spPr>
          <a:xfrm>
            <a:off x="4876920" y="3635280"/>
            <a:ext cx="3962160" cy="2841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2282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Манная каша -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бладает высокой  калорийностью, питательной ценностью и высокой усвояемостью. Состав: белки, витамины, минеральные вещества: калий, кальций, магний, фосфор ,железо, медь ,цинк. 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Овсяная каша –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ая питательная из каш. Клетчатка, содержащаяся в овсяной каше  способствует хорошему пищеварению. Кроме того она повышает иммунитет, очищает организм от солей и шла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остав: калий, кальций натрий, магний железо , витамины Е, РР, В1, В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шенн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оказывает на организм общеукрепляющее воздействие, способствует выведению из организма антибиот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летчатка, кремний, железо, фосфор, витамины В, РР, 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_mannaja-kasha"/>
          <p:cNvPicPr/>
          <p:nvPr/>
        </p:nvPicPr>
        <p:blipFill>
          <a:blip r:embed="rId1"/>
          <a:stretch/>
        </p:blipFill>
        <p:spPr>
          <a:xfrm>
            <a:off x="5353200" y="228600"/>
            <a:ext cx="3450960" cy="2514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120214160714-120214161237-p-460-300-ovsjanaja-kasha-s-jablokom-koricej"/>
          <p:cNvPicPr/>
          <p:nvPr/>
        </p:nvPicPr>
        <p:blipFill>
          <a:blip r:embed="rId2"/>
          <a:stretch/>
        </p:blipFill>
        <p:spPr>
          <a:xfrm>
            <a:off x="5410080" y="3164040"/>
            <a:ext cx="3429000" cy="2627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4:17:00Z</dcterms:created>
  <dc:creator>танюша</dc:creator>
  <dc:description/>
  <dc:language>en-US</dc:language>
  <cp:lastModifiedBy>Катя</cp:lastModifiedBy>
  <dcterms:modified xsi:type="dcterms:W3CDTF">2013-03-14T15:09:33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