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12.png" ContentType="image/png"/>
  <Override PartName="/ppt/media/image2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4.jpeg" ContentType="image/jpe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2236-E29A-4520-B0C0-E476CAF5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1D44-9D38-4A79-A07A-6000BA2F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785E-952B-46A0-A6F8-770238E1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E3BB-1796-468D-B8AF-F1F6CBDF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76B4-D6F6-4C5C-8B50-4D950787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75C3-712A-47CC-80B7-47061E91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BFCC-AF49-4E9F-8413-A44F1119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FF65-2C9C-4E45-8386-3D1BE6A7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7829-574C-4FEC-8EB6-D8189326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39D8-39AF-43C3-A5FD-BEA08DA9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97CD-3134-4AEA-9676-ADA5337C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1193-9059-4C6A-A97E-080AB13A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47CE-0209-4F3B-AC8F-2242B43C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D4EF-7637-4A4A-B046-D49F5079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5948-CB1A-49CA-8009-390A4ECC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390C-E7C4-4BAC-8563-E3CE7F1C8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C96F-60F2-47ED-818E-BADBD1057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D05C-DBA4-412B-AFED-275C3336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0D05-6B7C-4968-BA96-5943F143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7B33-AB6B-4D7F-8259-F1C084B0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C024-80A4-4EE9-8710-1FE355A4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1E15-8B60-41CC-A808-F79BA95D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F395-96A8-42B0-B020-E5530DFA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1EA0-E083-45E0-8F4A-6A9F6B1A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E822-1A75-416F-94BD-FDA7225554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524E-AF58-41BC-8E5F-29F2697892E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Почему полезна каша?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590560" y="5562360"/>
            <a:ext cx="60958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Зарембо Софья 4 «Б» кл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3" descr="66becd4a95ae20b3c48d88bf8f9"/>
          <p:cNvPicPr/>
          <p:nvPr/>
        </p:nvPicPr>
        <p:blipFill>
          <a:blip r:embed="rId1"/>
          <a:stretch/>
        </p:blipFill>
        <p:spPr>
          <a:xfrm>
            <a:off x="838080" y="1295280"/>
            <a:ext cx="4176720" cy="3886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youtube_d71d96709b50307e8156ba6be105e8060"/>
          <p:cNvPicPr/>
          <p:nvPr/>
        </p:nvPicPr>
        <p:blipFill>
          <a:blip r:embed="rId2"/>
          <a:stretch/>
        </p:blipFill>
        <p:spPr>
          <a:xfrm>
            <a:off x="5105520" y="1295280"/>
            <a:ext cx="3735360" cy="38102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youtube_d71d96709b50307e8156ba6be105e8060"/>
          <p:cNvPicPr/>
          <p:nvPr/>
        </p:nvPicPr>
        <p:blipFill>
          <a:blip r:embed="rId3"/>
          <a:stretch/>
        </p:blipFill>
        <p:spPr>
          <a:xfrm>
            <a:off x="5105520" y="1371600"/>
            <a:ext cx="3733560" cy="3808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youtube_d71d96709b50307e8156ba6be105e8060"/>
          <p:cNvPicPr/>
          <p:nvPr/>
        </p:nvPicPr>
        <p:blipFill>
          <a:blip r:embed="rId4"/>
          <a:stretch/>
        </p:blipFill>
        <p:spPr>
          <a:xfrm>
            <a:off x="5392800" y="1523880"/>
            <a:ext cx="3378240" cy="3657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youtube_d71d96709b50307e8156ba6be105e8060"/>
          <p:cNvPicPr/>
          <p:nvPr/>
        </p:nvPicPr>
        <p:blipFill>
          <a:blip r:embed="rId5"/>
          <a:stretch/>
        </p:blipFill>
        <p:spPr>
          <a:xfrm>
            <a:off x="5257800" y="1447920"/>
            <a:ext cx="3203640" cy="35049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40384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Рисовая каша –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укрепляет нервную систему. Японские ученые сделали открытие: чем чаще ешь рис, тем лучше у тебя интеллект .Состав : витамины Е, В1, В2, аминокислоты, фолиевая  кисло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Гречневая каша -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содержит кальций, железо, цинк, медь и витамины. Полезна при болях в сердце и ожирении. Состав калий, кальций, магний, натрий, фтор, цинк, железо, йод, медь, кобальт, молибден, витамины В, Е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Перловая каша –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богата лизином- это аминокислота, которая помогает бороться с вирусами и микробами.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Эту кашу особенно любил царь Петр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9" descr="IMG_1770_s"/>
          <p:cNvPicPr/>
          <p:nvPr/>
        </p:nvPicPr>
        <p:blipFill>
          <a:blip r:embed="rId1"/>
          <a:stretch/>
        </p:blipFill>
        <p:spPr>
          <a:xfrm>
            <a:off x="7162920" y="457200"/>
            <a:ext cx="1123920" cy="8334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bludo-14-b"/>
          <p:cNvPicPr/>
          <p:nvPr/>
        </p:nvPicPr>
        <p:blipFill>
          <a:blip r:embed="rId2"/>
          <a:stretch/>
        </p:blipFill>
        <p:spPr>
          <a:xfrm>
            <a:off x="7315200" y="1847880"/>
            <a:ext cx="228600" cy="110628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4" descr="iрис.jpg"/>
          <p:cNvPicPr/>
          <p:nvPr/>
        </p:nvPicPr>
        <p:blipFill>
          <a:blip r:embed="rId3"/>
          <a:stretch/>
        </p:blipFill>
        <p:spPr>
          <a:xfrm>
            <a:off x="4844880" y="179280"/>
            <a:ext cx="3994200" cy="317340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5" descr="ложка.jpg"/>
          <p:cNvPicPr/>
          <p:nvPr/>
        </p:nvPicPr>
        <p:blipFill>
          <a:blip r:embed="rId4"/>
          <a:stretch/>
        </p:blipFill>
        <p:spPr>
          <a:xfrm>
            <a:off x="4724280" y="3657600"/>
            <a:ext cx="4114800" cy="29527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сследовательская рабо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3733920" cy="67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Разработала вопросы анкеты. Чтобы провести исследование, я выбрала групповой, анонимный анкетный опрос. Объяснила, как надо работать с бланком анкетного опроса, который помог бы мне определить, полезна ли каша и стоит ли ее есть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Анкета состояла из 7 вопросов. В анкетировании приняли участие  18 учащихся 4 «Б» класса. Данные анкетного опроса детей показывают: мальчики и девочки проявляют по- разному  отношение к кашам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Кроме этого я провела ряд химических исследований каш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5" descr="IMG_8308"/>
          <p:cNvPicPr/>
          <p:nvPr/>
        </p:nvPicPr>
        <p:blipFill>
          <a:blip r:embed="rId1"/>
          <a:stretch/>
        </p:blipFill>
        <p:spPr>
          <a:xfrm>
            <a:off x="6629400" y="3352680"/>
            <a:ext cx="1638360" cy="182880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4" descr="работа.jpg"/>
          <p:cNvPicPr/>
          <p:nvPr/>
        </p:nvPicPr>
        <p:blipFill>
          <a:blip r:embed="rId2"/>
          <a:stretch/>
        </p:blipFill>
        <p:spPr>
          <a:xfrm>
            <a:off x="7010280" y="3295800"/>
            <a:ext cx="381240" cy="51408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5" descr="iиссл.jpg"/>
          <p:cNvPicPr/>
          <p:nvPr/>
        </p:nvPicPr>
        <p:blipFill>
          <a:blip r:embed="rId3"/>
          <a:stretch/>
        </p:blipFill>
        <p:spPr>
          <a:xfrm>
            <a:off x="7238880" y="3886200"/>
            <a:ext cx="371520" cy="99072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6" descr="i портрет.jpg"/>
          <p:cNvPicPr/>
          <p:nvPr/>
        </p:nvPicPr>
        <p:blipFill>
          <a:blip r:embed="rId4"/>
          <a:stretch/>
        </p:blipFill>
        <p:spPr>
          <a:xfrm>
            <a:off x="6629400" y="3429000"/>
            <a:ext cx="1563840" cy="142560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7" descr="i картин.jpg"/>
          <p:cNvPicPr/>
          <p:nvPr/>
        </p:nvPicPr>
        <p:blipFill>
          <a:blip r:embed="rId5"/>
          <a:stretch/>
        </p:blipFill>
        <p:spPr>
          <a:xfrm>
            <a:off x="4648320" y="1676520"/>
            <a:ext cx="4160880" cy="4724280"/>
          </a:xfrm>
          <a:prstGeom prst="rect">
            <a:avLst/>
          </a:prstGeom>
          <a:ln w="0">
            <a:noFill/>
          </a:ln>
        </p:spPr>
      </p:pic>
    </p:spTree>
  </p:cSld>
  <p:transition spd="slow" advTm="21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7" descr=""/>
          <p:cNvPicPr/>
          <p:nvPr/>
        </p:nvPicPr>
        <p:blipFill>
          <a:blip r:embed="rId1"/>
          <a:stretch/>
        </p:blipFill>
        <p:spPr>
          <a:xfrm>
            <a:off x="1733400" y="4800600"/>
            <a:ext cx="1847880" cy="12794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5105520" y="-360"/>
            <a:ext cx="40384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Самой полезной кашей ребятами признана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гречневая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каша, ее выбрали 10 мальчиков и 8 девочек( 18ч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О том, что каша полезна, знают всего 8 человека из 1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Самой популярной кашей у мальчиков                       (5ч.) и у девочек (3 ч.) стала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манная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каша.  Всего манную кашу выбрало 8человек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На 2 месте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овсяная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каша: мальчики (4.) и девочки(3ч.), всего - 7человек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На 3 месте -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 гречневая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каша: мальчики                      (5ч.) и девочки (1ч.), 6 челове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На 4 месте - 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рисовая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 каша: мальчи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( 2ч.) и  девочки( 1ч.), всего 3 челове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Ребята не любят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перловую,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 а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пшённую 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кашу любят только 2 челове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Object 12" descr=""/>
          <p:cNvPicPr/>
          <p:nvPr/>
        </p:nvPicPr>
        <p:blipFill>
          <a:blip r:embed="rId2"/>
          <a:stretch/>
        </p:blipFill>
        <p:spPr>
          <a:xfrm>
            <a:off x="50760" y="1346040"/>
            <a:ext cx="3936960" cy="2592720"/>
          </a:xfrm>
          <a:prstGeom prst="rect">
            <a:avLst/>
          </a:prstGeom>
          <a:ln w="0">
            <a:noFill/>
          </a:ln>
        </p:spPr>
      </p:pic>
      <p:grpSp>
        <p:nvGrpSpPr>
          <p:cNvPr id="266" name="Organization Chart 13"/>
          <p:cNvGrpSpPr/>
          <p:nvPr/>
        </p:nvGrpSpPr>
        <p:grpSpPr>
          <a:xfrm>
            <a:off x="914400" y="838080"/>
            <a:ext cx="2361960" cy="1447560"/>
            <a:chOff x="914400" y="838080"/>
            <a:chExt cx="2361960" cy="1447560"/>
          </a:xfrm>
        </p:grpSpPr>
        <p:cxnSp>
          <p:nvCxnSpPr>
            <p:cNvPr id="267" name="_s1029"/>
            <p:cNvCxnSpPr>
              <a:stCxn id="268" idx="1"/>
              <a:endCxn id="269" idx="2"/>
            </p:cNvCxnSpPr>
            <p:nvPr/>
          </p:nvCxnSpPr>
          <p:spPr>
            <a:xfrm rot="10800000">
              <a:off x="1622160" y="1044720"/>
              <a:ext cx="236880" cy="1137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0" name="_s1030"/>
            <p:cNvCxnSpPr>
              <a:stCxn id="271" idx="1"/>
              <a:endCxn id="269" idx="2"/>
            </p:cNvCxnSpPr>
            <p:nvPr/>
          </p:nvCxnSpPr>
          <p:spPr>
            <a:xfrm rot="10800000">
              <a:off x="1622160" y="1044000"/>
              <a:ext cx="236880" cy="828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2" name="_s1031"/>
            <p:cNvCxnSpPr>
              <a:stCxn id="273" idx="1"/>
              <a:endCxn id="269" idx="2"/>
            </p:cNvCxnSpPr>
            <p:nvPr/>
          </p:nvCxnSpPr>
          <p:spPr>
            <a:xfrm rot="10800000">
              <a:off x="1622160" y="1044000"/>
              <a:ext cx="236880" cy="51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4" name="_s1032"/>
            <p:cNvCxnSpPr>
              <a:stCxn id="275" idx="1"/>
              <a:endCxn id="269" idx="2"/>
            </p:cNvCxnSpPr>
            <p:nvPr/>
          </p:nvCxnSpPr>
          <p:spPr>
            <a:xfrm rot="10800000">
              <a:off x="1622160" y="1044000"/>
              <a:ext cx="236880" cy="207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69" name="_s1033"/>
            <p:cNvSpPr/>
            <p:nvPr/>
          </p:nvSpPr>
          <p:spPr>
            <a:xfrm>
              <a:off x="914400" y="838080"/>
              <a:ext cx="1417320" cy="206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Каша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_s1034"/>
            <p:cNvSpPr/>
            <p:nvPr/>
          </p:nvSpPr>
          <p:spPr>
            <a:xfrm>
              <a:off x="1859040" y="1148040"/>
              <a:ext cx="1417320" cy="206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1.Манная – 20 человек  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_s1035"/>
            <p:cNvSpPr/>
            <p:nvPr/>
          </p:nvSpPr>
          <p:spPr>
            <a:xfrm>
              <a:off x="1859040" y="1458360"/>
              <a:ext cx="1417320" cy="206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2. Овсяная -18 человек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_s1036"/>
            <p:cNvSpPr/>
            <p:nvPr/>
          </p:nvSpPr>
          <p:spPr>
            <a:xfrm>
              <a:off x="1859040" y="1768680"/>
              <a:ext cx="1417320" cy="206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3.Гречневая – 15 человек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_s1037"/>
            <p:cNvSpPr/>
            <p:nvPr/>
          </p:nvSpPr>
          <p:spPr>
            <a:xfrm>
              <a:off x="1859040" y="2079000"/>
              <a:ext cx="1417320" cy="206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4.Рисовая- 6 человек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76" name="Рисунок 5" descr="i_180.jpg"/>
          <p:cNvPicPr/>
          <p:nvPr/>
        </p:nvPicPr>
        <p:blipFill>
          <a:blip r:embed="rId3"/>
          <a:stretch/>
        </p:blipFill>
        <p:spPr>
          <a:xfrm>
            <a:off x="457200" y="304920"/>
            <a:ext cx="4038480" cy="304776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7" descr="i_042.jpg"/>
          <p:cNvPicPr/>
          <p:nvPr/>
        </p:nvPicPr>
        <p:blipFill>
          <a:blip r:embed="rId4"/>
          <a:stretch/>
        </p:blipFill>
        <p:spPr>
          <a:xfrm>
            <a:off x="380880" y="3809880"/>
            <a:ext cx="410688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Химическое исследование каш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пыт №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ша + капля спиртового раствора йода = синее окраши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ыво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в каше есть крахм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Рисунок 3" descr="фото0196.jpg"/>
          <p:cNvPicPr/>
          <p:nvPr/>
        </p:nvPicPr>
        <p:blipFill>
          <a:blip r:embed="rId1"/>
          <a:stretch/>
        </p:blipFill>
        <p:spPr>
          <a:xfrm>
            <a:off x="6324480" y="3733920"/>
            <a:ext cx="371520" cy="198108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4" descr="фото0195.jpg"/>
          <p:cNvPicPr/>
          <p:nvPr/>
        </p:nvPicPr>
        <p:blipFill>
          <a:blip r:embed="rId2"/>
          <a:stretch/>
        </p:blipFill>
        <p:spPr>
          <a:xfrm>
            <a:off x="6172200" y="3886200"/>
            <a:ext cx="601560" cy="167652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5" descr="фото0180.jpg"/>
          <p:cNvPicPr/>
          <p:nvPr/>
        </p:nvPicPr>
        <p:blipFill>
          <a:blip r:embed="rId3"/>
          <a:stretch/>
        </p:blipFill>
        <p:spPr>
          <a:xfrm>
            <a:off x="6492960" y="4191120"/>
            <a:ext cx="212760" cy="106668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6" descr="фото0180.jpg"/>
          <p:cNvPicPr/>
          <p:nvPr/>
        </p:nvPicPr>
        <p:blipFill>
          <a:blip r:embed="rId4"/>
          <a:stretch/>
        </p:blipFill>
        <p:spPr>
          <a:xfrm>
            <a:off x="5181480" y="289548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пыт № 2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ша + капля концентрированной азотной кислоты = со временем получается желтое окрашив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ывод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 каше есть бел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Рисунок 3" descr="фото0181.jpg"/>
          <p:cNvPicPr/>
          <p:nvPr/>
        </p:nvPicPr>
        <p:blipFill>
          <a:blip r:embed="rId1"/>
          <a:stretch/>
        </p:blipFill>
        <p:spPr>
          <a:xfrm>
            <a:off x="5630760" y="3962520"/>
            <a:ext cx="46080" cy="6012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4" descr="фото0184.jpg"/>
          <p:cNvPicPr/>
          <p:nvPr/>
        </p:nvPicPr>
        <p:blipFill>
          <a:blip r:embed="rId2"/>
          <a:stretch/>
        </p:blipFill>
        <p:spPr>
          <a:xfrm>
            <a:off x="5638680" y="2971800"/>
            <a:ext cx="781200" cy="104148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5" descr="фото0192.jpg"/>
          <p:cNvPicPr/>
          <p:nvPr/>
        </p:nvPicPr>
        <p:blipFill>
          <a:blip r:embed="rId3"/>
          <a:stretch/>
        </p:blipFill>
        <p:spPr>
          <a:xfrm>
            <a:off x="5079960" y="2590920"/>
            <a:ext cx="356868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пыт № 3 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837720"/>
            <a:ext cx="85345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ша + раствор медного купорос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раствор едкого калия = синий раств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греваем полученный синий раствор, появляется сначала желтый, а затем осадок красного цве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ывод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каше есть глюко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нные химические исследования показали, что в состав всех каш обязательно входят белки, крахмал и глюко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Рисунок 3" descr="фото0192.jpg"/>
          <p:cNvPicPr/>
          <p:nvPr/>
        </p:nvPicPr>
        <p:blipFill>
          <a:blip r:embed="rId1"/>
          <a:stretch/>
        </p:blipFill>
        <p:spPr>
          <a:xfrm>
            <a:off x="6400800" y="5156280"/>
            <a:ext cx="533520" cy="711000"/>
          </a:xfrm>
          <a:prstGeom prst="rect">
            <a:avLst/>
          </a:prstGeom>
          <a:ln w="0">
            <a:noFill/>
          </a:ln>
        </p:spPr>
      </p:pic>
      <p:pic>
        <p:nvPicPr>
          <p:cNvPr id="292" name="Рисунок 4" descr="фото0184.jpg"/>
          <p:cNvPicPr/>
          <p:nvPr/>
        </p:nvPicPr>
        <p:blipFill>
          <a:blip r:embed="rId2"/>
          <a:stretch/>
        </p:blipFill>
        <p:spPr>
          <a:xfrm>
            <a:off x="3429000" y="3429000"/>
            <a:ext cx="2666880" cy="327672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5" descr="фото0196.jpg"/>
          <p:cNvPicPr/>
          <p:nvPr/>
        </p:nvPicPr>
        <p:blipFill>
          <a:blip r:embed="rId3"/>
          <a:stretch/>
        </p:blipFill>
        <p:spPr>
          <a:xfrm>
            <a:off x="6248520" y="3429000"/>
            <a:ext cx="2514600" cy="3276720"/>
          </a:xfrm>
          <a:prstGeom prst="rect">
            <a:avLst/>
          </a:prstGeom>
          <a:ln w="0">
            <a:noFill/>
          </a:ln>
        </p:spPr>
      </p:pic>
      <p:pic>
        <p:nvPicPr>
          <p:cNvPr id="294" name="Рисунок 6" descr="фото0192.jpg"/>
          <p:cNvPicPr/>
          <p:nvPr/>
        </p:nvPicPr>
        <p:blipFill>
          <a:blip r:embed="rId4"/>
          <a:stretch/>
        </p:blipFill>
        <p:spPr>
          <a:xfrm>
            <a:off x="9372600" y="5943600"/>
            <a:ext cx="76320" cy="914400"/>
          </a:xfrm>
          <a:prstGeom prst="rect">
            <a:avLst/>
          </a:prstGeom>
          <a:ln w="0">
            <a:noFill/>
          </a:ln>
        </p:spPr>
      </p:pic>
      <p:pic>
        <p:nvPicPr>
          <p:cNvPr id="295" name="Рисунок 7" descr="фото0181.jpg"/>
          <p:cNvPicPr/>
          <p:nvPr/>
        </p:nvPicPr>
        <p:blipFill>
          <a:blip r:embed="rId5"/>
          <a:stretch/>
        </p:blipFill>
        <p:spPr>
          <a:xfrm>
            <a:off x="762120" y="3429000"/>
            <a:ext cx="2438280" cy="32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аздник у каши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7" name="Picture 7" descr="7378"/>
          <p:cNvPicPr/>
          <p:nvPr/>
        </p:nvPicPr>
        <p:blipFill>
          <a:blip r:embed="rId1"/>
          <a:stretch/>
        </p:blipFill>
        <p:spPr>
          <a:xfrm>
            <a:off x="5334120" y="4191120"/>
            <a:ext cx="3657600" cy="23652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"/>
          <p:cNvPicPr/>
          <p:nvPr/>
        </p:nvPicPr>
        <p:blipFill>
          <a:blip r:embed="rId2"/>
          <a:stretch/>
        </p:blipFill>
        <p:spPr>
          <a:xfrm>
            <a:off x="6095880" y="762120"/>
            <a:ext cx="2819520" cy="313056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10"/>
          <p:cNvSpPr/>
          <p:nvPr/>
        </p:nvSpPr>
        <p:spPr>
          <a:xfrm>
            <a:off x="457200" y="914400"/>
            <a:ext cx="4724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Оказывается, у каши есть свой  народный праздник- он так и называется- Мирская каша. Отмечается в день Акулины- Гречишницы , 26 июня. За неделю до этого дня или через неделю после него по народным приметам нужно было сеять гречиху, что бы урожай был щедрым.  Первые горсти гречихи брали из мешочка, сшитого   в виде куклы. Собрав урожай, в деревнях устраивали угощение кашей для всей округи. А после уборочной мешочек, из которого делали куклу, вновь наполняли отборным зерном нового урожая и наряжали в куклу.  Зерновушку  бережно хранили на видном месте - в красном углу Она знак сытой жизни и достатка в семье. Эта особая кукла имеет несколько названий: Зернушка, Зерновушка, Крупеничка, Горошинк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2000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4800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78487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Моя гипотеза , что мои одноклассники мало знают о полезных свойствах каши и поэтому не едят ее, подтвердилась. В своем исследовании я доказал, что каша - сытное и полезное  блюдо и идеально здоровый завтрак, потому что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во- первых, утренние каши повышают концентрацию внимания на целый день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во- вторых, каша не способствует ожирению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в- третьих, люди, которые регулярно едят утром кашу на завтрак, способны лучше противостоять стрессам и находятся в хорошей физической форм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олученная в ходе исследования информация, позволяет сделать следующие вывод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1. Убедить родителей привлекать детей к приготовлению  каши. Ведь то, что сварил сам, хочется съес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2. Привлечь классный актив 1-4 классов для организации  и проведения бесед с учащимися  1-4 классов по темам: « Почему полезна каша?», «Какая каша лучше?»,  и т.д. Такие беседы могут помочь разъяснить ценность каши для челове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2000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0000"/>
                </a:solidFill>
                <a:latin typeface="Arial"/>
              </a:rPr>
              <a:t>Спасибо </a:t>
            </a:r>
            <a:br>
              <a:rPr sz="6000"/>
            </a:br>
            <a:r>
              <a:rPr b="0" i="1" lang="ru-RU" sz="6000" spc="-1" strike="noStrike">
                <a:solidFill>
                  <a:srgbClr val="ff0000"/>
                </a:solidFill>
                <a:latin typeface="Arial"/>
              </a:rPr>
              <a:t>за</a:t>
            </a:r>
            <a:br>
              <a:rPr sz="6000"/>
            </a:br>
            <a:r>
              <a:rPr b="0" i="1" lang="ru-RU" sz="6000" spc="-1" strike="noStrike">
                <a:solidFill>
                  <a:srgbClr val="ff0000"/>
                </a:solidFill>
                <a:latin typeface="Arial"/>
              </a:rPr>
              <a:t> внимание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 advTm="3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4191120" y="1356840"/>
            <a:ext cx="472428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Каша  в России  всегда была особым блюдом: обрядовым, торжественным и одновременно первейшим блюдом на пирах или празднествах. Привычное, неприметное, но обладающее особым колоритом блюдо за пределами России стоит в одном ряду с борщом, русскими щами и квасом. Каша – это и национальная гордость, и марка нашей страны, но в первую очередь – вершина кулинарного искусства древней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Руси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8" descr="sk-027-kasha-iz-topora-01-a"/>
          <p:cNvPicPr/>
          <p:nvPr/>
        </p:nvPicPr>
        <p:blipFill>
          <a:blip r:embed="rId1"/>
          <a:stretch/>
        </p:blipFill>
        <p:spPr>
          <a:xfrm>
            <a:off x="228600" y="228600"/>
            <a:ext cx="3886200" cy="3200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1256274111_1600"/>
          <p:cNvPicPr/>
          <p:nvPr/>
        </p:nvPicPr>
        <p:blipFill>
          <a:blip r:embed="rId2"/>
          <a:stretch/>
        </p:blipFill>
        <p:spPr>
          <a:xfrm>
            <a:off x="380880" y="3537000"/>
            <a:ext cx="3733920" cy="294012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История возникновения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данного исследования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886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гда я была младше я не понимала, почему мама иногда просто заставляет меня есть кашу. Она говорила, что кашу есть полезно.. Но иногда каша  казалась мне неаппетитной, и даже не пробуя её, я уже говорила, что она невкусная. Мама шла на всякие хитрости: когда готовила кашу, звала меня и я смотрела, как она варит кашу, из чего, а потом мы вместе придумали, какие ягоды и фрукты можно добавить в каш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4495680" y="1338120"/>
            <a:ext cx="3962520" cy="300528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4343400" y="4495680"/>
            <a:ext cx="4343400" cy="20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я полюбила кашу. Став школьницей, я обратила внимание, что  в школьной столовой, когда нам давали кашу, многие дети отказывались от нее и говорили, что она не полезна. Но так ли это на самом деле? Я задумалась: действительно ли каша полезна? Что такое каша? И какими бывают каши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9000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8088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Цель :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доказать , что каша - сытное и полезное блюдо и разработать рекомендации, повышающие популярность каши среди детей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IMG_8346"/>
          <p:cNvPicPr/>
          <p:nvPr/>
        </p:nvPicPr>
        <p:blipFill>
          <a:blip r:embed="rId1"/>
          <a:stretch/>
        </p:blipFill>
        <p:spPr>
          <a:xfrm>
            <a:off x="3505320" y="1981080"/>
            <a:ext cx="2369880" cy="1471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IMG_8346"/>
          <p:cNvPicPr/>
          <p:nvPr/>
        </p:nvPicPr>
        <p:blipFill>
          <a:blip r:embed="rId2"/>
          <a:stretch/>
        </p:blipFill>
        <p:spPr>
          <a:xfrm>
            <a:off x="4267080" y="2057400"/>
            <a:ext cx="2057400" cy="127620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4" descr="i_069.jpg"/>
          <p:cNvPicPr/>
          <p:nvPr/>
        </p:nvPicPr>
        <p:blipFill>
          <a:blip r:embed="rId3"/>
          <a:stretch/>
        </p:blipFill>
        <p:spPr>
          <a:xfrm>
            <a:off x="1676520" y="533520"/>
            <a:ext cx="5784840" cy="335268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657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Гипотеза :</a:t>
            </a: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 предположим, что дети не знают о полезных свойствах каши и поэтому не хотят кушать многие разновидности каш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4" descr="40985493_Mannayakasha"/>
          <p:cNvPicPr/>
          <p:nvPr/>
        </p:nvPicPr>
        <p:blipFill>
          <a:blip r:embed="rId1"/>
          <a:stretch/>
        </p:blipFill>
        <p:spPr>
          <a:xfrm>
            <a:off x="304920" y="304920"/>
            <a:ext cx="5105160" cy="419076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5"/>
          <p:cNvSpPr/>
          <p:nvPr/>
        </p:nvSpPr>
        <p:spPr>
          <a:xfrm>
            <a:off x="5410080" y="380880"/>
            <a:ext cx="342900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бъектом исследования </a:t>
            </a:r>
            <a:r>
              <a:rPr b="1" i="1" lang="ru-RU" sz="2400" spc="-1" strike="noStrike">
                <a:solidFill>
                  <a:srgbClr val="ccecff"/>
                </a:solidFill>
                <a:latin typeface="Times New Roman"/>
              </a:rPr>
              <a:t>является меню семей моих одноклассни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редметом исследования-</a:t>
            </a:r>
            <a:r>
              <a:rPr b="1" i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Times New Roman"/>
              </a:rPr>
              <a:t>каша как продукт питания</a:t>
            </a:r>
            <a:r>
              <a:rPr b="1" i="1" lang="ru-RU" sz="2000" spc="-1" strike="noStrike">
                <a:solidFill>
                  <a:srgbClr val="cce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9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510552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5486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оанализировать понятия «каша»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знать, какая бывает каша и чем она полезн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ыяснить, есть ли праздник у каш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овести изучение семейного меню на завтрак и мнений сверстников о кашах методом анкетного опрос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4" descr="00074303"/>
          <p:cNvPicPr/>
          <p:nvPr/>
        </p:nvPicPr>
        <p:blipFill>
          <a:blip r:embed="rId1"/>
          <a:stretch/>
        </p:blipFill>
        <p:spPr>
          <a:xfrm>
            <a:off x="5867280" y="762120"/>
            <a:ext cx="3095640" cy="2809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32449848_9742344_ingseyth00811"/>
          <p:cNvPicPr/>
          <p:nvPr/>
        </p:nvPicPr>
        <p:blipFill>
          <a:blip r:embed="rId2"/>
          <a:stretch/>
        </p:blipFill>
        <p:spPr>
          <a:xfrm>
            <a:off x="5791320" y="3962520"/>
            <a:ext cx="3124080" cy="243828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Из истории каш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51920" y="91440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Каша-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 традиционное блюдо русской кухни. Само слово «каша» означает кушанье, приготовленное из растертого зерна. В давние времена кашу  готовили в русской печи в глиняных горшках, и без нее не обходилось ни одно праздничное застолье на Руси. В России каша была частым горячим блюдом в арм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Каша – самое распространенное русское блюдо. На Руси каши делались в трех видах  в зависимости от состояния зерна и воды: крутые, размазни и кашицы (полужидкие). Приготовлялись они с добавками из рыбы, мяса, домашней птицы и дичи, грибов, овощей , ягод . В 10-14 веке каши приобрели значение массового ритуального блюда, которым начиналось и завершалось любое мероприятие Кашу подавали к столу и великим персонам  , так на пример кашу очень любил царь Пет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Кашей на  Руси считались все кушанья, сваренные из измельченных продуктов, упоминаются хлебные - из сухарей, рыбные, гороховые, морковные , репны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9" descr="Grechnevaya-kasha"/>
          <p:cNvPicPr/>
          <p:nvPr/>
        </p:nvPicPr>
        <p:blipFill>
          <a:blip r:embed="rId1"/>
          <a:stretch/>
        </p:blipFill>
        <p:spPr>
          <a:xfrm>
            <a:off x="6315120" y="1066680"/>
            <a:ext cx="1457280" cy="76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IMG_2843s"/>
          <p:cNvPicPr/>
          <p:nvPr/>
        </p:nvPicPr>
        <p:blipFill>
          <a:blip r:embed="rId2"/>
          <a:stretch/>
        </p:blipFill>
        <p:spPr>
          <a:xfrm>
            <a:off x="6705720" y="1600200"/>
            <a:ext cx="1371600" cy="2743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2" descr="images"/>
          <p:cNvPicPr/>
          <p:nvPr/>
        </p:nvPicPr>
        <p:blipFill>
          <a:blip r:embed="rId3"/>
          <a:stretch/>
        </p:blipFill>
        <p:spPr>
          <a:xfrm>
            <a:off x="7086600" y="990720"/>
            <a:ext cx="660240" cy="903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6" descr="каша.jpg"/>
          <p:cNvPicPr/>
          <p:nvPr/>
        </p:nvPicPr>
        <p:blipFill>
          <a:blip r:embed="rId4"/>
          <a:stretch/>
        </p:blipFill>
        <p:spPr>
          <a:xfrm>
            <a:off x="5259240" y="914400"/>
            <a:ext cx="3579840" cy="350532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7" descr="ложка.jpg"/>
          <p:cNvPicPr/>
          <p:nvPr/>
        </p:nvPicPr>
        <p:blipFill>
          <a:blip r:embed="rId5"/>
          <a:stretch/>
        </p:blipFill>
        <p:spPr>
          <a:xfrm>
            <a:off x="5938920" y="4724280"/>
            <a:ext cx="2571840" cy="175284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403848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Какая бывает каша и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чем она полезна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438280"/>
            <a:ext cx="403848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Из разных источников я узнала , что каша – это полезный , питательный, вкусный и недорогой продукт. Очень полезно есть кашу на завтрак. Начиная день с каши, вы насыщаете организм полезными веществ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Вы спросите меня: «Так какую же кашу выбрать? Ведь их так много».                     Да, разнообразие каш не знает границ: манная, овсяная, перловая, пшённая, рисовая, гречнева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Приведу примеры полезных свойств некоторых каш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11" descr=""/>
          <p:cNvPicPr/>
          <p:nvPr/>
        </p:nvPicPr>
        <p:blipFill>
          <a:blip r:embed="rId1"/>
          <a:stretch/>
        </p:blipFill>
        <p:spPr>
          <a:xfrm>
            <a:off x="6705720" y="3809880"/>
            <a:ext cx="1933560" cy="99072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4" descr="i_078.jpg"/>
          <p:cNvPicPr/>
          <p:nvPr/>
        </p:nvPicPr>
        <p:blipFill>
          <a:blip r:embed="rId2"/>
          <a:stretch/>
        </p:blipFill>
        <p:spPr>
          <a:xfrm>
            <a:off x="5257800" y="457200"/>
            <a:ext cx="3500280" cy="28954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5" descr="i_118.jpg"/>
          <p:cNvPicPr/>
          <p:nvPr/>
        </p:nvPicPr>
        <p:blipFill>
          <a:blip r:embed="rId3"/>
          <a:stretch/>
        </p:blipFill>
        <p:spPr>
          <a:xfrm>
            <a:off x="4876920" y="3635280"/>
            <a:ext cx="3962160" cy="284184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56840" y="228240"/>
            <a:ext cx="4800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Манная каша -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обладает высокой  калорийностью, питательной ценностью и высокой усвояемостью. Состав: белки, витамины, минеральные вещества: калий, кальций, магний, фосфор ,железо, медь ,цинк. ,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Овсяная каша –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самая питательная из каш. Клетчатка, содержащаяся в овсяной каше  способствует хорошему пищеварению. Кроме того она повышает иммунитет, очищает организм от солей и шлак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Состав: калий, кальций натрий, магний железо , витамины Е, РР, В1, В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Пшенная каша –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оказывает на организм общеукрепляющее воздействие, способствует выведению из организма антибиотик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Клетчатка, кремний, железо, фосфор, витамины В, РР, 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8" descr="_mannaja-kasha"/>
          <p:cNvPicPr/>
          <p:nvPr/>
        </p:nvPicPr>
        <p:blipFill>
          <a:blip r:embed="rId1"/>
          <a:stretch/>
        </p:blipFill>
        <p:spPr>
          <a:xfrm>
            <a:off x="5353200" y="228600"/>
            <a:ext cx="3450960" cy="25146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1" descr="120214160714-120214161237-p-460-300-ovsjanaja-kasha-s-jablokom-koricej"/>
          <p:cNvPicPr/>
          <p:nvPr/>
        </p:nvPicPr>
        <p:blipFill>
          <a:blip r:embed="rId2"/>
          <a:stretch/>
        </p:blipFill>
        <p:spPr>
          <a:xfrm>
            <a:off x="5410080" y="3164040"/>
            <a:ext cx="3429000" cy="26272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14:17:00Z</dcterms:created>
  <dc:creator>танюша</dc:creator>
  <dc:description/>
  <dc:language>en-US</dc:language>
  <cp:lastModifiedBy>Катя</cp:lastModifiedBy>
  <dcterms:modified xsi:type="dcterms:W3CDTF">2013-03-14T15:09:33Z</dcterms:modified>
  <cp:revision>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