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7611-7CEB-4C76-82DC-019E1C3D17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DCCA-DB74-454E-9EFF-2B04C5060E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E98-BB28-4817-9740-E4C0D62D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B295-93E2-4D79-BD7A-5088D9A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8F2-8C72-4DA3-B258-1C562F8F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6A6-0D40-4ABA-9CB9-8553BA3A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4276-911B-4AA0-9349-28A9D85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B8FB-BDD9-447C-AE01-49EFEEB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98D4-176D-4A77-B4AE-10752185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408C-4F83-40D2-9F49-C36500A2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9EF1-E189-4E1A-8B23-60F7F511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ACE1-8A0D-48E7-A651-11C6404E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0774-67C2-4066-9553-596AE36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9C0-5EF3-43CD-AE86-EBFDD77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D18-265F-44C9-B124-FA81648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79E0-44EA-4986-84CE-A6A5080D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83E9-F1F4-4D96-B3F6-536E7F2C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B158-A369-4514-9D7C-3DF6DB54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96AC-FF3C-4F4B-B95B-C4101A7C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75A52-E731-4099-AB8E-3EBCFFDC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552E-3BEA-496B-87D4-91AC0704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BCEC-908D-40A4-B29C-7D7E2E18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0917-1662-491D-865B-60583A3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72FE-6AB1-4C21-98E6-27638AB8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460-799D-494F-A7FE-E2F6B433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4D29-4018-44D1-9E83-DC885D31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3D4D-469C-4CF5-9AF5-634BA6F9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156F-5014-4003-B081-99E6025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64D3-4C6C-441F-9B1C-3C655F7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A3F3-66B4-43B8-A9D1-5CD8886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B279-BE27-41EA-89FF-5883EF24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FB12-E959-4DAA-BC23-3149BDC5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2D4D-9356-4AB1-9509-31BC7F73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C808D-41FA-4246-A5E8-BAE9C209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2871C-63C4-49FD-AF67-205CC81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6AA-32CF-46EB-8AF4-32F74CAB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E6EBC-6E42-4BBC-9358-9E6431A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63E93-158D-4EE0-8A14-7B48C54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3BC64-721B-4F0C-B54B-A377EAA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34BDA-08AA-4EE3-90A1-5689BB2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B3DAE-CCBA-4917-991E-FAA4528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30AC-D928-4392-A5B7-549D14B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2828-547E-4B68-8E55-C42E7A58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50E1-360E-4588-B804-93391F7E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67A7-D617-4413-9BAD-91528B33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E6C5-0DE3-48CC-9F54-57CC2F05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394-0164-4A60-823D-76FF4E63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28E6-6084-47E8-A905-04FDDA57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7659-0209-4A34-A62B-C20AC7A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EDC2-8167-47A0-AE3F-9C567F17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2F12-003F-4371-97DC-122046D1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F721-C417-4382-900D-2C125B3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A188-F61F-471C-95FB-2004EBF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3455C-0E5D-47A3-9CBA-BF364812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76F74-D014-46D6-BB40-2959C448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2712-F4BE-4DA6-82F2-952B0AE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DAE6-F508-43F8-AD1E-354966A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CFB-B464-417F-B020-90594F3B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AD66-C917-4C37-8492-16D92A9C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B96D-75BD-4FE6-8103-E9B3BCCB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AB75-03D1-41C3-BAA8-361A22E0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E6E69-DD83-462F-B7D7-C3799426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BB11A-3D0F-4D59-A1EC-9E3A247B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8140-75B9-44B7-9D3A-96AC2AC2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3F268-FD75-48EC-80A7-403DB12F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6EFD2-641B-45BE-A71A-90B92B9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FA9F7-D7A1-4881-B66B-415417A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3DEC-1859-4E19-A89E-C5C1B44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DAC-2E93-4613-BA8D-F17CB7A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359B5-FAD5-433B-90AC-E2C5793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C803-557F-4CD7-9400-F8FB26FC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320B-42FE-4DF9-96C3-BFF9088F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64B-3618-4692-A940-7FE17C3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823-FAC6-42EF-8E28-3E4CEFF2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8496-44AB-49B5-8F44-38C93D72C6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2D76-0392-4D34-8F8D-B89395F3B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9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3071-320A-4CC7-8EDB-85E0ADB580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3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A36D-102D-4C5D-895B-73159D8A9B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8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107C-1E40-4A14-8169-5059099C53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22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FB5-AD48-4EA7-9980-EE2B50A01E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Заголовок 1"/>
          <p:cNvGrpSpPr/>
          <p:nvPr/>
        </p:nvGrpSpPr>
        <p:grpSpPr>
          <a:xfrm>
            <a:off x="706320" y="781200"/>
            <a:ext cx="7785360" cy="1938240"/>
            <a:chOff x="706320" y="781200"/>
            <a:chExt cx="7785360" cy="1938240"/>
          </a:xfrm>
        </p:grpSpPr>
        <p:pic>
          <p:nvPicPr>
            <p:cNvPr id="27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06320" y="781200"/>
              <a:ext cx="778536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14240" y="785880"/>
              <a:ext cx="77724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9d51"/>
                  </a:solidFill>
                  <a:latin typeface="Century Schoolbook"/>
                </a:rPr>
                <a:t>Уравнение окружност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99720" y="3143160"/>
            <a:ext cx="6000840" cy="25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рок геометрии в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9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entury Schoolbook"/>
              </a:rPr>
              <a:t>учитель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Свяж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Ирина Пет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МАОУ СОШ №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Century Schoolbook"/>
              </a:rPr>
              <a:t>г. </a:t>
            </a: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Калинин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C:\Documents and Settings\Admin\Рабочий стол\уравнение окружности\Безымянный6.png"/>
          <p:cNvPicPr/>
          <p:nvPr/>
        </p:nvPicPr>
        <p:blipFill>
          <a:blip r:embed="rId1"/>
          <a:stretch/>
        </p:blipFill>
        <p:spPr>
          <a:xfrm>
            <a:off x="-6480" y="1706400"/>
            <a:ext cx="36450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2" descr="C:\Documents and Settings\Admin\Рабочий стол\уравнение окружности\7.png"/>
          <p:cNvPicPr/>
          <p:nvPr/>
        </p:nvPicPr>
        <p:blipFill>
          <a:blip r:embed="rId1"/>
          <a:stretch/>
        </p:blipFill>
        <p:spPr>
          <a:xfrm>
            <a:off x="480960" y="1981080"/>
            <a:ext cx="4365720" cy="4157640"/>
          </a:xfrm>
          <a:prstGeom prst="rect">
            <a:avLst/>
          </a:prstGeom>
          <a:ln w="0">
            <a:noFill/>
          </a:ln>
        </p:spPr>
      </p:pic>
      <p:sp>
        <p:nvSpPr>
          <p:cNvPr id="313" name="Овал 5"/>
          <p:cNvSpPr/>
          <p:nvPr/>
        </p:nvSpPr>
        <p:spPr>
          <a:xfrm>
            <a:off x="1857240" y="3071880"/>
            <a:ext cx="71640" cy="7128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" descr="C:\Documents and Settings\Admin\Рабочий стол\уравнение окружности\8.png"/>
          <p:cNvPicPr/>
          <p:nvPr/>
        </p:nvPicPr>
        <p:blipFill>
          <a:blip r:embed="rId1"/>
          <a:stretch/>
        </p:blipFill>
        <p:spPr>
          <a:xfrm>
            <a:off x="633240" y="1994040"/>
            <a:ext cx="451836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Овал 5"/>
          <p:cNvSpPr/>
          <p:nvPr/>
        </p:nvSpPr>
        <p:spPr>
          <a:xfrm>
            <a:off x="2286000" y="3286080"/>
            <a:ext cx="71280" cy="71640"/>
          </a:xfrm>
          <a:prstGeom prst="ellipse">
            <a:avLst/>
          </a:prstGeom>
          <a:solidFill>
            <a:srgbClr val="9cb3d8"/>
          </a:solidFill>
          <a:ln w="25560">
            <a:solidFill>
              <a:srgbClr val="718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d51"/>
                </a:solidFill>
                <a:latin typeface="Times New Roman"/>
              </a:rPr>
              <a:t>2 этап:    </a:t>
            </a:r>
            <a:r>
              <a:rPr b="1" i="1" lang="ru-RU" sz="4400" spc="-1" strike="noStrike">
                <a:solidFill>
                  <a:srgbClr val="009d51"/>
                </a:solidFill>
                <a:latin typeface="Times New Roman"/>
              </a:rPr>
              <a:t>Работа в группах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Содержимое 2"/>
          <p:cNvGrpSpPr/>
          <p:nvPr/>
        </p:nvGrpSpPr>
        <p:grpSpPr>
          <a:xfrm>
            <a:off x="1206360" y="2419200"/>
            <a:ext cx="5370480" cy="2086200"/>
            <a:chOff x="1206360" y="2419200"/>
            <a:chExt cx="5370480" cy="2086200"/>
          </a:xfrm>
        </p:grpSpPr>
        <p:pic>
          <p:nvPicPr>
            <p:cNvPr id="31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206360" y="2419200"/>
              <a:ext cx="537048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214280" y="2428920"/>
              <a:ext cx="535788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1 группа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2группа    </a:t>
              </a:r>
              <a:r>
                <a:rPr b="1" i="1" lang="ru-RU" sz="28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spcBef>
                  <a:spcPts val="451"/>
                </a:spcBef>
                <a:buClr>
                  <a:srgbClr val="ffffee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ee"/>
                  </a:solidFill>
                  <a:latin typeface="Times New Roman"/>
                </a:rPr>
                <a:t>3 группа    </a:t>
              </a:r>
              <a:r>
                <a:rPr b="1" i="1" lang="ru-RU" sz="1600" spc="-1" strike="noStrike">
                  <a:solidFill>
                    <a:srgbClr val="ffffee"/>
                  </a:solidFill>
                  <a:latin typeface="Times New Roman"/>
                </a:rPr>
                <a:t> </a:t>
              </a:r>
              <a:r>
                <a:rPr b="1" i="1" lang="ru-RU" sz="1800" spc="-1" strike="noStrike">
                  <a:solidFill>
                    <a:srgbClr val="ffffee"/>
                  </a:solidFill>
                  <a:latin typeface="Times New Roman"/>
                </a:rPr>
                <a:t>зад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TextBox 4"/>
          <p:cNvGrpSpPr/>
          <p:nvPr/>
        </p:nvGrpSpPr>
        <p:grpSpPr>
          <a:xfrm>
            <a:off x="2992320" y="6138720"/>
            <a:ext cx="1944720" cy="474840"/>
            <a:chOff x="2992320" y="6138720"/>
            <a:chExt cx="1944720" cy="474840"/>
          </a:xfrm>
        </p:grpSpPr>
        <p:pic>
          <p:nvPicPr>
            <p:cNvPr id="323" name="TextBox 4" descr=""/>
            <p:cNvPicPr/>
            <p:nvPr/>
          </p:nvPicPr>
          <p:blipFill>
            <a:blip r:embed="rId2"/>
            <a:stretch/>
          </p:blipFill>
          <p:spPr>
            <a:xfrm>
              <a:off x="2992320" y="6138720"/>
              <a:ext cx="19447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000240" y="614376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1</a:t>
            </a:r>
            <a:br>
              <a:rPr sz="3600"/>
            </a:b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1    Заполните таблицу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39640" y="1484280"/>
          <a:ext cx="8072640" cy="4357800"/>
        </p:xfrm>
        <a:graphic>
          <a:graphicData uri="http://schemas.openxmlformats.org/drawingml/2006/table">
            <a:tbl>
              <a:tblPr/>
              <a:tblGrid>
                <a:gridCol w="503280"/>
                <a:gridCol w="3745080"/>
                <a:gridCol w="1368360"/>
                <a:gridCol w="2455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равнение окру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2.</a:t>
            </a:r>
            <a:r>
              <a:rPr b="0" i="1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стройте в тетради окружности, заданные уравнения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 5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3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) 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4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TextBox 7"/>
          <p:cNvGrpSpPr/>
          <p:nvPr/>
        </p:nvGrpSpPr>
        <p:grpSpPr>
          <a:xfrm>
            <a:off x="1127160" y="5919840"/>
            <a:ext cx="5243400" cy="480960"/>
            <a:chOff x="1127160" y="5919840"/>
            <a:chExt cx="5243400" cy="480960"/>
          </a:xfrm>
        </p:grpSpPr>
        <p:pic>
          <p:nvPicPr>
            <p:cNvPr id="330" name="TextBox 7" descr=""/>
            <p:cNvPicPr/>
            <p:nvPr/>
          </p:nvPicPr>
          <p:blipFill>
            <a:blip r:embed="rId1"/>
            <a:stretch/>
          </p:blipFill>
          <p:spPr>
            <a:xfrm>
              <a:off x="1127160" y="5919840"/>
              <a:ext cx="5243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143000" y="5929200"/>
              <a:ext cx="52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9d51"/>
                </a:solidFill>
                <a:latin typeface="Century Schoolbook"/>
              </a:rPr>
              <a:t>Группа2:</a:t>
            </a:r>
            <a:r>
              <a:rPr b="0" lang="ru-RU" sz="28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d51"/>
                </a:solidFill>
                <a:latin typeface="Century Schoolbook"/>
              </a:rPr>
              <a:t>№1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координаты центра и радиус, если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А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диаметр данной окруж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1600200"/>
          <a:ext cx="8245440" cy="4946760"/>
        </p:xfrm>
        <a:graphic>
          <a:graphicData uri="http://schemas.openxmlformats.org/drawingml/2006/table">
            <a:tbl>
              <a:tblPr/>
              <a:tblGrid>
                <a:gridCol w="1397160"/>
                <a:gridCol w="4216320"/>
                <a:gridCol w="2631960"/>
              </a:tblGrid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инаты 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=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+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(0;   2)        </a:t>
                      </a:r>
                      <a:r>
                        <a:rPr b="0" lang="ru-RU" sz="2800" spc="-1" strike="noStrike" u="sng">
                          <a:solidFill>
                            <a:srgbClr val="ffffee"/>
                          </a:solidFill>
                          <a:uFillTx/>
                          <a:latin typeface="Century Schoolbook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  ;       )-середин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;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  <a:tr h="15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−2;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4;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 №</a:t>
            </a:r>
            <a:r>
              <a:rPr b="0" i="1" lang="ru-RU" sz="4400" spc="-1" strike="noStrike">
                <a:solidFill>
                  <a:srgbClr val="009d51"/>
                </a:solidFill>
                <a:latin typeface="Century Schoolboo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571680" y="17859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по полученным данным окружности в тетрад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алгоритм построения окружности по координатам концов диам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Прямоугольник 5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337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d51"/>
                </a:solidFill>
                <a:latin typeface="Century Schoolbook"/>
              </a:rPr>
              <a:t>Группа3:</a:t>
            </a:r>
            <a:r>
              <a:rPr b="0" lang="ru-RU" sz="36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008000"/>
                </a:solidFill>
                <a:latin typeface="Century Schoolbook"/>
              </a:rPr>
              <a:t>№1</a:t>
            </a:r>
            <a:r>
              <a:rPr b="1" lang="ru-RU" sz="36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008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2), проходящей через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7;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341280" y="1627200"/>
            <a:ext cx="4138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8000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в точке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−1), проходящей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Прямоугольник 4"/>
          <p:cNvGrpSpPr/>
          <p:nvPr/>
        </p:nvGrpSpPr>
        <p:grpSpPr>
          <a:xfrm>
            <a:off x="774720" y="5919840"/>
            <a:ext cx="5954760" cy="480960"/>
            <a:chOff x="774720" y="5919840"/>
            <a:chExt cx="5954760" cy="480960"/>
          </a:xfrm>
        </p:grpSpPr>
        <p:pic>
          <p:nvPicPr>
            <p:cNvPr id="34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785880" y="5929200"/>
              <a:ext cx="59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ые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ести уравнение окружности, рассмотрев решение этой задачи как одну из возможностей применения метода координат.   Уме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знать  уравнение окружности по предложенному уравнению, научить учащихся составлять уравнение окружности по готовому чертежу, строить окружность по заданному уравне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ять современные ИКТ для оформления результатов исслед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ормирование критического мышления и навыков работы в групп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ющ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азвитие умения составлять алгоритмические предписания и умение действовать в соответствии с предложенным алгорит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d5d44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71680" y="13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координат середины отре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вычисления длины век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пишите формулу нахождения расстояния между точками (длины отрезк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d51"/>
                </a:solidFill>
                <a:latin typeface="Times New Roman"/>
              </a:rPr>
              <a:t>1 этап:  </a:t>
            </a: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714840" y="1571760"/>
            <a:ext cx="450036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равнение фигуры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о урав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 двумя переменным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, которо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довлетворяют координаты люб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точки фигур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 – точка окружност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(х; у)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entury Schoolbook"/>
              </a:rPr>
              <a:t> – точка окруж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то можно сказать о взаимном расположении точек А и С на плоскости и точек А и М на плоск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к можно сформулировать определение окружнос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857160" y="5143680"/>
            <a:ext cx="7572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18"/>
          <p:cNvSpPr/>
          <p:nvPr/>
        </p:nvSpPr>
        <p:spPr>
          <a:xfrm>
            <a:off x="928800" y="5143680"/>
            <a:ext cx="75722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Окружностью 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C:\Documents and Settings\Admin\Рабочий стол\уравнение окружности\4.png"/>
          <p:cNvPicPr/>
          <p:nvPr/>
        </p:nvPicPr>
        <p:blipFill>
          <a:blip r:embed="rId1"/>
          <a:stretch/>
        </p:blipFill>
        <p:spPr>
          <a:xfrm>
            <a:off x="281160" y="1779480"/>
            <a:ext cx="2906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</a:t>
            </a: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) – точка окру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 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можно назвать отрезок 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=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ова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=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2928960" y="5286240"/>
            <a:ext cx="496728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08080" y="1920960"/>
            <a:ext cx="272412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, 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en-US" sz="28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−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, </a:t>
            </a: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−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адиус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точки окружност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__________________________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;4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3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281160" y="1852560"/>
            <a:ext cx="30524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4400" spc="-1" strike="noStrike">
                <a:solidFill>
                  <a:srgbClr val="009d51"/>
                </a:solidFill>
                <a:latin typeface="Century Schoolbook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Центр окружнос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0;0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х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−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кружности с центром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е координат.               </a:t>
            </a:r>
            <a:r>
              <a:rPr b="0" lang="ru-RU" sz="2800" spc="-1" strike="noStrike" u="sng">
                <a:solidFill>
                  <a:srgbClr val="ffffee"/>
                </a:solidFill>
                <a:uFillTx/>
                <a:latin typeface="Century Schoolbook"/>
              </a:rPr>
              <a:t>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0;0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2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635280" y="3141720"/>
            <a:ext cx="25210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C:\Documents and Settings\Admin\Рабочий стол\уравнение окружности\Безымянный5.png"/>
          <p:cNvPicPr/>
          <p:nvPr/>
        </p:nvPicPr>
        <p:blipFill>
          <a:blip r:embed="rId1"/>
          <a:stretch/>
        </p:blipFill>
        <p:spPr>
          <a:xfrm>
            <a:off x="-6480" y="1706400"/>
            <a:ext cx="35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5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Для того чтобы составить уравнение</a:t>
            </a:r>
            <a:br>
              <a:rPr sz="3600"/>
            </a:br>
            <a:r>
              <a:rPr b="1" i="1" lang="ru-RU" sz="3600" spc="-1" strike="noStrike" u="sng">
                <a:solidFill>
                  <a:srgbClr val="009d51"/>
                </a:solidFill>
                <a:uFillTx/>
                <a:latin typeface="Century Schoolbook"/>
              </a:rPr>
              <a:t>окружности, нуж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Rectangle 3"/>
          <p:cNvGrpSpPr/>
          <p:nvPr/>
        </p:nvGrpSpPr>
        <p:grpSpPr>
          <a:xfrm>
            <a:off x="420840" y="2066760"/>
            <a:ext cx="8242200" cy="4510080"/>
            <a:chOff x="420840" y="2066760"/>
            <a:chExt cx="8242200" cy="4510080"/>
          </a:xfrm>
        </p:grpSpPr>
        <p:pic>
          <p:nvPicPr>
            <p:cNvPr id="303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2066760"/>
              <a:ext cx="824220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8760" y="2071800"/>
              <a:ext cx="822960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1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координаты центр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2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узнать длину радиуса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cc"/>
                  </a:solidFill>
                  <a:latin typeface="Century Schoolbook"/>
                </a:rPr>
                <a:t>3)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дставить координаты центра 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;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и длину радиуса </a:t>
              </a:r>
              <a:r>
                <a:rPr b="1" i="1" lang="en-US" sz="40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в уравнение окружност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+ 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</a:t>
              </a:r>
              <a:r>
                <a:rPr b="1" lang="en-US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=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ставить уравнение окруж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(   ;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2" descr="C:\Documents and Settings\Admin\Рабочий стол\уравнение окружности\Безымянный1.png"/>
          <p:cNvPicPr/>
          <p:nvPr/>
        </p:nvPicPr>
        <p:blipFill>
          <a:blip r:embed="rId1"/>
          <a:stretch/>
        </p:blipFill>
        <p:spPr>
          <a:xfrm>
            <a:off x="208080" y="170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2:19:18Z</dcterms:created>
  <dc:creator>Admin</dc:creator>
  <dc:description/>
  <cp:keywords/>
  <dc:language>en-US</dc:language>
  <cp:lastModifiedBy>Педагог</cp:lastModifiedBy>
  <dcterms:modified xsi:type="dcterms:W3CDTF">2013-03-27T07:06:05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49</vt:lpwstr>
  </property>
</Properties>
</file>