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6356-0E0D-42A1-931E-54B155C81F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13D4-7D1D-4AF9-8CC9-A47B0C4F36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F17-5BAC-4C28-9EE0-0700232B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E7F-5CA2-461C-A8A6-46C3FBCD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804-DDC2-436E-BA80-D7C66288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736-32FB-4C19-BB1B-91459C69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6FC9-655A-4C11-BC29-6D492ACE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4978-9369-4396-AA47-F6BB3B5A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FB6A-73BC-401E-B1D9-6ECEE833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8604-8F6C-4FE2-B71F-F3C14DEA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79E5-8339-4F40-8796-99D36E25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0A19-B354-4E12-B6EC-E877A2F9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285A-601B-4D58-857B-D30925D9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BE4-7AF2-4C88-975C-602A660D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6C18-3AB5-483B-8CB7-08C99EC9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474E-B524-42DA-B56A-5849D82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2FEA-3D22-4492-A7E9-16BFA520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3E3C-5798-4494-BA24-161E5818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9AB7-B2BB-412D-9A35-23BFA06F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8356-2551-4815-981A-69E010F7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0F78-CE68-4B96-9301-75BA7954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FEE0-770A-4A13-B213-A64C5743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6B63-4560-448C-A621-C5DE5DB1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550B4-3160-48A2-A502-B31F95BE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2E1-0994-46C8-ADFE-288D5323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EB3B2-FE33-4669-B86A-863BCF85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0A6E-746C-471E-BD09-ED558790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86F1F-63C5-4F74-96E2-EC8627B2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BBE0-856C-4FCC-B951-923A824F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C29DF-CA29-46F1-877E-DDF35D11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DEE1-86C4-46FE-8A0C-994779A2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1248-E245-4F51-A835-098F9DDD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309DE-88B4-433B-B496-4ED7E37F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41B8C-1B92-4538-B52A-C39879C1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10E13-87D8-45D1-8A5D-935610AF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F4E-732F-46C7-AA8A-76A7DDA7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016C-DAFF-43A7-9528-F338B20E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BB6F0-7CFE-4857-9849-6C6931CA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6FF34-F633-4623-850D-B7A55387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2276-E0EE-4C20-A8DB-7622C99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E9B75-1FEE-4629-B280-56B1B51A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55368-C959-4C16-9523-60335012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BB752-18C6-43E4-AC09-985B9D4C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713A-1077-4076-8528-3E64A9B1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E892-A645-4900-94D4-6A55E02F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BC502-4D46-41AE-8449-9DD7CAF0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803-87B1-4B1A-B9E8-609EAF15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9453A-1042-43D2-B2E7-C6B6CAC0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DF20-FDB5-4787-823C-B30BD0A6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0010-A8E0-43C9-80B3-00014831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E2133-C611-4D9F-847F-DE77ADB2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7931B-7506-47B6-A434-96BF6CB5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A09EB-9D5E-442C-AF46-34BC5DA0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BF96D-20C1-42DF-90B9-2B258288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246A-7745-4BA0-B1C1-9FE18612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F1CB3-57A6-46E0-8B81-D4CC994D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F33F2-AB3A-4028-BE7C-BC0C972C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CDA-FDBE-4BD9-9009-4D1DCA7C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D048-2FF6-4D64-BFC4-0FB2B258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5978E-05E3-482F-B95F-23809D0E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95D4A-67DE-48B6-A40C-16CF71FB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2721E-A8AA-4ED9-B370-F7650D96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7F822-5E1F-4F16-9872-4C3D7535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A79C5-D6F2-4E62-AB02-62DA6DC5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6FE17-F733-4A2C-A1E7-9E8D2B0B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9D4E8-C46A-4709-B473-7FF90C2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98385-3881-4525-BF31-4AD52795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29BA2-0474-4ED9-8149-C3141664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2A8-2158-4010-855E-526C5865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5EAED-3869-442C-BACB-CBF96405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CE03-8A9D-4D06-BB0F-96461DC5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985C2-4C64-4EF7-AA22-9397CBEF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6AF-8D69-42E5-B253-D7727689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B5D-5057-4B2E-A661-A8FD0D43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C055-0C54-422B-BC2D-96C2D16235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3065-AFAB-4052-A6A8-F4D37D1F76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9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EF41-99AB-4299-BB28-8F12320175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3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1FCF-0000-4720-8C3E-4D76A98A25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8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10E8-CD62-4295-B0E9-1943609D70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22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8C36-A6B3-4F9A-867C-99788D013F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Заголовок 1"/>
          <p:cNvGrpSpPr/>
          <p:nvPr/>
        </p:nvGrpSpPr>
        <p:grpSpPr>
          <a:xfrm>
            <a:off x="706320" y="781200"/>
            <a:ext cx="7785360" cy="1938240"/>
            <a:chOff x="706320" y="781200"/>
            <a:chExt cx="7785360" cy="1938240"/>
          </a:xfrm>
        </p:grpSpPr>
        <p:pic>
          <p:nvPicPr>
            <p:cNvPr id="27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706320" y="781200"/>
              <a:ext cx="778536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14240" y="785880"/>
              <a:ext cx="77724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9d51"/>
                  </a:solidFill>
                  <a:latin typeface="Century Schoolbook"/>
                </a:rPr>
                <a:t>Уравнение окружности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99720" y="3143160"/>
            <a:ext cx="600084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рок геометрии в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9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entury Schoolbook"/>
              </a:rPr>
              <a:t>учитель 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Свяж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Ирина Пет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МАОУ СОШ №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Century Schoolbook"/>
              </a:rPr>
              <a:t>г. 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Калинингр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   ;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" descr="C:\Documents and Settings\Admin\Рабочий стол\уравнение окружности\Безымянный6.png"/>
          <p:cNvPicPr/>
          <p:nvPr/>
        </p:nvPicPr>
        <p:blipFill>
          <a:blip r:embed="rId1"/>
          <a:stretch/>
        </p:blipFill>
        <p:spPr>
          <a:xfrm>
            <a:off x="-6480" y="1706400"/>
            <a:ext cx="36450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" descr="C:\Documents and Settings\Admin\Рабочий стол\уравнение окружности\7.png"/>
          <p:cNvPicPr/>
          <p:nvPr/>
        </p:nvPicPr>
        <p:blipFill>
          <a:blip r:embed="rId1"/>
          <a:stretch/>
        </p:blipFill>
        <p:spPr>
          <a:xfrm>
            <a:off x="480960" y="1981080"/>
            <a:ext cx="4365720" cy="4157640"/>
          </a:xfrm>
          <a:prstGeom prst="rect">
            <a:avLst/>
          </a:prstGeom>
          <a:ln w="0">
            <a:noFill/>
          </a:ln>
        </p:spPr>
      </p:pic>
      <p:sp>
        <p:nvSpPr>
          <p:cNvPr id="313" name="Овал 5"/>
          <p:cNvSpPr/>
          <p:nvPr/>
        </p:nvSpPr>
        <p:spPr>
          <a:xfrm>
            <a:off x="1857240" y="3071880"/>
            <a:ext cx="71640" cy="71280"/>
          </a:xfrm>
          <a:prstGeom prst="ellipse">
            <a:avLst/>
          </a:prstGeom>
          <a:solidFill>
            <a:srgbClr val="9cb3d8"/>
          </a:solidFill>
          <a:ln w="25560">
            <a:solidFill>
              <a:srgbClr val="718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4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C:\Documents and Settings\Admin\Рабочий стол\уравнение окружности\8.png"/>
          <p:cNvPicPr/>
          <p:nvPr/>
        </p:nvPicPr>
        <p:blipFill>
          <a:blip r:embed="rId1"/>
          <a:stretch/>
        </p:blipFill>
        <p:spPr>
          <a:xfrm>
            <a:off x="633240" y="1994040"/>
            <a:ext cx="4518360" cy="4297320"/>
          </a:xfrm>
          <a:prstGeom prst="rect">
            <a:avLst/>
          </a:prstGeom>
          <a:ln w="0">
            <a:noFill/>
          </a:ln>
        </p:spPr>
      </p:pic>
      <p:sp>
        <p:nvSpPr>
          <p:cNvPr id="316" name="Овал 5"/>
          <p:cNvSpPr/>
          <p:nvPr/>
        </p:nvSpPr>
        <p:spPr>
          <a:xfrm>
            <a:off x="2286000" y="3286080"/>
            <a:ext cx="71280" cy="71640"/>
          </a:xfrm>
          <a:prstGeom prst="ellipse">
            <a:avLst/>
          </a:prstGeom>
          <a:solidFill>
            <a:srgbClr val="9cb3d8"/>
          </a:solidFill>
          <a:ln w="25560">
            <a:solidFill>
              <a:srgbClr val="718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d51"/>
                </a:solidFill>
                <a:latin typeface="Times New Roman"/>
              </a:rPr>
              <a:t>2 этап:    </a:t>
            </a:r>
            <a:r>
              <a:rPr b="1" i="1" lang="ru-RU" sz="4400" spc="-1" strike="noStrike">
                <a:solidFill>
                  <a:srgbClr val="009d51"/>
                </a:solidFill>
                <a:latin typeface="Times New Roman"/>
              </a:rPr>
              <a:t>Работа в группах</a:t>
            </a: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Содержимое 2"/>
          <p:cNvGrpSpPr/>
          <p:nvPr/>
        </p:nvGrpSpPr>
        <p:grpSpPr>
          <a:xfrm>
            <a:off x="1206360" y="2419200"/>
            <a:ext cx="5370480" cy="2086200"/>
            <a:chOff x="1206360" y="2419200"/>
            <a:chExt cx="5370480" cy="2086200"/>
          </a:xfrm>
        </p:grpSpPr>
        <p:pic>
          <p:nvPicPr>
            <p:cNvPr id="31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206360" y="2419200"/>
              <a:ext cx="53704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214280" y="2428920"/>
              <a:ext cx="535788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1 группа   </a:t>
              </a:r>
              <a:r>
                <a:rPr b="1" i="1" lang="ru-RU" sz="28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2группа    </a:t>
              </a:r>
              <a:r>
                <a:rPr b="1" i="1" lang="ru-RU" sz="28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3 группа    </a:t>
              </a:r>
              <a:r>
                <a:rPr b="1" i="1" lang="ru-RU" sz="16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TextBox 4"/>
          <p:cNvGrpSpPr/>
          <p:nvPr/>
        </p:nvGrpSpPr>
        <p:grpSpPr>
          <a:xfrm>
            <a:off x="2992320" y="6138720"/>
            <a:ext cx="1944720" cy="474840"/>
            <a:chOff x="2992320" y="6138720"/>
            <a:chExt cx="1944720" cy="474840"/>
          </a:xfrm>
        </p:grpSpPr>
        <p:pic>
          <p:nvPicPr>
            <p:cNvPr id="323" name="TextBox 4" descr=""/>
            <p:cNvPicPr/>
            <p:nvPr/>
          </p:nvPicPr>
          <p:blipFill>
            <a:blip r:embed="rId2"/>
            <a:stretch/>
          </p:blipFill>
          <p:spPr>
            <a:xfrm>
              <a:off x="2992320" y="6138720"/>
              <a:ext cx="19447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000240" y="614376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Группа1</a:t>
            </a:r>
            <a:br>
              <a:rPr sz="3600"/>
            </a:br>
            <a:r>
              <a:rPr b="0" i="1" lang="ru-RU" sz="36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1    Заполните таблицу</a:t>
            </a:r>
            <a:r>
              <a:rPr b="0" lang="ru-RU" sz="3600" spc="-1" strike="noStrike">
                <a:solidFill>
                  <a:srgbClr val="009d51"/>
                </a:solidFill>
                <a:latin typeface="Century Schoolbook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539640" y="1484280"/>
          <a:ext cx="8072640" cy="4357800"/>
        </p:xfrm>
        <a:graphic>
          <a:graphicData uri="http://schemas.openxmlformats.org/drawingml/2006/table">
            <a:tbl>
              <a:tblPr/>
              <a:tblGrid>
                <a:gridCol w="503280"/>
                <a:gridCol w="3745080"/>
                <a:gridCol w="1368360"/>
                <a:gridCol w="24559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равнение окру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2.</a:t>
            </a:r>
            <a:r>
              <a:rPr b="0" i="1" lang="ru-RU" sz="36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стройте в тетради окружности, заданные уравнения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642760"/>
            <a:ext cx="7772400" cy="34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 5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36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2) 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+ 1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7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4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TextBox 7"/>
          <p:cNvGrpSpPr/>
          <p:nvPr/>
        </p:nvGrpSpPr>
        <p:grpSpPr>
          <a:xfrm>
            <a:off x="1127160" y="5919840"/>
            <a:ext cx="5243400" cy="480960"/>
            <a:chOff x="1127160" y="5919840"/>
            <a:chExt cx="5243400" cy="480960"/>
          </a:xfrm>
        </p:grpSpPr>
        <p:pic>
          <p:nvPicPr>
            <p:cNvPr id="330" name="TextBox 7" descr=""/>
            <p:cNvPicPr/>
            <p:nvPr/>
          </p:nvPicPr>
          <p:blipFill>
            <a:blip r:embed="rId1"/>
            <a:stretch/>
          </p:blipFill>
          <p:spPr>
            <a:xfrm>
              <a:off x="1127160" y="5919840"/>
              <a:ext cx="52434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143000" y="592920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51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9d51"/>
                </a:solidFill>
                <a:latin typeface="Century Schoolbook"/>
              </a:rPr>
              <a:t>Группа2:</a:t>
            </a:r>
            <a:r>
              <a:rPr b="0" lang="ru-RU" sz="28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009d51"/>
                </a:solidFill>
                <a:latin typeface="Century Schoolbook"/>
              </a:rPr>
              <a:t>№1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йдите координаты центра и радиус, если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А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диаметр данной окруж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1600200"/>
          <a:ext cx="8245440" cy="4946760"/>
        </p:xfrm>
        <a:graphic>
          <a:graphicData uri="http://schemas.openxmlformats.org/drawingml/2006/table">
            <a:tbl>
              <a:tblPr/>
              <a:tblGrid>
                <a:gridCol w="1397160"/>
                <a:gridCol w="4216320"/>
                <a:gridCol w="2631960"/>
              </a:tblGrid>
              <a:tr h="86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а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инаты 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24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=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+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В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(0;   2)        </a:t>
                      </a:r>
                      <a:r>
                        <a:rPr b="0" lang="ru-RU" sz="2800" spc="-1" strike="noStrike" u="sng">
                          <a:solidFill>
                            <a:srgbClr val="ffffee"/>
                          </a:solidFill>
                          <a:uFillTx/>
                          <a:latin typeface="Century Schoolbook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  ;       )-середина 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;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15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−2;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4; 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d51"/>
                </a:solidFill>
                <a:latin typeface="Century Schoolbook"/>
              </a:rPr>
              <a:t> №</a:t>
            </a:r>
            <a:r>
              <a:rPr b="0" i="1" lang="ru-RU" sz="4400" spc="-1" strike="noStrike">
                <a:solidFill>
                  <a:srgbClr val="009d51"/>
                </a:solidFill>
                <a:latin typeface="Century Schoolboo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571680" y="178596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по полученным данным окружности в тетра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алгоритм построения окружности по координатам концов диам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Прямоугольник 5"/>
          <p:cNvGrpSpPr/>
          <p:nvPr/>
        </p:nvGrpSpPr>
        <p:grpSpPr>
          <a:xfrm>
            <a:off x="774720" y="5919840"/>
            <a:ext cx="5954760" cy="480960"/>
            <a:chOff x="774720" y="5919840"/>
            <a:chExt cx="5954760" cy="480960"/>
          </a:xfrm>
        </p:grpSpPr>
        <p:pic>
          <p:nvPicPr>
            <p:cNvPr id="337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74720" y="5919840"/>
              <a:ext cx="5954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85880" y="5929200"/>
              <a:ext cx="59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Группа3:</a:t>
            </a:r>
            <a:r>
              <a:rPr b="0" lang="ru-RU" sz="36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Century Schoolbook"/>
              </a:rPr>
              <a:t>№1</a:t>
            </a: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.</a:t>
            </a:r>
            <a:r>
              <a:rPr b="0" lang="ru-RU" sz="3600" spc="-1" strike="noStrike">
                <a:solidFill>
                  <a:srgbClr val="008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ьте уравнение окружности с центром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3;2), проходящей через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7;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341280" y="1627200"/>
            <a:ext cx="41385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8000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ьте уравнение окружности с центром в точке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3;−1), проходящей через начало координ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Прямоугольник 4"/>
          <p:cNvGrpSpPr/>
          <p:nvPr/>
        </p:nvGrpSpPr>
        <p:grpSpPr>
          <a:xfrm>
            <a:off x="774720" y="5919840"/>
            <a:ext cx="5954760" cy="480960"/>
            <a:chOff x="774720" y="5919840"/>
            <a:chExt cx="5954760" cy="480960"/>
          </a:xfrm>
        </p:grpSpPr>
        <p:pic>
          <p:nvPicPr>
            <p:cNvPr id="34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74720" y="5919840"/>
              <a:ext cx="5954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85880" y="5929200"/>
              <a:ext cx="59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ые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ести уравнение окружности, рассмотрев решение этой задачи как одну из возможностей применения метода координат.   Умет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знать  уравнение окружности по предложенному уравнению, научить учащихся составлять уравнение окружности по готовому чертежу, строить окружность по заданному уравнен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ять современные ИКТ для оформления результатов исслед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Формирование критического мышления и навыков работы в групп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ющ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звитие умения составлять алгоритмические предписания и умение действовать в соответствии с предложенным алгоритм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d5d44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71680" y="13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нахождения координат середины отре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вычисления длины векто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нахождения расстояния между точками (длины отрезк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d51"/>
                </a:solidFill>
                <a:latin typeface="Times New Roman"/>
              </a:rPr>
              <a:t>1 этап:  </a:t>
            </a: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714840" y="1571760"/>
            <a:ext cx="450036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Уравнение фигуры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это уравн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 двумя переменным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, которо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удовлетворяют координаты люб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точки фигур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1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х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) – точка окружност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М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(х; у)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 – точка окруж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Что можно сказать о взаимном расположении точек А и С на плоскости и точек А и М на плоскос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ак можно сформулировать определение окружнос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857160" y="5143680"/>
            <a:ext cx="7572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оугольник 18"/>
          <p:cNvSpPr/>
          <p:nvPr/>
        </p:nvSpPr>
        <p:spPr>
          <a:xfrm>
            <a:off x="928800" y="5143680"/>
            <a:ext cx="7572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Окружностью называется геометрическая фигура, состоящая из всех точек, расположенных на заданном расстоянии от данной точ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" descr="C:\Documents and Settings\Admin\Рабочий стол\уравнение окружности\4.png"/>
          <p:cNvPicPr/>
          <p:nvPr/>
        </p:nvPicPr>
        <p:blipFill>
          <a:blip r:embed="rId1"/>
          <a:stretch/>
        </p:blipFill>
        <p:spPr>
          <a:xfrm>
            <a:off x="281160" y="1779480"/>
            <a:ext cx="29066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х</a:t>
            </a: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) – точка окруж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расстояние между точк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с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можно назвать отрезок А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=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едоват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=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2928960" y="5286240"/>
            <a:ext cx="496728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208080" y="1920960"/>
            <a:ext cx="27241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4400" spc="-1" strike="noStrike">
                <a:solidFill>
                  <a:srgbClr val="009d51"/>
                </a:solidFill>
                <a:latin typeface="Century Schoolbook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, г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1" i="1" lang="en-US" sz="28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−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ентр, 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−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радиус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у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точки окружност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__________________________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2;4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3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281160" y="1852560"/>
            <a:ext cx="305244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4400" spc="-1" strike="noStrike">
                <a:solidFill>
                  <a:srgbClr val="009d51"/>
                </a:solidFill>
                <a:latin typeface="Century Schoolbook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08000" y="162864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ентр окружнос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0;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х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+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у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−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кружности с центром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начале координат.               </a:t>
            </a:r>
            <a:r>
              <a:rPr b="0" lang="ru-RU" sz="2800" spc="-1" strike="noStrike" u="sng">
                <a:solidFill>
                  <a:srgbClr val="ffffee"/>
                </a:solidFill>
                <a:uFillTx/>
                <a:latin typeface="Century Schoolbook"/>
              </a:rPr>
              <a:t>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0;0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2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3635280" y="3141720"/>
            <a:ext cx="252108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C:\Documents and Settings\Admin\Рабочий стол\уравнение окружности\Безымянный5.png"/>
          <p:cNvPicPr/>
          <p:nvPr/>
        </p:nvPicPr>
        <p:blipFill>
          <a:blip r:embed="rId1"/>
          <a:stretch/>
        </p:blipFill>
        <p:spPr>
          <a:xfrm>
            <a:off x="-6480" y="1706400"/>
            <a:ext cx="353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9d51"/>
                </a:solidFill>
                <a:uFillTx/>
                <a:latin typeface="Century Schoolbook"/>
              </a:rPr>
              <a:t>Для того чтобы составить уравнение</a:t>
            </a:r>
            <a:br>
              <a:rPr sz="3600"/>
            </a:br>
            <a:r>
              <a:rPr b="1" i="1" lang="ru-RU" sz="3600" spc="-1" strike="noStrike" u="sng">
                <a:solidFill>
                  <a:srgbClr val="009d51"/>
                </a:solidFill>
                <a:uFillTx/>
                <a:latin typeface="Century Schoolbook"/>
              </a:rPr>
              <a:t>окружности, нужн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Rectangle 3"/>
          <p:cNvGrpSpPr/>
          <p:nvPr/>
        </p:nvGrpSpPr>
        <p:grpSpPr>
          <a:xfrm>
            <a:off x="420840" y="2066760"/>
            <a:ext cx="8242200" cy="4510080"/>
            <a:chOff x="420840" y="2066760"/>
            <a:chExt cx="8242200" cy="4510080"/>
          </a:xfrm>
        </p:grpSpPr>
        <p:pic>
          <p:nvPicPr>
            <p:cNvPr id="303" name="Rectangle 3" descr=""/>
            <p:cNvPicPr/>
            <p:nvPr/>
          </p:nvPicPr>
          <p:blipFill>
            <a:blip r:embed="rId1"/>
            <a:stretch/>
          </p:blipFill>
          <p:spPr>
            <a:xfrm>
              <a:off x="420840" y="2066760"/>
              <a:ext cx="8242200" cy="45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8760" y="2071800"/>
              <a:ext cx="8229600" cy="44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1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узнать координаты центра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2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узнать длину радиуса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3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подставить координаты центра 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;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и длину радиуса </a:t>
              </a:r>
              <a:r>
                <a:rPr b="1" i="1" lang="en-US" sz="40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в уравнение окружност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 </a:t>
              </a:r>
              <a:r>
                <a:rPr b="1" i="1" lang="ru-RU" sz="36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+ 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у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</a:t>
              </a:r>
              <a:r>
                <a:rPr b="1" lang="en-US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= </a:t>
              </a:r>
              <a:r>
                <a:rPr b="1" i="1" lang="en-US" sz="36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(   ;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2" descr="C:\Documents and Settings\Admin\Рабочий стол\уравнение окружности\Безымянный1.png"/>
          <p:cNvPicPr/>
          <p:nvPr/>
        </p:nvPicPr>
        <p:blipFill>
          <a:blip r:embed="rId1"/>
          <a:stretch/>
        </p:blipFill>
        <p:spPr>
          <a:xfrm>
            <a:off x="208080" y="1706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2:19:18Z</dcterms:created>
  <dc:creator>Admin</dc:creator>
  <dc:description/>
  <cp:keywords/>
  <dc:language>en-US</dc:language>
  <cp:lastModifiedBy>Педагог</cp:lastModifiedBy>
  <dcterms:modified xsi:type="dcterms:W3CDTF">2013-03-27T07:06:05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