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308-D448-4649-9F60-1FD3027D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D62-4CCD-48D4-982D-867EDD20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E5F-0CBC-4A7B-B5FA-6635D83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1DB-AB32-46AF-9F3A-696BB458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71FA-9FAB-4419-99A5-9A323C25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A5E-31AE-444F-92D8-76E75B4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9474-680B-432E-ADD8-EFAFEAD3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F39-E001-49FF-80CC-1D84566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EF6-C2B5-4A80-BA24-FDF216F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A003-CDF9-41D3-AF82-27B72BB7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BB3A-8364-4AEB-BF8F-75B2BA4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FFA-3AE4-4D7D-892E-A7BCAD54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B90B-C16D-4E55-B3AD-4449F6D6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577F-5E72-413E-AA68-8CABF144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D44B-CE78-457C-93C1-E550E34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AEA-4CBE-46C8-9B17-1E01E205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852A-8098-45F5-ADD4-657FBE43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FB6-3A80-4034-970E-9BC4F4C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FF0-0220-4ECE-BC6E-EA8C5AA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CF5-09AE-4E1E-9814-CA89806A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F3E-0B83-4D2E-8BE5-2941870A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B04-7923-4C84-8176-D6DD83CC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549-02AF-4FD4-A95E-04C3344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DD3-EE52-4B66-AF9B-221F7AF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3A2B-2A12-4132-B186-B06A2EA9FF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381-4745-4A79-90CC-6E2BC21E20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425520" y="418680"/>
            <a:ext cx="73152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образования 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а Старый Оскол и Старооскольского района Бел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й сад №63 «Машень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развития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спользование фольклора в духовно – нравственном воспит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курова Н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ый Ос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крыть роль малых фольклорных форм в духовно – нравственном воспитании с детьми старшего возра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явить психологию восприятия ребенком потешек и сказ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крыть воспитательное значение малых поэтических жанр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Методика работы с фольклором с детьми дошкольного возраста имеет свои особенности. Для знакомства детей с малыми фольклорными жанрами я использую современные инновационные технологии (игры – презентации). 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95868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В потешках, песнях отражена сущность раннего детства: видеть мир таким, каким он предстает перед ребенком – без лукавства и фальши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8" name="Picture 16" descr="SDC10030"/>
          <p:cNvPicPr/>
          <p:nvPr/>
        </p:nvPicPr>
        <p:blipFill>
          <a:blip r:embed="rId1"/>
          <a:stretch/>
        </p:blipFill>
        <p:spPr>
          <a:xfrm>
            <a:off x="95868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Фольклорные произведения оказывают благотворное влияние на общение с ребенком в режимные моменты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0" name="Picture 18" descr="SDC10162"/>
          <p:cNvPicPr/>
          <p:nvPr/>
        </p:nvPicPr>
        <p:blipFill>
          <a:blip r:embed="rId1"/>
          <a:stretch/>
        </p:blipFill>
        <p:spPr>
          <a:xfrm>
            <a:off x="4211640" y="1598760"/>
            <a:ext cx="32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SDC10269"/>
          <p:cNvPicPr/>
          <p:nvPr/>
        </p:nvPicPr>
        <p:blipFill>
          <a:blip r:embed="rId2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SDC10034"/>
          <p:cNvPicPr/>
          <p:nvPr/>
        </p:nvPicPr>
        <p:blipFill>
          <a:blip r:embed="rId3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SDC10053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056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Народные произведения, рассчитанные и на эмоциональный прием, как обращение к ребенку по имени, побуждая к осмыслению содержания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5" name="Picture 7" descr="DSC_5878"/>
          <p:cNvPicPr/>
          <p:nvPr/>
        </p:nvPicPr>
        <p:blipFill>
          <a:blip r:embed="rId1"/>
          <a:stretch/>
        </p:blipFill>
        <p:spPr>
          <a:xfrm>
            <a:off x="828720" y="1598760"/>
            <a:ext cx="6256440" cy="4497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составная часть красоты, народные произведения крупной и малой формы, призваны спасти мир. Спасти от грязи, прагматизма и стяжательства, которые пытаются возвести в добродетель. Только духовность и красота способны вывести людей к свету, к будущему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0:17:58Z</dcterms:created>
  <dc:creator>Admin</dc:creator>
  <dc:description/>
  <dc:language>en-US</dc:language>
  <cp:lastModifiedBy>User</cp:lastModifiedBy>
  <cp:lastPrinted>2013-04-01T13:51:45Z</cp:lastPrinted>
  <dcterms:modified xsi:type="dcterms:W3CDTF">2013-04-01T14:13:28Z</dcterms:modified>
  <cp:revision>23</cp:revision>
  <dc:subject/>
  <dc:title>Фольклор в детском саду</dc:title>
</cp:coreProperties>
</file>