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650-2C34-4A3B-9D5B-19685F59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6365-DA02-43B2-872D-772860F6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064-50F8-4981-9884-79743ADB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B36B-45C9-4A91-B689-8BBC9EEF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5259-5753-4DB5-AFA4-906A9211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461F-DD24-4F84-B2F1-A877BCA4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2684-29D2-4CBF-9FE5-84AB1A85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9B0E-5EBC-4F3F-9C6B-8ED229C7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8407-4EA6-43DD-826C-319C201D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720C-C2DA-4F4E-94A2-F54F0BEB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BC24-1730-46D2-A8CB-4DD6465F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BE77-C92A-42B1-864A-1F270A53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F009-8611-42BB-8903-A5652623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5EC7-AAE7-4F3A-9BAF-7F2ABBE9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D9D8-0505-42BB-AA78-0C2F53B9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4E32-0878-4091-B26A-0BF8C60F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ED2F-9139-435C-9E02-AF21F60F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110-D570-4076-B770-D2914763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BF82-E18B-4382-81C5-94ABEA8D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69EB-A373-4E4E-A9B8-53D6381C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89C1-B360-47C4-9FA7-E621ECD4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2E7-42E0-45D7-BF73-9BCC828D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7BA-FCCE-4A6B-8128-B2BEA67B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9B9-E260-41F2-BEBF-FD62F5F6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AC11-478F-4B5A-B538-6EA1235000B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50E9-4821-41D3-9905-E73213C02E9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2"/>
          <p:cNvSpPr/>
          <p:nvPr/>
        </p:nvSpPr>
        <p:spPr>
          <a:xfrm>
            <a:off x="425520" y="418680"/>
            <a:ext cx="731520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образования 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ода Старый Оскол и Старооскольского района Белгород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ьное дошколь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ский сад №63 «Машень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 развития 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Использование фольклора в духовно – нравственном воспит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школьни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нокурова Н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рый Оск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72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666729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крыть роль малых фольклорных форм в духовно – нравственном воспитании с детьми старшего возрас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733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явить психологию восприятия ребенком потешек и сказок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733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крыть воспитательное значение малых поэтических жанро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72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666729"/>
                </a:solidFill>
                <a:latin typeface="Arial"/>
              </a:rPr>
              <a:t>Методика работы с фольклором с детьми дошкольного возраста имеет свои особенности. Для знакомства детей с малыми фольклорными жанрами я использую современные инновационные технологии (игры – презентации). </a:t>
            </a:r>
            <a:endParaRPr b="0" lang="en-US" sz="2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196" name="Объект 3" descr=""/>
          <p:cNvPicPr/>
          <p:nvPr/>
        </p:nvPicPr>
        <p:blipFill>
          <a:blip r:embed="rId1"/>
          <a:stretch/>
        </p:blipFill>
        <p:spPr>
          <a:xfrm>
            <a:off x="958680" y="1598760"/>
            <a:ext cx="59961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72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666729"/>
                </a:solidFill>
                <a:latin typeface="Arial"/>
              </a:rPr>
              <a:t>В потешках, песнях отражена сущность раннего детства: видеть мир таким, каким он предстает перед ребенком – без лукавства и фальши.</a:t>
            </a:r>
            <a:endParaRPr b="0" lang="en-US" sz="2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198" name="Picture 16" descr="SDC10030"/>
          <p:cNvPicPr/>
          <p:nvPr/>
        </p:nvPicPr>
        <p:blipFill>
          <a:blip r:embed="rId1"/>
          <a:stretch/>
        </p:blipFill>
        <p:spPr>
          <a:xfrm>
            <a:off x="958680" y="1598760"/>
            <a:ext cx="5996160" cy="4497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72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666729"/>
                </a:solidFill>
                <a:latin typeface="Arial"/>
              </a:rPr>
              <a:t>Фольклорные произведения оказывают благотворное влияние на общение с ребенком в режимные моменты.</a:t>
            </a:r>
            <a:endParaRPr b="0" lang="en-US" sz="2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00" name="Picture 18" descr="SDC10162"/>
          <p:cNvPicPr/>
          <p:nvPr/>
        </p:nvPicPr>
        <p:blipFill>
          <a:blip r:embed="rId1"/>
          <a:stretch/>
        </p:blipFill>
        <p:spPr>
          <a:xfrm>
            <a:off x="4211640" y="1598760"/>
            <a:ext cx="3257640" cy="2171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0" descr="SDC10269"/>
          <p:cNvPicPr/>
          <p:nvPr/>
        </p:nvPicPr>
        <p:blipFill>
          <a:blip r:embed="rId2"/>
          <a:stretch/>
        </p:blipFill>
        <p:spPr>
          <a:xfrm>
            <a:off x="4392720" y="3922560"/>
            <a:ext cx="2896920" cy="2173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4" descr="SDC10034"/>
          <p:cNvPicPr/>
          <p:nvPr/>
        </p:nvPicPr>
        <p:blipFill>
          <a:blip r:embed="rId3"/>
          <a:stretch/>
        </p:blipFill>
        <p:spPr>
          <a:xfrm>
            <a:off x="622440" y="3922560"/>
            <a:ext cx="2896920" cy="2173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6" descr="SDC10053"/>
          <p:cNvPicPr/>
          <p:nvPr/>
        </p:nvPicPr>
        <p:blipFill>
          <a:blip r:embed="rId4"/>
          <a:stretch/>
        </p:blipFill>
        <p:spPr>
          <a:xfrm>
            <a:off x="623880" y="15987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056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72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666729"/>
                </a:solidFill>
                <a:latin typeface="Arial"/>
              </a:rPr>
              <a:t>Народные произведения, рассчитанные и на эмоциональный прием, как обращение к ребенку по имени, побуждая к осмыслению содержания.</a:t>
            </a:r>
            <a:endParaRPr b="0" lang="en-US" sz="2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05" name="Picture 7" descr="DSC_5878"/>
          <p:cNvPicPr/>
          <p:nvPr/>
        </p:nvPicPr>
        <p:blipFill>
          <a:blip r:embed="rId1"/>
          <a:stretch/>
        </p:blipFill>
        <p:spPr>
          <a:xfrm>
            <a:off x="828720" y="1598760"/>
            <a:ext cx="6256440" cy="44971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72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666729"/>
                </a:solidFill>
                <a:latin typeface="Arial"/>
              </a:rPr>
              <a:t>Вывод</a:t>
            </a:r>
            <a:endParaRPr b="0" lang="en-US" sz="2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ак составная часть красоты, народные произведения крупной и малой формы, призваны спасти мир. Спасти от грязи, прагматизма и стяжательства, которые пытаются возвести в добродетель. Только духовность и красота способны вывести людей к свету, к будущему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0:17:58Z</dcterms:created>
  <dc:creator>Admin</dc:creator>
  <dc:description/>
  <dc:language>en-US</dc:language>
  <cp:lastModifiedBy>User</cp:lastModifiedBy>
  <cp:lastPrinted>2013-04-01T13:51:45Z</cp:lastPrinted>
  <dcterms:modified xsi:type="dcterms:W3CDTF">2013-04-01T14:13:28Z</dcterms:modified>
  <cp:revision>23</cp:revision>
  <dc:subject/>
  <dc:title>Фольклор в детском саду</dc:title>
</cp:coreProperties>
</file>