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763-27CE-4B80-BE24-F9A78670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814-6031-4BD8-B8E3-4FFC877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7FF-D28B-4157-9708-878199CA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E20-337D-4DAE-B46A-8D068BA1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BA9-EEDC-483A-A52A-4A75C249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3C8-FA4B-4725-A4BD-EA5ABA2A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A69-EA25-4585-B670-CDAFFE6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5EC-E5DA-469D-8FEE-2CE0CBF0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D81-5DA9-493E-BFD9-1BD9C73F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CD4-0AF2-4EAC-811E-5E762F1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E50-303D-4227-97F1-59E8EB2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DA0-CE9E-4356-920E-637C26D4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C857-3374-40D9-ABD6-E79E6A945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нвистическая 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1341360"/>
            <a:ext cx="4680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оедин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агае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уква алфави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ком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4437000"/>
            <a:ext cx="1068480" cy="432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8231600">
            <a:off x="5921280" y="2046600"/>
            <a:ext cx="1552320" cy="141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9052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905206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156360" y="1557000"/>
            <a:ext cx="1008360" cy="288000"/>
            <a:chOff x="6156360" y="1557000"/>
            <a:chExt cx="1008360" cy="288000"/>
          </a:xfrm>
        </p:grpSpPr>
        <p:cxnSp>
          <p:nvCxnSpPr>
            <p:cNvPr id="46" name=""/>
            <p:cNvCxnSpPr/>
            <p:nvPr/>
          </p:nvCxnSpPr>
          <p:spPr>
            <a:xfrm>
              <a:off x="6156360" y="1557000"/>
              <a:ext cx="1008720" cy="1080"/>
            </a:xfrm>
            <a:prstGeom prst="bentConnector2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47" name=""/>
            <p:cNvCxnSpPr/>
            <p:nvPr/>
          </p:nvCxnSpPr>
          <p:spPr>
            <a:xfrm>
              <a:off x="7164000" y="1557360"/>
              <a:ext cx="1080" cy="288000"/>
            </a:xfrm>
            <a:prstGeom prst="straightConnector1">
              <a:avLst/>
            </a:prstGeom>
            <a:ln w="57240">
              <a:solidFill>
                <a:srgbClr val="008000"/>
              </a:solidFill>
              <a:miter/>
            </a:ln>
          </p:spPr>
        </p:cxnSp>
      </p:grpSp>
      <p:grpSp>
        <p:nvGrpSpPr>
          <p:cNvPr id="48" name=""/>
          <p:cNvGrpSpPr/>
          <p:nvPr/>
        </p:nvGrpSpPr>
        <p:grpSpPr>
          <a:xfrm>
            <a:off x="6156360" y="2996640"/>
            <a:ext cx="1008360" cy="446760"/>
            <a:chOff x="6156360" y="2996640"/>
            <a:chExt cx="1008360" cy="446760"/>
          </a:xfrm>
        </p:grpSpPr>
        <p:cxnSp>
          <p:nvCxnSpPr>
            <p:cNvPr id="49" name=""/>
            <p:cNvCxnSpPr/>
            <p:nvPr/>
          </p:nvCxnSpPr>
          <p:spPr>
            <a:xfrm flipV="1">
              <a:off x="6156360" y="2996640"/>
              <a:ext cx="48960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50" name=""/>
            <p:cNvCxnSpPr/>
            <p:nvPr/>
          </p:nvCxnSpPr>
          <p:spPr>
            <a:xfrm>
              <a:off x="6645240" y="2997000"/>
              <a:ext cx="51984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grpSp>
        <p:nvGrpSpPr>
          <p:cNvPr id="51" name=""/>
          <p:cNvGrpSpPr/>
          <p:nvPr/>
        </p:nvGrpSpPr>
        <p:grpSpPr>
          <a:xfrm>
            <a:off x="6156000" y="3644280"/>
            <a:ext cx="1080360" cy="446760"/>
            <a:chOff x="6156000" y="3644280"/>
            <a:chExt cx="1080360" cy="446760"/>
          </a:xfrm>
        </p:grpSpPr>
        <p:cxnSp>
          <p:nvCxnSpPr>
            <p:cNvPr id="52" name=""/>
            <p:cNvCxnSpPr/>
            <p:nvPr/>
          </p:nvCxnSpPr>
          <p:spPr>
            <a:xfrm flipV="1">
              <a:off x="6156000" y="3644280"/>
              <a:ext cx="52416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53" name=""/>
            <p:cNvCxnSpPr/>
            <p:nvPr/>
          </p:nvCxnSpPr>
          <p:spPr>
            <a:xfrm>
              <a:off x="6680160" y="3644640"/>
              <a:ext cx="55656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sp>
        <p:nvSpPr>
          <p:cNvPr id="54" name=""/>
          <p:cNvSpPr/>
          <p:nvPr/>
        </p:nvSpPr>
        <p:spPr>
          <a:xfrm>
            <a:off x="684360" y="551664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рилагательное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916360" y="1341000"/>
            <a:ext cx="792360" cy="216720"/>
            <a:chOff x="2916360" y="1341000"/>
            <a:chExt cx="792360" cy="216720"/>
          </a:xfrm>
        </p:grpSpPr>
        <p:cxnSp>
          <p:nvCxnSpPr>
            <p:cNvPr id="56" name=""/>
            <p:cNvCxnSpPr/>
            <p:nvPr/>
          </p:nvCxnSpPr>
          <p:spPr>
            <a:xfrm>
              <a:off x="2916360" y="1341000"/>
              <a:ext cx="792720" cy="1080"/>
            </a:xfrm>
            <a:prstGeom prst="bentConnector2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57" name=""/>
            <p:cNvCxnSpPr/>
            <p:nvPr/>
          </p:nvCxnSpPr>
          <p:spPr>
            <a:xfrm>
              <a:off x="3708000" y="1341360"/>
              <a:ext cx="1080" cy="216720"/>
            </a:xfrm>
            <a:prstGeom prst="straightConnector1">
              <a:avLst/>
            </a:prstGeom>
            <a:ln w="57240">
              <a:solidFill>
                <a:srgbClr val="008000"/>
              </a:solidFill>
              <a:miter/>
            </a:ln>
          </p:spPr>
        </p:cxnSp>
      </p:grpSp>
      <p:sp>
        <p:nvSpPr>
          <p:cNvPr id="58" name=""/>
          <p:cNvSpPr/>
          <p:nvPr/>
        </p:nvSpPr>
        <p:spPr>
          <a:xfrm rot="18355200">
            <a:off x="3526200" y="1840320"/>
            <a:ext cx="647640" cy="618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76" y="2390"/>
                </a:moveTo>
                <a:arcTo wR="10800" hR="10800" stAng="-3068336" swAng="5489519"/>
                <a:lnTo>
                  <a:pt x="10800" y="10800"/>
                </a:lnTo>
                <a:close/>
              </a:path>
              <a:path fill="none" w="21600" h="21600">
                <a:moveTo>
                  <a:pt x="17576" y="2390"/>
                </a:moveTo>
                <a:arcTo wR="10800" hR="10800" stAng="-3068336" swAng="5489519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84360" y="3789000"/>
            <a:ext cx="288720" cy="216720"/>
            <a:chOff x="4284360" y="3789000"/>
            <a:chExt cx="288720" cy="216720"/>
          </a:xfrm>
        </p:grpSpPr>
        <p:cxnSp>
          <p:nvCxnSpPr>
            <p:cNvPr id="60" name=""/>
            <p:cNvCxnSpPr/>
            <p:nvPr/>
          </p:nvCxnSpPr>
          <p:spPr>
            <a:xfrm flipV="1">
              <a:off x="4284360" y="3789000"/>
              <a:ext cx="140400" cy="21672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>
              <a:off x="4424400" y="3789360"/>
              <a:ext cx="149040" cy="21672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grpSp>
        <p:nvGrpSpPr>
          <p:cNvPr id="62" name=""/>
          <p:cNvGrpSpPr/>
          <p:nvPr/>
        </p:nvGrpSpPr>
        <p:grpSpPr>
          <a:xfrm>
            <a:off x="4355640" y="3141360"/>
            <a:ext cx="721080" cy="302400"/>
            <a:chOff x="4355640" y="3141360"/>
            <a:chExt cx="721080" cy="302400"/>
          </a:xfrm>
        </p:grpSpPr>
        <p:cxnSp>
          <p:nvCxnSpPr>
            <p:cNvPr id="63" name=""/>
            <p:cNvCxnSpPr/>
            <p:nvPr/>
          </p:nvCxnSpPr>
          <p:spPr>
            <a:xfrm flipV="1">
              <a:off x="4355640" y="3141360"/>
              <a:ext cx="350280" cy="30240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705200" y="3141720"/>
              <a:ext cx="371880" cy="30240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sp>
        <p:nvSpPr>
          <p:cNvPr id="65" name=""/>
          <p:cNvSpPr/>
          <p:nvPr/>
        </p:nvSpPr>
        <p:spPr>
          <a:xfrm>
            <a:off x="4788000" y="4581360"/>
            <a:ext cx="649080" cy="2890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8000" y="2349360"/>
            <a:ext cx="64944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260280"/>
          <a:ext cx="8858160" cy="5748120"/>
        </p:xfrm>
        <a:graphic>
          <a:graphicData uri="http://schemas.openxmlformats.org/drawingml/2006/table">
            <a:tbl>
              <a:tblPr/>
              <a:tblGrid>
                <a:gridCol w="1793880"/>
                <a:gridCol w="2403360"/>
                <a:gridCol w="2246400"/>
                <a:gridCol w="241452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вос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исовать словами карт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а прилаг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ы представляем картину, нарисованную слов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арисовать можно одну общую карти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писываются детали, передается настро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ать о последовательно развивающихся собы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ожно нарисовать серию карти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Восприятие движется от действия к действ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гадайте о чём идет реч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лицейский, садовый, земельный, избирательный …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дяная, тонкая, подгорелая, румяная, арбузная …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ая, серая, полевая, компьютерная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ый, затяжной, слепой, грибной, проливной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067280" y="2492280"/>
            <a:ext cx="115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59280" y="3573360"/>
            <a:ext cx="9349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80360" y="4437000"/>
            <a:ext cx="1297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3640" y="5229360"/>
            <a:ext cx="1333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4:03:10Z</dcterms:created>
  <dc:creator>1</dc:creator>
  <dc:description/>
  <dc:language>en-US</dc:language>
  <cp:lastModifiedBy>1</cp:lastModifiedBy>
  <dcterms:modified xsi:type="dcterms:W3CDTF">2013-02-18T15:49:13Z</dcterms:modified>
  <cp:revision>8</cp:revision>
  <dc:subject/>
  <dc:title>Слайд 1</dc:title>
</cp:coreProperties>
</file>