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351-D48D-4B65-98F5-073E0267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69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C33-B1E7-4EC9-A5DC-B9C207F4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884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5B9-2B31-41FC-BF0C-6FAEBA6D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33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65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33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65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660-0E64-4B1B-BAC6-38117EAC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76B5-22FF-4DF3-9270-D4387B05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821E-9F00-4114-A2EF-EE4C7502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96A5-8BBE-49F5-B0C4-24D8F6E4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089C-1985-4392-B614-6AA28DB9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EEC2-D0CF-4CE3-BA3B-48777FA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301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D170-3278-4552-B9A1-DEB6CC89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B81A-3356-4859-9273-76DD21D4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4EB-684C-448E-A611-83B911B3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884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0C87-DA2D-4CDE-B9E2-E21AF14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ADA3-1139-4B77-99DA-F5BCEDC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69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C340-F2E4-43CF-A342-1E5B1F14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884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C67C-D95F-4F7B-8774-EAE4BCF3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33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65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33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65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9ECD-3B8B-45FC-BB79-7977B2D0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DFD-9BE6-4BFE-AF51-8E058367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70A-E9B7-4D75-BB75-1A0BCDBE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1B9-0511-474A-9017-0F41C63D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301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A0A-F291-4B6F-9E84-1D07160C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113-D391-48E0-B049-1108DDEB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884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C198-14D4-4BDF-8C89-4D49BDA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CF4-2760-45F0-8C23-9EBCBC1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68e"/>
            </a:gs>
            <a:gs pos="100000">
              <a:srgbClr val="f2f6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6440" cy="3809880"/>
            <a:chOff x="-3238560" y="0"/>
            <a:chExt cx="1192644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516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320" y="0"/>
              <a:ext cx="309420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960" y="1523880"/>
              <a:ext cx="7315920" cy="0"/>
            </a:xfrm>
            <a:prstGeom prst="line">
              <a:avLst/>
            </a:prstGeom>
            <a:ln w="12600">
              <a:solidFill>
                <a:srgbClr val="93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93191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93191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48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3EF-C220-4346-8074-D111389062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68e"/>
            </a:gs>
            <a:gs pos="100000">
              <a:srgbClr val="f2f6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10600" cy="4724280"/>
            <a:chOff x="-3222720" y="304920"/>
            <a:chExt cx="11910600" cy="4724280"/>
          </a:xfrm>
        </p:grpSpPr>
        <p:sp>
          <p:nvSpPr>
            <p:cNvPr id="46" name="Line 3"/>
            <p:cNvSpPr/>
            <p:nvPr/>
          </p:nvSpPr>
          <p:spPr>
            <a:xfrm>
              <a:off x="1448280" y="2514600"/>
              <a:ext cx="7239600" cy="0"/>
            </a:xfrm>
            <a:prstGeom prst="line">
              <a:avLst/>
            </a:prstGeom>
            <a:ln w="12600">
              <a:solidFill>
                <a:srgbClr val="93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240" y="1371600"/>
              <a:ext cx="365796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920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93191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93191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48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191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2D02-EEC5-4AA3-AA2F-2588943B6692}" type="slidenum">
              <a:rPr b="0" lang="ru-RU" sz="1200" spc="-1" strike="noStrike">
                <a:solidFill>
                  <a:srgbClr val="93191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solute.times.lv/psm/paradoxes/index.html#none#non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4720" y="1628280"/>
            <a:ext cx="65228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арадоксы и софизмы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 математике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63640" y="333000"/>
            <a:ext cx="60832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cc33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708360" y="4869000"/>
            <a:ext cx="4826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Verdana"/>
              </a:rPr>
              <a:t>Руководитель проекта:</a:t>
            </a:r>
            <a:r>
              <a:rPr b="1" lang="ru-RU" sz="1800" spc="-1" strike="noStrike">
                <a:solidFill>
                  <a:srgbClr val="931919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93191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Бычко Галина Михайловна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учитель математики                   </a:t>
            </a:r>
            <a:r>
              <a:rPr b="1" lang="ru-RU" sz="2000" spc="-1" strike="noStrike">
                <a:solidFill>
                  <a:srgbClr val="931919"/>
                </a:solidFill>
                <a:latin typeface="Times New Roman"/>
                <a:ea typeface="Times New Roman"/>
              </a:rPr>
              <a:t>МБОУ «ООШ пгт Парма» </a:t>
            </a:r>
            <a:r>
              <a:rPr b="0" lang="ru-RU" sz="2000" spc="-1" strike="noStrike">
                <a:solidFill>
                  <a:srgbClr val="93191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93" name="Picture 9" descr="06"/>
          <p:cNvPicPr/>
          <p:nvPr/>
        </p:nvPicPr>
        <p:blipFill>
          <a:blip r:embed="rId1"/>
          <a:stretch/>
        </p:blipFill>
        <p:spPr>
          <a:xfrm>
            <a:off x="5869080" y="2708280"/>
            <a:ext cx="2654280" cy="1515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2"/>
          <p:cNvSpPr/>
          <p:nvPr/>
        </p:nvSpPr>
        <p:spPr>
          <a:xfrm>
            <a:off x="973080" y="3141720"/>
            <a:ext cx="4967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Verdana"/>
              </a:rPr>
              <a:t>Авторы проекта</a:t>
            </a:r>
            <a:r>
              <a:rPr b="0" lang="ru-RU" sz="2000" spc="-1" strike="noStrike">
                <a:solidFill>
                  <a:srgbClr val="0099ff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1919"/>
                </a:solidFill>
                <a:latin typeface="Verdana"/>
              </a:rPr>
              <a:t>Ученики 9 класса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1919"/>
                </a:solidFill>
                <a:latin typeface="Verdana"/>
              </a:rPr>
              <a:t>Сеничак Ярослав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1919"/>
                </a:solidFill>
                <a:latin typeface="Verdana"/>
              </a:rPr>
              <a:t>Борзова Валерия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405080" y="620640"/>
            <a:ext cx="7343640" cy="8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3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«Дважды два  -  пять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Напишем тождество </a:t>
            </a:r>
            <a:r>
              <a:rPr b="0" lang="ru-RU" sz="2500" spc="-1" strike="noStrike">
                <a:solidFill>
                  <a:srgbClr val="006600"/>
                </a:solidFill>
                <a:latin typeface="Verdana"/>
              </a:rPr>
              <a:t>4:4=5:5.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Вынесем из каждой части тождества общие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множители за скобки, получаем: </a:t>
            </a:r>
            <a:r>
              <a:rPr b="0" lang="ru-RU" sz="2500" spc="-1" strike="noStrike">
                <a:solidFill>
                  <a:srgbClr val="006600"/>
                </a:solidFill>
                <a:latin typeface="Verdana"/>
              </a:rPr>
              <a:t>4(1:1)=5(1:1)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или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Так как </a:t>
            </a:r>
            <a:r>
              <a:rPr b="0" lang="ru-RU" sz="2500" spc="-1" strike="noStrike">
                <a:solidFill>
                  <a:srgbClr val="006600"/>
                </a:solidFill>
                <a:latin typeface="Verdana"/>
              </a:rPr>
              <a:t>1:1=1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, то сократим и получим 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           </a:t>
            </a:r>
            <a:r>
              <a:rPr b="0" lang="ru-RU" sz="2500" spc="-1" strike="noStrike">
                <a:solidFill>
                  <a:srgbClr val="ff00ff"/>
                </a:solidFill>
                <a:latin typeface="Verdana"/>
              </a:rPr>
              <a:t>Где ошибка?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931919"/>
                </a:solidFill>
                <a:uFillTx/>
                <a:latin typeface="Verdana"/>
              </a:rPr>
              <a:t>Разбор софизма</a:t>
            </a:r>
            <a:r>
              <a:rPr b="1" lang="ru-RU" sz="2500" spc="-1" strike="noStrike">
                <a:solidFill>
                  <a:srgbClr val="931919"/>
                </a:solidFill>
                <a:latin typeface="Verdana"/>
              </a:rPr>
              <a:t>.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Ошибка сделана при вынесении общих множителей 4 из левой части и 5 из правой. Действительно, 4:4=1:1, но 4:4≠4(1:1)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4930920" y="3500280"/>
                <a:ext cx="30938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1785960" y="4429080"/>
                <a:ext cx="114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8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3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0000" y="188640"/>
            <a:ext cx="788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</a:t>
            </a:r>
            <a:r>
              <a:rPr b="1" lang="en-US" sz="3200" spc="-1" strike="noStrike">
                <a:solidFill>
                  <a:srgbClr val="931919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Уравнение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x-a=0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не имеет корней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70160" y="1557360"/>
            <a:ext cx="73152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Дано уравнение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=0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. Разделив обе части этого уравнения н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-a,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получим, что 1=0. Поскольку это равенство неверное, то это означает, что исходное уравнение не имеет корней. 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Где ошибка?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191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31919"/>
                </a:solidFill>
                <a:latin typeface="Arial"/>
              </a:rPr>
              <a:t>Разбор софизма.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скольку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x=a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– корень уравнения, то, разделив на выражение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x-a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бе его части, мы потеряли этот корень и поэтому получили неверное равенство 1=0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5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Полный стакан равен пустому»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усть имеется стакан, наполненный водой до половины. Тогда можно сказать, что стакан, наполовину полный равен стакану наполовину пустому. Увеличивая обе части равенства вдвое, получим, что стакан полный равен стакану пустому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ерно ли приведенное суждение?</a:t>
            </a: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Где ошибка?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3191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931919"/>
                </a:solidFill>
                <a:uFillTx/>
                <a:latin typeface="Arial"/>
              </a:rPr>
              <a:t>Разбор софизма</a:t>
            </a:r>
            <a:r>
              <a:rPr b="1" lang="ru-RU" sz="2400" spc="-1" strike="noStrike">
                <a:solidFill>
                  <a:srgbClr val="93191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93191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Ясно, что приведенное рассуждение неверно, так как в нем применяется неправомерное действие: увеличение вдвое. В данной ситуации его применение бессмысленно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135" name="Picture 5" descr="софизм"/>
          <p:cNvPicPr/>
          <p:nvPr/>
        </p:nvPicPr>
        <p:blipFill>
          <a:blip r:embed="rId1"/>
          <a:stretch/>
        </p:blipFill>
        <p:spPr>
          <a:xfrm>
            <a:off x="6948360" y="189000"/>
            <a:ext cx="185292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8360" y="1773000"/>
            <a:ext cx="8134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00"/>
                </a:solidFill>
                <a:uFillTx/>
                <a:latin typeface="Verdana"/>
              </a:rPr>
              <a:t>Песня: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Чем больше учишься, тем больше зн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Чем больше знаешь, тем больше забыв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Чем больше забываешь, тем меньше зн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Чем меньше знаешь, тем меньше забыв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Но чем меньше забываешь, тем больше зн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Так для чего учиться?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cc"/>
                </a:solidFill>
                <a:latin typeface="Verdana"/>
              </a:rPr>
              <a:t>      </a:t>
            </a:r>
            <a:r>
              <a:rPr b="1" lang="ru-RU" sz="2100" spc="-1" strike="noStrike">
                <a:solidFill>
                  <a:srgbClr val="0033cc"/>
                </a:solidFill>
                <a:latin typeface="Verdana"/>
              </a:rPr>
              <a:t>Не философия, а мечта лентяев!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Логические софизмы </a:t>
            </a:r>
            <a:br>
              <a:rPr sz="3200"/>
            </a:br>
            <a:r>
              <a:rPr b="1" lang="ru-RU" sz="3200" spc="-1" strike="noStrike">
                <a:solidFill>
                  <a:srgbClr val="ef79d6"/>
                </a:solidFill>
                <a:latin typeface="Arial"/>
              </a:rPr>
              <a:t>«Софизм учебы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84360" y="139608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арадокс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(греч. "пара" - "против", "докса" - "мнение") близок к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софизму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 Но от него он отличается тем, что это не преднамеренно полученный противоречивый результат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арадокс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странное, расходящееся с общепринятым мнением, высказывание, а также мнение, противоречащее (иногда только на первый взгляд) здравому смыслу (словарь Ожегова)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Математический парадокс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 – высказывание, которое может быть доказано и как истинна, и как ложь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арадоксы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39640" y="2167920"/>
            <a:ext cx="88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Это парадоксы, которые затрагивают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сферы логики  и здравого смысла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Казалось бы, парадокс - и парадокс себе, и стоит ли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ильно по его поводу переживать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днако некая легенда гласит, что древнегреческий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философ Кронос, не в силах разрешить его, от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горчения умер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Логические парадоксы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2720" y="1628280"/>
            <a:ext cx="8352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Этот древнегреческий логический парадокс 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имеет множество вариаций. Я приведу одну из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них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Человек произносит: 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« Я лгу»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Он обманывает или говорит правду?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С одной стороны, он говорит неправду, т.к. это утверждает. Но это означает, что он утверждает истину, а, следовательно, лжет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арадокс №1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ec5ece"/>
                </a:solidFill>
                <a:latin typeface="Arial"/>
              </a:rPr>
              <a:t>«Парадокс лжеца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250" autoRev="1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250" autoRev="1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96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Имеется утверждение: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разница между "кучей" и "не кучей" не в одном элементе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Возьмем некоторую кучу, например, орехов. Теперь начнем брать из нее по ореху: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50 орехов - куча,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49 - куча,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48 - тоже куча и т.д.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Так дойдем до одного ореха, который тоже составит кучу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Вот тут-то и парадокс – </a:t>
            </a:r>
            <a:r>
              <a:rPr b="1" lang="ru-RU" sz="2100" spc="-1" strike="noStrike">
                <a:solidFill>
                  <a:srgbClr val="0033cc"/>
                </a:solidFill>
                <a:latin typeface="Arial"/>
              </a:rPr>
              <a:t>сколько орехов бы мы не взяли, они все равно будут кучей.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6600"/>
                </a:solidFill>
                <a:latin typeface="Arial"/>
              </a:rPr>
              <a:t>Такое рассуждение нельзя применять, так как не определено само понятие «куча»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97308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Парадокс №2</a:t>
            </a: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c5ece"/>
                </a:solidFill>
                <a:latin typeface="Verdana"/>
              </a:rPr>
              <a:t>«Парадокс кучи»</a:t>
            </a: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ru-RU" sz="2900" spc="-1" strike="noStrike">
                <a:solidFill>
                  <a:srgbClr val="0066ff"/>
                </a:solidFill>
                <a:latin typeface="Arial"/>
              </a:rPr>
              <a:t>В некой деревне, в которой живет один единственный парикмахер, был издан указ: 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i="1" lang="ru-RU" sz="2900" spc="-1" strike="noStrike">
                <a:solidFill>
                  <a:srgbClr val="006600"/>
                </a:solidFill>
                <a:latin typeface="Arial"/>
              </a:rPr>
              <a:t>"Парикмахер имеет право брить тех и только тех жителей деревни, которые не бреются сами". 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ru-RU" sz="2900" spc="-1" strike="noStrike">
                <a:solidFill>
                  <a:srgbClr val="0066ff"/>
                </a:solidFill>
                <a:latin typeface="Arial"/>
              </a:rPr>
              <a:t>Может ли парикмахер брить самого себя?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332000" y="836640"/>
            <a:ext cx="63864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арадокс №3.</a:t>
            </a:r>
            <a:br>
              <a:rPr sz="3600"/>
            </a:br>
            <a:r>
              <a:rPr b="1" lang="ru-RU" sz="3600" spc="-1" strike="noStrike">
                <a:solidFill>
                  <a:srgbClr val="ec5ece"/>
                </a:solidFill>
                <a:latin typeface="Arial"/>
              </a:rPr>
              <a:t>«Парадокс парикмахера»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Если он хочет сам себя брить, то он не может этого сделать, так как он может брить только тех, которые себя не бреют; если же он не будет себя брить, то, как и все, не бреющие себя, он должен бриться у себя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6600"/>
                </a:solidFill>
                <a:latin typeface="Arial"/>
              </a:rPr>
              <a:t>Итак, он не может ни брить себя, ни не брить себя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00ff"/>
                </a:solidFill>
                <a:latin typeface="Arial"/>
              </a:rPr>
              <a:t>Парадокс!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05080" y="54936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Парадокс №3.</a:t>
            </a:r>
            <a:br>
              <a:rPr sz="3200"/>
            </a:br>
            <a:r>
              <a:rPr b="1" lang="ru-RU" sz="3200" spc="-1" strike="noStrike">
                <a:solidFill>
                  <a:srgbClr val="ec5ece"/>
                </a:solidFill>
                <a:latin typeface="Verdana"/>
              </a:rPr>
              <a:t>«Парадокс парикмахера»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900"/>
                            </p:stCondLst>
                            <p:childTnLst>
                              <p:par>
                                <p:cTn id="7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9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198080"/>
            <a:ext cx="59767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c3108"/>
                </a:solidFill>
                <a:uFillTx/>
                <a:latin typeface="Arial"/>
              </a:rPr>
              <a:t>Цель и задачи.</a:t>
            </a:r>
            <a:br>
              <a:rPr sz="3200"/>
            </a:b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921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Цель:</a:t>
            </a:r>
            <a:r>
              <a:rPr b="1" lang="ru-RU" sz="2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изучить данную тему и создать презентацию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для использования ее на уроках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ознакомиться с парадоксами и софизмами; узнать, в чем их отличие. 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онять, как найти ошибку в них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Обобщить найденный материал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оставить компьютерную презентацию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84400" y="395280"/>
            <a:ext cx="5689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31919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99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Итак мы познакомились с увлекательной  темой, узнали много нового, научились решать задачки на софизмы, находить в них ошибку, разбираться в парадоксах.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Тема нашей работы далеко не исчерпана. Мы рассмотрели лишь некоторые, самые известные примеры софизмов и парадоксов. На самом деле их намного больше. Мы продолжим изучение этой темы в дальнейшем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152" name="Picture 5" descr="a1"/>
          <p:cNvPicPr/>
          <p:nvPr/>
        </p:nvPicPr>
        <p:blipFill>
          <a:blip r:embed="rId1"/>
          <a:stretch/>
        </p:blipFill>
        <p:spPr>
          <a:xfrm>
            <a:off x="6192720" y="0"/>
            <a:ext cx="295272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3"/>
          <p:cNvPicPr/>
          <p:nvPr/>
        </p:nvPicPr>
        <p:blipFill>
          <a:blip r:embed="rId1"/>
          <a:stretch/>
        </p:blipFill>
        <p:spPr>
          <a:xfrm>
            <a:off x="4054320" y="3949560"/>
            <a:ext cx="1946520" cy="19926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>
            <a:off x="1692360" y="2276640"/>
            <a:ext cx="5716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сем  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6720" y="1628640"/>
            <a:ext cx="806616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31919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93191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 Древней Греции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«софисты»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(от греческого слов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ofos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означающего мудрость) – мыслители, люди, авторитетные в различных вопросах. 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х задачей обычно было научить убедительно защитить любую точку зрения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763280" y="0"/>
            <a:ext cx="738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А теперь немного истории…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7"/>
          <p:cNvSpPr/>
          <p:nvPr/>
        </p:nvSpPr>
        <p:spPr>
          <a:xfrm>
            <a:off x="684360" y="242964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Софизм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формально кажущееся правильным, но по существу ложное умозаключение, основанное на неправильном подборе исходных положений (словарь Ожегова)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офизмы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2" name="Picture 20" descr="37"/>
          <p:cNvPicPr/>
          <p:nvPr/>
        </p:nvPicPr>
        <p:blipFill>
          <a:blip r:embed="rId1"/>
          <a:stretch/>
        </p:blipFill>
        <p:spPr>
          <a:xfrm>
            <a:off x="6805440" y="404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55640" y="2530440"/>
            <a:ext cx="76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Математический софиз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удивительное утверждение, в доказательстве которого кроются незаметные, а подчас и довольно тонкие ошибки. 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обенно часто 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офизмах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ыполняют "запрещенные" действия или не учитываются условия применимости теорем, формул и правил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104" name="Picture 5" descr="софисты"/>
          <p:cNvPicPr/>
          <p:nvPr/>
        </p:nvPicPr>
        <p:blipFill>
          <a:blip r:embed="rId1"/>
          <a:stretch/>
        </p:blipFill>
        <p:spPr>
          <a:xfrm>
            <a:off x="6805440" y="260280"/>
            <a:ext cx="1828800" cy="101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Математические софизмы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701280" y="3429000"/>
            <a:ext cx="1367280" cy="509400"/>
          </a:xfrm>
          <a:prstGeom prst="roundRect">
            <a:avLst>
              <a:gd name="adj" fmla="val 16667"/>
            </a:avLst>
          </a:prstGeom>
          <a:solidFill>
            <a:srgbClr val="f4ddd4"/>
          </a:solidFill>
          <a:ln w="38160">
            <a:solidFill>
              <a:srgbClr val="931919"/>
            </a:solidFill>
            <a:miter/>
          </a:ln>
          <a:effectLst>
            <a:outerShdw dist="17819" dir="2700000" blurRad="0" rotWithShape="0">
              <a:srgbClr val="9319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 Narrow"/>
              </a:rPr>
              <a:t>числовые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492360" y="2565360"/>
            <a:ext cx="2251080" cy="509400"/>
          </a:xfrm>
          <a:prstGeom prst="roundRect">
            <a:avLst>
              <a:gd name="adj" fmla="val 16667"/>
            </a:avLst>
          </a:prstGeom>
          <a:solidFill>
            <a:srgbClr val="f4ddd4"/>
          </a:solidFill>
          <a:ln w="38160">
            <a:solidFill>
              <a:srgbClr val="931919"/>
            </a:solidFill>
            <a:miter/>
          </a:ln>
          <a:effectLst>
            <a:outerShdw dist="17819" dir="2700000" blurRad="0" rotWithShape="0">
              <a:srgbClr val="9319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 Narrow"/>
              </a:rPr>
              <a:t>геометрические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558120" y="2924280"/>
            <a:ext cx="2587320" cy="509400"/>
          </a:xfrm>
          <a:prstGeom prst="roundRect">
            <a:avLst>
              <a:gd name="adj" fmla="val 16667"/>
            </a:avLst>
          </a:prstGeom>
          <a:solidFill>
            <a:srgbClr val="f4ddd4"/>
          </a:solidFill>
          <a:ln w="38160">
            <a:solidFill>
              <a:srgbClr val="931919"/>
            </a:solidFill>
            <a:miter/>
          </a:ln>
          <a:effectLst>
            <a:outerShdw dist="17819" dir="2700000" blurRad="0" rotWithShape="0">
              <a:srgbClr val="9319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 Narrow"/>
              </a:rPr>
              <a:t>алгебраические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2700360" y="3716280"/>
            <a:ext cx="3433680" cy="509400"/>
          </a:xfrm>
          <a:prstGeom prst="roundRect">
            <a:avLst>
              <a:gd name="adj" fmla="val 16667"/>
            </a:avLst>
          </a:prstGeom>
          <a:solidFill>
            <a:srgbClr val="f4ddd4"/>
          </a:solidFill>
          <a:ln w="38160">
            <a:solidFill>
              <a:srgbClr val="931919"/>
            </a:solidFill>
            <a:miter/>
          </a:ln>
          <a:effectLst>
            <a:outerShdw dist="17819" dir="2700000" blurRad="0" rotWithShape="0">
              <a:srgbClr val="9319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 Narrow"/>
              </a:rPr>
              <a:t>логические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cxnSp>
        <p:nvCxnSpPr>
          <p:cNvPr id="110" name="AutoShape 7"/>
          <p:cNvCxnSpPr/>
          <p:nvPr/>
        </p:nvCxnSpPr>
        <p:spPr>
          <a:xfrm rot="5400000">
            <a:off x="1566720" y="1826280"/>
            <a:ext cx="1829520" cy="1291320"/>
          </a:xfrm>
          <a:prstGeom prst="bentConnector3">
            <a:avLst>
              <a:gd name="adj1" fmla="val -944"/>
            </a:avLst>
          </a:prstGeom>
          <a:ln w="57240">
            <a:solidFill>
              <a:srgbClr val="ffc9c9"/>
            </a:solidFill>
            <a:miter/>
            <a:tailEnd len="med" type="triangle" w="med"/>
          </a:ln>
        </p:spPr>
      </p:cxnSp>
      <p:cxnSp>
        <p:nvCxnSpPr>
          <p:cNvPr id="111" name="AutoShape 8"/>
          <p:cNvCxnSpPr/>
          <p:nvPr/>
        </p:nvCxnSpPr>
        <p:spPr>
          <a:xfrm flipH="1" flipV="1" rot="10800000">
            <a:off x="2916360" y="906840"/>
            <a:ext cx="514440" cy="1872360"/>
          </a:xfrm>
          <a:prstGeom prst="bentConnector3">
            <a:avLst>
              <a:gd name="adj1" fmla="val -76890"/>
            </a:avLst>
          </a:prstGeom>
          <a:ln w="57240">
            <a:solidFill>
              <a:srgbClr val="ffc9c9"/>
            </a:solidFill>
            <a:miter/>
            <a:tailEnd len="med" type="triangle" w="med"/>
          </a:ln>
        </p:spPr>
      </p:cxnSp>
      <p:sp>
        <p:nvSpPr>
          <p:cNvPr id="112" name="Line 9"/>
          <p:cNvSpPr/>
          <p:nvPr/>
        </p:nvSpPr>
        <p:spPr>
          <a:xfrm>
            <a:off x="6084720" y="1916280"/>
            <a:ext cx="0" cy="1828800"/>
          </a:xfrm>
          <a:prstGeom prst="line">
            <a:avLst/>
          </a:prstGeom>
          <a:ln w="57240">
            <a:solidFill>
              <a:srgbClr val="ffc9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cxnSp>
        <p:nvCxnSpPr>
          <p:cNvPr id="113" name="AutoShape 10"/>
          <p:cNvCxnSpPr/>
          <p:nvPr/>
        </p:nvCxnSpPr>
        <p:spPr>
          <a:xfrm>
            <a:off x="6805440" y="1557000"/>
            <a:ext cx="953280" cy="1391040"/>
          </a:xfrm>
          <a:prstGeom prst="bentConnector2">
            <a:avLst/>
          </a:prstGeom>
          <a:ln w="57240">
            <a:solidFill>
              <a:srgbClr val="ffc9c9"/>
            </a:solidFill>
            <a:miter/>
            <a:tailEnd len="med" type="triangle" w="med"/>
          </a:ln>
        </p:spPr>
      </p:cxnSp>
      <p:grpSp>
        <p:nvGrpSpPr>
          <p:cNvPr id="114" name="Group 11"/>
          <p:cNvGrpSpPr/>
          <p:nvPr/>
        </p:nvGrpSpPr>
        <p:grpSpPr>
          <a:xfrm>
            <a:off x="2268360" y="333360"/>
            <a:ext cx="4968720" cy="1850040"/>
            <a:chOff x="2268360" y="333360"/>
            <a:chExt cx="4968720" cy="1850040"/>
          </a:xfrm>
        </p:grpSpPr>
        <p:sp>
          <p:nvSpPr>
            <p:cNvPr id="115" name="AutoShape 12"/>
            <p:cNvSpPr/>
            <p:nvPr/>
          </p:nvSpPr>
          <p:spPr>
            <a:xfrm>
              <a:off x="2268360" y="333360"/>
              <a:ext cx="4968720" cy="15116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93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2405160" y="459360"/>
              <a:ext cx="4695120" cy="17240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931919"/>
                  </a:solidFill>
                  <a:latin typeface="Arial Narrow"/>
                </a:rPr>
                <a:t>Математические софизмы </a:t>
              </a:r>
              <a:endParaRPr b="0" lang="en-US" sz="4800" spc="-1" strike="noStrike">
                <a:solidFill>
                  <a:srgbClr val="931919"/>
                </a:solidFill>
                <a:latin typeface="Verdana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2360" y="4365360"/>
            <a:ext cx="662472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31919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нашей работе мы рассмотрели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ного математических софизмов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сейчас приведём примеры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которых из них.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118" name="Picture 37" descr="88"/>
          <p:cNvPicPr/>
          <p:nvPr/>
        </p:nvPicPr>
        <p:blipFill>
          <a:blip r:embed="rId1"/>
          <a:stretch/>
        </p:blipFill>
        <p:spPr>
          <a:xfrm>
            <a:off x="6900840" y="4049640"/>
            <a:ext cx="22446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1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«Пять равно шести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760" y="1773360"/>
            <a:ext cx="82310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Возьмем тождество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35+10-45=42+12-54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В  каждой  части вынесем за скобки общий множитель: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5(7+2-9)=6(7+2-9)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Теперь, получим, что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5=6.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00ff"/>
                </a:solidFill>
                <a:latin typeface="Verdana"/>
              </a:rPr>
              <a:t>Где ошибка?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1" lang="ru-RU" sz="2400" spc="-1" strike="noStrike" u="sng">
                <a:solidFill>
                  <a:srgbClr val="931919"/>
                </a:solidFill>
                <a:uFillTx/>
                <a:latin typeface="Verdana"/>
              </a:rPr>
              <a:t>Разбор софизма.</a:t>
            </a:r>
            <a:r>
              <a:rPr b="1" lang="ru-RU" sz="2900" spc="-1" strike="noStrike">
                <a:solidFill>
                  <a:srgbClr val="931919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Ошибка допущена при делении верного равенства 5(7+2-9)=6(7+2-9) на число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7+2-9, равное 0. Этого нельзя делать.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1" lang="ru-RU" sz="2500" spc="-1" strike="noStrike">
                <a:solidFill>
                  <a:srgbClr val="0033cc"/>
                </a:solidFill>
                <a:latin typeface="Verdana"/>
              </a:rPr>
              <a:t>Любое равенство можно делить только на число, отличное от 0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ccf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Известно, что любые два равенства можно перемножить почленно, не нарушая при этом равенства, т. е.если а =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b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и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c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=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d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, то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ac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=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bd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Применим это положение к двум очевидным равенствам: </a:t>
            </a:r>
            <a:r>
              <a:rPr b="0" lang="ru-RU" sz="2100" spc="-1" strike="noStrike">
                <a:solidFill>
                  <a:srgbClr val="006600"/>
                </a:solidFill>
                <a:latin typeface="Verdana"/>
              </a:rPr>
              <a:t>1 рубль = 100 копейкам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и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                  </a:t>
            </a:r>
            <a:r>
              <a:rPr b="0" lang="ru-RU" sz="2100" spc="-1" strike="noStrike">
                <a:solidFill>
                  <a:srgbClr val="006600"/>
                </a:solidFill>
                <a:latin typeface="Verdana"/>
              </a:rPr>
              <a:t>10 рублей = 1000 копеек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Перемножая эти равенства почленно, получим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                  </a:t>
            </a:r>
            <a:r>
              <a:rPr b="0" lang="ru-RU" sz="2100" spc="-1" strike="noStrike">
                <a:solidFill>
                  <a:srgbClr val="006600"/>
                </a:solidFill>
                <a:latin typeface="Verdana"/>
              </a:rPr>
              <a:t>10 рублей = 100 000 копеек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и разделив последнее равенство на 10, получим, что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                       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1 рубль = 10 000 копеек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Таким образом,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1" lang="ru-RU" sz="2100" spc="-1" strike="noStrike">
                <a:solidFill>
                  <a:srgbClr val="333333"/>
                </a:solidFill>
                <a:latin typeface="Verdana"/>
              </a:rPr>
              <a:t>один рубль не равен ста копейкам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                            </a:t>
            </a:r>
            <a:r>
              <a:rPr b="1" lang="ru-RU" sz="2100" spc="-1" strike="noStrike">
                <a:solidFill>
                  <a:srgbClr val="ff00ff"/>
                </a:solidFill>
                <a:latin typeface="Verdana"/>
              </a:rPr>
              <a:t>Где ошибка?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2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Один рубль не равен ста копейкам»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1" i="1" lang="ru-RU" sz="2400" spc="-1" strike="noStrike" u="sng">
                <a:solidFill>
                  <a:srgbClr val="931919"/>
                </a:solidFill>
                <a:uFillTx/>
                <a:latin typeface="Verdana"/>
              </a:rPr>
              <a:t>Разбор софизма</a:t>
            </a:r>
            <a:r>
              <a:rPr b="1" i="1" lang="ru-RU" sz="2400" spc="-1" strike="noStrike">
                <a:solidFill>
                  <a:srgbClr val="931919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Ошибка, допущенная в этом софизме, состоит в нарушении правила действий с именованными величинами: все действия, совершаемые над величинами, необходимо совершать также и над их размерностями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Arial"/>
              </a:rPr>
              <a:t>«Один рубль не равен ста копейкам»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3:50:21Z</dcterms:created>
  <dc:creator>Сеничак Я. Борзова В.</dc:creator>
  <dc:description/>
  <dc:language>en-US</dc:language>
  <cp:lastModifiedBy>шесть</cp:lastModifiedBy>
  <dcterms:modified xsi:type="dcterms:W3CDTF">2013-03-05T09:54:35Z</dcterms:modified>
  <cp:revision>56</cp:revision>
  <dc:subject/>
  <dc:title>Парадоксы и софизмы</dc:title>
</cp:coreProperties>
</file>