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4A6-9ED1-4D0F-913B-33EF5669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970-042A-4903-BACB-82332DD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836-DC1C-40B4-B5BE-E4226F90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35B-1EE4-4333-9D23-CB273C9B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DCF4-8383-4DBF-ADDF-71D8E961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21FD-AF61-4043-A1B8-1EAAA33A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B6F0-728C-459C-B8B8-CE01ACDE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97CC-F801-4AD0-8180-EC373E5D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9AD-62D4-4F80-928D-EBFBA024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D6B0-FFA5-46E9-BEC8-2DB6882F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DCB2-3A1F-4162-88F0-F1078E9C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871-3460-4638-9897-74CF21F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234-0DBD-4226-8C2C-CCC9C15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1D34-BE3B-40DF-BB77-B9DB4EC0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7546-7E32-4B43-AF69-18B5C28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ECA-D6EB-42B8-A799-C9481A41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27BA-CEF7-4C11-AC5F-7DA41056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EF76F-F60C-4FD0-95AC-624DF43F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304E6-FEA3-43F9-B11E-1C0173FD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E3B14-8267-4A87-8278-830564A9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2F437-0AB2-4E79-8C22-1847CA19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A6595-D28B-4ED7-A07E-D467699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822-B61A-4B82-B5DD-651ABC8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01E10-433C-4DBC-BAAE-BAF78FD7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7A85C-48FC-4411-923B-C38A645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CD063-EBB7-4A33-803C-35EA1A6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987CB-4830-447A-978C-55FF43C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E5559-DF15-4D99-8545-F45CBA3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55AF3-3CFF-443E-9177-94F9EC5B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06EE4-9D03-4E1D-8FCE-B0E3E8C8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0BEE-7F3C-471A-A6CF-0E429B0E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B52A7-9D86-4224-89F8-E34AFAE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5E91-EFC0-4102-92ED-C9D45B4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71B-4D3B-4A1F-8422-611EC31F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23C64-4838-4FE0-8CFD-7377DAD9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9DB1-63C9-4774-9FB5-D2F94ABD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A12F-802B-48A0-896D-3C3FCE4D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2628-82E4-4806-BF8A-FC5952F4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931E-91D0-4D13-8007-09E29AC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C071-5B42-4137-A718-6F5094F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C4DC-D5AF-48DD-B0D8-0957E75F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EBF5-E18B-4B28-B26F-3E58820A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7748-72B8-45B5-9FFF-87269F6E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4F9AA-C4A4-4E13-9E2C-005DCBE6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3D6-5F92-48DD-A186-E4EDBB5D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EF774-CC6B-43A3-8B43-3CCC72A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8105B-F032-455F-ACE4-93FA8AAB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6F8DF-5763-4DAB-AA77-109BCF9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6F486-F33A-4B71-98BB-21D731B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68420-1465-4B2E-B414-1602D36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18CD6-9322-46A9-AE2E-99E3C24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44745-DC5E-4964-9849-ABF2098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13390-4E81-4D1A-9BA1-A4906A1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915C6-4164-474D-BA92-796EDA2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07184-58AB-42E9-8DC0-A427CA32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1D03-3AE2-4A98-9E45-94C43E02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2963F-D440-484A-9DF3-65D8F56D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681E4-0A42-45D7-8D0C-EFB96118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F2D37-DADD-487F-96A5-697C18E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54DB95-928A-4680-ABFA-F9F65C8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5D958-0B33-4420-A2B4-1CB63C43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D8BD7-EBCF-4C6F-A94F-F320FD8F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EA52D-1CC7-4DE1-962A-D1D5F334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0058F-9CF4-4A01-A4BF-F98B0B7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FC058-4856-493D-BD1C-957C997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B85AB-F3F8-4E16-A14B-18D9F83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210-4E00-465D-8ACA-DCC9550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878C7-2CDC-4CD5-9797-3960E5BD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82828-9DF2-4C37-BB2F-B4409E21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AADD6-2101-4437-849F-899E43A5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1579A2-975A-4D01-BFB9-1A820713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9AC50-366A-42F1-9610-82BCCC0E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CE5D9-77E3-4F1A-B8AC-E2414A82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B4389-8DFE-450D-8C67-EA13D36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80C52-8C84-446E-8232-D131948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8D0AF-2B4C-4EC2-9024-9220E1F1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50EF0-9009-4829-BE0D-04680D8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92E-568F-4F92-952E-0334019C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1C394-4D00-40AF-B752-A6B1913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42AB01-A48C-42B7-92EE-785E0E3B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09F86-5C79-457F-90A7-2163A869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8B40C-0E94-46F9-925D-CA126A70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5E08E-798C-42E1-8314-7E10CD94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12A-5D5A-4D5F-A64E-1D3A9FB7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FB6-B03B-4916-8AA3-7514EC2267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8793-3512-423C-9DE5-C6E938838C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8CD2-A663-40F7-9F7A-84512589DF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5688-89C2-40DC-B8FE-2815772C1A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B669-2E04-4968-8B57-CC3F8175E3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F661-E6EB-46B4-B54C-13B9A8BE987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84B2-C71D-4C68-AF4C-7360C9AD2F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7272000" y="5013360"/>
            <a:ext cx="187164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Руководители проекта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оспитатели: Перекальская Л.А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Акирова Р.Р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2" name="Picture 2" descr="C:\Documents and Settings\Администратор\Рабочий стол\Новая папка\IMG_1686.jpg"/>
          <p:cNvPicPr/>
          <p:nvPr/>
        </p:nvPicPr>
        <p:blipFill>
          <a:blip r:embed="rId1"/>
          <a:stretch/>
        </p:blipFill>
        <p:spPr>
          <a:xfrm>
            <a:off x="2384280" y="2862360"/>
            <a:ext cx="4938840" cy="3703680"/>
          </a:xfrm>
          <a:prstGeom prst="rect">
            <a:avLst/>
          </a:prstGeom>
          <a:ln w="0">
            <a:noFill/>
          </a:ln>
        </p:spPr>
      </p:pic>
      <p:pic>
        <p:nvPicPr>
          <p:cNvPr id="353" name="Горизонтальный свиток 5" descr=""/>
          <p:cNvPicPr/>
          <p:nvPr/>
        </p:nvPicPr>
        <p:blipFill>
          <a:blip r:embed="rId2"/>
          <a:stretch/>
        </p:blipFill>
        <p:spPr>
          <a:xfrm>
            <a:off x="549360" y="-36360"/>
            <a:ext cx="8045280" cy="24508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75c01"/>
                </a:solidFill>
                <a:latin typeface="Comic Sans MS"/>
              </a:rPr>
              <a:t>АКТУАЛЬНОСТЬ</a:t>
            </a:r>
            <a:r>
              <a:rPr b="1" i="1" lang="ru-RU" sz="2200" spc="-1" strike="noStrike">
                <a:solidFill>
                  <a:srgbClr val="e75c01"/>
                </a:solidFill>
                <a:latin typeface="Century Schoolbook"/>
              </a:rPr>
              <a:t> ПРОЕКТА: </a:t>
            </a:r>
            <a:r>
              <a:rPr b="0" lang="ru-RU" sz="2200" spc="-1" strike="noStrike">
                <a:solidFill>
                  <a:srgbClr val="575f6d"/>
                </a:solidFill>
                <a:latin typeface="Century Schoolbook"/>
              </a:rPr>
              <a:t>САМОЙ АКТУАЛЬНОЙ ПРОБЛЕМОЙ НА СЕГОДНЯШНИЙ ДЕНЬ ЯВЛЯЕТСЯ УКРЕПЛЕНИЕ ЗДОРОВЬЯ ДЕТЕЙ. В. А. СУХОМЛИНСКИЙ ПИСАЛ: "Я НЕ БОЮСЬ ЕЩЕ И ЕЩЕ РАЗ ПОВТОРИТЬ: ЗАБОТА О ЗДОРОВЬЕ РЕБЕНКА - ЭТО ВАЖНЕЙШИЙ ТРУД ВОСПИТАТЕЛЯ". ЗДОРОВЬЕ РАССМАТРИВАЕТСЯ КАК ПОЛНОЕ ФИЗИЧЕСКОЕ, ПСИХИЧЕСКОЕ И СОЦИАЛЬНОЕ БЛАГОПОЛУЧИЕ, КАК ГАРМОНИЧНОЕ СОСТОЯНИЕ ОРГАНИЗМА, КОТОРОЕ ПОЗВОЛЯЕТ ЧЕЛОВЕКУ БЫТЬ АКТИВНЫМ В СВОЕЙ ЖИЗНИ, ДОБИВАТЬСЯ УСПЕХОВ В РАЗЛИЧНОЙ ДЕЯТЕЛЬНОСТИ. ДЛЯ ДОСТИЖЕНИЯ ГАРМОНИИ С ПРИРОДОЙ, САМИМ СОБОЙ НЕОБХОДИМО УЧИТЬСЯ ЗАБОТИТСЯ О СВОЕМ ЗДОРОВЬЕ С ДЕТСТВА. ОЧЕНЬ ВАЖНЫМ НА СЕГОДНЯШНИЙ ДЕНЬ ЯВЛЯЕТСЯ ФОРМИРОВАНИЕ У ДЕТЕЙ ДОШКОЛЬНОГО ВОЗРАСТА МОТИВОВ, ПОНЯТИЙ, УБЕЖДЕНИЙ В НЕОБХОДИМОСТИ СОХРАНЕНИЯ СВОЕГО ЗДОРОВЬЯ И УКРЕПЛЕНИЯ ЕГО С ПОМОЩЬЮ ПРИОБЩЕНИЯ К ЗДОРОВОМУ ОБРАЗУ ЖИЗНИ. 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 advTm="5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94920" y="115560"/>
            <a:ext cx="74674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e75c01"/>
                </a:solidFill>
                <a:latin typeface="Comic Sans MS"/>
              </a:rPr>
              <a:t>Цель</a:t>
            </a:r>
            <a:r>
              <a:rPr b="1" i="1" lang="ru-RU" sz="3300" spc="-1" strike="noStrike">
                <a:solidFill>
                  <a:srgbClr val="e75c01"/>
                </a:solidFill>
                <a:latin typeface="Century Schoolbook"/>
              </a:rPr>
              <a:t>: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вивать потребность детей в получении и обсуждении информации об овощах и фруктах, их полезных   свойств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Формировать художественный вкус и творческое мышле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e75c01"/>
                </a:solidFill>
                <a:latin typeface="Century Schoolbook"/>
              </a:rPr>
              <a:t>Задачи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Дать детям знания о витаминах, о содержании тех или иных витаминов в овощах, фруктах и ягодах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Расширять знания дошкольников о питании, его значимости, о взаимосвязи здоровья и пита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Развивать сенсорные навыки, их познавательный интерес, речь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родолжать учить детей использовать ранее полученные знания при решении практических задач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ознакомить с несложными рецептами приготовления салатов из овощей и фрукт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52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8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500"/>
                            </p:stCondLst>
                            <p:childTnLst>
                              <p:par>
                                <p:cTn id="64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3500"/>
                            </p:stCondLst>
                            <p:childTnLst>
                              <p:par>
                                <p:cTn id="70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1500"/>
                            </p:stCondLst>
                            <p:childTnLst>
                              <p:par>
                                <p:cTn id="76" nodeType="afterEffect" fill="hold" presetClass="entr" presetID="5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75c01"/>
                </a:solidFill>
                <a:latin typeface="Comic Sans MS"/>
              </a:rPr>
              <a:t>ХУДОЖЕСТВЕННОЕ ТВОРЧЕСТВО (РИСОВАНИЕ) «ОВОЩИ И ФРУКТ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Picture 2" descr="C:\Documents and Settings\Администратор\Рабочий стол\Разифе\SDC14775.JPG"/>
          <p:cNvPicPr/>
          <p:nvPr/>
        </p:nvPicPr>
        <p:blipFill>
          <a:blip r:embed="rId1"/>
          <a:stretch/>
        </p:blipFill>
        <p:spPr>
          <a:xfrm rot="19879200">
            <a:off x="430200" y="1989000"/>
            <a:ext cx="2944800" cy="2154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Documents and Settings\Администратор\Рабочий стол\Разифе\SDC14777.JPG"/>
          <p:cNvPicPr/>
          <p:nvPr/>
        </p:nvPicPr>
        <p:blipFill>
          <a:blip r:embed="rId2"/>
          <a:stretch/>
        </p:blipFill>
        <p:spPr>
          <a:xfrm rot="1836600">
            <a:off x="4692600" y="3641760"/>
            <a:ext cx="3365640" cy="2525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Администратор\Рабочий стол\Новая папка\p_9174.jpg"/>
          <p:cNvPicPr/>
          <p:nvPr/>
        </p:nvPicPr>
        <p:blipFill>
          <a:blip r:embed="rId3"/>
          <a:stretch/>
        </p:blipFill>
        <p:spPr>
          <a:xfrm>
            <a:off x="2124000" y="4292640"/>
            <a:ext cx="2059200" cy="2173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Documents and Settings\Администратор\Рабочий стол\Новая папка\90945706_4979214_image018.jpg"/>
          <p:cNvPicPr/>
          <p:nvPr/>
        </p:nvPicPr>
        <p:blipFill>
          <a:blip r:embed="rId4"/>
          <a:stretch/>
        </p:blipFill>
        <p:spPr>
          <a:xfrm rot="2350200">
            <a:off x="6447960" y="1485720"/>
            <a:ext cx="1970280" cy="2250720"/>
          </a:xfrm>
          <a:prstGeom prst="rect">
            <a:avLst/>
          </a:prstGeom>
          <a:ln w="0">
            <a:noFill/>
          </a:ln>
        </p:spPr>
      </p:pic>
      <p:pic>
        <p:nvPicPr>
          <p:cNvPr id="361" name="Outro.mp3" descr=""/>
          <p:cNvPicPr/>
          <p:nvPr/>
        </p:nvPicPr>
        <p:blipFill>
          <a:blip r:embed="rId5"/>
          <a:stretch/>
        </p:blipFill>
        <p:spPr>
          <a:xfrm>
            <a:off x="250920" y="6161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75c01"/>
                </a:solidFill>
                <a:latin typeface="Comic Sans MS"/>
              </a:rPr>
              <a:t>ХУДОЖЕСТВЕННОЕ ТВОРЧЕСТВО (ЛЕПКА) «ОВОЩИ И ФРУКТЫ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0920" y="534204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Я – морковка, рыжий хвостик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Приходите чаще в гости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глазки заблестели,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Чтобы щечки заалели,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Ешь морковку, сок мой пей,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Будешь только здоровей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Documents and Settings\Администратор\Рабочий стол\фото\DSC02100.JPG"/>
          <p:cNvPicPr/>
          <p:nvPr/>
        </p:nvPicPr>
        <p:blipFill>
          <a:blip r:embed="rId1"/>
          <a:stretch/>
        </p:blipFill>
        <p:spPr>
          <a:xfrm>
            <a:off x="1835280" y="162864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Documents and Settings\Администратор\Рабочий стол\Новая папка\8carrot1.jpg"/>
          <p:cNvPicPr/>
          <p:nvPr/>
        </p:nvPicPr>
        <p:blipFill>
          <a:blip r:embed="rId2"/>
          <a:stretch/>
        </p:blipFill>
        <p:spPr>
          <a:xfrm>
            <a:off x="3924360" y="5877000"/>
            <a:ext cx="3809880" cy="8762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5c01"/>
                </a:solidFill>
                <a:latin typeface="Comic Sans MS"/>
              </a:rPr>
              <a:t>«УГАДАЙ, КАКОЙ ОВОЩ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C:\Documents and Settings\Администратор\Рабочий стол\фото\DSC02092.JPG"/>
          <p:cNvPicPr/>
          <p:nvPr/>
        </p:nvPicPr>
        <p:blipFill>
          <a:blip r:embed="rId1"/>
          <a:stretch/>
        </p:blipFill>
        <p:spPr>
          <a:xfrm>
            <a:off x="179280" y="836640"/>
            <a:ext cx="4248360" cy="3186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C:\Documents and Settings\Администратор\Рабочий стол\фото\DSC02096.JPG"/>
          <p:cNvPicPr/>
          <p:nvPr/>
        </p:nvPicPr>
        <p:blipFill>
          <a:blip r:embed="rId2"/>
          <a:stretch/>
        </p:blipFill>
        <p:spPr>
          <a:xfrm>
            <a:off x="4751280" y="3757680"/>
            <a:ext cx="3989520" cy="2990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Администратор\Рабочий стол\Новая папка\P1060102.JPG"/>
          <p:cNvPicPr/>
          <p:nvPr/>
        </p:nvPicPr>
        <p:blipFill>
          <a:blip r:embed="rId3"/>
          <a:stretch/>
        </p:blipFill>
        <p:spPr>
          <a:xfrm>
            <a:off x="5076720" y="1071720"/>
            <a:ext cx="3484800" cy="261288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2" descr=""/>
          <p:cNvPicPr/>
          <p:nvPr/>
        </p:nvPicPr>
        <p:blipFill>
          <a:blip r:embed="rId4"/>
          <a:stretch/>
        </p:blipFill>
        <p:spPr>
          <a:xfrm>
            <a:off x="133200" y="4406760"/>
            <a:ext cx="466416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-52560"/>
            <a:ext cx="74678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5c01"/>
                </a:solidFill>
                <a:latin typeface="Comic Sans MS"/>
              </a:rPr>
              <a:t>КОНКУРС «СЕМЕЙНЫЕ РЕЦЕПТЫ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C:\Documents and Settings\Администратор\Рабочий стол\DSC_0041.jpg"/>
          <p:cNvPicPr/>
          <p:nvPr/>
        </p:nvPicPr>
        <p:blipFill>
          <a:blip r:embed="rId1"/>
          <a:stretch/>
        </p:blipFill>
        <p:spPr>
          <a:xfrm rot="20807400">
            <a:off x="649440" y="98712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C:\Documents and Settings\Администратор\Рабочий стол\Новая папка\Netstore-Mutfak-Robotu-k01.jpg"/>
          <p:cNvPicPr/>
          <p:nvPr/>
        </p:nvPicPr>
        <p:blipFill>
          <a:blip r:embed="rId2"/>
          <a:stretch/>
        </p:blipFill>
        <p:spPr>
          <a:xfrm>
            <a:off x="79200" y="4948200"/>
            <a:ext cx="3210120" cy="174456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3751200" y="2522520"/>
            <a:ext cx="518472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Ингредиенты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Капуста белокочанная свежая - 1 кг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Морковь свежая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Перец сладкий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Огурец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Помидор свежий (по желанию) - 1 шт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Лук репчатый (можно красный) - 1 шт. (средний)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Зелень (укроп, петрушка, базилик)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Соль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Сахар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Перец черный молотый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Кориандр молотый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Уксусная эссенция, разбавленная водой (можно заменить соком лимона или столовым уксусом)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Подсолнечное масло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Способ приготовления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Капусту нашинковать как можно тоньше, затем тонко соломкой порезать морковь, также соломкой тоненько огурец, сладкий перец. Лук резать полукольцами (тонко). Добавить зелень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Затем добавляем уксус (столовый, сок лимона), соль, сахар, перец молотый, кориандр. Все приправы и специи добавляем по вкусу (кому как нравится). Поливаем растительным маслом.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entury Schoolbook"/>
              </a:rPr>
              <a:t>Все тщательно перемешать, дать настояться хотя бы полчаса. И можно наслаждаться великолепным вкусом! Приятного аппетита!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4" descr="C:\Documents and Settings\Администратор\Рабочий стол\Новая папка\50900-thumb1.jpg"/>
          <p:cNvPicPr/>
          <p:nvPr/>
        </p:nvPicPr>
        <p:blipFill>
          <a:blip r:embed="rId3"/>
          <a:stretch/>
        </p:blipFill>
        <p:spPr>
          <a:xfrm>
            <a:off x="5724360" y="579600"/>
            <a:ext cx="2951280" cy="1968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e75c01"/>
                </a:solidFill>
                <a:latin typeface="Comic Sans MS"/>
              </a:rPr>
              <a:t>СЮЖЕТНО-РОЛЕВАЯ ИГРА «ОВОЩНОЙ МАГАЗИН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Documents and Settings\Администратор\Рабочий стол\Новая папка\65835_1.jpg"/>
          <p:cNvPicPr/>
          <p:nvPr/>
        </p:nvPicPr>
        <p:blipFill>
          <a:blip r:embed="rId1"/>
          <a:stretch/>
        </p:blipFill>
        <p:spPr>
          <a:xfrm rot="20514000">
            <a:off x="557280" y="2422080"/>
            <a:ext cx="3819600" cy="3505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2"/>
          <p:cNvSpPr/>
          <p:nvPr/>
        </p:nvSpPr>
        <p:spPr>
          <a:xfrm>
            <a:off x="4716360" y="1630440"/>
            <a:ext cx="39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«Овощной магазин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троим магазин. Его конструкция может быть любая – коробка, дом из конструктора и т.д. Рассказываем, какие магазины бывают (продуктовый, магазин игрушек, магазин мебели). «А у нас овощной магазин». Ставим на витрину товар. Знакомимся с работой продавцов, вначале игры роль продавца на себя берет воспитатель, а затем может передать ее ребенку. Товар можно взять из игрушек детей или слепить из пластилина, а так же нарисовать и вырезать. Обращаем внимание на культуру общения между покупателем и продавцом. Вводим новые слова: касса, чек, витрин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 advTm="33000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4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40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755640" y="-450720"/>
            <a:ext cx="7126200" cy="2908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Documents and Settings\Администратор\Рабочий стол\фото\DSC02097.JPG"/>
          <p:cNvPicPr/>
          <p:nvPr/>
        </p:nvPicPr>
        <p:blipFill>
          <a:blip r:embed="rId2"/>
          <a:stretch/>
        </p:blipFill>
        <p:spPr>
          <a:xfrm>
            <a:off x="971640" y="1736640"/>
            <a:ext cx="681660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4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7:09:15Z</dcterms:created>
  <dc:creator>LAN_OS</dc:creator>
  <dc:description/>
  <dc:language>en-US</dc:language>
  <cp:lastModifiedBy>LAN_OS</cp:lastModifiedBy>
  <dcterms:modified xsi:type="dcterms:W3CDTF">2013-02-06T19:28:36Z</dcterms:modified>
  <cp:revision>13</cp:revision>
  <dc:subject/>
  <dc:title>Проект  информационно-творческий краткосрочный с 21.01.13 – 01.02.13  « Витаминный калейдоскоп» </dc:title>
</cp:coreProperties>
</file>