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408D-18C2-4DE2-A8B9-B328F4E6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2994-A1CA-4395-A477-F6A385FE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9CEC-E997-4C06-9E09-247CE6A8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D330-6DC0-4704-A30B-3850296EC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8541-9C26-4994-9B13-57AF9674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68DE-6253-4768-A798-9A4AE0F7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B1FB-DADF-4FB5-8DBE-C5867274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6272-EEF0-419D-A579-7C95E21B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5EC4-F238-4C59-8F64-BA961CD1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8E53-863A-4640-AB87-F5701C54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45A2-DA05-4F75-B715-F8C2C615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E5A3-185D-40A8-BD47-C78AA90D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4F60-9576-4A19-8AB9-827A301C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6816-3E27-4AB0-BA85-764CC7B7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3B47-CEBE-4E70-8C1F-C5AD25C2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EF2D-1189-4064-B84B-5996C6E1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04BE-2D0E-42CD-AA13-E82F07D4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F9F847-1526-44AE-BAFB-69689052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1C28C-D55A-4040-91A3-8266001C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6EB1DD-7A82-432A-86EF-ED206A69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62A487-3254-43F4-BF0F-3A322C27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B4C8D7-CC0B-4C8C-9028-EA49F549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A702-189A-4BA5-B474-E6C73480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D86B25-500C-485D-BB00-D9AB7A68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4006B3-EE6D-4235-B46B-E061C8CE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5F050F-A6CC-4234-B99C-03CD5A31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9F4674-EF5C-4C67-AE23-1DFF9F05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DF1203-F4F9-468E-ABBF-CAB72803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37AD5-A4C0-4ADA-BADD-26B6EB3E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838A4-6B70-46CF-80E0-AB9E06E5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94BD6-7146-49A1-962B-4FF76634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632FF-0CE5-4E44-BA90-5D173588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FA845-577B-47D0-8829-AD117A87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A31F-166C-45BE-BE72-6D5021AC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2072C-55EF-4632-8526-42193AA2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9CD7B-AEEE-4F37-94F3-F59001BB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16424-34CE-4184-A5AB-97712937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0D7D1-0DA9-45D6-97F9-7DAEC28C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14800-7DA4-490B-84F3-85893333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02887-E367-4359-949F-9D9AAEA7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62536-2200-46F6-B017-53551745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149DD-AE5B-4970-926A-66E44C00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F9405-08C4-4838-937D-26B275B6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991D17-0121-4D5E-BE97-C4C74B52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11ED-3B60-498D-A281-91B24F0F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E1798B-393D-4A80-B12A-968DD191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963936-20AE-4AF0-94ED-491E3052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796EC6-6A4F-47AC-B1F5-16944A01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505C4D-BB4C-4ECE-8916-CB7E1360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146BB0-CFCD-4AAF-81D6-133F64E7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6F87B4-381D-435D-9FE4-660E3CE8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D53638-B784-42ED-8B3D-4CB78114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B42BB6-5644-4BDB-8952-2093BF34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5F3F00-75C6-4555-AB34-2BEECC9C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9A77E5-E810-4198-A22E-4898C067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CDCA-9C21-486F-A300-A539F244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5B597A-E97B-4357-A792-41465E8A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16E46D-4B40-4C78-BED5-B053E3D6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08810F-8E82-4AFB-A711-FF424E94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D4025C-54FA-4F78-90AD-5E68E664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A50F23-DDA3-44F3-879B-FAC0DA1D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70388B-725E-436A-914D-6C37F60D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FBCF59-910B-4BB4-B930-516431E9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FB9888-9E90-466C-A6CB-A0194C77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3EA33B-8CD9-4AB0-A3F1-17D4C59C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05F5A7-42FA-47CA-ABBB-28834AAA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2146-47C9-442F-9F91-B47858D4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80470D-3FB1-4302-9C09-E7897D77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CCBEB1-FCE5-4DD7-BB1C-4C199810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2AD38A-FF74-4424-B475-4878B309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3A5F90-C6E9-4F1A-8E45-8A609E51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B11241-C088-4017-8E8F-919BFD38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F3EFCE-9F94-495F-984D-A25D2E24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C17C47-3893-4121-B27C-D934DBBA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F496B4-A681-4333-9F21-810A954F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D31720-25FC-4F30-A088-AA670845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C11314-8F5D-4EFA-92F4-F5EC743D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1564-A372-4391-A505-0DDAC47D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D8BF7F-FA85-4313-B039-1D652620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C2E083-EC2A-42DC-B708-00840EA0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21A099-8E45-416C-BB57-DCECAF70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BDDF22-12C0-4308-AC48-A5C21E3B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DFA38D-0268-42D3-A555-4CA97A6F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76A3-CC43-42C4-88E2-7FC73EA1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5FE6-4114-40F0-BDDB-E637DD093AD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68F5-60A9-4CFD-B0C8-B28013BF6DA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7189-6966-447B-8B28-B89FA32182D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D834-3D80-4A71-A4C4-E9E3EBD672E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A13B-F718-4D7E-94CF-98943A6CED7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5FB8-E1AE-445F-80CC-46751A1D102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674F-B671-440B-97F5-4E06BFE3163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7272000" y="5013360"/>
            <a:ext cx="187164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Руководители проекта: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Воспитатели: Перекальская Л.А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Акирова Р.Р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2" name="Picture 2" descr="C:\Documents and Settings\Администратор\Рабочий стол\Новая папка\IMG_1686.jpg"/>
          <p:cNvPicPr/>
          <p:nvPr/>
        </p:nvPicPr>
        <p:blipFill>
          <a:blip r:embed="rId1"/>
          <a:stretch/>
        </p:blipFill>
        <p:spPr>
          <a:xfrm>
            <a:off x="2384280" y="2862360"/>
            <a:ext cx="4938840" cy="3703680"/>
          </a:xfrm>
          <a:prstGeom prst="rect">
            <a:avLst/>
          </a:prstGeom>
          <a:ln w="0">
            <a:noFill/>
          </a:ln>
        </p:spPr>
      </p:pic>
      <p:pic>
        <p:nvPicPr>
          <p:cNvPr id="353" name="Горизонтальный свиток 5" descr=""/>
          <p:cNvPicPr/>
          <p:nvPr/>
        </p:nvPicPr>
        <p:blipFill>
          <a:blip r:embed="rId2"/>
          <a:stretch/>
        </p:blipFill>
        <p:spPr>
          <a:xfrm>
            <a:off x="549360" y="-36360"/>
            <a:ext cx="8045280" cy="24508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e75c01"/>
                </a:solidFill>
                <a:latin typeface="Comic Sans MS"/>
              </a:rPr>
              <a:t>АКТУАЛЬНОСТЬ</a:t>
            </a:r>
            <a:r>
              <a:rPr b="1" i="1" lang="ru-RU" sz="2200" spc="-1" strike="noStrike">
                <a:solidFill>
                  <a:srgbClr val="e75c01"/>
                </a:solidFill>
                <a:latin typeface="Century Schoolbook"/>
              </a:rPr>
              <a:t> ПРОЕКТА: </a:t>
            </a:r>
            <a:r>
              <a:rPr b="0" lang="ru-RU" sz="2200" spc="-1" strike="noStrike">
                <a:solidFill>
                  <a:srgbClr val="575f6d"/>
                </a:solidFill>
                <a:latin typeface="Century Schoolbook"/>
              </a:rPr>
              <a:t>САМОЙ АКТУАЛЬНОЙ ПРОБЛЕМОЙ НА СЕГОДНЯШНИЙ ДЕНЬ ЯВЛЯЕТСЯ УКРЕПЛЕНИЕ ЗДОРОВЬЯ ДЕТЕЙ. В. А. СУХОМЛИНСКИЙ ПИСАЛ: "Я НЕ БОЮСЬ ЕЩЕ И ЕЩЕ РАЗ ПОВТОРИТЬ: ЗАБОТА О ЗДОРОВЬЕ РЕБЕНКА - ЭТО ВАЖНЕЙШИЙ ТРУД ВОСПИТАТЕЛЯ". ЗДОРОВЬЕ РАССМАТРИВАЕТСЯ КАК ПОЛНОЕ ФИЗИЧЕСКОЕ, ПСИХИЧЕСКОЕ И СОЦИАЛЬНОЕ БЛАГОПОЛУЧИЕ, КАК ГАРМОНИЧНОЕ СОСТОЯНИЕ ОРГАНИЗМА, КОТОРОЕ ПОЗВОЛЯЕТ ЧЕЛОВЕКУ БЫТЬ АКТИВНЫМ В СВОЕЙ ЖИЗНИ, ДОБИВАТЬСЯ УСПЕХОВ В РАЗЛИЧНОЙ ДЕЯТЕЛЬНОСТИ. ДЛЯ ДОСТИЖЕНИЯ ГАРМОНИИ С ПРИРОДОЙ, САМИМ СОБОЙ НЕОБХОДИМО УЧИТЬСЯ ЗАБОТИТСЯ О СВОЕМ ЗДОРОВЬЕ С ДЕТСТВА. ОЧЕНЬ ВАЖНЫМ НА СЕГОДНЯШНИЙ ДЕНЬ ЯВЛЯЕТСЯ ФОРМИРОВАНИЕ У ДЕТЕЙ ДОШКОЛЬНОГО ВОЗРАСТА МОТИВОВ, ПОНЯТИЙ, УБЕЖДЕНИЙ В НЕОБХОДИМОСТИ СОХРАНЕНИЯ СВОЕГО ЗДОРОВЬЯ И УКРЕПЛЕНИЯ ЕГО С ПОМОЩЬЮ ПРИОБЩЕНИЯ К ЗДОРОВОМУ ОБРАЗУ ЖИЗНИ. 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 advTm="50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94920" y="115560"/>
            <a:ext cx="746748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e75c01"/>
                </a:solidFill>
                <a:latin typeface="Comic Sans MS"/>
              </a:rPr>
              <a:t>Цель</a:t>
            </a:r>
            <a:r>
              <a:rPr b="1" i="1" lang="ru-RU" sz="3300" spc="-1" strike="noStrike">
                <a:solidFill>
                  <a:srgbClr val="e75c01"/>
                </a:solidFill>
                <a:latin typeface="Century Schoolbook"/>
              </a:rPr>
              <a:t>: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Развивать потребность детей в получении и обсуждении информации об овощах и фруктах, их полезных   свойствах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Формировать художественный вкус и творческое мышление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e75c01"/>
                </a:solidFill>
                <a:latin typeface="Century Schoolbook"/>
              </a:rPr>
              <a:t>Задачи: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Дать детям знания о витаминах, о содержании тех или иных витаминов в овощах, фруктах и ягодах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 Расширять знания дошкольников о питании, его значимости, о взаимосвязи здоровья и питания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 Развивать сенсорные навыки, их познавательный интерес, речь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 Продолжать учить детей использовать ранее полученные знания при решении практических задач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 Познакомить с несложными рецептами приготовления салатов из овощей и фруктов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 advTm="52000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53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4500"/>
                            </p:stCondLst>
                            <p:childTnLst>
                              <p:par>
                                <p:cTn id="52" nodeType="after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7500"/>
                            </p:stCondLst>
                            <p:childTnLst>
                              <p:par>
                                <p:cTn id="58" nodeType="afterEffect" fill="hold" presetClass="entr" presetID="53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500"/>
                            </p:stCondLst>
                            <p:childTnLst>
                              <p:par>
                                <p:cTn id="64" nodeType="afterEffect" fill="hold" presetClass="entr" presetID="53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3500"/>
                            </p:stCondLst>
                            <p:childTnLst>
                              <p:par>
                                <p:cTn id="70" nodeType="afterEffect" fill="hold" presetClass="entr" presetID="53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1500"/>
                            </p:stCondLst>
                            <p:childTnLst>
                              <p:par>
                                <p:cTn id="76" nodeType="afterEffect" fill="hold" presetClass="entr" presetID="53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e75c01"/>
                </a:solidFill>
                <a:latin typeface="Comic Sans MS"/>
              </a:rPr>
              <a:t>ХУДОЖЕСТВЕННОЕ ТВОРЧЕСТВО (РИСОВАНИЕ) «ОВОЩИ И ФРУКТЫ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7" name="Picture 2" descr="C:\Documents and Settings\Администратор\Рабочий стол\Разифе\SDC14775.JPG"/>
          <p:cNvPicPr/>
          <p:nvPr/>
        </p:nvPicPr>
        <p:blipFill>
          <a:blip r:embed="rId1"/>
          <a:stretch/>
        </p:blipFill>
        <p:spPr>
          <a:xfrm rot="19879200">
            <a:off x="430200" y="1989000"/>
            <a:ext cx="2944800" cy="21542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C:\Documents and Settings\Администратор\Рабочий стол\Разифе\SDC14777.JPG"/>
          <p:cNvPicPr/>
          <p:nvPr/>
        </p:nvPicPr>
        <p:blipFill>
          <a:blip r:embed="rId2"/>
          <a:stretch/>
        </p:blipFill>
        <p:spPr>
          <a:xfrm rot="1836600">
            <a:off x="4692600" y="3641760"/>
            <a:ext cx="3365640" cy="2525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C:\Documents and Settings\Администратор\Рабочий стол\Новая папка\p_9174.jpg"/>
          <p:cNvPicPr/>
          <p:nvPr/>
        </p:nvPicPr>
        <p:blipFill>
          <a:blip r:embed="rId3"/>
          <a:stretch/>
        </p:blipFill>
        <p:spPr>
          <a:xfrm>
            <a:off x="2124000" y="4292640"/>
            <a:ext cx="2059200" cy="21733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C:\Documents and Settings\Администратор\Рабочий стол\Новая папка\90945706_4979214_image018.jpg"/>
          <p:cNvPicPr/>
          <p:nvPr/>
        </p:nvPicPr>
        <p:blipFill>
          <a:blip r:embed="rId4"/>
          <a:stretch/>
        </p:blipFill>
        <p:spPr>
          <a:xfrm rot="2350200">
            <a:off x="6447960" y="1485720"/>
            <a:ext cx="1970280" cy="2250720"/>
          </a:xfrm>
          <a:prstGeom prst="rect">
            <a:avLst/>
          </a:prstGeom>
          <a:ln w="0">
            <a:noFill/>
          </a:ln>
        </p:spPr>
      </p:pic>
      <p:pic>
        <p:nvPicPr>
          <p:cNvPr id="361" name="Outro.mp3" descr=""/>
          <p:cNvPicPr/>
          <p:nvPr/>
        </p:nvPicPr>
        <p:blipFill>
          <a:blip r:embed="rId5"/>
          <a:stretch/>
        </p:blipFill>
        <p:spPr>
          <a:xfrm>
            <a:off x="250920" y="61610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6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6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e75c01"/>
                </a:solidFill>
                <a:latin typeface="Comic Sans MS"/>
              </a:rPr>
              <a:t>ХУДОЖЕСТВЕННОЕ ТВОРЧЕСТВО (ЛЕПКА) «ОВОЩИ И ФРУКТЫ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0920" y="5342040"/>
            <a:ext cx="280836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Я – морковка, рыжий хвостик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Приходите чаще в гости.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Чтобы глазки заблестели,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Чтобы щечки заалели,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Ешь морковку, сок мой пей,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Будешь только здоровей!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C:\Documents and Settings\Администратор\Рабочий стол\фото\DSC02100.JPG"/>
          <p:cNvPicPr/>
          <p:nvPr/>
        </p:nvPicPr>
        <p:blipFill>
          <a:blip r:embed="rId1"/>
          <a:stretch/>
        </p:blipFill>
        <p:spPr>
          <a:xfrm>
            <a:off x="1835280" y="162864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C:\Documents and Settings\Администратор\Рабочий стол\Новая папка\8carrot1.jpg"/>
          <p:cNvPicPr/>
          <p:nvPr/>
        </p:nvPicPr>
        <p:blipFill>
          <a:blip r:embed="rId2"/>
          <a:stretch/>
        </p:blipFill>
        <p:spPr>
          <a:xfrm>
            <a:off x="3924360" y="5877000"/>
            <a:ext cx="3809880" cy="87624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8000"/>
                            </p:stCondLst>
                            <p:childTnLst>
                              <p:par>
                                <p:cTn id="16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75c01"/>
                </a:solidFill>
                <a:latin typeface="Comic Sans MS"/>
              </a:rPr>
              <a:t>«УГАДАЙ, КАКОЙ ОВОЩ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Picture 2" descr="C:\Documents and Settings\Администратор\Рабочий стол\фото\DSC02092.JPG"/>
          <p:cNvPicPr/>
          <p:nvPr/>
        </p:nvPicPr>
        <p:blipFill>
          <a:blip r:embed="rId1"/>
          <a:stretch/>
        </p:blipFill>
        <p:spPr>
          <a:xfrm>
            <a:off x="179280" y="836640"/>
            <a:ext cx="4248360" cy="3186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Documents and Settings\Администратор\Рабочий стол\фото\DSC02096.JPG"/>
          <p:cNvPicPr/>
          <p:nvPr/>
        </p:nvPicPr>
        <p:blipFill>
          <a:blip r:embed="rId2"/>
          <a:stretch/>
        </p:blipFill>
        <p:spPr>
          <a:xfrm>
            <a:off x="4751280" y="3757680"/>
            <a:ext cx="3989520" cy="29908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C:\Documents and Settings\Администратор\Рабочий стол\Новая папка\P1060102.JPG"/>
          <p:cNvPicPr/>
          <p:nvPr/>
        </p:nvPicPr>
        <p:blipFill>
          <a:blip r:embed="rId3"/>
          <a:stretch/>
        </p:blipFill>
        <p:spPr>
          <a:xfrm>
            <a:off x="5076720" y="1071720"/>
            <a:ext cx="3484800" cy="261288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2" descr=""/>
          <p:cNvPicPr/>
          <p:nvPr/>
        </p:nvPicPr>
        <p:blipFill>
          <a:blip r:embed="rId4"/>
          <a:stretch/>
        </p:blipFill>
        <p:spPr>
          <a:xfrm>
            <a:off x="133200" y="4406760"/>
            <a:ext cx="4664160" cy="1890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blinds dir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9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-52560"/>
            <a:ext cx="7467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5c01"/>
                </a:solidFill>
                <a:latin typeface="Comic Sans MS"/>
              </a:rPr>
              <a:t>КОНКУРС «СЕМЕЙНЫЕ РЕЦЕПТЫ»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Picture 2" descr="C:\Documents and Settings\Администратор\Рабочий стол\DSC_0041.jpg"/>
          <p:cNvPicPr/>
          <p:nvPr/>
        </p:nvPicPr>
        <p:blipFill>
          <a:blip r:embed="rId1"/>
          <a:stretch/>
        </p:blipFill>
        <p:spPr>
          <a:xfrm rot="20807400">
            <a:off x="649440" y="987120"/>
            <a:ext cx="2705040" cy="3606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C:\Documents and Settings\Администратор\Рабочий стол\Новая папка\Netstore-Mutfak-Robotu-k01.jpg"/>
          <p:cNvPicPr/>
          <p:nvPr/>
        </p:nvPicPr>
        <p:blipFill>
          <a:blip r:embed="rId2"/>
          <a:stretch/>
        </p:blipFill>
        <p:spPr>
          <a:xfrm>
            <a:off x="79200" y="4948200"/>
            <a:ext cx="3210120" cy="1744560"/>
          </a:xfrm>
          <a:prstGeom prst="rect">
            <a:avLst/>
          </a:prstGeom>
          <a:ln w="0">
            <a:noFill/>
          </a:ln>
        </p:spPr>
      </p:pic>
      <p:sp>
        <p:nvSpPr>
          <p:cNvPr id="374" name="Прямоугольник 2"/>
          <p:cNvSpPr/>
          <p:nvPr/>
        </p:nvSpPr>
        <p:spPr>
          <a:xfrm>
            <a:off x="3751200" y="2522520"/>
            <a:ext cx="5184720" cy="42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Ингредиенты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Капуста белокочанная свежая - 1 кг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Морковь свежая - 1 шт.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Перец сладкий - 1 шт.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Огурец - 1 шт.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Помидор свежий (по желанию) - 1 шт.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Лук репчатый (можно красный) - 1 шт. (средний)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Зелень (укроп, петрушка, базилик)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Соль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Сахар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Перец черный молотый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Кориандр молотый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Уксусная эссенция, разбавленная водой (можно заменить соком лимона или столовым уксусом)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Подсолнечное масло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Способ приготовления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Капусту нашинковать как можно тоньше, затем тонко соломкой порезать морковь, также соломкой тоненько огурец, сладкий перец. Лук резать полукольцами (тонко). Добавить зелень.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Затем добавляем уксус (столовый, сок лимона), соль, сахар, перец молотый, кориандр. Все приправы и специи добавляем по вкусу (кому как нравится). Поливаем растительным маслом.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Все тщательно перемешать, дать настояться хотя бы полчаса. И можно наслаждаться великолепным вкусом! Приятного аппетита!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4" descr="C:\Documents and Settings\Администратор\Рабочий стол\Новая папка\50900-thumb1.jpg"/>
          <p:cNvPicPr/>
          <p:nvPr/>
        </p:nvPicPr>
        <p:blipFill>
          <a:blip r:embed="rId3"/>
          <a:stretch/>
        </p:blipFill>
        <p:spPr>
          <a:xfrm>
            <a:off x="5724360" y="579600"/>
            <a:ext cx="2951280" cy="19684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2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8000"/>
                            </p:stCondLst>
                            <p:childTnLst>
                              <p:par>
                                <p:cTn id="26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e75c01"/>
                </a:solidFill>
                <a:latin typeface="Comic Sans MS"/>
              </a:rPr>
              <a:t>СЮЖЕТНО-РОЛЕВАЯ ИГРА «ОВОЩНОЙ МАГАЗИН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7" name="Picture 2" descr="C:\Documents and Settings\Администратор\Рабочий стол\Новая папка\65835_1.jpg"/>
          <p:cNvPicPr/>
          <p:nvPr/>
        </p:nvPicPr>
        <p:blipFill>
          <a:blip r:embed="rId1"/>
          <a:stretch/>
        </p:blipFill>
        <p:spPr>
          <a:xfrm rot="20514000">
            <a:off x="557280" y="2422080"/>
            <a:ext cx="3819600" cy="350532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2"/>
          <p:cNvSpPr/>
          <p:nvPr/>
        </p:nvSpPr>
        <p:spPr>
          <a:xfrm>
            <a:off x="4716360" y="1630440"/>
            <a:ext cx="39243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«Овощной магазин»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Строим магазин. Его конструкция может быть любая – коробка, дом из конструктора и т.д. Рассказываем, какие магазины бывают (продуктовый, магазин игрушек, магазин мебели). «А у нас овощной магазин». Ставим на витрину товар. Знакомимся с работой продавцов, вначале игры роль продавца на себя берет воспитатель, а затем может передать ее ребенку. Товар можно взять из игрушек детей или слепить из пластилина, а так же нарисовать и вырезать. Обращаем внимание на культуру общения между покупателем и продавцом. Вводим новые слова: касса, чек, витрина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 advTm="33000">
    <p:randomBar dir="ver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4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400"/>
                            </p:stCondLst>
                            <p:childTnLst>
                              <p:par>
                                <p:cTn id="28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6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755640" y="-450720"/>
            <a:ext cx="7126200" cy="2908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C:\Documents and Settings\Администратор\Рабочий стол\фото\DSC02097.JPG"/>
          <p:cNvPicPr/>
          <p:nvPr/>
        </p:nvPicPr>
        <p:blipFill>
          <a:blip r:embed="rId2"/>
          <a:stretch/>
        </p:blipFill>
        <p:spPr>
          <a:xfrm>
            <a:off x="971640" y="1736640"/>
            <a:ext cx="6816600" cy="51120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400"/>
                            </p:stCondLst>
                            <p:childTnLst>
                              <p:par>
                                <p:cTn id="2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7:09:15Z</dcterms:created>
  <dc:creator>LAN_OS</dc:creator>
  <dc:description/>
  <dc:language>en-US</dc:language>
  <cp:lastModifiedBy>LAN_OS</cp:lastModifiedBy>
  <dcterms:modified xsi:type="dcterms:W3CDTF">2013-02-06T19:28:36Z</dcterms:modified>
  <cp:revision>13</cp:revision>
  <dc:subject/>
  <dc:title>Проект  информационно-творческий краткосрочный с 21.01.13 – 01.02.13  « Витаминный калейдоскоп» </dc:title>
</cp:coreProperties>
</file>