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DCF-70A3-43D7-8EA1-2147FF57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172-1A54-4C86-A59C-64A1C6E0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688-3453-4AE8-A8EA-18A6EA90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382-AD2C-4C68-BB2D-929FCA76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F306-27A7-41FC-867B-CB8DCB3B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E6A2-42D9-4346-8FFD-7A4D2437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DE8E-CD2E-42B5-BA24-E3E40DE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90CE-5243-4CC4-A58F-8F80F2E1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314E-5CFB-436A-B6F3-F21B9260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10A4-81BD-4615-8415-1B2A5F10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B4C0-CE3F-45B9-8A73-23D980F3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3FB-B6D8-471C-A723-A088A55C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3C8B-58BE-4FBD-A0EC-C7A3D0C6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899B-7F6B-45CD-AA54-AE5A7669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FF92-E6B0-4957-81A1-C7860EA6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2ECA-8F95-47F6-AEE7-E198ADA6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2043-A052-43C5-A6FA-043AE484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ECF4E-72A9-4D45-93CC-0A40BC64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423B2-FD07-4B36-A9B4-6E1BAFE7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61BFD-CB78-447B-A1E5-F94915E7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31F20-64F0-44FA-9AC2-35DE8FF3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82C79-EDB4-4666-93EF-180EEADF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4DB-BFC6-4F7A-9F3A-CCD1C2E4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5EB32-BDED-4A1D-9939-C76101D1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86118-EDD6-4B20-9623-4B4B4EC6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8BB71-5758-40BB-8AB0-BC4D4073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13EEF-5FE2-4667-A545-0F60458C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E513E-D35F-47D1-BA18-39B3D7E3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AC1F4-3F1F-4C5D-AB87-037F2238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546C5-EAF4-4639-B0CB-6190CCCC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B328A-DA00-497E-B45E-3BB06453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0879-0295-495E-83DB-ACA4A53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64EC-6D66-4AEF-91ED-7382797F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BD3-7716-4513-97C8-E24E4F4C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AB900-413B-4BB6-A37D-E5C1B986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9B35-FA85-4B0E-BE5A-C1658248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1279E-519D-42E4-B92C-D0AA40E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67913-4E68-465D-98D1-AD15487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28B37-2BED-4FA1-893C-E5536D3E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E7030-3B5F-4901-90AE-170BEE45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DDE37-9EF7-4491-AB2F-4D35903A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7744-9C0D-4CD2-88BF-39F12F32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A773-7DA8-40D2-A137-8261143E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AC8-F95E-4C79-AD9E-0B3A0F55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A55-F7B4-4262-8892-EAFAAC92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B12-21EB-4367-ADA1-399C6CB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4E8-7828-40AD-ABCC-EC8DD713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E00-2E83-4565-8D9A-9A49424A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A8E8-AD5E-433D-AF36-5D50CA6ED57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4EF1-8BCB-49AE-871F-1DA6942098E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91B4-1DF3-482A-8D2E-AE91778FB47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88E2-0BCD-4002-A4E5-A39D06C7DA9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оектная работа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«Мыло в нашей жизни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924360" y="414972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ыполнила Макаркина Ольг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еница 8 класс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МБОУ «Ударная СОШ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214200" y="428760"/>
            <a:ext cx="3500640" cy="62798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Рисунок4.jpg"/>
          <p:cNvPicPr/>
          <p:nvPr/>
        </p:nvPicPr>
        <p:blipFill>
          <a:blip r:embed="rId2"/>
          <a:stretch/>
        </p:blipFill>
        <p:spPr>
          <a:xfrm>
            <a:off x="4143240" y="3571920"/>
            <a:ext cx="4267440" cy="28479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Рисунок2.jpg"/>
          <p:cNvPicPr/>
          <p:nvPr/>
        </p:nvPicPr>
        <p:blipFill>
          <a:blip r:embed="rId3"/>
          <a:stretch/>
        </p:blipFill>
        <p:spPr>
          <a:xfrm>
            <a:off x="4143240" y="50004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2" descr="Рисунок5.jpg"/>
          <p:cNvPicPr/>
          <p:nvPr/>
        </p:nvPicPr>
        <p:blipFill>
          <a:blip r:embed="rId1"/>
          <a:stretch/>
        </p:blipFill>
        <p:spPr>
          <a:xfrm>
            <a:off x="509760" y="785880"/>
            <a:ext cx="800712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DSC_0920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285920" y="428760"/>
            <a:ext cx="649584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Диаграмма 4"/>
          <p:cNvGraphicFramePr/>
          <p:nvPr/>
        </p:nvGraphicFramePr>
        <p:xfrm>
          <a:off x="857160" y="1000080"/>
          <a:ext cx="7358040" cy="53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000080"/>
                    <a:ext cx="735804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3"/>
          <p:cNvSpPr/>
          <p:nvPr/>
        </p:nvSpPr>
        <p:spPr>
          <a:xfrm>
            <a:off x="0" y="43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DSC01236.jpg"/>
          <p:cNvPicPr/>
          <p:nvPr/>
        </p:nvPicPr>
        <p:blipFill>
          <a:blip r:embed="rId1"/>
          <a:stretch/>
        </p:blipFill>
        <p:spPr>
          <a:xfrm>
            <a:off x="4300560" y="1557360"/>
            <a:ext cx="4411800" cy="49546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1137600" y="571680"/>
            <a:ext cx="69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зготовление мыла руч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39640" y="2060640"/>
            <a:ext cx="38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льная ос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ое масло (миндаль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фюмерная отдушка (виш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фирное масло (апельс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щевые красители (розовый, голубой, крас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о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DSC01239.jpg"/>
          <p:cNvPicPr/>
          <p:nvPr/>
        </p:nvPicPr>
        <p:blipFill>
          <a:blip r:embed="rId1"/>
          <a:stretch/>
        </p:blipFill>
        <p:spPr>
          <a:xfrm>
            <a:off x="507960" y="571680"/>
            <a:ext cx="8128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" descr="DSC01241.jpg"/>
          <p:cNvPicPr/>
          <p:nvPr/>
        </p:nvPicPr>
        <p:blipFill>
          <a:blip r:embed="rId1"/>
          <a:stretch/>
        </p:blipFill>
        <p:spPr>
          <a:xfrm>
            <a:off x="500040" y="37476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DSC01243.jpg"/>
          <p:cNvPicPr/>
          <p:nvPr/>
        </p:nvPicPr>
        <p:blipFill>
          <a:blip r:embed="rId1"/>
          <a:stretch/>
        </p:blipFill>
        <p:spPr>
          <a:xfrm>
            <a:off x="0" y="2571840"/>
            <a:ext cx="5850000" cy="42861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" descr="DSC01247.jpg"/>
          <p:cNvPicPr/>
          <p:nvPr/>
        </p:nvPicPr>
        <p:blipFill>
          <a:blip r:embed="rId2"/>
          <a:stretch/>
        </p:blipFill>
        <p:spPr>
          <a:xfrm>
            <a:off x="3801960" y="208080"/>
            <a:ext cx="53420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6" descr="DSC_0942.JPG"/>
          <p:cNvPicPr/>
          <p:nvPr/>
        </p:nvPicPr>
        <p:blipFill>
          <a:blip r:embed="rId1"/>
          <a:stretch/>
        </p:blipFill>
        <p:spPr>
          <a:xfrm>
            <a:off x="4786200" y="3560760"/>
            <a:ext cx="3286080" cy="32972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DSC_0939.JPG"/>
          <p:cNvPicPr/>
          <p:nvPr/>
        </p:nvPicPr>
        <p:blipFill>
          <a:blip r:embed="rId2"/>
          <a:stretch/>
        </p:blipFill>
        <p:spPr>
          <a:xfrm>
            <a:off x="1143000" y="3610080"/>
            <a:ext cx="3200400" cy="32479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9" descr="DSC_0944.JPG"/>
          <p:cNvPicPr/>
          <p:nvPr/>
        </p:nvPicPr>
        <p:blipFill>
          <a:blip r:embed="rId3"/>
          <a:stretch/>
        </p:blipFill>
        <p:spPr>
          <a:xfrm>
            <a:off x="1143000" y="285840"/>
            <a:ext cx="3200400" cy="32385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0" descr="DSC_0945.JPG"/>
          <p:cNvPicPr/>
          <p:nvPr/>
        </p:nvPicPr>
        <p:blipFill>
          <a:blip r:embed="rId4"/>
          <a:stretch/>
        </p:blipFill>
        <p:spPr>
          <a:xfrm>
            <a:off x="4714920" y="285840"/>
            <a:ext cx="329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Цель работы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1. Изучить историю возникновения мыла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 2. Выяснить состав и свойства мыла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 3. Выяснить влияние мыла на здоровье человека, а именно на кожу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 4. Определить типы кожи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 5. Самой научиться готовить мыло в домашних условиях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26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Выводы и рекомендаци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 результатам опроса выяснилось, что учащиеся пользуются  мылом от 1-3 раз в день, а старшеклассники и взрослые пользуются до 10 раз, поэтому следует пользоваться крем-мылом или мылом без красителей, для того, чтобы не пересушивать кож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ногие образцы мыла имеют щелочную среду (рН &gt; 7), поэтому сильно сушат кож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жно готовить  мыло в домашних условиях  с лучшими качествами, чем магазинно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выполнении данной работы были изучены история мыла и мыловарения, свойства мыла и его состав, способы изготовления мыла и его вид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Рекомендаци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спользовать мыла без красител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применении моющих средств руки споласкивать большим количеством вод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тоятельно варить мыло, т.к. способ варки легкий, а приготовленное Вами мыло безопасное и подходит именно вашей кож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38086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тория мыл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8760" y="1785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ылом человечество пользовалось с незапамятных времен: история мыловарения насчитывает по меньшей мере 6 тыс. год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Рисунок 4" descr="0_56820_19ec52ec_XL.jpg"/>
          <p:cNvPicPr/>
          <p:nvPr/>
        </p:nvPicPr>
        <p:blipFill>
          <a:blip r:embed="rId1"/>
          <a:stretch/>
        </p:blipFill>
        <p:spPr>
          <a:xfrm>
            <a:off x="1071720" y="4022640"/>
            <a:ext cx="4857480" cy="2835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1.jpg"/>
          <p:cNvPicPr/>
          <p:nvPr/>
        </p:nvPicPr>
        <p:blipFill>
          <a:blip r:embed="rId2"/>
          <a:stretch/>
        </p:blipFill>
        <p:spPr>
          <a:xfrm>
            <a:off x="0" y="3857760"/>
            <a:ext cx="296712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6" descr="producao-de-saboes.jpg"/>
          <p:cNvPicPr/>
          <p:nvPr/>
        </p:nvPicPr>
        <p:blipFill>
          <a:blip r:embed="rId3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Содержимое 3" descr="antique_soap_makeing_pic.jpg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1304875752_0.jpg"/>
          <p:cNvPicPr/>
          <p:nvPr/>
        </p:nvPicPr>
        <p:blipFill>
          <a:blip r:embed="rId1"/>
          <a:stretch/>
        </p:blipFill>
        <p:spPr>
          <a:xfrm>
            <a:off x="3348000" y="3375000"/>
            <a:ext cx="5796000" cy="3483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Способы изготовления мыла: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1844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Горячий способ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Холодный способ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ереплавк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504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Типы кож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928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уха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ормальна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Жирна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мбинированна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4" descr="koja_suhaya_3.jpg"/>
          <p:cNvPicPr/>
          <p:nvPr/>
        </p:nvPicPr>
        <p:blipFill>
          <a:blip r:embed="rId1"/>
          <a:stretch/>
        </p:blipFill>
        <p:spPr>
          <a:xfrm>
            <a:off x="6084720" y="404640"/>
            <a:ext cx="2810160" cy="3745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piling_10.jpg"/>
          <p:cNvPicPr/>
          <p:nvPr/>
        </p:nvPicPr>
        <p:blipFill>
          <a:blip r:embed="rId2"/>
          <a:stretch/>
        </p:blipFill>
        <p:spPr>
          <a:xfrm>
            <a:off x="0" y="4005360"/>
            <a:ext cx="3395520" cy="28526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koja-jirnaya-12.jpg"/>
          <p:cNvPicPr/>
          <p:nvPr/>
        </p:nvPicPr>
        <p:blipFill>
          <a:blip r:embed="rId3"/>
          <a:stretch/>
        </p:blipFill>
        <p:spPr>
          <a:xfrm>
            <a:off x="3708360" y="3465360"/>
            <a:ext cx="310032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755640" y="1916280"/>
          <a:ext cx="7702560" cy="4541760"/>
        </p:xfrm>
        <a:graphic>
          <a:graphicData uri="http://schemas.openxmlformats.org/drawingml/2006/table">
            <a:tbl>
              <a:tblPr/>
              <a:tblGrid>
                <a:gridCol w="2198520"/>
                <a:gridCol w="1873440"/>
                <a:gridCol w="1873080"/>
                <a:gridCol w="1757520"/>
              </a:tblGrid>
              <a:tr h="14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исследуем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Н кожи до использования мы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Н кожи после использования мы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итель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Box 2"/>
          <p:cNvSpPr/>
          <p:nvPr/>
        </p:nvSpPr>
        <p:spPr>
          <a:xfrm>
            <a:off x="1214280" y="928800"/>
            <a:ext cx="68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следование типов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Диаграмма 2"/>
          <p:cNvGraphicFramePr/>
          <p:nvPr/>
        </p:nvGraphicFramePr>
        <p:xfrm>
          <a:off x="611280" y="1341360"/>
          <a:ext cx="8103960" cy="49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10396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35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28760" y="35712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Исследование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H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среды разных образцов м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1428840" y="1643040"/>
            <a:ext cx="61196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6:31:54Z</dcterms:created>
  <dc:creator>user</dc:creator>
  <dc:description/>
  <dc:language>en-US</dc:language>
  <cp:lastModifiedBy>user</cp:lastModifiedBy>
  <dcterms:modified xsi:type="dcterms:W3CDTF">2013-04-01T13:53:29Z</dcterms:modified>
  <cp:revision>31</cp:revision>
  <dc:subject/>
  <dc:title>Слайд 1</dc:title>
</cp:coreProperties>
</file>