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5B0-DFDD-4ED6-8B9A-F0BAEF9A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2C4-9907-4F29-9841-FC2DE640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4F7-BDCB-4157-A0AC-03DDF7DE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F71-8ECA-4AD0-AC96-65D7449D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BC97-06C6-4454-BA10-EB3222FA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1693-49CB-4D36-92F4-7E189651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C136-65AA-46F2-90D9-86A83E89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F57C-90BA-4552-877A-8FE66FCA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1E5C-DF10-4404-BCF4-C342AED7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8AF1-05D3-4E58-813D-58B5AA32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CAF9-810C-4F90-AB4A-B3135737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EE5-B266-459E-8CC6-E1DA854D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99E4-B389-4F70-8E3D-CA24AF6A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5192-7EEB-4CAB-AE54-388CAC9A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232A-0945-4761-A9AD-6DD8AE8B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E19F-FFA3-4C1E-9EF0-5C775DF8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BA20-C9FD-4C06-B6E0-9F53F62E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340C4-495D-45F4-BA7B-72788474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34C34-8612-4F89-8C82-9DD42594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F6826-9596-4D13-B380-06C06AE7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2F0F4-F40E-47DC-AEA1-7372AC33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BF874-9702-43C1-9CF1-D3FF2BC5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C9B-94BD-4C49-85DB-DF78009F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DF174-C65C-4AA2-84E5-BCF7087B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8B6A3-5D24-4205-96A5-F63A86E2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03DFA-5297-497A-8DAC-DF424C57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DCCA5-9F7A-4BCA-8D56-366B2917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17C84-2D49-441B-BCF8-EEF09B7C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DDF75-A701-45D2-9F90-C0429D41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BC835-827F-442D-B623-7116E94E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288CA-B740-40D8-9650-1533964F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D3CFF-EB90-4519-8C6B-D077919B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B72C-46BA-41A8-9D3B-EC37412F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8C8-3B03-4813-986B-CB3543E8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2C4A0-969E-4428-BBE0-5297ED8E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A2303-543C-4EF1-B041-7BEE20CA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946C7-AEFF-464A-B02B-BF8FE474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BA58-CB91-4946-9E54-6A019003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6885-D715-41E1-8A30-3551E239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704D-2FBE-478B-8970-7CAF641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D3C1D-500A-4227-9EC1-BD873E23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81551-0F01-4F5E-AAA3-D0A4B44C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58B5E-1E46-4AEA-80E9-DDB0BCA9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1EE-8D5A-4501-B755-6902373F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963-48AF-4BCC-9515-FC3017D9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0DD-4E2C-4D35-AA82-803BE8AF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789-3077-4A96-92F3-470CCDDF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AE4-D7A1-43E2-A2D3-CC0D70CB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2A94-8FDE-4ECA-8FC8-2DE31A90B0C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EE94-70E7-477F-9AC5-063AC250C49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A347-2EB8-41D4-A9AA-18401526BD4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BAB9-8561-470D-8E41-290ADB024AB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1268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оектная работа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«Мыло в нашей жизни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924360" y="414972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Выполнила Макаркина Ольг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еница 8 класс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МБОУ «Ударная СОШ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214200" y="428760"/>
            <a:ext cx="3500640" cy="62798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Рисунок4.jpg"/>
          <p:cNvPicPr/>
          <p:nvPr/>
        </p:nvPicPr>
        <p:blipFill>
          <a:blip r:embed="rId2"/>
          <a:stretch/>
        </p:blipFill>
        <p:spPr>
          <a:xfrm>
            <a:off x="4143240" y="3571920"/>
            <a:ext cx="4267440" cy="28479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Рисунок2.jpg"/>
          <p:cNvPicPr/>
          <p:nvPr/>
        </p:nvPicPr>
        <p:blipFill>
          <a:blip r:embed="rId3"/>
          <a:stretch/>
        </p:blipFill>
        <p:spPr>
          <a:xfrm>
            <a:off x="4143240" y="500040"/>
            <a:ext cx="4267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2" descr="Рисунок5.jpg"/>
          <p:cNvPicPr/>
          <p:nvPr/>
        </p:nvPicPr>
        <p:blipFill>
          <a:blip r:embed="rId1"/>
          <a:stretch/>
        </p:blipFill>
        <p:spPr>
          <a:xfrm>
            <a:off x="509760" y="785880"/>
            <a:ext cx="800712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DSC_0920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285920" y="428760"/>
            <a:ext cx="649584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Диаграмма 4"/>
          <p:cNvGraphicFramePr/>
          <p:nvPr/>
        </p:nvGraphicFramePr>
        <p:xfrm>
          <a:off x="857160" y="1000080"/>
          <a:ext cx="7358040" cy="53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000080"/>
                    <a:ext cx="735804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3"/>
          <p:cNvSpPr/>
          <p:nvPr/>
        </p:nvSpPr>
        <p:spPr>
          <a:xfrm>
            <a:off x="0" y="43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DSC01236.jpg"/>
          <p:cNvPicPr/>
          <p:nvPr/>
        </p:nvPicPr>
        <p:blipFill>
          <a:blip r:embed="rId1"/>
          <a:stretch/>
        </p:blipFill>
        <p:spPr>
          <a:xfrm>
            <a:off x="4300560" y="1557360"/>
            <a:ext cx="4411800" cy="49546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1137600" y="571680"/>
            <a:ext cx="69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зготовление мыла руч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39640" y="2060640"/>
            <a:ext cx="381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льная ос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ое масло (миндаль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фюмерная отдушка (виш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фирное масло (апельс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щевые красители (розовый, голубой, крас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о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DSC01239.jpg"/>
          <p:cNvPicPr/>
          <p:nvPr/>
        </p:nvPicPr>
        <p:blipFill>
          <a:blip r:embed="rId1"/>
          <a:stretch/>
        </p:blipFill>
        <p:spPr>
          <a:xfrm>
            <a:off x="507960" y="571680"/>
            <a:ext cx="8128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" descr="DSC01241.jpg"/>
          <p:cNvPicPr/>
          <p:nvPr/>
        </p:nvPicPr>
        <p:blipFill>
          <a:blip r:embed="rId1"/>
          <a:stretch/>
        </p:blipFill>
        <p:spPr>
          <a:xfrm>
            <a:off x="500040" y="37476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DSC01243.jpg"/>
          <p:cNvPicPr/>
          <p:nvPr/>
        </p:nvPicPr>
        <p:blipFill>
          <a:blip r:embed="rId1"/>
          <a:stretch/>
        </p:blipFill>
        <p:spPr>
          <a:xfrm>
            <a:off x="0" y="2571840"/>
            <a:ext cx="5850000" cy="42861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2" descr="DSC01247.jpg"/>
          <p:cNvPicPr/>
          <p:nvPr/>
        </p:nvPicPr>
        <p:blipFill>
          <a:blip r:embed="rId2"/>
          <a:stretch/>
        </p:blipFill>
        <p:spPr>
          <a:xfrm>
            <a:off x="3801960" y="208080"/>
            <a:ext cx="53420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6" descr="DSC_0942.JPG"/>
          <p:cNvPicPr/>
          <p:nvPr/>
        </p:nvPicPr>
        <p:blipFill>
          <a:blip r:embed="rId1"/>
          <a:stretch/>
        </p:blipFill>
        <p:spPr>
          <a:xfrm>
            <a:off x="4786200" y="3560760"/>
            <a:ext cx="3286080" cy="32972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7" descr="DSC_0939.JPG"/>
          <p:cNvPicPr/>
          <p:nvPr/>
        </p:nvPicPr>
        <p:blipFill>
          <a:blip r:embed="rId2"/>
          <a:stretch/>
        </p:blipFill>
        <p:spPr>
          <a:xfrm>
            <a:off x="1143000" y="3610080"/>
            <a:ext cx="3200400" cy="32479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9" descr="DSC_0944.JPG"/>
          <p:cNvPicPr/>
          <p:nvPr/>
        </p:nvPicPr>
        <p:blipFill>
          <a:blip r:embed="rId3"/>
          <a:stretch/>
        </p:blipFill>
        <p:spPr>
          <a:xfrm>
            <a:off x="1143000" y="285840"/>
            <a:ext cx="3200400" cy="32385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0" descr="DSC_0945.JPG"/>
          <p:cNvPicPr/>
          <p:nvPr/>
        </p:nvPicPr>
        <p:blipFill>
          <a:blip r:embed="rId4"/>
          <a:stretch/>
        </p:blipFill>
        <p:spPr>
          <a:xfrm>
            <a:off x="4714920" y="285840"/>
            <a:ext cx="329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Цель работы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1. Изучить историю возникновения мыла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 2. Выяснить состав и свойства мыла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 3. Выяснить влияние мыла на здоровье человека, а именно на кожу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 4. Определить типы кожи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 5. Самой научиться готовить мыло в домашних условиях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263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Arial"/>
              </a:rPr>
              <a:t>Выводы и рекомендаци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 результатам опроса выяснилось, что учащиеся пользуются  мылом от 1-3 раз в день, а старшеклассники и взрослые пользуются до 10 раз, поэтому следует пользоваться крем-мылом или мылом без красителей, для того, чтобы не пересушивать кож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ногие образцы мыла имеют щелочную среду (рН &gt; 7), поэтому сильно сушат кож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ожно готовить  мыло в домашних условиях  с лучшими качествами, чем магазинно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выполнении данной работы были изучены история мыла и мыловарения, свойства мыла и его состав, способы изготовления мыла и его вид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Рекомендаци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спользовать мыла без красител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применении моющих средств руки споласкивать большим количеством воды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тоятельно варить мыло, т.к. способ варки легкий, а приготовленное Вами мыло безопасное и подходит именно вашей кож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38086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тория мыл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28760" y="1785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ылом человечество пользовалось с незапамятных времен: история мыловарения насчитывает по меньшей мере 6 тыс. год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Рисунок 4" descr="0_56820_19ec52ec_XL.jpg"/>
          <p:cNvPicPr/>
          <p:nvPr/>
        </p:nvPicPr>
        <p:blipFill>
          <a:blip r:embed="rId1"/>
          <a:stretch/>
        </p:blipFill>
        <p:spPr>
          <a:xfrm>
            <a:off x="1071720" y="4022640"/>
            <a:ext cx="4857480" cy="2835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" descr="1.jpg"/>
          <p:cNvPicPr/>
          <p:nvPr/>
        </p:nvPicPr>
        <p:blipFill>
          <a:blip r:embed="rId2"/>
          <a:stretch/>
        </p:blipFill>
        <p:spPr>
          <a:xfrm>
            <a:off x="0" y="3857760"/>
            <a:ext cx="2967120" cy="30002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6" descr="producao-de-saboes.jpg"/>
          <p:cNvPicPr/>
          <p:nvPr/>
        </p:nvPicPr>
        <p:blipFill>
          <a:blip r:embed="rId3"/>
          <a:stretch/>
        </p:blipFill>
        <p:spPr>
          <a:xfrm>
            <a:off x="6000840" y="3929040"/>
            <a:ext cx="3143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Содержимое 3" descr="antique_soap_makeing_pic.jpg"/>
          <p:cNvPicPr/>
          <p:nvPr/>
        </p:nvPicPr>
        <p:blipFill>
          <a:blip r:embed="rId1"/>
          <a:stretch/>
        </p:blipFill>
        <p:spPr>
          <a:xfrm>
            <a:off x="539640" y="404640"/>
            <a:ext cx="820908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1304875752_0.jpg"/>
          <p:cNvPicPr/>
          <p:nvPr/>
        </p:nvPicPr>
        <p:blipFill>
          <a:blip r:embed="rId1"/>
          <a:stretch/>
        </p:blipFill>
        <p:spPr>
          <a:xfrm>
            <a:off x="3348000" y="3375000"/>
            <a:ext cx="5796000" cy="3483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Способы изготовления мыла: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1844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Горячий способ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Холодный способ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ереплавк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504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Типы кож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9280" y="134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уха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ормальна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Жирна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мбинированна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Рисунок 4" descr="koja_suhaya_3.jpg"/>
          <p:cNvPicPr/>
          <p:nvPr/>
        </p:nvPicPr>
        <p:blipFill>
          <a:blip r:embed="rId1"/>
          <a:stretch/>
        </p:blipFill>
        <p:spPr>
          <a:xfrm>
            <a:off x="6084720" y="404640"/>
            <a:ext cx="2810160" cy="3745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piling_10.jpg"/>
          <p:cNvPicPr/>
          <p:nvPr/>
        </p:nvPicPr>
        <p:blipFill>
          <a:blip r:embed="rId2"/>
          <a:stretch/>
        </p:blipFill>
        <p:spPr>
          <a:xfrm>
            <a:off x="0" y="4005360"/>
            <a:ext cx="3395520" cy="28526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3" descr="koja-jirnaya-12.jpg"/>
          <p:cNvPicPr/>
          <p:nvPr/>
        </p:nvPicPr>
        <p:blipFill>
          <a:blip r:embed="rId3"/>
          <a:stretch/>
        </p:blipFill>
        <p:spPr>
          <a:xfrm>
            <a:off x="3708360" y="3465360"/>
            <a:ext cx="310032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755640" y="1916280"/>
          <a:ext cx="7702560" cy="4541760"/>
        </p:xfrm>
        <a:graphic>
          <a:graphicData uri="http://schemas.openxmlformats.org/drawingml/2006/table">
            <a:tbl>
              <a:tblPr/>
              <a:tblGrid>
                <a:gridCol w="2198520"/>
                <a:gridCol w="1873440"/>
                <a:gridCol w="1873080"/>
                <a:gridCol w="1757520"/>
              </a:tblGrid>
              <a:tr h="14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о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исследуем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Н кожи до использования мы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Н кожи после использования мы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итель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Box 2"/>
          <p:cNvSpPr/>
          <p:nvPr/>
        </p:nvSpPr>
        <p:spPr>
          <a:xfrm>
            <a:off x="1214280" y="928800"/>
            <a:ext cx="68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следование типов ко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Диаграмма 2"/>
          <p:cNvGraphicFramePr/>
          <p:nvPr/>
        </p:nvGraphicFramePr>
        <p:xfrm>
          <a:off x="611280" y="1341360"/>
          <a:ext cx="8103960" cy="494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8103960" cy="49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35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428760" y="35712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Исследование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H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среды разных образцов м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1428840" y="1643040"/>
            <a:ext cx="61196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6:31:54Z</dcterms:created>
  <dc:creator>user</dc:creator>
  <dc:description/>
  <dc:language>en-US</dc:language>
  <cp:lastModifiedBy>user</cp:lastModifiedBy>
  <dcterms:modified xsi:type="dcterms:W3CDTF">2013-04-01T13:53:29Z</dcterms:modified>
  <cp:revision>31</cp:revision>
  <dc:subject/>
  <dc:title>Слайд 1</dc:title>
</cp:coreProperties>
</file>