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dt" idx="27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28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29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ECDF1-7376-4069-AC18-D0995421E9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10A64-B3C4-44F8-9C1E-0A0E99EC03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7547C-59DA-4F52-8075-4EA87F131F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3D219-0B99-437B-9D96-71817C4715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6A5E9-02CC-4E88-9DCA-61A5FBDD4F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F9113-65F5-4DE7-8E5A-713F15F5C1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A0967-5958-4076-89BF-014074B845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2EDF2-79BC-4952-92B5-41FC7A447B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4F68B-CFF3-4FA9-AC4F-2283DD6FBC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4562E-CA75-4D44-BC29-8ECD39730D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C0596-4941-4039-9F28-F767023ECB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6B0F0-B3A7-4EF2-8B50-D3A2CA4FC3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80EAA-2D78-4E25-B807-21A21848CE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3A21B-B6A9-40CE-B31E-4EA28297CB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1315C-5F1E-48E8-9347-2BA7572DF3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2989F-B091-45FA-966F-E606BB2BC9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17B97-924F-44A8-B87B-55405F14E9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2F5E-528E-4DCD-A6B6-458F0FC6DA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97F8-4113-4B59-9ACB-3AAA7FE1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1225D-083C-4A82-B447-FCE6D7E8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60500-BFCF-4346-9864-E5D3D339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314A3-4E93-4598-ACDC-ABB40D41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B922C-81A4-40E8-9EAC-73770000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29F0D-1C4C-4C78-A156-259070A9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531C7-DA1C-48E1-B1DB-F888779A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F9697-18A0-4930-A0A0-6C52BED0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1ED4A-75A4-4445-B5B5-BB949F90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05DEC-5F16-4151-8E1D-31315C92A5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47C809-86A7-4FD9-A4C3-A45AFB12AE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DA25-20B5-4D60-88B0-FE8B368C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F2230A-1A81-42CA-8593-9925513A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FC9368-C10E-4CF3-8A57-981DBE23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BA55A-01B2-418B-938C-46BC1C05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2B2F9-7741-4E4F-A09A-210F3E65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B99E5-F379-4630-BBEA-14DB25D0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52984-C8C0-4774-ABCE-8BEFA82A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84A02F-C02D-4711-9786-6B95493F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B90A3-FBE9-42EA-8AC2-E441B558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BB1B15-6952-4CBB-B4DF-9C87C412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87935-A617-4745-9247-0D25B084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C736-A1C4-4010-874D-DB60F41BDD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2AB00-6C0B-470D-9554-5F9C203E44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DEF2FF-E995-41F9-9A19-C3B0BFE75C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9BB901-242B-4032-983D-0782DDFE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18E066-189A-4FAD-AFA3-6A94B7CA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FDE06B-B680-4BF9-9F00-7016F3DD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BA18DD-5A95-4F81-80CD-AEEE6F52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2FEEEB-7AC6-4237-92A3-60C980C8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6CFA24-E8B2-4521-91C1-00EAE1FA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8D8535-B99F-4958-9054-E21247B1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A5D5B2-06E3-4D6F-9E89-F18F32D4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C3F69-C17B-4A5F-9BCE-0EA612796B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4EC2C6-C362-4C04-ACA1-5FF1A7CF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DD337B-FB2E-49C0-8E53-3D581DEB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D66C03-9E06-4A04-B79A-65637ABC3C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ACDFA-C2D3-428B-91D6-8A2EC40D6A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14C74-ED52-4954-A193-006BEEFC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3E768-E1B2-4CB8-A5D8-EF987F7F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E9C77-967D-43C4-9F1C-55A2B511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E2135-EB16-4FCC-80F1-9837D9D4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340DC-0BFC-4D5D-8B7D-FF02CA1E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D07D8-CDCC-40BC-8A16-735D96D6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87DA4-D4EA-4322-A045-41D502E2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4EF8F-59A7-4BF8-AFFB-48D08FDA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AEC79-B315-4F11-9138-0831EC7F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E4DB2-1A75-4ED4-9B66-5C1ECEF2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323E8-FDF1-4AB9-9D23-2CC9B7E2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CE006-26B9-4E56-8D9B-7BA83E4E7F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EE4429-C33E-4549-B692-C42A2835AF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1316A6-3B5C-4586-90C9-6EE06AD8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BDF1E4-4D50-4013-A5A6-ADB19864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C34896-0CD4-4E8F-8F33-E151A9C8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E5C630-7486-4950-BF7D-B9DEDDE4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D9EB3-AD6A-4A73-A0CF-186ED4B2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E2EE28-A855-4635-BF2B-E38F646F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E287EB-A4A7-43D6-931D-C4E8ED00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08CC6E-54E8-411D-9BBA-B9165904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0C6C45-7DDB-4F12-A070-74CD3364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8AD17A-1703-42F4-9B50-A504A200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A2A4D2-A9AD-4C0A-8315-78D6DEAB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A5FE74-3F93-46F4-8DB5-3BAF9C9088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E14E0-5E7A-4702-8F9F-8D88130D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91E66-589D-42FB-9E5F-0438C37E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C869D-4F6D-48D0-942D-78837711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E8328-BCC3-42F4-9C64-01786A4F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68DB-0696-42E1-80CF-C38FA22C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80989-9F6E-4042-8326-C8325E2E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84B2A-872E-46CB-AC75-32A9C638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E355D-FDAE-45A3-915D-37668FDB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629DF-F32F-4806-971A-DFD8BFBA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EE989-5F25-4C50-B32F-BFD48AF515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9F5E-B063-4F7C-A90E-36526D1BD9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01DA-49A5-4E30-8451-4908E71E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C60E-AA7D-4E12-BBD7-301A7D6F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A753-D68B-4959-9A03-32222D89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F659-C73B-4383-87B0-C4A4E0AB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43A3-056E-4DF9-8D17-6055F826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FB9C-9267-42DD-BF0F-6B1178C6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55C8-57BE-4938-9CF7-96E2CBB8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13E5-4384-4650-B958-3B67E821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F211-B167-4145-8B75-A7162D97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138D-CC42-4C11-9EEB-A1B92E4D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0E0E-B5BE-473D-8F7C-61D837BE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A2F1-7389-482F-AD33-6E5CC583C8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FE0A7-8DC7-45B6-85FF-0B49977ED0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8F925-E5C1-499E-96A7-86F0F5C5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77137-A1A7-4F2A-8BFE-0961BC10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129F-0A98-40A4-A631-667A6CCF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999B9-BD26-453D-8BE5-F0FDEACB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CE592-C2DD-4FE2-8598-6C0DB3E4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233B2-C2C4-4650-8F66-49296002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A875A-4504-41BA-AE3D-AE2E6875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813E7-38E3-4041-868F-55581943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82D28-B5C1-46DC-8676-CC3E641C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3E9EF-A70C-43C5-8990-33B7A7AB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9CF37-0A55-49AF-80C0-FDED2076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44DE8-423B-419C-9783-5CC0E8BEBE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CD329B-11D3-42D7-B41C-FF36C53804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7AB6-0E8A-42B4-98A7-EC303035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5141B4-3429-41DD-8432-FDB9636F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B4D9E3-DEDE-43E6-B856-ABFCCDCA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DD418F-D2EB-4CD2-AF18-12850D98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91CD1D-BC70-4282-8348-E827C702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E4ECB-0254-4C60-AA38-DF52D4B6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4FB342-B9D7-43F6-BD0B-E3F1130F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DD0F6A-B56C-4C4A-A4B7-510B97F0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87720D-C038-4F9C-A929-7043AB59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954080-8600-462B-B5BC-BC17449C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CC1DEC-B01A-49CC-8297-E53E42A8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79D6-71CB-400B-8556-60B95F7A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F45273-9830-4DAC-B20B-053BA0BA86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AAE4B-9984-48A7-8B0F-586FAC68A3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F864E-7F61-4DAF-8496-B8BFF7FC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5A5EA-5BB1-47C2-BFBD-3A7C7ACB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05142-17C9-45F8-8AF9-D0234769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DB330-173F-40CC-A345-C189CDD4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07A18-BEF3-4E0F-AF55-A986E140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7C7B0-2C0D-4393-B054-3B63F808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6872-8372-44E3-A165-FA613BF2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FFDD0-459C-4738-817F-0126FA4F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B28C-9151-4C77-B8A3-982A8575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1356C-2DCE-4FA3-B4E1-C6990B56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ECDB5-9BE4-4BC8-8F3E-55046EBD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1A502-AC0C-4A0C-A33A-BE08725FAB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35CC8-BD94-4A4D-9328-E0AC34F777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5EBC4-B522-4723-A083-0DDC5525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9BAE40-7C95-40A8-9187-05A9EA66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CC76B-839D-4C28-8445-A94454B4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CFFB2-422B-444F-AEDC-FE6C233E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6491C-B977-4DDE-86B3-7EEC3130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9B205-9DDE-46BA-B12B-8AE7C02D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166B-352A-454B-83FA-212DD5A5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1BA02-1A64-4935-969E-833D7E0E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6C116-1FDD-417B-85DD-451088B6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6D454-5275-4AC4-946A-713FB0EB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76AA2-1B45-43B4-BA40-4E649BCA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5F076-4797-476E-8E20-441B325547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411BA2-4768-443A-AC92-68E7C634AC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8499EA-2531-4226-BDE6-C825A42E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7AE152-90DC-4D1E-A5E1-5D89D6B8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D0D1EB-7A47-4E6E-B9B6-389915C9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B572D7-A7EB-41FA-B8A7-CDE55BF4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0E65-5B59-4A53-AC1F-381235EF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E45786-AE3B-4527-A8EB-14E8ACA6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596947-2CA5-49E6-AFE8-6D8BE067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D722B3-892F-47E8-BCB4-62681864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FD324F-DFED-4515-9D20-EDEBA1B6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E7B172-4CE3-4595-AE61-769ADD0E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640" y="39654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EBDD9B-032C-4236-B119-E06A8400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748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7760" y="39654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1551A2-BD9C-4C32-BF26-3F142721AA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7D1D7-B181-4A0B-8BEA-5995F5BACA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FC7F3-E1B1-4119-BC04-68994B09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9FDF5-475E-465F-B291-438A924D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27702F-1CF7-41F1-AAEF-C1233973BBD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0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01E24C-2C25-4660-9E32-6E5DAAE94F3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2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3469FC-BD08-4BC8-973E-D2CF35ED814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76F102-9C45-4BE8-81B3-8B3F115CAE9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6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DCA6C6-137F-480C-8600-152BEFF2DB3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A2F4E9-EF4B-4B79-919D-4EAF7EB4B30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2EAC13-84EC-4F9F-807D-37FD949C343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79EC82-C342-4935-97E2-1D0915B5559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EEFC75-6DE7-46D7-A5F0-921C84692D8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BD4F8A-0194-481A-8E56-AEB7F57BD95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A2F5D5-EB07-49E5-A9C9-1389A66D0E7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344E6F-B30F-4B7E-967A-1A3EBFD478D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456840" y="641628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3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7924320" y="6416280"/>
            <a:ext cx="7556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E88D32-9163-48C5-B305-CF84DC6A60F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"/>
          <p:cNvSpPr/>
          <p:nvPr/>
        </p:nvSpPr>
        <p:spPr>
          <a:xfrm>
            <a:off x="428760" y="928800"/>
            <a:ext cx="835812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e9f9fb"/>
                </a:solidFill>
                <a:latin typeface="Book Antiqu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Комплексная программа работы ГСКУ АО «Социальный приют для детей </a:t>
            </a: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«Любав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300dc"/>
                </a:solidFill>
                <a:latin typeface="Monotype Corsiva"/>
              </a:rPr>
              <a:t>Физкультурно — оздоровительное направление воспитательной работы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287280" y="1295280"/>
            <a:ext cx="8567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0960" indent="-210960">
              <a:lnSpc>
                <a:spcPct val="102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00dc"/>
                </a:solidFill>
                <a:latin typeface="Monotype Corsiva"/>
              </a:rPr>
              <a:t>совершенствование физического и психологического здоровья детей на примере исторически сложившихся традиций казачества, используя заложенный в них потенциал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60360" y="2484360"/>
            <a:ext cx="3780000" cy="25560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"/>
          <p:cNvPicPr/>
          <p:nvPr/>
        </p:nvPicPr>
        <p:blipFill>
          <a:blip r:embed="rId2"/>
          <a:stretch/>
        </p:blipFill>
        <p:spPr>
          <a:xfrm>
            <a:off x="4824360" y="2087640"/>
            <a:ext cx="3924360" cy="29415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"/>
          <p:cNvPicPr/>
          <p:nvPr/>
        </p:nvPicPr>
        <p:blipFill>
          <a:blip r:embed="rId3"/>
          <a:stretch/>
        </p:blipFill>
        <p:spPr>
          <a:xfrm>
            <a:off x="2592360" y="401472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043160" cy="30304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" descr=""/>
          <p:cNvPicPr/>
          <p:nvPr/>
        </p:nvPicPr>
        <p:blipFill>
          <a:blip r:embed="rId2"/>
          <a:stretch/>
        </p:blipFill>
        <p:spPr>
          <a:xfrm>
            <a:off x="4248000" y="3444840"/>
            <a:ext cx="4896000" cy="3413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"/>
          <p:cNvPicPr/>
          <p:nvPr/>
        </p:nvPicPr>
        <p:blipFill>
          <a:blip r:embed="rId3"/>
          <a:stretch/>
        </p:blipFill>
        <p:spPr>
          <a:xfrm>
            <a:off x="4896000" y="190440"/>
            <a:ext cx="3963960" cy="29764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"/>
          <p:cNvPicPr/>
          <p:nvPr/>
        </p:nvPicPr>
        <p:blipFill>
          <a:blip r:embed="rId4"/>
          <a:stretch/>
        </p:blipFill>
        <p:spPr>
          <a:xfrm>
            <a:off x="479520" y="3959280"/>
            <a:ext cx="2976480" cy="1987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300dc"/>
                </a:solidFill>
                <a:latin typeface="Monotype Corsiva"/>
              </a:rPr>
              <a:t>Профессионально-трудовое направление воспитательной работы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608040" y="1422360"/>
            <a:ext cx="83199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0960" indent="-210960">
              <a:lnSpc>
                <a:spcPct val="102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00dc"/>
                </a:solidFill>
                <a:latin typeface="Monotype Corsiva"/>
              </a:rPr>
              <a:t>формирование позитивного отношения к различным видам трудовой деятельност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5" descr="57efe18a059788eaea8b31c1a313cde1thumb640x480"/>
          <p:cNvPicPr/>
          <p:nvPr/>
        </p:nvPicPr>
        <p:blipFill>
          <a:blip r:embed="rId1"/>
          <a:stretch/>
        </p:blipFill>
        <p:spPr>
          <a:xfrm>
            <a:off x="539640" y="2492280"/>
            <a:ext cx="3292560" cy="21909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0000900735-preview"/>
          <p:cNvPicPr/>
          <p:nvPr/>
        </p:nvPicPr>
        <p:blipFill>
          <a:blip r:embed="rId2"/>
          <a:stretch/>
        </p:blipFill>
        <p:spPr>
          <a:xfrm>
            <a:off x="2700360" y="3933720"/>
            <a:ext cx="3198960" cy="21178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trud_rebiata"/>
          <p:cNvPicPr/>
          <p:nvPr/>
        </p:nvPicPr>
        <p:blipFill>
          <a:blip r:embed="rId3"/>
          <a:stretch/>
        </p:blipFill>
        <p:spPr>
          <a:xfrm>
            <a:off x="5508720" y="2781360"/>
            <a:ext cx="2752560" cy="16081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6"/>
          <p:cNvSpPr/>
          <p:nvPr/>
        </p:nvSpPr>
        <p:spPr>
          <a:xfrm>
            <a:off x="-66240" y="6021360"/>
            <a:ext cx="89146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Monotype Corsiva"/>
              </a:rPr>
              <a:t>Если любят труд ребята – значит это казача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300dc"/>
                </a:solidFill>
                <a:latin typeface="Monotype Corsiva"/>
              </a:rPr>
              <a:t>Социально-культурное направление воспитательной работы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4" name="Text Box 2"/>
          <p:cNvSpPr/>
          <p:nvPr/>
        </p:nvSpPr>
        <p:spPr>
          <a:xfrm>
            <a:off x="306360" y="1511280"/>
            <a:ext cx="8621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0960" indent="-210960">
              <a:lnSpc>
                <a:spcPct val="102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00dc"/>
                </a:solidFill>
                <a:latin typeface="Monotype Corsiva"/>
              </a:rPr>
              <a:t>приобщать детей к истокам культуры казаков, знакомить с обрядами, традициями, бытом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Group 3"/>
          <p:cNvGrpSpPr/>
          <p:nvPr/>
        </p:nvGrpSpPr>
        <p:grpSpPr>
          <a:xfrm>
            <a:off x="216000" y="2376360"/>
            <a:ext cx="4708440" cy="3530880"/>
            <a:chOff x="216000" y="2376360"/>
            <a:chExt cx="4708440" cy="3530880"/>
          </a:xfrm>
        </p:grpSpPr>
        <p:pic>
          <p:nvPicPr>
            <p:cNvPr id="606" name="Picture 4" descr=""/>
            <p:cNvPicPr/>
            <p:nvPr/>
          </p:nvPicPr>
          <p:blipFill>
            <a:blip r:embed="rId1"/>
            <a:stretch/>
          </p:blipFill>
          <p:spPr>
            <a:xfrm>
              <a:off x="216000" y="2376360"/>
              <a:ext cx="470844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 Box 5"/>
            <p:cNvSpPr/>
            <p:nvPr/>
          </p:nvSpPr>
          <p:spPr>
            <a:xfrm>
              <a:off x="216000" y="2376360"/>
              <a:ext cx="4708440" cy="35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4989600" y="2735280"/>
            <a:ext cx="40100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300dc"/>
                </a:solidFill>
                <a:latin typeface="Monotype Corsiva"/>
              </a:rPr>
              <a:t>Гражданско — патриотическое направление воспитательной работы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0" name="Text Box 2"/>
          <p:cNvSpPr/>
          <p:nvPr/>
        </p:nvSpPr>
        <p:spPr>
          <a:xfrm>
            <a:off x="216000" y="1295280"/>
            <a:ext cx="87836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0960" indent="-210960" algn="just">
              <a:lnSpc>
                <a:spcPct val="102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300dc"/>
                </a:solidFill>
                <a:latin typeface="Monotype Corsiva"/>
              </a:rPr>
              <a:t>формирование гражданского самосознания, ответственности за судьбу Родины, воспитание гражданственности любви к Родине на примерах истории развития казачества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177840" y="2519280"/>
            <a:ext cx="4143240" cy="25718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" descr=""/>
          <p:cNvPicPr/>
          <p:nvPr/>
        </p:nvPicPr>
        <p:blipFill>
          <a:blip r:embed="rId2"/>
          <a:stretch/>
        </p:blipFill>
        <p:spPr>
          <a:xfrm>
            <a:off x="4546440" y="3459240"/>
            <a:ext cx="4165920" cy="2587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1" descr=""/>
          <p:cNvPicPr/>
          <p:nvPr/>
        </p:nvPicPr>
        <p:blipFill>
          <a:blip r:embed="rId1"/>
          <a:stretch/>
        </p:blipFill>
        <p:spPr>
          <a:xfrm>
            <a:off x="360360" y="216000"/>
            <a:ext cx="4525920" cy="33940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"/>
          <p:cNvPicPr/>
          <p:nvPr/>
        </p:nvPicPr>
        <p:blipFill>
          <a:blip r:embed="rId2"/>
          <a:stretch/>
        </p:blipFill>
        <p:spPr>
          <a:xfrm>
            <a:off x="4572000" y="164304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"/>
          <p:cNvPicPr/>
          <p:nvPr/>
        </p:nvPicPr>
        <p:blipFill>
          <a:blip r:embed="rId3"/>
          <a:stretch/>
        </p:blipFill>
        <p:spPr>
          <a:xfrm>
            <a:off x="2143080" y="40006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1" descr=""/>
          <p:cNvPicPr/>
          <p:nvPr/>
        </p:nvPicPr>
        <p:blipFill>
          <a:blip r:embed="rId1"/>
          <a:stretch/>
        </p:blipFill>
        <p:spPr>
          <a:xfrm>
            <a:off x="357120" y="162000"/>
            <a:ext cx="8423280" cy="6318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2"/>
          <p:cNvSpPr/>
          <p:nvPr/>
        </p:nvSpPr>
        <p:spPr>
          <a:xfrm>
            <a:off x="2249640" y="287280"/>
            <a:ext cx="4590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жидаемые результат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9360" y="4535640"/>
            <a:ext cx="9134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Monotype Corsiva"/>
              </a:rPr>
              <a:t>Конечным результатом реализации Программы должна стать социальная адаптация воспитанников в современных жизненных условиях, установление их психического равновесия и создание для них устойчивого эмоционального климата, сформирование активной гражданской позиции  несовершеннолетних, как основы личности гражданина Рос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"/>
          <p:cNvSpPr/>
          <p:nvPr/>
        </p:nvSpPr>
        <p:spPr>
          <a:xfrm>
            <a:off x="357120" y="2071800"/>
            <a:ext cx="842976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Monotype Corsiva"/>
              </a:rPr>
              <a:t>Создание системы социально-психологической, социально-педагогической, социально-медицинской помощи детям и подросткам, находящимся в трудной жизненной ситуации,  воспитывая духовно богатую, физически развитую, творчески мыслящую личность гражданина, ориентированную на высокие нравственные ценности на основе изучения  краеведения, традиций, истории  казачества, культурного наследия пред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2"/>
          <p:cNvSpPr/>
          <p:nvPr/>
        </p:nvSpPr>
        <p:spPr>
          <a:xfrm>
            <a:off x="857160" y="428760"/>
            <a:ext cx="757260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f6fc6"/>
                </a:solidFill>
                <a:latin typeface="Monotype Corsiva"/>
              </a:rPr>
              <a:t>Цель программы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1"/>
          <p:cNvSpPr/>
          <p:nvPr/>
        </p:nvSpPr>
        <p:spPr>
          <a:xfrm>
            <a:off x="500040" y="260280"/>
            <a:ext cx="8643960" cy="1473120"/>
          </a:xfrm>
          <a:custGeom>
            <a:avLst/>
            <a:gdLst>
              <a:gd name="textAreaLeft" fmla="*/ 2160720 w 8643960"/>
              <a:gd name="textAreaRight" fmla="*/ 6483240 w 8643960"/>
              <a:gd name="textAreaTop" fmla="*/ 183960 h 1473120"/>
              <a:gd name="textAreaBottom" fmla="*/ 1429560 h 14731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20960"/>
                </a:lnTo>
                <a:arcTo wR="21600" hR="20153" stAng="4471878" swAng="-976834"/>
                <a:lnTo>
                  <a:pt x="18900" y="1067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25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10679"/>
                </a:lnTo>
                <a:close/>
              </a:path>
              <a:path fill="none" w="21600" h="21600">
                <a:moveTo>
                  <a:pt x="8100" y="25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25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20960"/>
                </a:moveTo>
                <a:lnTo>
                  <a:pt x="5400" y="2060"/>
                </a:lnTo>
              </a:path>
              <a:path fill="none" w="21600" h="21600">
                <a:moveTo>
                  <a:pt x="16200" y="20960"/>
                </a:moveTo>
                <a:lnTo>
                  <a:pt x="16200" y="2060"/>
                </a:lnTo>
              </a:path>
            </a:pathLst>
          </a:cu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риют «Любав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Oval 2"/>
          <p:cNvSpPr/>
          <p:nvPr/>
        </p:nvSpPr>
        <p:spPr>
          <a:xfrm>
            <a:off x="2411280" y="5445000"/>
            <a:ext cx="21430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Группа мальчиков «Казачок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Oval 3"/>
          <p:cNvSpPr/>
          <p:nvPr/>
        </p:nvSpPr>
        <p:spPr>
          <a:xfrm>
            <a:off x="5796000" y="5518080"/>
            <a:ext cx="23572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Группа девочек «Кудесниц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Oval 6"/>
          <p:cNvSpPr/>
          <p:nvPr/>
        </p:nvSpPr>
        <p:spPr>
          <a:xfrm>
            <a:off x="611280" y="2997360"/>
            <a:ext cx="23032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риёмное отде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7"/>
          <p:cNvSpPr/>
          <p:nvPr/>
        </p:nvSpPr>
        <p:spPr>
          <a:xfrm>
            <a:off x="3276720" y="2492280"/>
            <a:ext cx="2952720" cy="21607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Отделение «Станичники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8"/>
          <p:cNvSpPr/>
          <p:nvPr/>
        </p:nvSpPr>
        <p:spPr>
          <a:xfrm>
            <a:off x="6588000" y="2925720"/>
            <a:ext cx="22320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Материально-технический отд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3" name="Прямая со стрелкой 13"/>
          <p:cNvCxnSpPr/>
          <p:nvPr/>
        </p:nvCxnSpPr>
        <p:spPr>
          <a:xfrm>
            <a:off x="6156360" y="1628640"/>
            <a:ext cx="12247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Прямая со стрелкой 15"/>
          <p:cNvCxnSpPr/>
          <p:nvPr/>
        </p:nvCxnSpPr>
        <p:spPr>
          <a:xfrm flipH="1">
            <a:off x="1907640" y="1773000"/>
            <a:ext cx="122472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Прямая со стрелкой 17"/>
          <p:cNvCxnSpPr>
            <a:stCxn id="547" idx="0"/>
            <a:endCxn id="551" idx="0"/>
          </p:cNvCxnSpPr>
          <p:nvPr/>
        </p:nvCxnSpPr>
        <p:spPr>
          <a:xfrm flipH="1">
            <a:off x="4752360" y="1733400"/>
            <a:ext cx="68760" cy="75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6" name="Прямая со стрелкой 19"/>
          <p:cNvCxnSpPr>
            <a:endCxn id="548" idx="0"/>
          </p:cNvCxnSpPr>
          <p:nvPr/>
        </p:nvCxnSpPr>
        <p:spPr>
          <a:xfrm flipH="1">
            <a:off x="3482280" y="4653000"/>
            <a:ext cx="80244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Прямая со стрелкой 21"/>
          <p:cNvCxnSpPr/>
          <p:nvPr/>
        </p:nvCxnSpPr>
        <p:spPr>
          <a:xfrm>
            <a:off x="5579640" y="4508280"/>
            <a:ext cx="108036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"/>
          <p:cNvSpPr/>
          <p:nvPr/>
        </p:nvSpPr>
        <p:spPr>
          <a:xfrm>
            <a:off x="428760" y="21420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62699"/>
                </a:solidFill>
                <a:latin typeface="Monotype Corsiva"/>
              </a:rPr>
              <a:t>Основные направления деятельности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142920" y="64116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23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Monotype Corsiva"/>
              </a:rPr>
              <a:t>предоставление несовершеннолетним временного стационарного обслуживания до определения совместно с органами опеки и попечительства наиболее оптимальных  форм его  жизнеустройства и содействие несовершеннолетним в их дальнейшем  устройст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"/>
          <p:cNvPicPr/>
          <p:nvPr/>
        </p:nvPicPr>
        <p:blipFill>
          <a:blip r:embed="rId2"/>
          <a:stretch/>
        </p:blipFill>
        <p:spPr>
          <a:xfrm>
            <a:off x="4751280" y="299232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"/>
          <p:cNvSpPr/>
          <p:nvPr/>
        </p:nvSpPr>
        <p:spPr>
          <a:xfrm>
            <a:off x="285840" y="70920"/>
            <a:ext cx="885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237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Monotype Corsiva"/>
              </a:rPr>
              <a:t>оказание правовой, социальной и педагогической помощи несовершеннолетним, находящимся в трудной жизненной ситуации, на основе программ  гражданско-патриотического воспитания, профессионально-трудовой, учебно-познавательной, социально-культурной, физкультурно-оздоровительной компонен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360360" y="27766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4805280" y="284796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57120" y="21420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Monotype Corsiva"/>
              </a:rPr>
              <a:t>сотрудничество с представителями окружного казачьего общества, войскового казачьего общества, «Всевеликое войско Донское» в разработке и реализации программ воспитания и социализации несовершеннолетних на основе традиций  каза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1557360" y="2519280"/>
            <a:ext cx="571500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Oval 1"/>
          <p:cNvSpPr/>
          <p:nvPr/>
        </p:nvSpPr>
        <p:spPr>
          <a:xfrm>
            <a:off x="2592360" y="309600"/>
            <a:ext cx="3672000" cy="12747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Направления воспитательной рабо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Oval 2"/>
          <p:cNvSpPr/>
          <p:nvPr/>
        </p:nvSpPr>
        <p:spPr>
          <a:xfrm>
            <a:off x="5616720" y="2879640"/>
            <a:ext cx="295272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Гражданско-патриотическ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3"/>
          <p:cNvSpPr/>
          <p:nvPr/>
        </p:nvSpPr>
        <p:spPr>
          <a:xfrm>
            <a:off x="6119640" y="4486320"/>
            <a:ext cx="259272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Учебно-познавательн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Oval 4"/>
          <p:cNvSpPr/>
          <p:nvPr/>
        </p:nvSpPr>
        <p:spPr>
          <a:xfrm>
            <a:off x="3168720" y="5133960"/>
            <a:ext cx="23032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Социально-культурн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5"/>
          <p:cNvSpPr/>
          <p:nvPr/>
        </p:nvSpPr>
        <p:spPr>
          <a:xfrm>
            <a:off x="863640" y="3816360"/>
            <a:ext cx="27352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Духовно-нравственн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Oval 6"/>
          <p:cNvSpPr/>
          <p:nvPr/>
        </p:nvSpPr>
        <p:spPr>
          <a:xfrm>
            <a:off x="144360" y="2038320"/>
            <a:ext cx="27352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Физкультурно-оздоровительн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Oval 7"/>
          <p:cNvSpPr/>
          <p:nvPr/>
        </p:nvSpPr>
        <p:spPr>
          <a:xfrm>
            <a:off x="6191280" y="1461960"/>
            <a:ext cx="284472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b5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Профессионально-трудов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4" name="Прямая со стрелкой 9"/>
          <p:cNvCxnSpPr/>
          <p:nvPr/>
        </p:nvCxnSpPr>
        <p:spPr>
          <a:xfrm flipH="1">
            <a:off x="2123280" y="1412640"/>
            <a:ext cx="793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5" name="Прямая со стрелкой 11"/>
          <p:cNvCxnSpPr/>
          <p:nvPr/>
        </p:nvCxnSpPr>
        <p:spPr>
          <a:xfrm>
            <a:off x="6227280" y="1197000"/>
            <a:ext cx="1081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6" name="Прямая со стрелкой 13"/>
          <p:cNvCxnSpPr/>
          <p:nvPr/>
        </p:nvCxnSpPr>
        <p:spPr>
          <a:xfrm flipH="1">
            <a:off x="2700000" y="1628640"/>
            <a:ext cx="1008720" cy="21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Прямая со стрелкой 15"/>
          <p:cNvCxnSpPr>
            <a:stCxn id="567" idx="4"/>
          </p:cNvCxnSpPr>
          <p:nvPr/>
        </p:nvCxnSpPr>
        <p:spPr>
          <a:xfrm>
            <a:off x="4429080" y="1584000"/>
            <a:ext cx="288000" cy="35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Прямая со стрелкой 17"/>
          <p:cNvCxnSpPr/>
          <p:nvPr/>
        </p:nvCxnSpPr>
        <p:spPr>
          <a:xfrm>
            <a:off x="5363640" y="1628640"/>
            <a:ext cx="129636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Прямая со стрелкой 19"/>
          <p:cNvCxnSpPr/>
          <p:nvPr/>
        </p:nvCxnSpPr>
        <p:spPr>
          <a:xfrm>
            <a:off x="4787640" y="1628280"/>
            <a:ext cx="1369080" cy="309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1" descr=""/>
          <p:cNvPicPr/>
          <p:nvPr/>
        </p:nvPicPr>
        <p:blipFill>
          <a:blip r:embed="rId1"/>
          <a:stretch/>
        </p:blipFill>
        <p:spPr>
          <a:xfrm>
            <a:off x="216000" y="3510000"/>
            <a:ext cx="4711680" cy="268128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2"/>
          <p:cNvSpPr/>
          <p:nvPr/>
        </p:nvSpPr>
        <p:spPr>
          <a:xfrm>
            <a:off x="482760" y="0"/>
            <a:ext cx="82296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323dc"/>
                </a:solidFill>
                <a:latin typeface="Monotype Corsiva"/>
              </a:rPr>
              <a:t>Духовно-нравственное воспит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287280" y="863640"/>
            <a:ext cx="871236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0960" indent="-210960">
              <a:lnSpc>
                <a:spcPct val="102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00dc"/>
                </a:solidFill>
                <a:latin typeface="Monotype Corsiva"/>
              </a:rPr>
              <a:t>формировать у детей желания поступать в соответствии с нравственными ценностями и правилам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lnSpc>
                <a:spcPct val="102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00dc"/>
                </a:solidFill>
                <a:latin typeface="Monotype Corsiva"/>
              </a:rPr>
              <a:t>развивать способности к состраданию, сопереживанию, пониманию другого человек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lnSpc>
                <a:spcPct val="102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00dc"/>
                </a:solidFill>
                <a:latin typeface="Monotype Corsiva"/>
              </a:rPr>
              <a:t>воспитывать стремление к любви, добру, толерантност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lnSpc>
                <a:spcPct val="102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300dc"/>
                </a:solidFill>
                <a:latin typeface="Monotype Corsiva"/>
              </a:rPr>
              <a:t>дать знания в области православной культуры для духовно-нравственного и эстетического развития личност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096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Picture 4" descr=""/>
          <p:cNvPicPr/>
          <p:nvPr/>
        </p:nvPicPr>
        <p:blipFill>
          <a:blip r:embed="rId2"/>
          <a:stretch/>
        </p:blipFill>
        <p:spPr>
          <a:xfrm>
            <a:off x="5111640" y="352728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" descr=""/>
          <p:cNvPicPr/>
          <p:nvPr/>
        </p:nvPicPr>
        <p:blipFill>
          <a:blip r:embed="rId1"/>
          <a:stretch/>
        </p:blipFill>
        <p:spPr>
          <a:xfrm>
            <a:off x="252360" y="360360"/>
            <a:ext cx="4140360" cy="3103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2" descr=""/>
          <p:cNvPicPr/>
          <p:nvPr/>
        </p:nvPicPr>
        <p:blipFill>
          <a:blip r:embed="rId2"/>
          <a:stretch/>
        </p:blipFill>
        <p:spPr>
          <a:xfrm>
            <a:off x="4896000" y="379728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"/>
          <p:cNvPicPr/>
          <p:nvPr/>
        </p:nvPicPr>
        <p:blipFill>
          <a:blip r:embed="rId3"/>
          <a:stretch/>
        </p:blipFill>
        <p:spPr>
          <a:xfrm>
            <a:off x="4680000" y="34128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"/>
          <p:cNvPicPr/>
          <p:nvPr/>
        </p:nvPicPr>
        <p:blipFill>
          <a:blip r:embed="rId4"/>
          <a:stretch/>
        </p:blipFill>
        <p:spPr>
          <a:xfrm>
            <a:off x="324000" y="3672000"/>
            <a:ext cx="3924000" cy="294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ckYouBill</cp:lastModifiedBy>
  <dcterms:modified xsi:type="dcterms:W3CDTF">2013-04-01T17:28:44Z</dcterms:modified>
  <cp:revision>19</cp:revision>
  <dc:subject/>
  <dc:title>Слайд 1</dc:title>
</cp:coreProperties>
</file>