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dt" idx="27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28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29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C5FF0-BDB3-45FF-8C09-F54B7E31F1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F25E2-1B7D-4769-8F2B-6A87FA4ECB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C2CB0-C4FF-47F2-8AB1-B08A18D683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2F0CD-A705-4D74-AB01-D8F68757B6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C9FC4-3532-460E-842C-0433FAB5F2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67E19-EC54-497F-9249-BEDC4F2D50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8FB82-A271-4A6F-B727-19BD3E6EE7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66A31-D718-40BE-9972-5D8BCFBA8B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318FB-5949-4A3A-9EFF-0E619C5DC4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52301-FF8E-481B-88F1-9EDCCE034D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9EEFA-0D9F-444C-A8E5-260727A200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5B3BD-22ED-4A2E-9644-0168421C1F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1FBA0-873A-4856-9747-BA2942C071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7EF19-F2C0-4D18-802B-74FE50ADC1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92DB3-EF1B-4F93-99EE-5FE03E393B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9E726-A416-4C5D-8B7A-6B66E54D5E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FEB2D-6251-4568-B1A4-845E7422EC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8D526-56A7-47F9-A1DE-8D7C3F5AC1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644E8-8F92-406A-9501-7A233625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FDE2B-454F-41DF-9932-D6AE38E9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6266B-538B-4B8A-AD9D-F9FC3CCF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80C0E-5556-465C-8E21-42B6981B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24966-826E-4B8E-B0A1-590B39E7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2DC46-758B-4F58-B181-78ACE771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46323-34DD-492F-8FC3-9F1A5AA5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C6067-5F56-4405-A84E-3B2A616A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4C7B7-A7CF-4D07-8623-85FEA683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6F63A-18B0-44E2-9270-71723F2BB4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2D93F2-F833-47BB-BBB8-B2679EC7AD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FF2B-E266-49E4-AE58-4957C945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BAB1B-C73C-4095-BA95-037D7B09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761C4-3DCA-453E-AAB4-E96B4276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D61FD-43E4-4C31-8C24-6F1A4F89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1709B-E6DA-4456-B89D-43D25020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586920-C4D0-4949-BED9-77405001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674865-9AB4-436B-B1D4-EFC43111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37ECD-9CBE-4E97-BA08-E2DFE02F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C30CAD-B42A-4D19-BA29-6C31C302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E47C9D-E770-4E98-A39F-82DD3198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408333-FFD0-49B9-9B82-FE33EFC4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506EA-04E9-4812-8069-D7B5CD7B00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51715A-3ADA-4C67-8376-AC8D6AEB3D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04DB4C-C4BD-497A-81DF-8ECCA5A6A4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550EDE-6941-42F1-888F-1B767D73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1793C5-61D8-4387-946A-0C07E531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A0B3C9-645F-4063-A191-385F7D81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0B2F91-A4C5-4DA5-82A2-DF1F8214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72CC04-F288-4070-964F-E28FB191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4560FB-4EA5-4F3A-842D-7B0FA931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0B6ACB-4A05-4933-985A-801AB424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96A839-C9C6-458A-91E8-DBBA1758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D2D14-278C-40E9-B2E9-75EA09836F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360BCB-FAF8-4CAD-80E0-0591EA25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819163-CF37-41BE-A7A0-C9253A91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AD5847-F0EF-4DB9-8A48-424B28AC5C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2BC80-0FAB-47B8-B174-E29C977DEF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090D5-495C-4710-8B18-84DF47B7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338EF-DD80-4AB1-92B9-6C5BD98E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716EF-D53F-4DBD-B57E-8A1DCB28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C806D-5612-49F8-8DE9-B1A0FBC7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55C8C-AA36-481E-B52E-A5CFF6A0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70BB9-EECF-4B35-95FF-22E80101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48DED-5F01-41F6-983F-26391702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4ADD4-7544-42CD-803C-C671F55D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F1464-1208-43FF-86CC-84503072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FE9EC-7FA1-4DD9-A7B2-D690C558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A2813-67FF-4CA4-B304-42C6DA44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59C59-0034-4B18-8191-42FC40FFC9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5E296B-D216-4F6D-AA72-FF06A7316B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8A197D-DB20-44B9-AA53-16EE84CB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16F275-094F-4768-893B-AA30443C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A1B04B-6607-4D97-B98F-A185E620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FD6AE5-57E1-4A34-992B-A920A1D4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331E0-FC0A-4A76-B454-3FC85AF7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09ABCC-DA72-4DE3-AB14-72A1524A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C1E989-047E-4A22-89BC-615F2310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7D1447-63B1-487A-8DF7-11795B34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F57603-7137-4060-A8EE-E9BA73B7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10E8BE-875F-4BC1-80B7-B1307963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11B397-DD8F-46CD-8F7F-FE987DA4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11D587-CF71-4EB4-BA46-3643076137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C2EC5-DF48-40A2-BBDE-326FDD51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A9218-E689-4842-A896-55F3E867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C3AAA-F10C-4972-81F7-077D3AF3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F5393-E566-4233-A6CB-EEC9473B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DBD8D-8D53-4EE3-B2D1-154BE728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C18E0-DF39-4614-A085-CAD35571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BB45F-4B6E-4DCE-8C4C-8BD0D524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46CAE-E8E0-4175-8232-59CA5C96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0DFDF-AE87-48C3-B309-A7318D18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C8832-CD06-4755-A66B-41D2B3B702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1DA9-47D3-4370-B5E3-D8F5326317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E4C5-79BA-42BB-BCFA-C6C7A73C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02A2-2010-4B35-AFD3-4CA55BA3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5C0F-C90F-4EA6-A7B3-65C83DC9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8785-9787-40B2-8410-BEBC48BE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FED19-416E-434A-8513-C3E6DF3C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FD1E-31FB-4139-934D-43F47513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8293-4EFB-48A8-8B33-07F14759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8C9C-0D56-4EB4-BCBC-61C29556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A1D6-36AA-431A-878C-15E4A608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DB6B-0EED-4F80-9372-362DD9CF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B9B7-994D-43CE-9B90-7C23D284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F593-F8D4-4299-970E-5961DA82AE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CD8777-7974-413D-B254-FC27C13228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AD674D-5865-43C7-9050-CD73749C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1C592-0DCF-4987-8AC5-7E7EB15D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2AD4B-3359-4C12-AC1E-97694C7A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5AC7B-DB35-4B02-88F3-C568C11C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B1C9E-C7BC-4C45-8507-E3C175FA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429B9-422E-4B3F-AF57-86457B1F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81CEB-261D-40B2-8A06-A2395CFF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989DF-B017-4B6E-94E9-BD740499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45EC5-BA8E-4AFD-9548-A79AEF17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D6C98-FF21-4D77-AB0E-897FF01E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0CEDC-9F1A-4A7E-86FC-7D5BC7A9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A1F28-45DC-4707-953F-EB40C78C68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6EC07C-1E16-4EC5-84FB-7BA0591F59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EFFEF-F330-4E47-BAF6-4E3E55BD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5AF8D7-A765-4576-BF89-DD809D0D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D3701F-5F9A-4833-A021-6EA066B8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524A2-15E9-4413-84D0-308BDB92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BCD2F1-EFDB-4254-BB56-8E68AADE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5E707B-B133-4A01-A8B3-96C7BF6C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3BDFFE-04A6-4352-82F9-16F84C60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542F92-C48F-4159-AACA-DB3FC766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13F6C0-266D-4B7F-8403-DECE0F68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8AE360-5357-4D84-9DED-BF33EDF6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A41C9E-79C6-4EE2-8332-130C876E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7EEB5-E3CA-48DA-8322-80BA2DAD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0F9E3C-F865-4921-BC79-D59044ABA5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22515-0D14-4606-A7E2-09DD7377E1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4D0EC-C5A7-428B-A830-C6D4556F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D4C48-93AE-459E-B2E3-AE1D3323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931A8-F16B-41A9-8350-0A56F175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6AEEF-48B0-4F61-9BE1-A0721099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E4FE4-B1E0-4D0A-A6BC-E37D637C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9C3B5-0AA8-4F95-BCAE-85BCDBF8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5FE0C-3E05-43FF-94A4-D731517A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2A834-8BC7-4353-9733-E39AF69D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10A81-3864-48CF-9649-957A1427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D6087-AEBE-4076-BB83-AB48B839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D3C87-AC5C-4162-AC89-4D214AA9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98164-9AD6-4A7A-9480-746DD78F29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E96CDB-E10A-4435-A2DE-3BDF34919C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8D6B6-09BE-495E-858B-78FACAE1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38AB88-8292-4EC0-9C1C-6CBC34E8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0AE47-3D42-4553-811E-35068686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60F43-92D7-4F45-A11B-1BA6AEA9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744120-69E1-4EAB-949A-3D7DC707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56AF62-3AF7-4A53-BC86-ACF8A03A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F7806-DDB6-4C55-8763-83F37AA5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4F179-6565-4850-ADBE-87F886AC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C5AAF2-049C-4807-94A5-CA122A63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3BE5CD-90A2-443E-849C-9053E609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1BC4F-527A-4AFA-ACEB-46E25D0F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493A71-519C-4356-A569-DF7BE841DF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AD18BC-3079-41ED-B931-50638BB4A0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BB49C7-1186-4277-824A-F6EDE3B6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F957EE-48B0-4A8F-9322-5AB931C0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1AA370-544C-42BF-BE68-2BB96A2B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9F28A0-9D50-44EB-BC97-9D298E7C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0CDE4-DE19-4D2E-8D46-171B69F3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CF9781-D66C-4207-8BC9-73317747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CE0874-2AAA-4032-A5FD-B11B5E0D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E6AC52-0100-44AB-BC91-1BAE88A8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4799A0-A7B9-4DB6-A0E7-46659BCB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796A70-F094-46A1-9A18-2F10A5DC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9252A4-A17F-4670-AD87-78FFD483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3E51F1-3FC8-43ED-B200-EF616B914B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BD744-E838-4E42-BFC7-33954E2D85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4E8A6-BD87-4EE7-BA2E-2C7CD717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E90E9-F53C-4604-8529-7B610653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60865F-D163-42E7-A900-A7C5F2996C2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0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19C605-9DBB-44C3-ACF8-F9C588F9409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2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94D94B-8B4A-4D2D-BFD6-ECA11614630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3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4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5F0136-1A01-43A1-A005-E6F7C3861BD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26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553861-9106-4BD7-857A-41F32A628AB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2105FC-7A54-48A4-950E-A5A4EFE4A4F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DEB849-D86A-4C71-9282-46F54C6D343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47F206-D413-4DEC-8AE3-69C42CB74DE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E21759-5CC7-4DF1-9E93-6E3CE9DDEFE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C31188-B86B-43CD-B732-E27412CDAFE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4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761150-A45B-43FC-9009-9C8272AAD6E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5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D0728E-7946-47C2-890A-8C46F98E124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0EA079-9C38-45AF-A272-38998314CE1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"/>
          <p:cNvSpPr/>
          <p:nvPr/>
        </p:nvSpPr>
        <p:spPr>
          <a:xfrm>
            <a:off x="428760" y="928800"/>
            <a:ext cx="835812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e9f9fb"/>
                </a:solidFill>
                <a:latin typeface="Book Antiqu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Комплексная программа работы ГСКУ АО «Социальный приют для детей </a:t>
            </a: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«Любав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300dc"/>
                </a:solidFill>
                <a:latin typeface="Monotype Corsiva"/>
              </a:rPr>
              <a:t>Физкультурно — оздоровительное направление воспитательной работы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287280" y="1295280"/>
            <a:ext cx="8567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0960" indent="-210960">
              <a:lnSpc>
                <a:spcPct val="102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00dc"/>
                </a:solidFill>
                <a:latin typeface="Monotype Corsiva"/>
              </a:rPr>
              <a:t>совершенствование физического и психологического здоровья детей на примере исторически сложившихся традиций казачества, используя заложенный в них потенциал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60360" y="2484360"/>
            <a:ext cx="3780000" cy="25560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" descr=""/>
          <p:cNvPicPr/>
          <p:nvPr/>
        </p:nvPicPr>
        <p:blipFill>
          <a:blip r:embed="rId2"/>
          <a:stretch/>
        </p:blipFill>
        <p:spPr>
          <a:xfrm>
            <a:off x="4824360" y="2087640"/>
            <a:ext cx="3924360" cy="29415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"/>
          <p:cNvPicPr/>
          <p:nvPr/>
        </p:nvPicPr>
        <p:blipFill>
          <a:blip r:embed="rId3"/>
          <a:stretch/>
        </p:blipFill>
        <p:spPr>
          <a:xfrm>
            <a:off x="2592360" y="401472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043160" cy="30304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2" descr=""/>
          <p:cNvPicPr/>
          <p:nvPr/>
        </p:nvPicPr>
        <p:blipFill>
          <a:blip r:embed="rId2"/>
          <a:stretch/>
        </p:blipFill>
        <p:spPr>
          <a:xfrm>
            <a:off x="4248000" y="3444840"/>
            <a:ext cx="4896000" cy="3413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" descr=""/>
          <p:cNvPicPr/>
          <p:nvPr/>
        </p:nvPicPr>
        <p:blipFill>
          <a:blip r:embed="rId3"/>
          <a:stretch/>
        </p:blipFill>
        <p:spPr>
          <a:xfrm>
            <a:off x="4896000" y="190440"/>
            <a:ext cx="3963960" cy="29764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"/>
          <p:cNvPicPr/>
          <p:nvPr/>
        </p:nvPicPr>
        <p:blipFill>
          <a:blip r:embed="rId4"/>
          <a:stretch/>
        </p:blipFill>
        <p:spPr>
          <a:xfrm>
            <a:off x="479520" y="3959280"/>
            <a:ext cx="2976480" cy="1987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300dc"/>
                </a:solidFill>
                <a:latin typeface="Monotype Corsiva"/>
              </a:rPr>
              <a:t>Профессионально-трудовое направление воспитательной работы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8" name="Text Box 2"/>
          <p:cNvSpPr/>
          <p:nvPr/>
        </p:nvSpPr>
        <p:spPr>
          <a:xfrm>
            <a:off x="608040" y="1422360"/>
            <a:ext cx="83199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0960" indent="-210960">
              <a:lnSpc>
                <a:spcPct val="102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00dc"/>
                </a:solidFill>
                <a:latin typeface="Monotype Corsiva"/>
              </a:rPr>
              <a:t>формирование позитивного отношения к различным видам трудовой деятельност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5" descr="57efe18a059788eaea8b31c1a313cde1thumb640x480"/>
          <p:cNvPicPr/>
          <p:nvPr/>
        </p:nvPicPr>
        <p:blipFill>
          <a:blip r:embed="rId1"/>
          <a:stretch/>
        </p:blipFill>
        <p:spPr>
          <a:xfrm>
            <a:off x="539640" y="2492280"/>
            <a:ext cx="3292560" cy="21909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0000900735-preview"/>
          <p:cNvPicPr/>
          <p:nvPr/>
        </p:nvPicPr>
        <p:blipFill>
          <a:blip r:embed="rId2"/>
          <a:stretch/>
        </p:blipFill>
        <p:spPr>
          <a:xfrm>
            <a:off x="2700360" y="3933720"/>
            <a:ext cx="3198960" cy="21178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trud_rebiata"/>
          <p:cNvPicPr/>
          <p:nvPr/>
        </p:nvPicPr>
        <p:blipFill>
          <a:blip r:embed="rId3"/>
          <a:stretch/>
        </p:blipFill>
        <p:spPr>
          <a:xfrm>
            <a:off x="5508720" y="2781360"/>
            <a:ext cx="2752560" cy="1608120"/>
          </a:xfrm>
          <a:prstGeom prst="rect">
            <a:avLst/>
          </a:prstGeom>
          <a:ln w="0">
            <a:noFill/>
          </a:ln>
        </p:spPr>
      </p:pic>
      <p:sp>
        <p:nvSpPr>
          <p:cNvPr id="602" name="TextBox 6"/>
          <p:cNvSpPr/>
          <p:nvPr/>
        </p:nvSpPr>
        <p:spPr>
          <a:xfrm>
            <a:off x="-66240" y="6021360"/>
            <a:ext cx="89146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Monotype Corsiva"/>
              </a:rPr>
              <a:t>Если любят труд ребята – значит это казача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300dc"/>
                </a:solidFill>
                <a:latin typeface="Monotype Corsiva"/>
              </a:rPr>
              <a:t>Социально-культурное направление воспитательной работы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4" name="Text Box 2"/>
          <p:cNvSpPr/>
          <p:nvPr/>
        </p:nvSpPr>
        <p:spPr>
          <a:xfrm>
            <a:off x="306360" y="1511280"/>
            <a:ext cx="8621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0960" indent="-210960">
              <a:lnSpc>
                <a:spcPct val="102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00dc"/>
                </a:solidFill>
                <a:latin typeface="Monotype Corsiva"/>
              </a:rPr>
              <a:t>приобщать детей к истокам культуры казаков, знакомить с обрядами, традициями, бытом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Group 3"/>
          <p:cNvGrpSpPr/>
          <p:nvPr/>
        </p:nvGrpSpPr>
        <p:grpSpPr>
          <a:xfrm>
            <a:off x="216000" y="2376360"/>
            <a:ext cx="4708440" cy="3530880"/>
            <a:chOff x="216000" y="2376360"/>
            <a:chExt cx="4708440" cy="3530880"/>
          </a:xfrm>
        </p:grpSpPr>
        <p:pic>
          <p:nvPicPr>
            <p:cNvPr id="606" name="Picture 4" descr=""/>
            <p:cNvPicPr/>
            <p:nvPr/>
          </p:nvPicPr>
          <p:blipFill>
            <a:blip r:embed="rId1"/>
            <a:stretch/>
          </p:blipFill>
          <p:spPr>
            <a:xfrm>
              <a:off x="216000" y="2376360"/>
              <a:ext cx="4708440" cy="35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 Box 5"/>
            <p:cNvSpPr/>
            <p:nvPr/>
          </p:nvSpPr>
          <p:spPr>
            <a:xfrm>
              <a:off x="216000" y="2376360"/>
              <a:ext cx="4708440" cy="35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4989600" y="2735280"/>
            <a:ext cx="40100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300dc"/>
                </a:solidFill>
                <a:latin typeface="Monotype Corsiva"/>
              </a:rPr>
              <a:t>Гражданско — патриотическое направление воспитательной работы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0" name="Text Box 2"/>
          <p:cNvSpPr/>
          <p:nvPr/>
        </p:nvSpPr>
        <p:spPr>
          <a:xfrm>
            <a:off x="216000" y="1295280"/>
            <a:ext cx="87836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0960" indent="-210960" algn="just">
              <a:lnSpc>
                <a:spcPct val="102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300dc"/>
                </a:solidFill>
                <a:latin typeface="Monotype Corsiva"/>
              </a:rPr>
              <a:t>формирование гражданского самосознания, ответственности за судьбу Родины, воспитание гражданственности любви к Родине на примерах истории развития казачества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177840" y="2519280"/>
            <a:ext cx="4143240" cy="25718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" descr=""/>
          <p:cNvPicPr/>
          <p:nvPr/>
        </p:nvPicPr>
        <p:blipFill>
          <a:blip r:embed="rId2"/>
          <a:stretch/>
        </p:blipFill>
        <p:spPr>
          <a:xfrm>
            <a:off x="4546440" y="3459240"/>
            <a:ext cx="4165920" cy="2587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1" descr=""/>
          <p:cNvPicPr/>
          <p:nvPr/>
        </p:nvPicPr>
        <p:blipFill>
          <a:blip r:embed="rId1"/>
          <a:stretch/>
        </p:blipFill>
        <p:spPr>
          <a:xfrm>
            <a:off x="360360" y="216000"/>
            <a:ext cx="4525920" cy="33940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" descr=""/>
          <p:cNvPicPr/>
          <p:nvPr/>
        </p:nvPicPr>
        <p:blipFill>
          <a:blip r:embed="rId2"/>
          <a:stretch/>
        </p:blipFill>
        <p:spPr>
          <a:xfrm>
            <a:off x="4572000" y="164304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"/>
          <p:cNvPicPr/>
          <p:nvPr/>
        </p:nvPicPr>
        <p:blipFill>
          <a:blip r:embed="rId3"/>
          <a:stretch/>
        </p:blipFill>
        <p:spPr>
          <a:xfrm>
            <a:off x="2143080" y="40006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1" descr=""/>
          <p:cNvPicPr/>
          <p:nvPr/>
        </p:nvPicPr>
        <p:blipFill>
          <a:blip r:embed="rId1"/>
          <a:stretch/>
        </p:blipFill>
        <p:spPr>
          <a:xfrm>
            <a:off x="357120" y="162000"/>
            <a:ext cx="8423280" cy="63180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2"/>
          <p:cNvSpPr/>
          <p:nvPr/>
        </p:nvSpPr>
        <p:spPr>
          <a:xfrm>
            <a:off x="2249640" y="287280"/>
            <a:ext cx="4590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жидаемые результат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9360" y="4535640"/>
            <a:ext cx="9134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Monotype Corsiva"/>
              </a:rPr>
              <a:t>Конечным результатом реализации Программы должна стать социальная адаптация воспитанников в современных жизненных условиях, установление их психического равновесия и создание для них устойчивого эмоционального климата, сформирование активной гражданской позиции  несовершеннолетних, как основы личности гражданина Росс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"/>
          <p:cNvSpPr/>
          <p:nvPr/>
        </p:nvSpPr>
        <p:spPr>
          <a:xfrm>
            <a:off x="357120" y="2071800"/>
            <a:ext cx="842976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Monotype Corsiva"/>
              </a:rPr>
              <a:t>Создание системы социально-психологической, социально-педагогической, социально-медицинской помощи детям и подросткам, находящимся в трудной жизненной ситуации,  воспитывая духовно богатую, физически развитую, творчески мыслящую личность гражданина, ориентированную на высокие нравственные ценности на основе изучения  краеведения, традиций, истории  казачества, культурного наследия пред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2"/>
          <p:cNvSpPr/>
          <p:nvPr/>
        </p:nvSpPr>
        <p:spPr>
          <a:xfrm>
            <a:off x="857160" y="428760"/>
            <a:ext cx="757260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f6fc6"/>
                </a:solidFill>
                <a:latin typeface="Monotype Corsiva"/>
              </a:rPr>
              <a:t>Цель программы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1"/>
          <p:cNvSpPr/>
          <p:nvPr/>
        </p:nvSpPr>
        <p:spPr>
          <a:xfrm>
            <a:off x="500040" y="260280"/>
            <a:ext cx="8643960" cy="1473120"/>
          </a:xfrm>
          <a:custGeom>
            <a:avLst/>
            <a:gdLst>
              <a:gd name="textAreaLeft" fmla="*/ 2160720 w 8643960"/>
              <a:gd name="textAreaRight" fmla="*/ 6483240 w 8643960"/>
              <a:gd name="textAreaTop" fmla="*/ 183960 h 1473120"/>
              <a:gd name="textAreaBottom" fmla="*/ 1429560 h 14731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20960"/>
                </a:lnTo>
                <a:arcTo wR="21600" hR="20153" stAng="4471878" swAng="-976834"/>
                <a:lnTo>
                  <a:pt x="18900" y="1067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25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10679"/>
                </a:lnTo>
                <a:close/>
              </a:path>
              <a:path fill="none" w="21600" h="21600">
                <a:moveTo>
                  <a:pt x="8100" y="25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25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20960"/>
                </a:moveTo>
                <a:lnTo>
                  <a:pt x="5400" y="2060"/>
                </a:lnTo>
              </a:path>
              <a:path fill="none" w="21600" h="21600">
                <a:moveTo>
                  <a:pt x="16200" y="20960"/>
                </a:moveTo>
                <a:lnTo>
                  <a:pt x="16200" y="2060"/>
                </a:lnTo>
              </a:path>
            </a:pathLst>
          </a:cu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Приют «Любав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Oval 2"/>
          <p:cNvSpPr/>
          <p:nvPr/>
        </p:nvSpPr>
        <p:spPr>
          <a:xfrm>
            <a:off x="2411280" y="5445000"/>
            <a:ext cx="214308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Группа мальчиков «Казачок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Oval 3"/>
          <p:cNvSpPr/>
          <p:nvPr/>
        </p:nvSpPr>
        <p:spPr>
          <a:xfrm>
            <a:off x="5796000" y="5518080"/>
            <a:ext cx="235728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Группа девочек «Кудесниц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Oval 6"/>
          <p:cNvSpPr/>
          <p:nvPr/>
        </p:nvSpPr>
        <p:spPr>
          <a:xfrm>
            <a:off x="611280" y="2997360"/>
            <a:ext cx="230328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риёмное отде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Oval 7"/>
          <p:cNvSpPr/>
          <p:nvPr/>
        </p:nvSpPr>
        <p:spPr>
          <a:xfrm>
            <a:off x="3276720" y="2492280"/>
            <a:ext cx="2952720" cy="21607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Отделение «Станичники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8"/>
          <p:cNvSpPr/>
          <p:nvPr/>
        </p:nvSpPr>
        <p:spPr>
          <a:xfrm>
            <a:off x="6588000" y="2925720"/>
            <a:ext cx="22320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Материально-технический отд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3" name="Прямая со стрелкой 13"/>
          <p:cNvCxnSpPr/>
          <p:nvPr/>
        </p:nvCxnSpPr>
        <p:spPr>
          <a:xfrm>
            <a:off x="6156360" y="1628640"/>
            <a:ext cx="122472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4" name="Прямая со стрелкой 15"/>
          <p:cNvCxnSpPr/>
          <p:nvPr/>
        </p:nvCxnSpPr>
        <p:spPr>
          <a:xfrm flipH="1">
            <a:off x="1907640" y="1773000"/>
            <a:ext cx="122472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5" name="Прямая со стрелкой 17"/>
          <p:cNvCxnSpPr>
            <a:stCxn id="547" idx="0"/>
            <a:endCxn id="551" idx="0"/>
          </p:cNvCxnSpPr>
          <p:nvPr/>
        </p:nvCxnSpPr>
        <p:spPr>
          <a:xfrm flipH="1">
            <a:off x="4752360" y="1733400"/>
            <a:ext cx="68760" cy="75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6" name="Прямая со стрелкой 19"/>
          <p:cNvCxnSpPr>
            <a:endCxn id="548" idx="0"/>
          </p:cNvCxnSpPr>
          <p:nvPr/>
        </p:nvCxnSpPr>
        <p:spPr>
          <a:xfrm flipH="1">
            <a:off x="3482280" y="4653000"/>
            <a:ext cx="80244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7" name="Прямая со стрелкой 21"/>
          <p:cNvCxnSpPr/>
          <p:nvPr/>
        </p:nvCxnSpPr>
        <p:spPr>
          <a:xfrm>
            <a:off x="5579640" y="4508280"/>
            <a:ext cx="1080360" cy="9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"/>
          <p:cNvSpPr/>
          <p:nvPr/>
        </p:nvSpPr>
        <p:spPr>
          <a:xfrm>
            <a:off x="428760" y="21420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62699"/>
                </a:solidFill>
                <a:latin typeface="Monotype Corsiva"/>
              </a:rPr>
              <a:t>Основные направления деятельности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142920" y="641160"/>
            <a:ext cx="87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23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Monotype Corsiva"/>
              </a:rPr>
              <a:t>предоставление несовершеннолетним временного стационарного обслуживания до определения совместно с органами опеки и попечительства наиболее оптимальных  форм его  жизнеустройства и содействие несовершеннолетним в их дальнейшем  устройств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"/>
          <p:cNvPicPr/>
          <p:nvPr/>
        </p:nvPicPr>
        <p:blipFill>
          <a:blip r:embed="rId2"/>
          <a:stretch/>
        </p:blipFill>
        <p:spPr>
          <a:xfrm>
            <a:off x="4751280" y="299232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"/>
          <p:cNvSpPr/>
          <p:nvPr/>
        </p:nvSpPr>
        <p:spPr>
          <a:xfrm>
            <a:off x="285840" y="70920"/>
            <a:ext cx="885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23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Monotype Corsiva"/>
              </a:rPr>
              <a:t>оказание правовой, социальной и педагогической помощи несовершеннолетним, находящимся в трудной жизненной ситуации, на основе программ  гражданско-патриотического воспитания, профессионально-трудовой, учебно-познавательной, социально-культурной, физкультурно-оздоровительной компонен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360360" y="27766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3" descr=""/>
          <p:cNvPicPr/>
          <p:nvPr/>
        </p:nvPicPr>
        <p:blipFill>
          <a:blip r:embed="rId2"/>
          <a:stretch/>
        </p:blipFill>
        <p:spPr>
          <a:xfrm>
            <a:off x="4805280" y="284796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357120" y="21420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Monotype Corsiva"/>
              </a:rPr>
              <a:t>сотрудничество с представителями окружного казачьего общества, войскового казачьего общества, «Всевеликое войско Донское» в разработке и реализации программ воспитания и социализации несовершеннолетних на основе традиций  казач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1557360" y="2519280"/>
            <a:ext cx="571500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Oval 1"/>
          <p:cNvSpPr/>
          <p:nvPr/>
        </p:nvSpPr>
        <p:spPr>
          <a:xfrm>
            <a:off x="2592360" y="309600"/>
            <a:ext cx="3672000" cy="12747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Направления воспитательной рабо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Oval 2"/>
          <p:cNvSpPr/>
          <p:nvPr/>
        </p:nvSpPr>
        <p:spPr>
          <a:xfrm>
            <a:off x="5616720" y="2879640"/>
            <a:ext cx="295272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Гражданско-патриотическо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3"/>
          <p:cNvSpPr/>
          <p:nvPr/>
        </p:nvSpPr>
        <p:spPr>
          <a:xfrm>
            <a:off x="6119640" y="4486320"/>
            <a:ext cx="259272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Учебно-познавательно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Oval 4"/>
          <p:cNvSpPr/>
          <p:nvPr/>
        </p:nvSpPr>
        <p:spPr>
          <a:xfrm>
            <a:off x="3168720" y="5133960"/>
            <a:ext cx="230328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Социально-культурно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5"/>
          <p:cNvSpPr/>
          <p:nvPr/>
        </p:nvSpPr>
        <p:spPr>
          <a:xfrm>
            <a:off x="863640" y="3816360"/>
            <a:ext cx="273528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Духовно-нравственно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Oval 6"/>
          <p:cNvSpPr/>
          <p:nvPr/>
        </p:nvSpPr>
        <p:spPr>
          <a:xfrm>
            <a:off x="144360" y="2038320"/>
            <a:ext cx="273528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Физкультурно-оздоровительно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Oval 7"/>
          <p:cNvSpPr/>
          <p:nvPr/>
        </p:nvSpPr>
        <p:spPr>
          <a:xfrm>
            <a:off x="6191280" y="1461960"/>
            <a:ext cx="284472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Профессионально-трудово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74" name="Прямая со стрелкой 9"/>
          <p:cNvCxnSpPr/>
          <p:nvPr/>
        </p:nvCxnSpPr>
        <p:spPr>
          <a:xfrm flipH="1">
            <a:off x="2123280" y="1412640"/>
            <a:ext cx="793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5" name="Прямая со стрелкой 11"/>
          <p:cNvCxnSpPr/>
          <p:nvPr/>
        </p:nvCxnSpPr>
        <p:spPr>
          <a:xfrm>
            <a:off x="6227280" y="1197000"/>
            <a:ext cx="1081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6" name="Прямая со стрелкой 13"/>
          <p:cNvCxnSpPr/>
          <p:nvPr/>
        </p:nvCxnSpPr>
        <p:spPr>
          <a:xfrm flipH="1">
            <a:off x="2700000" y="1628640"/>
            <a:ext cx="1008720" cy="21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Прямая со стрелкой 15"/>
          <p:cNvCxnSpPr>
            <a:stCxn id="567" idx="4"/>
          </p:cNvCxnSpPr>
          <p:nvPr/>
        </p:nvCxnSpPr>
        <p:spPr>
          <a:xfrm>
            <a:off x="4429080" y="1584000"/>
            <a:ext cx="288000" cy="35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Прямая со стрелкой 17"/>
          <p:cNvCxnSpPr/>
          <p:nvPr/>
        </p:nvCxnSpPr>
        <p:spPr>
          <a:xfrm>
            <a:off x="5363640" y="1628640"/>
            <a:ext cx="129636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Прямая со стрелкой 19"/>
          <p:cNvCxnSpPr/>
          <p:nvPr/>
        </p:nvCxnSpPr>
        <p:spPr>
          <a:xfrm>
            <a:off x="4787640" y="1628280"/>
            <a:ext cx="1369080" cy="309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1" descr=""/>
          <p:cNvPicPr/>
          <p:nvPr/>
        </p:nvPicPr>
        <p:blipFill>
          <a:blip r:embed="rId1"/>
          <a:stretch/>
        </p:blipFill>
        <p:spPr>
          <a:xfrm>
            <a:off x="216000" y="3510000"/>
            <a:ext cx="4711680" cy="268128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2"/>
          <p:cNvSpPr/>
          <p:nvPr/>
        </p:nvSpPr>
        <p:spPr>
          <a:xfrm>
            <a:off x="482760" y="0"/>
            <a:ext cx="82296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323dc"/>
                </a:solidFill>
                <a:latin typeface="Monotype Corsiva"/>
              </a:rPr>
              <a:t>Духовно-нравственное воспит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287280" y="863640"/>
            <a:ext cx="871236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0960" indent="-210960">
              <a:lnSpc>
                <a:spcPct val="102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00dc"/>
                </a:solidFill>
                <a:latin typeface="Monotype Corsiva"/>
              </a:rPr>
              <a:t>формировать у детей желания поступать в соответствии с нравственными ценностями и правилам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0960" indent="-210960">
              <a:lnSpc>
                <a:spcPct val="102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00dc"/>
                </a:solidFill>
                <a:latin typeface="Monotype Corsiva"/>
              </a:rPr>
              <a:t>развивать способности к состраданию, сопереживанию, пониманию другого человек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0960" indent="-210960">
              <a:lnSpc>
                <a:spcPct val="102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00dc"/>
                </a:solidFill>
                <a:latin typeface="Monotype Corsiva"/>
              </a:rPr>
              <a:t>воспитывать стремление к любви, добру, толерантност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0960" indent="-210960">
              <a:lnSpc>
                <a:spcPct val="102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00dc"/>
                </a:solidFill>
                <a:latin typeface="Monotype Corsiva"/>
              </a:rPr>
              <a:t>дать знания в области православной культуры для духовно-нравственного и эстетического развития личност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Picture 4" descr=""/>
          <p:cNvPicPr/>
          <p:nvPr/>
        </p:nvPicPr>
        <p:blipFill>
          <a:blip r:embed="rId2"/>
          <a:stretch/>
        </p:blipFill>
        <p:spPr>
          <a:xfrm>
            <a:off x="5111640" y="352728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" descr=""/>
          <p:cNvPicPr/>
          <p:nvPr/>
        </p:nvPicPr>
        <p:blipFill>
          <a:blip r:embed="rId1"/>
          <a:stretch/>
        </p:blipFill>
        <p:spPr>
          <a:xfrm>
            <a:off x="252360" y="360360"/>
            <a:ext cx="4140360" cy="3103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" descr=""/>
          <p:cNvPicPr/>
          <p:nvPr/>
        </p:nvPicPr>
        <p:blipFill>
          <a:blip r:embed="rId2"/>
          <a:stretch/>
        </p:blipFill>
        <p:spPr>
          <a:xfrm>
            <a:off x="4896000" y="379728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"/>
          <p:cNvPicPr/>
          <p:nvPr/>
        </p:nvPicPr>
        <p:blipFill>
          <a:blip r:embed="rId3"/>
          <a:stretch/>
        </p:blipFill>
        <p:spPr>
          <a:xfrm>
            <a:off x="4680000" y="34128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" descr=""/>
          <p:cNvPicPr/>
          <p:nvPr/>
        </p:nvPicPr>
        <p:blipFill>
          <a:blip r:embed="rId4"/>
          <a:stretch/>
        </p:blipFill>
        <p:spPr>
          <a:xfrm>
            <a:off x="324000" y="3672000"/>
            <a:ext cx="3924000" cy="2941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ckYouBill</cp:lastModifiedBy>
  <dcterms:modified xsi:type="dcterms:W3CDTF">2013-04-01T17:28:44Z</dcterms:modified>
  <cp:revision>19</cp:revision>
  <dc:subject/>
  <dc:title>Слайд 1</dc:title>
</cp:coreProperties>
</file>